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9E41-43F4-4E08-9283-E4B818336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ADE6-F31B-4002-AF3F-ABCC6452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34EF-90B1-49D5-A8F6-0B795A208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3828-8446-4790-8E96-C4731533A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806A-B017-4659-9D53-CB0ED8B26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00D6-CEF5-4253-B0ED-1FD3A97F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2874-4526-4AF4-8654-068D4C87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F18D-FE81-403E-ABA1-72082034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EC37-4BE7-4969-8934-F2A23403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3A1C-960E-4314-B7EE-1F6F9444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0682-39E6-43D7-AB0A-E2141FA5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48B8-5CFA-4407-91AB-84D8851F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49E2-3683-419D-8A81-3E4E043B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9429-D4F0-49CE-992A-4CBD5E5F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DE44-3AE3-4AFA-8037-E2B72200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A2F6-204D-40BF-ACB3-C207A66FD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59D1-3CF8-408A-BB71-C714CE4D8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3AB5-F95F-499E-9183-664BEECA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DA36-AC7E-4F85-9C2B-BEFFE9D1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A9FC-8CAF-4BF9-80F3-8656ACB3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5CDD-72ED-4A1C-9D84-A77076CD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FE1E-CB08-4EC2-A2B0-5635FA6A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2B1F-7E6E-4503-AABC-6A95FEF8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AF90-BA57-4A69-AE4B-A32050C4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1A2F467-981D-4949-B815-8AB71D3FFBB5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CF7223B-F248-40A5-99D8-5DA4C09056B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omanadvice.ru/dekupazh-butylok-yaichnoy-skorlupoy" TargetMode="External"/><Relationship Id="rId2" Type="http://schemas.openxmlformats.org/officeDocument/2006/relationships/hyperlink" Target="http://womanadvice.ru/dekupazh-butylok-salfetkami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5292720" y="4797360"/>
            <a:ext cx="3456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аяся группы Ш12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упанова Татья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Антипина Н.Б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WordArt 3"/>
          <p:cNvSpPr txBox="1"/>
          <p:nvPr/>
        </p:nvSpPr>
        <p:spPr>
          <a:xfrm>
            <a:off x="539640" y="404640"/>
            <a:ext cx="8209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a50021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a50021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58374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Номер слайда 5"/>
          <p:cNvSpPr/>
          <p:nvPr/>
        </p:nvSpPr>
        <p:spPr>
          <a:xfrm>
            <a:off x="693720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C03686C-8FD3-473C-8071-6E86FDDD13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Прямоугольник 8"/>
          <p:cNvSpPr/>
          <p:nvPr/>
        </p:nvSpPr>
        <p:spPr>
          <a:xfrm>
            <a:off x="900000" y="428760"/>
            <a:ext cx="6985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ворческий проект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формление праздничного стола. Декорирование бутылки и фужера 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Рисунок 3" descr=""/>
          <p:cNvPicPr/>
          <p:nvPr/>
        </p:nvPicPr>
        <p:blipFill>
          <a:blip r:embed="rId1"/>
          <a:stretch/>
        </p:blipFill>
        <p:spPr>
          <a:xfrm>
            <a:off x="871560" y="2617920"/>
            <a:ext cx="3497400" cy="404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2"/>
          <p:cNvSpPr/>
          <p:nvPr/>
        </p:nvSpPr>
        <p:spPr>
          <a:xfrm>
            <a:off x="693720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55BBF0-6288-48F9-99C4-EEC7894A62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Прямоугольник 3"/>
          <p:cNvSpPr/>
          <p:nvPr/>
        </p:nvSpPr>
        <p:spPr>
          <a:xfrm>
            <a:off x="2354400" y="357120"/>
            <a:ext cx="443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риант  проек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зайн-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1"/>
          <p:cNvSpPr/>
          <p:nvPr/>
        </p:nvSpPr>
        <p:spPr>
          <a:xfrm>
            <a:off x="642960" y="1578600"/>
            <a:ext cx="80010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ю любой деятельности человека является достижение желаемого результата. Чтобы объективно оценить полученное изделие и сравнить его с желаемым результатом, необходимо опираться на какие-либо законы.     Создавая картину, нужно опираться на законы художественного конструирования: единство формы и содержания, главные и второстепенные части композиции, пропорции, симметрия, контраст, цветовое оформлени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ий закон художественного конструирования - это единство формы и содержания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аст - это наиболее главное средство в композиции изделия. В нашей бутылке  и бокалах выигрышно выглядит контраст мелких и крупных деталей, а также гармоничное сочетание между ни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овая гамма очень важна при создании изделия. Поэтому  важно подобрать цветовое оформление издел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орированная бутылка и бокал несомненно, украсит интерьер праздничного стола.Это хороший вариант для выполнения проект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2"/>
          <p:cNvSpPr/>
          <p:nvPr/>
        </p:nvSpPr>
        <p:spPr>
          <a:xfrm>
            <a:off x="693720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FC2BA7-8C4E-4DCB-A76C-DA9B0C922B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2286000" y="3571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бор материа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1"/>
          <p:cNvSpPr/>
          <p:nvPr/>
        </p:nvSpPr>
        <p:spPr>
          <a:xfrm>
            <a:off x="949320" y="170460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Прямоугольник 6"/>
          <p:cNvSpPr/>
          <p:nvPr/>
        </p:nvSpPr>
        <p:spPr>
          <a:xfrm>
            <a:off x="798480" y="148428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 необходимые для работ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Бутыл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ужер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инцет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лей ПВА, клей момент, клеевой пистолет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Ткань основ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Тесьма или другие материалы для украше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Ножницы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Кисточк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Правила безопасности во время работы: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льзоваться  неисправными и тупыми инструмента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лять инструмент только по назначению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хранить в предназначенном для этого месте. Нельзя хранить инструменты и оборудование в беспорядк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ть  ножницы справа сомкнутыми лезвиями от работающего; передавать, держа вперед кольца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ть в чистоте и порядке свое рабочее мест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ть работу внимательно, не отвлекаться на посторонние дел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кончании работы обязательно убрать свое рабочее место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ть рекомендуется, на застеленном клеенкой стол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ать правила безопасной работы с кле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2"/>
          <p:cNvSpPr/>
          <p:nvPr/>
        </p:nvSpPr>
        <p:spPr>
          <a:xfrm>
            <a:off x="693720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E3D760-8AAB-4330-92A0-52A9187EA8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1"/>
          <p:cNvSpPr/>
          <p:nvPr/>
        </p:nvSpPr>
        <p:spPr>
          <a:xfrm>
            <a:off x="928800" y="432000"/>
            <a:ext cx="757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апы технологии выполнения декорирования бутыл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Прямоугольник 1"/>
          <p:cNvSpPr/>
          <p:nvPr/>
        </p:nvSpPr>
        <p:spPr>
          <a:xfrm>
            <a:off x="539640" y="1509840"/>
            <a:ext cx="8209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-либо декорирование бутылок – это всегда возможно подарить обычной стеклотаре вторую жизнь, позволить ей стать частью интерьера, преобразить обычный алкогольный напиток в нечто уникальное и неповторимое. Существует множества вариантов украшения бутылок – акриловой краской, ореховой или 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  <a:hlinkClick r:id="rId1"/>
              </a:rPr>
              <a:t>яичной скорлуп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ернами кофе, 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  <a:hlinkClick r:id="rId2"/>
              </a:rPr>
              <a:t>салфетками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хнике декупаж, манной крупой и даже газетной бумагой. Я же предлагаю вам заняться украшением бутылок партьерной тканью, и элементами декора. Такие изделия отлично украшают праздничные стол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Рисунок 1" descr=""/>
          <p:cNvPicPr/>
          <p:nvPr/>
        </p:nvPicPr>
        <p:blipFill>
          <a:blip r:embed="rId3"/>
          <a:stretch/>
        </p:blipFill>
        <p:spPr>
          <a:xfrm>
            <a:off x="1116000" y="4281480"/>
            <a:ext cx="1871640" cy="284328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8" descr=""/>
          <p:cNvPicPr/>
          <p:nvPr/>
        </p:nvPicPr>
        <p:blipFill>
          <a:blip r:embed="rId4"/>
          <a:stretch/>
        </p:blipFill>
        <p:spPr>
          <a:xfrm>
            <a:off x="5076720" y="4281480"/>
            <a:ext cx="302436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я работа. Украшение праздничного свадебного стола.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49" name="Объект 14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61364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51" name="Объект 3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251920" cy="55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2"/>
          <p:cNvSpPr/>
          <p:nvPr/>
        </p:nvSpPr>
        <p:spPr>
          <a:xfrm>
            <a:off x="693720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98EE61-AC61-474B-AA9A-C9A29720C8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1"/>
          <p:cNvSpPr/>
          <p:nvPr/>
        </p:nvSpPr>
        <p:spPr>
          <a:xfrm>
            <a:off x="2071800" y="430920"/>
            <a:ext cx="550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лючение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1428840" y="1477440"/>
            <a:ext cx="62150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ируя выполненную работу, можно сказать, поставленные цель и задачи выполнены. Это творческий, увлекательный процесс, в результате которого получилось замечательные изделие. Гипотеза подтвердилась: мы убедились, что народная художественная культура декорирования сосудов имеет древние истоки и прекрасные традиции, которые сохранятся и развиваются в современном мире, сберегая тем самым самое дорогое, что есть у человечества - чистоту помыслов и духовную красоту. Через проектную деятельность мы имели возможность соприкоснуться с элементами декоративно-прикладного искусства, истоки которых веками не теряют своих традиций и являются одним из проявлений национальной культуры.  Незаслуженно забытые изделия ручного труда в нашей стране вновь обретают свою ценность и превосходство над серийными промышленными образцами. Таким образом, можно сделать вывод, что декорированная бутылка как предмет декоративно-прикладного искусства, является той волшебной нитью, которая связывает своим многообразием культурное наследие вчерашнего и сегодняшнего дня. Её функциональность, богатство цвета, доступность обуславливает оригинальность и самобытность, удивительную свежесть и яркость творчеств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СПИСОК ИСПОЛЬЗУЕМОЙ ЛИТЕРАТУРЫ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онова М.И., Синюков В.Д. Энциклопедия, Словарь юного художника. –М.  ПЕДАГОГИКА, 1982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й сайт –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 GINDA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ая мастерская [Электронный ресурс]: режим доступа http://art-ginda.ru/master-klass/floristicheskij-kollazh-texnika-terra-2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й сайт  - Московский союз художников [Электронный ресурс]: режим доступа http://artanum.ru/examination/index.php?id=2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й сайт – Рукоделие - point-to-point (точечная роспись) [Электронный ресурс]: режим доступа http://www.babyblog.ru/community/lenta_cat/rukodelie/1740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й сайт – Страна мастеров. Творчество для детей и взрослых [Электронный ресурс]: режим доступа http://stranamasterov.ru/node/30870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очный сайт - Википедия, Свободная энциклопедия [Электронный ресурс]: режим доступа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//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kipedia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q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k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Декоративно-прикладное искусств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1"/>
          <p:cNvSpPr txBox="1"/>
          <p:nvPr/>
        </p:nvSpPr>
        <p:spPr>
          <a:xfrm>
            <a:off x="539640" y="2205000"/>
            <a:ext cx="83534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cc0099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omic Sans MS"/>
              </a:rPr>
              <a:t>СПАСИБО ЗА ВНИМАНИЕ</a:t>
            </a:r>
            <a:endParaRPr b="1" lang="en-US" sz="1800" spc="1" strike="noStrike">
              <a:ln w="12600">
                <a:solidFill>
                  <a:srgbClr val="3366ff"/>
                </a:solidFill>
                <a:miter/>
              </a:ln>
              <a:solidFill>
                <a:srgbClr val="cc0099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8" name="Номер слайда 2"/>
          <p:cNvSpPr/>
          <p:nvPr/>
        </p:nvSpPr>
        <p:spPr>
          <a:xfrm>
            <a:off x="693720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2EBB89-AA0B-487D-9746-813C9FBB05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500040" y="1500120"/>
            <a:ext cx="8248680" cy="47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ный интерьер — это не только шикарные мебель, текстиль, аксессуары и прочее, а прежде всего удобство, комфорт и доступность. За модой, как известно, не угонишься: каждый раз полностью поменять мебель практически невозможно, а за простой сменой обоев потянется смена полов, текстиля, освещения и декоративных элементов. Творческие же люди умеют преображать свое жилище без особых усилий и затра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орирование бутылок в стиле своего интерьера как нельзя лучше подходит для малозатратного преображения дома или квартир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WordArt 3"/>
          <p:cNvSpPr txBox="1"/>
          <p:nvPr/>
        </p:nvSpPr>
        <p:spPr>
          <a:xfrm>
            <a:off x="539640" y="404640"/>
            <a:ext cx="8209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a50021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a50021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0" y="58374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Номер слайда 5"/>
          <p:cNvSpPr/>
          <p:nvPr/>
        </p:nvSpPr>
        <p:spPr>
          <a:xfrm>
            <a:off x="693720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870A972-E5E7-4DF9-A1C6-00CE252256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500040" y="500040"/>
            <a:ext cx="8248680" cy="57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ипотез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составление проекта основывалось на следующем предположении: стеклянные сосуды являются не только предметом для декоративно-прикладного искусства, но и отражают культурное наследие любого народ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 проект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ть историческую значимость декоративно-прикладного искусства в различных аспектах жизни, а также создать декоративно-прикладное изделие на основе современных технологий её обработк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учить исторические  основы использования изделий декоративно-прикладного искусства  и рассмотреть современные аспекты её примене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вершенствовать свои возможности в области создания декоративно-прикладных изделий, используя творческий подход к работ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здать своими руками оригинальное изделие для украшения праздничного стол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оекта определяется  повышением уровня мастерства в области декоративно-прикладного творчест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WordArt 3"/>
          <p:cNvSpPr txBox="1"/>
          <p:nvPr/>
        </p:nvSpPr>
        <p:spPr>
          <a:xfrm>
            <a:off x="539640" y="404640"/>
            <a:ext cx="8209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a50021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a50021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58374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Номер слайда 5"/>
          <p:cNvSpPr/>
          <p:nvPr/>
        </p:nvSpPr>
        <p:spPr>
          <a:xfrm>
            <a:off x="693720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4430383-7269-4439-A0F9-D6D7DB70A3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500040" y="500040"/>
            <a:ext cx="8248680" cy="57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основание проекта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всегда нравились работы, сделанные своими руками. В моем доме имеются вещи, выполненные еще моей мамой. Это картины, полотенца, салфетки, вязаные вещи. Прекрасные изделия хранят тепло их рук и сердца, являются сказочным украшением моего  дома.  Я хотела освоить что-то новенькое, сделать своими руками изделия, которыми будут восхищаться мои близкие, друзья и знакомы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-то, увидев бутылку, расписанную красками, мне захотелось попробовать выполнить такую же.   Поэтому решила заняться декоративной отделкой бутылок, а так же фужерам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ая значимость работы определяется тем, что этим изделием можно украсить праздничный стол. Создание декоративного изделия - это возможность приобщения к прекрасному, к культуре своего народа, постигнуть загадки народного мастерств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WordArt 3"/>
          <p:cNvSpPr txBox="1"/>
          <p:nvPr/>
        </p:nvSpPr>
        <p:spPr>
          <a:xfrm>
            <a:off x="539640" y="404640"/>
            <a:ext cx="8209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a50021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a50021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58374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Номер слайда 5"/>
          <p:cNvSpPr/>
          <p:nvPr/>
        </p:nvSpPr>
        <p:spPr>
          <a:xfrm>
            <a:off x="693720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1E6A2EF-680C-43B3-BB1C-7600EEBB07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500040" y="500040"/>
            <a:ext cx="8248680" cy="57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WordArt 3"/>
          <p:cNvSpPr txBox="1"/>
          <p:nvPr/>
        </p:nvSpPr>
        <p:spPr>
          <a:xfrm>
            <a:off x="539640" y="404640"/>
            <a:ext cx="8209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a50021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a50021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58374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Номер слайда 5"/>
          <p:cNvSpPr/>
          <p:nvPr/>
        </p:nvSpPr>
        <p:spPr>
          <a:xfrm>
            <a:off x="693720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D6E62CD-D401-4CD5-A9E4-762969F90F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500040" y="21672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ектно-технологическая схема работы над проект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Схема 6" descr=""/>
          <p:cNvPicPr/>
          <p:nvPr/>
        </p:nvPicPr>
        <p:blipFill>
          <a:blip r:embed="rId1"/>
          <a:stretch/>
        </p:blipFill>
        <p:spPr>
          <a:xfrm>
            <a:off x="1779480" y="1268280"/>
            <a:ext cx="5591160" cy="533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Историческая справка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48360" y="2133720"/>
            <a:ext cx="3744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ще в формах каменных орудий первобытного человека, в простейших геометрических фигурах орнамента на древнейшей керамике проявляются зачатки творчества, которое сопровождало жизнь народа на протяжении всей его истории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1871640" cy="3166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3059280" y="1197000"/>
            <a:ext cx="1904760" cy="2881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"/>
          <p:cNvPicPr/>
          <p:nvPr/>
        </p:nvPicPr>
        <p:blipFill>
          <a:blip r:embed="rId3"/>
          <a:stretch/>
        </p:blipFill>
        <p:spPr>
          <a:xfrm>
            <a:off x="1547640" y="4365720"/>
            <a:ext cx="2735280" cy="23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"/>
          <p:cNvPicPr/>
          <p:nvPr/>
        </p:nvPicPr>
        <p:blipFill>
          <a:blip r:embed="rId1"/>
          <a:stretch/>
        </p:blipFill>
        <p:spPr>
          <a:xfrm>
            <a:off x="6156360" y="1628640"/>
            <a:ext cx="2448000" cy="3024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"/>
          <p:cNvPicPr/>
          <p:nvPr/>
        </p:nvPicPr>
        <p:blipFill>
          <a:blip r:embed="rId2"/>
          <a:stretch/>
        </p:blipFill>
        <p:spPr>
          <a:xfrm>
            <a:off x="3419640" y="1989000"/>
            <a:ext cx="2226960" cy="2421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0"/>
          <p:cNvSpPr/>
          <p:nvPr/>
        </p:nvSpPr>
        <p:spPr>
          <a:xfrm>
            <a:off x="2255040" y="260280"/>
            <a:ext cx="49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Историческая справ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Номер слайда 11"/>
          <p:cNvSpPr/>
          <p:nvPr/>
        </p:nvSpPr>
        <p:spPr>
          <a:xfrm>
            <a:off x="693720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A170302-FDAC-4ECA-AD01-8B70CF561C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395280" y="4797360"/>
            <a:ext cx="8209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поху рабовладения декоративное искусство получило новый толчок в развити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одившееся еще при родовом строе,  желание людей украшать себя ожерельями, браслетами, кольцами, подвесками, серьгами не исчезло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днее появились и предметы украшения одежды, а затем и украшения жилища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14" descr="ANd9GcSKi0BdGzpwDY39qobqNzQr4WdYkWl8uMMksamKC3Dgr9l1Wlei"/>
          <p:cNvPicPr/>
          <p:nvPr/>
        </p:nvPicPr>
        <p:blipFill>
          <a:blip r:embed="rId3"/>
          <a:stretch/>
        </p:blipFill>
        <p:spPr>
          <a:xfrm>
            <a:off x="684360" y="1557360"/>
            <a:ext cx="2232000" cy="31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2"/>
          <p:cNvSpPr/>
          <p:nvPr/>
        </p:nvSpPr>
        <p:spPr>
          <a:xfrm>
            <a:off x="693720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961AFF-E564-4725-BF0E-1EFD47FE0A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2286000" y="357120"/>
            <a:ext cx="514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рия создания сосудов из стекл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Рисунок 4" descr=""/>
          <p:cNvPicPr/>
          <p:nvPr/>
        </p:nvPicPr>
        <p:blipFill>
          <a:blip r:embed="rId1"/>
          <a:stretch/>
        </p:blipFill>
        <p:spPr>
          <a:xfrm>
            <a:off x="285840" y="1928880"/>
            <a:ext cx="3000240" cy="371484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5"/>
          <p:cNvSpPr/>
          <p:nvPr/>
        </p:nvSpPr>
        <p:spPr>
          <a:xfrm>
            <a:off x="3286080" y="1428840"/>
            <a:ext cx="5572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создания сосудов из стекла началась без малого тридцать восемь веков назад, когда в XVIII в до н.э. древнеегипетские мастера изготовили их первые образцы. История самого стекла насчитывает около пятидесяти пяти веков и начинается также в Египте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изобретением стекла в процессе изготовления изделий из этого материала возник вопрос о способах декорирования стеклянных сосудов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2"/>
          <p:cNvSpPr/>
          <p:nvPr/>
        </p:nvSpPr>
        <p:spPr>
          <a:xfrm>
            <a:off x="693720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0995C6-BA44-4A73-B272-A0D759365F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1000080" y="617760"/>
            <a:ext cx="728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уды в интерьер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643200" y="1506600"/>
            <a:ext cx="4500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нство людей выбрасывают стеклянные бутылки от различных напитков, но среди них встречаются весьма оригинальные по форме и цвету экземпляры. Предметы, изготовленные из таких бутылок, способны стать украшением интерьера, приятным подарком или просто сувениром. Декоративные бутылки способны украсить любой интерьер, придав ему изысканность, оригинальность и роскошь. Самое интересное, что декорировать можно практически любую стеклянную тару и превратить ее в роскошную вазу. Такой подарок не стыдно преподнести на любой праздник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Рисунок 5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2428920" cy="25002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6" descr=""/>
          <p:cNvPicPr/>
          <p:nvPr/>
        </p:nvPicPr>
        <p:blipFill>
          <a:blip r:embed="rId2"/>
          <a:stretch/>
        </p:blipFill>
        <p:spPr>
          <a:xfrm>
            <a:off x="500040" y="3929040"/>
            <a:ext cx="2428920" cy="2500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</dc:creator>
  <dc:description/>
  <dc:language>en-US</dc:language>
  <cp:lastModifiedBy>Antip</cp:lastModifiedBy>
  <dcterms:modified xsi:type="dcterms:W3CDTF">2022-06-01T13:41:01Z</dcterms:modified>
  <cp:revision>91</cp:revision>
  <dc:subject/>
  <dc:title>ФЕДЕРАЛЬНОЕ ГОСУДАРСТВЕННОЕ КАЗЕННОЕ ОБЩЕОБРАЗАВАТЕЛЬНОЕ УЧРЕЖДЕНИЕ  «СРЕДНЯЯ ОБЩЕОБРАЗОВАТЕЛЬНАЯ ШКОЛА № 162»</dc:title>
</cp:coreProperties>
</file>