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267-7D5B-4C36-AFE1-944A8988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97A-7C48-4BC6-B28D-8F2DE235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24F-7C84-4823-9955-47548DB2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814-76B9-408B-8D8F-E4760393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F2B4-09C8-4657-8F40-DD33F0CC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33F3-8B72-436D-9C47-39E2DC51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F6C5-0E0F-452A-8479-DA75AD3C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239F-C0CE-408F-8DC4-1F2C9080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740F-30C1-4A2B-9002-101A80CD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2E7F-1F92-4EEF-88AD-1A76CD50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08E-C77C-4769-AA15-790F6E9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C60-3E41-4784-8301-931C1DA2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F360-B930-433F-A278-A87E0F90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458-DA07-4BCB-8543-371FED86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68C5-7BF6-4C15-AB79-A35542F7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F470-A557-43E2-9E53-3FE1FA35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9AE2-54A0-4984-AFB1-EC5C984E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08C-97C3-460A-9A44-879C7F5F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729-5381-48FC-8B0B-164D4DFF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6A3-1FDE-4EF9-AA3E-2194C3EF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AD8-0D4A-4D27-A6AC-9E356940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D0B-D8C0-47E9-B7F8-CDDD2933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0F9-D37D-458A-BD6F-50498A03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E2C-7D2B-474F-BDCB-4F5F435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652559-FA68-43DE-AA74-0605E922735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2B6FB1-30BA-4E11-88BD-0F8EF4455E7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omanadvice.ru/dekupazh-butylok-yaichnoy-skorlupoy" TargetMode="External"/><Relationship Id="rId2" Type="http://schemas.openxmlformats.org/officeDocument/2006/relationships/hyperlink" Target="http://womanadvice.ru/dekupazh-butylok-salfetkami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292720" y="4797360"/>
            <a:ext cx="345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ся группы Ш1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упанова Татья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Антипина Н.Б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0C7C1A-DF6A-41D5-B7BD-23747C740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900000" y="428760"/>
            <a:ext cx="6985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ий проект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формление праздничного стола. Декорирование бутылки и фужера 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871560" y="2617920"/>
            <a:ext cx="3497400" cy="40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F6C2B8-12AB-4C9D-BC83-E04A383AC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354400" y="357120"/>
            <a:ext cx="44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 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зайн-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642960" y="1578600"/>
            <a:ext cx="8001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любой деятельности человека является достижение желаемого результата. Чтобы объективно оценить полученное изделие и сравнить его с желаемым результатом, необходимо опираться на какие-либо законы.     Создавая картину, нужно опираться на законы художественного конструирования: единство формы и содержания, главные и второстепенные части композиции, пропорции, симметрия, контраст, цветовое оформл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закон художественного конструирования - это единство формы и содержания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ст - это наиболее главное средство в композиции изделия. В нашей бутылке  и бокалах выигрышно выглядит контраст мелких и крупных деталей, а также гармоничное сочетание между ни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вая гамма очень важна при создании изделия. Поэтому  важно подобрать цветовое оформление издел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ированная бутылка и бокал несомненно, украсит интерьер праздничного стола.Это хороший вариант для выполнения прое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D01FC5-BBBF-404E-9051-B4BF6F57E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286000" y="357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ор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949320" y="17046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798480" y="1484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необходимые для рабо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утыл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жер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инцет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лей ПВА, клей момент, клеевой пистолет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кань основ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сьма или другие материалы для украш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ожницы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источ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равила безопасности во время работы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льзоваться  неисправными и тупыми инструмент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инструмент только по назначени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хранить в предназначенном для этого месте. Нельзя хранить инструменты и оборудование в беспоряд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ть  ножницы справа сомкнутыми лезвиями от работающего; передавать, держа вперед кольц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в чистоте и порядке свое рабочее мест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работу внимательно, не отвлекаться на посторонние де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работы обязательно убрать свое рабочее мест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рекомендуется, на застеленном клеенкой стол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правила безопасной работы с кле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3A4F9A-EC45-4567-9308-E8DA2EEDE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928800" y="43200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технологии выполнения декорирования бутыл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Прямоугольник 1"/>
          <p:cNvSpPr/>
          <p:nvPr/>
        </p:nvSpPr>
        <p:spPr>
          <a:xfrm>
            <a:off x="539640" y="1509840"/>
            <a:ext cx="82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-либо декорирование бутылок – это всегда возможно подарить обычной стеклотаре вторую жизнь, позволить ей стать частью интерьера, преобразить обычный алкогольный напиток в нечто уникальное и неповторимое. Существует множества вариантов украшения бутылок – акриловой краской, ореховой или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1"/>
              </a:rPr>
              <a:t>яичной скорлуп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ернами кофе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2"/>
              </a:rPr>
              <a:t>салфетками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ике декупаж, манной крупой и даже газетной бумагой. Я же предлагаю вам заняться украшением бутылок партьерной тканью, и элементами декора. Такие изделия отлично украшают праздничные стол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3"/>
          <a:stretch/>
        </p:blipFill>
        <p:spPr>
          <a:xfrm>
            <a:off x="1116000" y="4281480"/>
            <a:ext cx="1871640" cy="28432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"/>
          <p:cNvPicPr/>
          <p:nvPr/>
        </p:nvPicPr>
        <p:blipFill>
          <a:blip r:embed="rId4"/>
          <a:stretch/>
        </p:blipFill>
        <p:spPr>
          <a:xfrm>
            <a:off x="5076720" y="4281480"/>
            <a:ext cx="302436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я работа. Украшение праздничного свадебного стола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9" name="Объект 1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61364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1" name="Объект 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5192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E831A7-3636-4794-BE3E-6FDC9D19C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2071800" y="430920"/>
            <a:ext cx="55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428840" y="1477440"/>
            <a:ext cx="62150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я выполненную работу, можно сказать, поставленные цель и задачи выполнены. Это творческий, увлекательный процесс, в результате которого получилось замечательные изделие. Гипотеза подтвердилась: мы убедились, что народная художественная культура декорирования сосудов имеет древние истоки и прекрасные традиции, которые сохранятся и развиваются в современном мире, сберегая тем самым самое дорогое, что есть у человечества - чистоту помыслов и духовную красоту. Через проектную деятельность мы имели возможность соприкоснуться с элементами декоративно-прикладного искусства, истоки которых веками не теряют своих традиций и являются одним из проявлений национальной культуры.  Незаслуженно забытые изделия ручного труда в нашей стране вновь обретают свою ценность и превосходство над серийными промышленными образцами. Таким образом, можно сделать вывод, что декорированная бутылка как предмет декоративно-прикладного искусства, является той волшебной нитью, которая связывает своим многообразием культурное наследие вчерашнего и сегодняшнего дня. Её функциональность, богатство цвета, доступность обуславливает оригинальность и самобытность, удивительную свежесть и яркость творче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ПИСОК ИСПОЛЬЗУЕМОЙ ЛИТЕРАТУР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нова М.И., Синюков В.Д. Энциклопедия, Словарь юного художника. –М.  ПЕДАГОГИКА, 1982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сайт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GINDA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мастерская [Электронный ресурс]: режим доступа http://art-ginda.ru/master-klass/floristicheskij-kollazh-texnika-terra-2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сайт  - Московский союз художников [Электронный ресурс]: режим доступа http://artanum.ru/examination/index.php?id=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сайт – Рукоделие - point-to-point (точечная роспись) [Электронный ресурс]: режим доступа http://www.babyblog.ru/community/lenta_cat/rukodelie/174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сайт – Страна мастеров. Творчество для детей и взрослых [Электронный ресурс]: режим доступа http://stranamasterov.ru/node/3087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ый сайт - Википедия, Свободная энциклопедия [Электронный ресурс]: режим доступа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pedi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q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Декоративно-прикладное искусст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1"/>
          <p:cNvSpPr txBox="1"/>
          <p:nvPr/>
        </p:nvSpPr>
        <p:spPr>
          <a:xfrm>
            <a:off x="539640" y="220500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cc00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СПАСИБО ЗА ВНИМАНИЕ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cc00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88831B-02A9-44B4-AA49-FC35A5DD8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00040" y="1500120"/>
            <a:ext cx="824868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ный интерьер — это не только шикарные мебель, текстиль, аксессуары и прочее, а прежде всего удобство, комфорт и доступность. За модой, как известно, не угонишься: каждый раз полностью поменять мебель практически невозможно, а за простой сменой обоев потянется смена полов, текстиля, освещения и декоративных элементов. Творческие же люди умеют преображать свое жилище без особых усилий и затра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ирование бутылок в стиле своего интерьера как нельзя лучше подходит для малозатратного преображения дома или кварти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F93790-7A27-49FB-B675-2E7ABFCDB1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00040" y="500040"/>
            <a:ext cx="824868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оставление проекта основывалось на следующем предположении: стеклянные сосуды являются не только предметом для декоративно-прикладного искусства, но и отражают культурное наследие любого нар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оек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историческую значимость декоративно-прикладного искусства в различных аспектах жизни, а также создать декоративно-прикладное изделие на основе современных технологий её обработ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ить исторические  основы использования изделий декоративно-прикладного искусства  и рассмотреть современные аспекты её примен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свои возможности в области создания декоративно-прикладных изделий, используя творческий подход к работ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своими руками оригинальное изделие для украшения праздничного ст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 определяется  повышением уровня мастерства в области декоративно-прикладного творче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C3258E-19F3-4674-9529-71D7FFBE50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00040" y="500040"/>
            <a:ext cx="824868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снование проекта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сегда нравились работы, сделанные своими руками. В моем доме имеются вещи, выполненные еще моей мамой. Это картины, полотенца, салфетки, вязаные вещи. Прекрасные изделия хранят тепло их рук и сердца, являются сказочным украшением моего  дома.  Я хотела освоить что-то новенькое, сделать своими руками изделия, которыми будут восхищаться мои близкие, друзья и знакомы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, увидев бутылку, расписанную красками, мне захотелось попробовать выполнить такую же.   Поэтому решила заняться декоративной отделкой бутылок, а так же фужер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 работы определяется тем, что этим изделием можно украсить праздничный стол. Создание декоративного изделия - это возможность приобщения к прекрасному, к культуре своего народа, постигнуть загадки народного масте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DBB454-0610-4C22-95A9-1C1DF8A9D7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00040" y="500040"/>
            <a:ext cx="824868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35E20C-FBCF-45EF-940C-EEDF117F55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500040" y="2167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но-технологическая схема работы над проек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Схема 6" descr=""/>
          <p:cNvPicPr/>
          <p:nvPr/>
        </p:nvPicPr>
        <p:blipFill>
          <a:blip r:embed="rId1"/>
          <a:stretch/>
        </p:blipFill>
        <p:spPr>
          <a:xfrm>
            <a:off x="1779480" y="1268280"/>
            <a:ext cx="559116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360" y="2133720"/>
            <a:ext cx="374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в формах каменных орудий первобытного человека, в простейших геометрических фигурах орнамента на древнейшей керамике проявляются зачатки творчества, которое сопровождало жизнь народа на протяжении всей его истори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71640" cy="31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1904760" cy="28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3"/>
          <a:stretch/>
        </p:blipFill>
        <p:spPr>
          <a:xfrm>
            <a:off x="1547640" y="4365720"/>
            <a:ext cx="273528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448000" cy="302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3419640" y="1989000"/>
            <a:ext cx="2226960" cy="2421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>
            <a:off x="2255040" y="260280"/>
            <a:ext cx="49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Номер слайда 11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D56E47-D6D8-433F-8FF1-E0F879507D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95280" y="4797360"/>
            <a:ext cx="8209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поху рабовладения декоративное искусство получило новый толчок в развит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дившееся еще при родовом строе,  желание людей украшать себя ожерельями, браслетами, кольцами, подвесками, серьгами не исчезл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появились и предметы украшения одежды, а затем и украшения жилищ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4" descr="ANd9GcSKi0BdGzpwDY39qobqNzQr4WdYkWl8uMMksamKC3Dgr9l1Wlei"/>
          <p:cNvPicPr/>
          <p:nvPr/>
        </p:nvPicPr>
        <p:blipFill>
          <a:blip r:embed="rId3"/>
          <a:stretch/>
        </p:blipFill>
        <p:spPr>
          <a:xfrm>
            <a:off x="684360" y="1557360"/>
            <a:ext cx="223200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625C32-2FF5-4104-9364-E47DF2073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2286000" y="357120"/>
            <a:ext cx="51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создания сосудов из стек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3000240" cy="37148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3286080" y="1428840"/>
            <a:ext cx="557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 сосудов из стекла началась без малого тридцать восемь веков назад, когда в XVIII в до н.э. древнеегипетские мастера изготовили их первые образцы. История самого стекла насчитывает около пятидесяти пяти веков и начинается также в Египт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зобретением стекла в процессе изготовления изделий из этого материала возник вопрос о способах декорирования стеклянных сосу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0B77CE-7363-41E7-9AA2-E5CE9E3B4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1000080" y="61776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уды в интерье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643200" y="1506600"/>
            <a:ext cx="45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людей выбрасывают стеклянные бутылки от различных напитков, но среди них встречаются весьма оригинальные по форме и цвету экземпляры. Предметы, изготовленные из таких бутылок, способны стать украшением интерьера, приятным подарком или просто сувениром. Декоративные бутылки способны украсить любой интерьер, придав ему изысканность, оригинальность и роскошь. Самое интересное, что декорировать можно практически любую стеклянную тару и превратить ее в роскошную вазу. Такой подарок не стыдно преподнести на любой праздник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Рисунок 5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428920" cy="2500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2"/>
          <a:stretch/>
        </p:blipFill>
        <p:spPr>
          <a:xfrm>
            <a:off x="500040" y="3929040"/>
            <a:ext cx="24289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Antip</cp:lastModifiedBy>
  <dcterms:modified xsi:type="dcterms:W3CDTF">2022-06-01T13:41:01Z</dcterms:modified>
  <cp:revision>91</cp:revision>
  <dc:subject/>
  <dc:title>ФЕДЕРАЛЬНОЕ ГОСУДАРСТВЕННОЕ КАЗЕННОЕ ОБЩЕОБРАЗАВАТЕЛЬНОЕ УЧРЕЖДЕНИЕ  «СРЕДНЯЯ ОБЩЕОБРАЗОВАТЕЛЬНАЯ ШКОЛА № 162»</dc:title>
</cp:coreProperties>
</file>