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5BA8-CBA5-4249-A544-794D08E8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CEA9-31ED-4E13-A1C4-FC919F5C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DF6B-B709-4797-ABFF-32210DE2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4418-92CB-4B8C-B978-C21F4D87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BEE4-F948-42E6-AB78-27A7E81C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0228-00CC-44F7-95D8-D0F5159B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89AD-25C2-4373-AC5C-A5D7ADD9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D5E1-F384-483D-8D02-88EB57EC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115E-C2BA-4629-8CC8-117BF7C5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3913-74EF-49DC-8388-32B6E099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1200-251B-4970-8485-E28268C8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4DF0-1327-4BD8-937A-330ABA51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EBAD-F057-484F-927C-68B5545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ADBE-2EE9-4D20-AD39-DA6524F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8ED6-7E1D-4C10-8FC9-11CF8F4F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A21A-402D-4F8C-8ABF-6F66CAF7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C326-C5F5-4362-836E-AD240E44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8D3A-E40D-4B9C-A3D3-448A0D10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801C-8B5D-4D2E-A533-2BC39971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B5AE-FF61-4ED4-8C6F-AA9D5FE1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8FC6-C3DB-4309-BAF8-B9B167CB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4DAD-A8D4-45AB-AD44-32E29CD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8ED9-15B7-4C5E-AABB-DC67453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E9FC-5580-4440-9625-762BDE7C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A688-EF25-435C-88E6-6992A1E73C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7F8D-2932-4ECB-AED6-F564CE49F5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distablo.ru/images/articles/large/32455746.jpg" TargetMode="External"/><Relationship Id="rId2" Type="http://schemas.openxmlformats.org/officeDocument/2006/relationships/hyperlink" Target="https://typical-moscow.ru/wp-content/uploads/2017/07/2-1.jpg" TargetMode="External"/><Relationship Id="rId3" Type="http://schemas.openxmlformats.org/officeDocument/2006/relationships/hyperlink" Target="http://www.kublog.ru/uploads/images/topic/2013/05/12/8fafd14746_1000.jpg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43200" y="4149360"/>
            <a:ext cx="6400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вто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Шарафутдинова Амин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твинова Софи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ащиеся 5 «б» класс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ОУ «СШ «Перспектива» г. Новый Уренг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уководитель Быков Станислав Владимирович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итель физической культу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Garamond"/>
              </a:rPr>
              <a:t>Исследовательская работа</a:t>
            </a:r>
            <a:endParaRPr b="1" lang="en-US" sz="5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15670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нский футбол. Как футбол влияет на растущий организм школьника? Как замотивировать девочек заняться футболом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организм школьн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Rectangle 58"/>
          <p:cNvSpPr/>
          <p:nvPr/>
        </p:nvSpPr>
        <p:spPr>
          <a:xfrm>
            <a:off x="250920" y="570708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250920" y="178128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гра в футбол требует разносторонней подготовки, большой выносливости, силы, скорости и ловкости, сложных и разнообразных двигательных навы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C:\Users\1\Desktop\исследовательская работа\IMG_20240301_201541_312.jpg"/>
          <p:cNvPicPr/>
          <p:nvPr/>
        </p:nvPicPr>
        <p:blipFill>
          <a:blip r:embed="rId1"/>
          <a:stretch/>
        </p:blipFill>
        <p:spPr>
          <a:xfrm>
            <a:off x="108000" y="357336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C:\Users\1\Desktop\исследовательская работа\IMG_20240301_201607_607.jpg"/>
          <p:cNvPicPr/>
          <p:nvPr/>
        </p:nvPicPr>
        <p:blipFill>
          <a:blip r:embed="rId2"/>
          <a:stretch/>
        </p:blipFill>
        <p:spPr>
          <a:xfrm>
            <a:off x="4498920" y="3573360"/>
            <a:ext cx="4465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организм школьн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Rectangle 58"/>
          <p:cNvSpPr/>
          <p:nvPr/>
        </p:nvSpPr>
        <p:spPr>
          <a:xfrm>
            <a:off x="250920" y="570708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Rectangle 59"/>
          <p:cNvSpPr/>
          <p:nvPr/>
        </p:nvSpPr>
        <p:spPr>
          <a:xfrm>
            <a:off x="179280" y="1095480"/>
            <a:ext cx="878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истематические занятия футболом способствуют физическому развитию и укреплению здоровья. У футболистов отмечается правильное телосложение и высокие показатели физического развития: выше среднего рост, соответствующее его величине вес, жизненная емкость легких и окружность груди, высокая амплитуда грудной клетки, становая сила, хорошо развитая мускулатура, особенно нижних конечностей (развитие мышц плечевого пояса и верхних конечностей сравнительно отстае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организм школьн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55700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цессе тренировки организм футболиста постепенно приспосабливается к высоким напряжениям, что сопровождается перестройкой всей его деятельности, расширением функциональных возможностей его органов. У тренированных футболистов - высокая подвижность нервных процессов, быстрая двигательная реакция, совершенн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еятельность органов чувст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собенно зрения и слуха)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стибулярного аппара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C:\Users\1\Desktop\исследовательская работа\IMG_20240202_162738_909.jpg"/>
          <p:cNvPicPr/>
          <p:nvPr/>
        </p:nvPicPr>
        <p:blipFill>
          <a:blip r:embed="rId1"/>
          <a:stretch/>
        </p:blipFill>
        <p:spPr>
          <a:xfrm>
            <a:off x="4716360" y="4292640"/>
            <a:ext cx="396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ведение мероприятий на футбольную тематику для мотивирования девочек к занятию футболо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36" descr="C:\Users\1\Desktop\исследовательская работа\IMG_20240217_232427_160.jpg"/>
          <p:cNvPicPr/>
          <p:nvPr/>
        </p:nvPicPr>
        <p:blipFill>
          <a:blip r:embed="rId1"/>
          <a:stretch/>
        </p:blipFill>
        <p:spPr>
          <a:xfrm>
            <a:off x="250920" y="2852640"/>
            <a:ext cx="4105080" cy="360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1\Desktop\5 Б КЛАСС\исследовательская работа\IMG_20240118_150617_850.jpg"/>
          <p:cNvPicPr/>
          <p:nvPr/>
        </p:nvPicPr>
        <p:blipFill>
          <a:blip r:embed="rId2"/>
          <a:stretch/>
        </p:blipFill>
        <p:spPr>
          <a:xfrm>
            <a:off x="4500720" y="285264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нкурсы в рамках фестиваля «Футбол в школе». Открытые тренировки для 1-х классов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C:\Users\1\Desktop\исследовательская работа\IMG_20240213_122511_482.jpg"/>
          <p:cNvPicPr/>
          <p:nvPr/>
        </p:nvPicPr>
        <p:blipFill>
          <a:blip r:embed="rId1"/>
          <a:stretch/>
        </p:blipFill>
        <p:spPr>
          <a:xfrm>
            <a:off x="165240" y="1878120"/>
            <a:ext cx="3398760" cy="2414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1\Desktop\исследовательская работа\IMG_20240312_155110_457.jpg"/>
          <p:cNvPicPr/>
          <p:nvPr/>
        </p:nvPicPr>
        <p:blipFill>
          <a:blip r:embed="rId2"/>
          <a:stretch/>
        </p:blipFill>
        <p:spPr>
          <a:xfrm>
            <a:off x="3780000" y="1878120"/>
            <a:ext cx="4537080" cy="2414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1\Desktop\исследовательская работа\IMG_20231227_220142_365.jpg"/>
          <p:cNvPicPr/>
          <p:nvPr/>
        </p:nvPicPr>
        <p:blipFill>
          <a:blip r:embed="rId3"/>
          <a:stretch/>
        </p:blipFill>
        <p:spPr>
          <a:xfrm>
            <a:off x="6342120" y="4327560"/>
            <a:ext cx="2008080" cy="2421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1\Desktop\исследовательская работа\IMG_20231024_114802_305.jpg"/>
          <p:cNvPicPr/>
          <p:nvPr/>
        </p:nvPicPr>
        <p:blipFill>
          <a:blip r:embed="rId4"/>
          <a:stretch/>
        </p:blipFill>
        <p:spPr>
          <a:xfrm>
            <a:off x="1476360" y="4327560"/>
            <a:ext cx="4181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зультаты диагностики уровня физического развит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8920" y="134100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зультаты первоначальной диагностики учащихся  (сентябрь 2023) -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(1 группа – занимаются футболом;  2 группа – не занимаются футболом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3429000"/>
          <a:ext cx="8713800" cy="3303720"/>
        </p:xfrm>
        <a:graphic>
          <a:graphicData uri="http://schemas.openxmlformats.org/drawingml/2006/table">
            <a:tbl>
              <a:tblPr/>
              <a:tblGrid>
                <a:gridCol w="1031760"/>
                <a:gridCol w="3325680"/>
                <a:gridCol w="2178360"/>
                <a:gridCol w="21780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казател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ег 30 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9 секунд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5 секунд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ночный бег 3 по 10 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6 секунд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0 секунд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ыжок в длину с мест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5 санти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0 санти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минутный бе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13 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63 метр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зультаты диагностики уровня физического развит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зультаты  диагностики учащихся – (март 2024. (1 группа – занимаются футболом; 2 группа – не занимаются футболом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3141720"/>
          <a:ext cx="8642160" cy="3735360"/>
        </p:xfrm>
        <a:graphic>
          <a:graphicData uri="http://schemas.openxmlformats.org/drawingml/2006/table">
            <a:tbl>
              <a:tblPr/>
              <a:tblGrid>
                <a:gridCol w="1224000"/>
                <a:gridCol w="3097080"/>
                <a:gridCol w="2162160"/>
                <a:gridCol w="21589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казател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ег 30 метр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7 секун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4 секун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ночный бег 3 по 10 метр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2 секун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8 секун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ыжок в длину с мес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0 сантиметр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7 сантиметр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минутный бе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98 мет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89 мет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формирование качеств лич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599840"/>
            <a:ext cx="8785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ллективный характер футбольной деятельности воспитывает чувство дружбы, товарищества, взаимопомощи; развивает такие ценные моральные качества, как чувство ответственности, уважение к партнерам и соперникам, дисциплинированность, актив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5" descr="C:\Users\1\Desktop\исследовательская работа\IMG_20240202_155322_627.jpg"/>
          <p:cNvPicPr/>
          <p:nvPr/>
        </p:nvPicPr>
        <p:blipFill>
          <a:blip r:embed="rId1"/>
          <a:stretch/>
        </p:blipFill>
        <p:spPr>
          <a:xfrm>
            <a:off x="2700360" y="3789360"/>
            <a:ext cx="5729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формирование качеств лич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цессе игровой деятельности необходимо овладевать сложной техникой и тактикой, развивать физические качества; преодолевать усталость, боль; вырабатывать это способствует воспитанию волевых черт характера: смел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ойкости,  решитель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держки,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величивает двигательную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тив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5" descr="C:\Users\1\Desktop\исследовательская работа\IMG_20240202_155148_883.jpg"/>
          <p:cNvPicPr/>
          <p:nvPr/>
        </p:nvPicPr>
        <p:blipFill>
          <a:blip r:embed="rId1"/>
          <a:stretch/>
        </p:blipFill>
        <p:spPr>
          <a:xfrm>
            <a:off x="4427640" y="4292640"/>
            <a:ext cx="429084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люсы и минус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177336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высится концентрация внимания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ыносливость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мекал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ыработается командный ду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тветственность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крепится иммунитет благодаря регулярным физическим нагрузка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отличие от мальчиков, девочки меньше симулируют в игре, не играют на публику и не оказывают давления на судью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ысокая травмоопасность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егативное мнение со стороны  родителей , окружающих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ильная нагрузка на нервную систему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1042920" y="1125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люс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5177520" y="112536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инус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ктуальность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футбол является  одной из самых любимых и распространенных игр  среди людей самых разных возрастов и профессиональных интересов в нашей стране. Особый интерес вызывает игра среди подростков, причем в футбол сегодня  играют не только мальчишки, но и девочки, которые ни в чем не хотят отставать от своих ровесников сильного пола. Но много ли ребята знают о футбол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6" descr="C:\Users\1\Desktop\исследовательская работа\IMG_20240119_213827_167.jpg"/>
          <p:cNvPicPr/>
          <p:nvPr/>
        </p:nvPicPr>
        <p:blipFill>
          <a:blip r:embed="rId1"/>
          <a:stretch/>
        </p:blipFill>
        <p:spPr>
          <a:xfrm>
            <a:off x="2843280" y="3284640"/>
            <a:ext cx="6026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 проведенных мероприятий, количество желающих заниматься футболом значительно увеличилось. Нам удалось собрать 28 первоклассниц, которые начали заниматься футболом в нашей школе. Плюс очень много девочек и мальчиков начали активно участвовать в конкурсах на тему «Футбол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5" descr="C:\Users\1\Desktop\5 Б КЛАСС\исследовательская работа\IMG_20240202_155348_749.jpg"/>
          <p:cNvPicPr/>
          <p:nvPr/>
        </p:nvPicPr>
        <p:blipFill>
          <a:blip r:embed="rId1"/>
          <a:stretch/>
        </p:blipFill>
        <p:spPr>
          <a:xfrm>
            <a:off x="179280" y="3386160"/>
            <a:ext cx="4392720" cy="335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1\Desktop\5 Б КЛАСС\исследовательская работа\EheIY2JSbn4.jpg"/>
          <p:cNvPicPr/>
          <p:nvPr/>
        </p:nvPicPr>
        <p:blipFill>
          <a:blip r:embed="rId2"/>
          <a:stretch/>
        </p:blipFill>
        <p:spPr>
          <a:xfrm>
            <a:off x="4572000" y="3413160"/>
            <a:ext cx="45100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результате проведенных исследований был сделан вывод о том, что у подростков, занимающихся футболом,  уровень  развитии основных качеств (сила, скорость, выносливость), функциональные возможности организма  в среднем выше, чем у тех, кто футболом не занимает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9" descr="C:\Users\1\Desktop\5 Б КЛАСС\исследовательская работа\IMG_20240301_194031_935.jpg"/>
          <p:cNvPicPr/>
          <p:nvPr/>
        </p:nvPicPr>
        <p:blipFill>
          <a:blip r:embed="rId1"/>
          <a:stretch/>
        </p:blipFill>
        <p:spPr>
          <a:xfrm>
            <a:off x="2340000" y="3049560"/>
            <a:ext cx="6119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нтернет-источники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Прямоугольник 4"/>
          <p:cNvSpPr/>
          <p:nvPr/>
        </p:nvSpPr>
        <p:spPr>
          <a:xfrm>
            <a:off x="395280" y="1268280"/>
            <a:ext cx="8497800" cy="15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a0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distablo.ru/images/articles/large/32455746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70a0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s://typical-moscow.ru/wp-content/uploads/2017/07/2-1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a0ff"/>
                </a:solidFill>
                <a:latin typeface="Garamond"/>
              </a:rPr>
              <a:t>3.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www.kublog.ru/uploads/images/topic/2013/05/12/8fafd14746_1000.jpg</a:t>
            </a:r>
            <a:r>
              <a:rPr b="0" lang="ru-RU" sz="1800" spc="-1" strike="noStrike">
                <a:solidFill>
                  <a:srgbClr val="70a0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79280" y="213372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http://www.gameoky.com/wp-content/uploads/2014/05/Preparation-Before-Buying-Kids-Football-Kit.jpg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2637000"/>
            <a:ext cx="81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http://www.deindeutsch.ru/wp-content/uploads/2015/11/KF1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2852640"/>
            <a:ext cx="67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http://www.v-sportgame.ru/cms_editorfiles/images/football.jp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-108000" y="306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http://www.ria-bashkiria.com/uploads/images/news/224.jp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3357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8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http://www.vlasovka.com.ua/wp-content/uploads/2015/11/futbol-sport-63233314256.jp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9.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https://sadposelok.ru/upload/medialibrary/7c1/7c12de9ac756d85678a1df0a3d7c0da6.jpg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imenno.ru/wp-content/uploads/2014/04/1306748639_futbol_deti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ктуальность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 ли можно играть в эту популярную игру? Как увлечь игрой девочек ? Как футбол влияет на растущий организм школьника? Какова роль  какой ей быть». Как футбол помогает девочкам стать более решительными и уверенными в себе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C:\Users\1\Desktop\исследовательская работа\e2AQ970U7tM.jpg"/>
          <p:cNvPicPr/>
          <p:nvPr/>
        </p:nvPicPr>
        <p:blipFill>
          <a:blip r:embed="rId1"/>
          <a:stretch/>
        </p:blipFill>
        <p:spPr>
          <a:xfrm>
            <a:off x="2340000" y="263700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Гипотез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ы предполагаем, что влияние футбола на здоровье школьников , и если провести ряд мероприятий для популяризации футбола среди девочек, то они осознают важность игры и оценят ее положительную роль самовоспитания и саморазвит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6" descr="C:\Users\1\Desktop\исследовательская работа\IMG_20231212_213707_765.jpg"/>
          <p:cNvPicPr/>
          <p:nvPr/>
        </p:nvPicPr>
        <p:blipFill>
          <a:blip r:embed="rId1"/>
          <a:stretch/>
        </p:blipFill>
        <p:spPr>
          <a:xfrm>
            <a:off x="395280" y="4076640"/>
            <a:ext cx="446400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1\Desktop\исследовательская работа\IMG_20240216_154328_438.jpg"/>
          <p:cNvPicPr/>
          <p:nvPr/>
        </p:nvPicPr>
        <p:blipFill>
          <a:blip r:embed="rId2"/>
          <a:stretch/>
        </p:blipFill>
        <p:spPr>
          <a:xfrm>
            <a:off x="5364000" y="3645000"/>
            <a:ext cx="3275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ть вопросы влияния футбола на здоровье подростков и формирование качеств его личности. Замотивировать девочек заняться футбол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C:\Users\1\Desktop\исследовательская работа\IMG_20240218_230039_478.jpg"/>
          <p:cNvPicPr/>
          <p:nvPr/>
        </p:nvPicPr>
        <p:blipFill>
          <a:blip r:embed="rId1"/>
          <a:stretch/>
        </p:blipFill>
        <p:spPr>
          <a:xfrm>
            <a:off x="3635280" y="3284640"/>
            <a:ext cx="5016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Задачи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Изучить научную и научно-популярную литературу по проблеме исследов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провести исследование влияния футбола на здоровье школьников и формирование нравственных качеств личност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провести ряд мероприятий для вовлечения девочек в футбо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создать школьную команду девочек 2016 г.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Метод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893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роверки гипотезы и решения задач нами были использованы следующие методы исследовательской  работы: анкетирование, анализ научной литературы, статистический метод, метод словесных ассоциа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7" descr="C:\Users\1\Desktop\исследовательская работа\IMG_20240312_155110_755.jpg"/>
          <p:cNvPicPr/>
          <p:nvPr/>
        </p:nvPicPr>
        <p:blipFill>
          <a:blip r:embed="rId1"/>
          <a:stretch/>
        </p:blipFill>
        <p:spPr>
          <a:xfrm>
            <a:off x="515880" y="3068640"/>
            <a:ext cx="5135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нкетирование девочек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Объект 6" descr=""/>
          <p:cNvPicPr/>
          <p:nvPr/>
        </p:nvPicPr>
        <p:blipFill>
          <a:blip r:embed="rId1"/>
          <a:stretch/>
        </p:blipFill>
        <p:spPr>
          <a:xfrm>
            <a:off x="849240" y="2009880"/>
            <a:ext cx="7437600" cy="4711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8360" y="11556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аете ли вы в футбо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нкетирование девочек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468360" y="10688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тели бы вы играть в футбо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Объект 2" descr=""/>
          <p:cNvPicPr/>
          <p:nvPr/>
        </p:nvPicPr>
        <p:blipFill>
          <a:blip r:embed="rId1"/>
          <a:stretch/>
        </p:blipFill>
        <p:spPr>
          <a:xfrm>
            <a:off x="488880" y="1577880"/>
            <a:ext cx="7878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6T18:24:44Z</dcterms:created>
  <dc:creator>Дом</dc:creator>
  <dc:description/>
  <dc:language>en-US</dc:language>
  <cp:lastModifiedBy>1</cp:lastModifiedBy>
  <dcterms:modified xsi:type="dcterms:W3CDTF">2024-03-25T04:19:00Z</dcterms:modified>
  <cp:revision>29</cp:revision>
  <dc:subject/>
  <dc:title>Исследовательская работа</dc:title>
</cp:coreProperties>
</file>