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624-850B-468C-8BBB-08D97682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A57-469F-493C-A2C0-863A40D3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400E5-C170-4EEA-A077-49452BD2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4FF5-A0F8-4BB0-847F-9B2187BC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16E1D-2346-49BB-9A7E-9A5504A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BBF79-D415-44E0-A7AE-421EC39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283E9-8835-4401-A016-F5A50F6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3C8F8-F898-4762-8689-34A0AD6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7951-1778-4B33-9290-91102E0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F5CAA-B9BC-4231-90DE-A65258C8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E663-9D23-4FC1-8FD2-AB1A7953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E04BF-27F6-4BED-9DF4-6852A60F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C71-A94C-4D61-B7A4-378B94CC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F55AF-220E-4DB5-9CFF-42A8B44B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6DB0-3736-4366-95ED-1CF6AA3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7E263-85AC-40AA-A366-6C49E8D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763F7-74E3-4EE1-B3D4-EBC537C3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57692-2017-4983-94C6-8F83E64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27CFD-C98B-4CB2-A97E-B1AAD0F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323F6-3D35-494A-BE2B-A34F560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E7428-DE69-49AE-9F56-6615DE4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9D437-28F3-48DC-87EB-C0FEB1DD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9CA0-3D80-4340-8287-ADA265F9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D92-1B1E-462B-9E85-393B5C56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917E2-494D-4BE0-B4DE-58ABBB9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F798A-C137-423A-8788-1BEEAA38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A241-DC35-4B2B-95F6-27446F0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6744A-1BE1-414E-84AA-DD611D5D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CA8B9-2D16-473C-8995-9D2B8C2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8B6AF-8BAC-43E9-A232-FDC78EF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B8D13-BBDA-4BE8-B7B7-B258A11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A1174-8EC4-4686-9606-538279F8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99FC-64FE-4D20-B65D-75AE661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363D5-CBBD-462B-808B-1DD51B6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0B3C-3197-4FF1-81BC-C5A00409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D1A5-BF1D-4088-ACB9-9C5F0E98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14C5-E32A-49AA-ABE1-E1D47AF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70B4-4FD4-4BA6-9CAF-FD375DBA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EDDCA-6C0E-4903-971F-2DCFF0F4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E3FE0-53F0-453A-A0F2-801A7D2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35F82-38E4-4C29-B74E-97A83671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BF0A-792B-4413-8826-D739BB21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0997-3725-49D0-BE75-AF594CBA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59318-CFF1-4FE6-8C90-8B3C876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52CD4-D263-4DF9-B5A9-CF1ADD7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A09-35E8-41EF-898E-5903386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3FFB6-DCED-46B8-A084-C89391A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656E-AF2F-47B3-ABB6-0FF16B2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F34C5-B8D3-409A-9B7A-4668C83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9E072-FC92-4F64-A733-E0A2FB29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B78F9-6CC6-4F3B-B897-6B333637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B500F-6A76-48CA-8713-643DE250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F455D-BB0A-4C33-972F-FD4294D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37784-4073-438C-A86C-2175CEA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959BC-68BD-4B4C-A8C5-337E3AAC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A9384-43C7-4B4D-829D-E7C4EF9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7CC-A213-489D-B133-9D33BBE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8FF22-F332-4C48-A1AA-5D2D548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7B3DA-06FB-4912-8306-65BBFA8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61799-167B-415C-9FD5-40B5DA1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5D565-8049-45A5-82E3-5A6B34E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DED45-B4E1-4F44-9B4A-A5C1C64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D03CD-DDC4-45EC-BB7A-1CE19AC3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5274E-D98A-48EE-A069-6854185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393DA-8719-49E3-BE4D-7C4B8396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29C27-0CF8-4121-9486-D7777E7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A6010-8A03-4723-A9FB-74CBD4A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900-DCCD-4F77-9A9A-1BC8AFCA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4EE5D-7745-4F78-813C-5B05155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1EC44-8D77-420D-BB53-013B277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40CEA-B4E8-40E2-A5D8-3DB7DD8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1D2C1-ED28-410D-B0CA-B0A8E82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1F227-0A82-4470-95D8-338980D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9267A-7692-4701-92D5-7104A46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7E97A-0537-46B9-B705-50DFDE0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C881D-44AC-47CF-9D0B-249AA6C5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BE471-8345-4FF7-902C-97F4ECC5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AE99F-F1C7-4CF8-A1F8-CDDB7AB0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C1C-1781-4FFA-8E0F-228F8DA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DF707-7B6D-4587-A48D-4F51779A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4780F-E567-49FC-BF57-C0DF081C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95A05-ED7A-4650-9037-019A1486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F31AB-745C-49B3-B9F6-02D8118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140F8-D399-4C80-8CFC-BD5D497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E15E1-84FC-4D1C-8947-1D8AA7E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CD8DF-141E-4697-A571-4FED4D0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E08EA-89E9-4BEF-8160-36183BD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BC026-F3DC-42B7-8C78-1F76854E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98405-467E-45F3-AFE8-56EC68E8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FAFC-9D2A-43C9-B947-CE33D56D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A90C9-3E9E-4668-A0D7-B122F3E6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0E525-CD88-4182-AFE8-CDC6FDB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EC485-5028-441B-8168-50A49552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8F15C-2CC8-42C2-9F3E-583A19A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963B9-7444-43FC-B694-9B3387CA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C14C6-F4F8-4121-B4E8-EDB399F5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53DE9-C2EC-445B-BD86-5524C1CF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08D19-B7C0-410F-A4C0-B170834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6A8A3-DF82-4591-9FE3-6138A18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7A818-DCAD-4345-AF33-5CF2913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8BFF-06CE-49D4-8D7E-B71B592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9BBD6-9249-4CA8-9C18-5B9F7CE7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B1854-4745-41E8-92D9-0E0C3384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C7A45-0AEF-451E-B263-838AB11F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09B6C-579B-4F0C-AA46-6EC70746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D7559-3B33-41E3-B30D-E56913D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D0356-86BD-463D-98DE-7159BEEE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9B557-DF20-44B9-AE3D-CE9853A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7A075-80AE-4C46-B7B2-66B43BB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799CA-7870-48CC-8213-12C82FB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B8B8D-997A-449A-92C8-F352CEB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30A-0B68-4DE2-A592-E85CA36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899E-45D7-4074-9A74-D9D851BE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00A19-61C8-48B4-B9E9-01F339E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E1CEB-1EFD-4BF9-A2DB-A8240DE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9D4E6-1C64-43CF-B7B5-7AF029F1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CA2A1-1670-4332-87B0-506DA63E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1EDB5-5E4E-466A-9202-115D46F9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B4D7F-F5E7-4A47-BE9D-8E5C2835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3D4FA-6FC1-4F83-B4AD-D3DA2697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564C3-D528-4B89-97C6-9AF6875D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B7F2A-CF17-4659-AA8B-116CBF9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33D76-6360-41A7-BEF5-91A2EA1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5FAA-087D-4114-BE10-E1E7BAF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76D4F-0DFC-4BC9-B912-495720A5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84475-53BA-4D73-B862-605983F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9C14E-9E73-4B2D-AD07-78903A2E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2AD5D-53DD-4B93-AC5A-373EBF2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C51BB-AA87-4069-A566-E7145FE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F4D0A-6C36-46F9-AD7B-4FFC9540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DD229-DE64-448D-9FE7-18771F4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BE83F-EB58-4B5F-8366-A71951F2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1D84B-37C6-436A-A2C4-99E4DA21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81117-F69C-4B70-824E-AC53B597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45E6-EAC8-46FA-B440-7B9FE535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8131C-37D4-4AC8-831C-DB85F8F7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74BEB-3D91-466B-A33E-40E3AD70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9BA82-B976-4276-BD91-5F7ECE6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76CCA-81B0-4CCD-BD11-D2F4CD3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8E8D6-0E07-4215-BDE3-0B47DA3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C664B-BDC4-4127-A079-0D9F6D8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33AA1-2D86-4B31-8D07-ADFA26B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F0696-2EB7-4B8E-B176-57CEA465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A2878-B013-44C9-A619-28290F7A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89DC2-A30D-4FEE-9C1C-7664B785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02B-6BA0-4FEB-80EA-73FD8D00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152B0-A6AF-4746-A845-FA31696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43B6C-3B3F-4285-8F7D-0E85059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21754-6169-4982-AD85-6D65EC3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C6011-EB72-4ACB-8165-F494936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A74A5-CBD7-48CC-94FF-41D33A51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40FA5-1D6C-48E2-9509-4E9BFFB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73714-9C0B-47F1-8888-83B089A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C5E6B-A5FD-4320-9F79-F0C3577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E55D3-041C-4574-9692-17DC6774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B80B3-56F0-48E7-BFC6-4798984A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39FE-40B3-4E2E-A2D5-1A66FC8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CBF03-011C-46DB-A4A4-9C71FA88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A1E92-D4D3-4FC1-A131-610884D4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4156E-4862-4ED8-A183-10FAFB6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5DDDA-C22B-4F6A-B07E-A18402BE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A9FD4-289A-4180-8C62-FFAF9E1B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F8325-9FCC-4CD6-A4A5-5E01EAC4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6F610-10F4-4D3B-AEDA-7816886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EB9EF-C57B-4AD6-9124-CBC9657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0002F8-4567-4C95-8C4E-53C8242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F3FC1-F719-49F0-9315-D5BE397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3D93-331A-4F48-94E7-B211CFB3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ACCB3-D9BE-498D-8A4F-DE9805B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F23F5-C1EF-42D9-A559-9D1113F9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EFE35-6590-4AE3-A38C-187A28E5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06DC3B-8869-4869-80A3-B652D0D7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D6BF2-3C73-47FF-9509-DF68ACC5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CAA73F-7D72-4B59-B76B-8999766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7EC954-A3DE-4DF0-8279-AB806A37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EF9FD3-132B-43DD-9663-B5226CCB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E54E0-EE55-4D7A-BEC6-7F9662E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7149E-DE79-43A6-A81C-5314F3C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7A0F-5D46-4F7F-B212-1729296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66879-B4D1-4F04-BB86-C6E2C5B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A7D26-D74D-4613-BA39-BAA923D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D1907-7514-41D6-9D93-9E5EFF1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52ABF7-EE52-410F-BD95-0B3EAF2D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95E23-9E06-49CE-ACCF-601BC8D1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E4F32-AB60-474B-9EA6-3B0CE2C0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8189A-CC78-40E1-BA19-700AAC5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982A0-9F2C-47F9-94C2-8AE1790D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8A470E-B1FC-4508-A3C2-6196415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3BC1D3-5B92-4B20-B420-C9A4B5E0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60BE-9F7E-42CC-AF80-D30F41D7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F9CA6-B179-406F-AFED-871DAAE8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5CC748-A29A-4D8C-955D-FF86BB3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ED80EB-8CBE-4393-93CA-154E6BB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8F9BF-4671-49A7-B3DC-9B3B204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D3EE58-8756-46AF-A0A2-9ED6B03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059FD-1C35-4A68-BABA-3FA02A5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B80C8-3A58-4706-A47C-F820AE05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6804B-B86F-4C6C-86B9-9CE73282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612DEE-E544-405C-9FB1-74BB63F0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B2614-9379-4C76-909C-6B63EC0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FE8C-79CE-4368-A788-9A7B1B17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1F663-E6C5-4CE7-90C7-2725FBD2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115C9-11E4-4265-8BA8-7A83FB8E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543ED-4E80-45E3-9A8A-0606888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5BE6C-3578-4B2F-AFF0-47BB2EF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CD153-A4CD-4BA8-8A74-A696E45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14015-1672-4759-BC10-38D21C0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F5CFEA-973D-471F-8541-29F2C8B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F86AA-A64B-4066-B4EE-4BCA7CF5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6BCA63-DCCE-4B2E-A063-4D29B9A0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0FB30-E821-4CEA-9A63-C6FECA9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0B27-7393-4FBC-A3CD-3AF4108A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0674A4-AD4A-4FB2-B63F-3FE3BDA2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F46D50-CC9E-42C6-8FF9-1AD3F7FB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7DDB4-3F40-40BD-B260-936BB63B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3C9124-D4DE-46CE-8C25-98CF3E3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E1CD8A-5DF1-4EEF-ACCA-E767186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4A34DE-3B54-41CE-A779-8EA7560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463D76-7DC0-4FD2-895C-483341A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8A5789-EEFF-4237-B85C-F5B7B86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F96E18-D4BD-4087-90F0-4F8163E1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E57FC2-1D59-4CBD-B3CD-F3D5C799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67A-1E79-4B44-B5CF-FE75523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1671-73DF-488C-8B02-EB9A625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01CE4-2ADA-456D-BE05-EF9207BC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F0F89D-AAB8-49AF-B5E9-85224981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0C5857-10DB-4347-929E-F3FA224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0877A6-E1ED-407B-9BAC-3C8B418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36C328-A975-4451-A7B4-6C6D386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5554E4-5C1E-4FFF-855C-98F8ECC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1545BD-D4E9-4CEE-A43A-F3C5ABD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6E9967-4B83-40E7-BFCB-19A40BB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3CB961-35D7-4BE4-82D7-160A0B5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B5CAD-8EF1-438A-A1E4-9AF3F510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CCBB-505B-46F3-8662-3C1288C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B31CAA-3556-4E85-B6B4-C0EB3DB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8A3FE-9912-4389-9EB2-C2C04635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58EDE4-754C-47F0-8EC8-056739C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2F4F21-F179-461B-899C-0A442CFA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51BD36-0F41-4FC2-BDEB-E1570E9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5AF66-BED6-45F4-84D3-4D76059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D87D9E-27D9-4869-A6AB-0ADBC79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EE23FC-6B19-4398-ADFA-1423DAA3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618A2C-D266-48B4-97F3-7975CFDF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605E3D-1241-4120-86A0-039B132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E3C1-4020-4E85-943C-8DFB0469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4120C5-0A52-4B7B-9C62-7608C1C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EAA9EC-4F65-4341-8E5D-CBEAA12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C0C412-5B02-4BFD-BAAD-09E213DB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74D49-EBC2-43B1-AA4E-387BA67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DB03E5-40AC-425D-8EDA-DB9ADD1C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FA186C-BEAF-4256-82BE-1EE1742B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CE5ED0-FFC8-4ABC-9A76-DE9905B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14D5A3-5658-464A-A147-389F23F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25CF29-A4B7-47E8-9573-7984160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1E622E-B145-4D0E-9594-02A2CBE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BA36-42CD-4CD4-8E59-C44C82E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04C7D1-7D6D-4799-A1C2-9B55E8A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CF1A80-27E6-43F7-ABE0-FBFEE87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834C7-56B5-4E3C-A85C-8180165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081846-5CAE-49CD-9282-B884477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8034E9-73A3-45B4-9945-E9CE13A2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E47FD4-2510-49BA-A3C0-1B1968D8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7095D8-8269-4758-BD85-77A7257D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57BD5D-4F6C-4594-A41F-89C97D74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259EF2-D5CB-458E-888B-188345AA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990496-12A6-4F98-AD47-5B49D7D9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C44F-1F66-4B55-9BF7-C454725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7329BF-1D01-4934-869E-166B9F0F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4EBCA1-F65B-44A8-847C-29BE02A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30269D-E54C-4D4A-8A13-27555BD1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825443-AB50-4198-9000-C441F5C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C9277D-54F6-42D3-9B55-48A78E7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8C6F37-5849-4A14-A512-775575C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94EF72-183C-4B6B-9CCC-9D47C20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E4AD38-D681-4A69-BECF-7C57BFD7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83402-0411-4EC3-92F0-4F364993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2711E9-81D3-4350-A9A5-C66973F5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8454-D0FF-4001-906C-A2D9D627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41ACE6-916E-42F1-BAEA-7C75380D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CC13F3-D276-431A-A6B9-73725CC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A9918E-0416-4E9B-A0E0-4243034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17F011-16DF-4E4F-8261-82CDFA8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DFDE59-D293-4A80-8E51-FF4FBCA4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F1573-D1A6-4D74-BEC3-4BD397D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29015C-0D13-440F-9B7B-63CEB16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B804F1-0AF4-481A-881E-5E77E74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E501C7-841E-4D3A-B2F8-97A4544A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DBD78D-2BB2-4E35-97F2-31F813E8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E75E-DAFE-4973-8084-D29E7E8C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9E4038-BD5D-4F83-9CB9-D8D1F553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BA9CF1-9D98-4461-A248-F8C69B73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62374D-7165-4AD2-B1ED-F070FC7F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47EA15-0548-4BD8-8C99-0ED112B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956678-8F60-4BC4-B84B-189DCC4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913A7D-DF90-46E5-BB0D-9E01766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62360F-26A8-4A94-96FD-73513CE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C3D5F7-38FB-41C1-AF8B-B391FD58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049DA1-5767-426C-BF7F-ECE4DDA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B48B97-82E4-4625-8042-8AE4F8F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1C8F-B9F7-41AF-81EE-F4B5B9D5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0D1FF9-F8B3-4F23-8AF9-CA0DB052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20F5D4-5F76-4AE5-8FA5-EEDC82F4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45EC06-CAB8-447E-B101-87DF40D6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1F5AD95-8B5F-4112-8049-D70910A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682D825-9F8D-4CBF-8912-BEE30E1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3BEE138-C47B-43A1-BF16-EEE1FBB5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93D9C69-7DFE-4BAB-A3E9-B8D112E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07454A1-3C4F-4C5A-8F50-3B24B28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DDAEAF5-1EF0-4543-B9BA-BFD8094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5247FF4-6F46-41AE-9194-1404285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1D9F-AA85-4F4D-BAF8-FC28137C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EF7BC03-E909-4290-A415-982A8B8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CE39C6-F10A-4E01-B01F-2B0BB28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A82410E-7009-4DC2-BA1B-00BE4B3E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0E4C6A-2E6E-496C-88E4-EA7FA0E3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F5570F4-FEAC-4900-8417-4D4D6DEF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5F1A-4CD9-44F9-BF95-565B499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8FF-980C-4AF6-927B-90E7FE4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44B5-13DC-4D71-A7D2-3B9AC01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6A91-2C46-479D-A246-00B3E37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6657-B536-4FAC-A43D-8BE4B7F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76F5-764B-4BCF-B064-70A9C66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FFA1-844A-4E3A-8902-19928A6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4809-E444-48B6-8CC2-3FFBF6B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A5EA-8D59-44AA-9FA9-75A1307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0E95-03A7-438D-A464-A088855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F62D9-34C1-4661-BF30-B61C854F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F723-7629-4555-AB7B-BD0F55BB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6EC-DB73-472A-B930-15A8FADC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D07BF-DE15-49BB-A56B-D15B22B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C19C-B01E-4017-BE48-8083945D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8B64-473E-443D-B194-2FA5DB5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C022-B8D8-4990-A363-994E250B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D12D-B20F-42F2-A29F-C47F86B7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E245-2C05-45C1-8809-621C640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7749-C73F-4CFE-8A6F-B846B7C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3275-F7F9-43D6-9F3C-41C88DB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5243-08A4-4556-9BF2-2ED2F125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4050-1473-449D-9012-B593BCC5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910-5DC9-4136-81ED-304CB203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0E01-5E8A-4850-B03E-45A1D913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67804-4876-41A4-AF99-A1B8A550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07EB1-90B6-419E-B6F5-0E4E839D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E8B4F-AB09-4337-8FD7-BCB49CC4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DE58D-4710-4482-8084-15E105A9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8D625-9165-49C4-9690-F9C39950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2D847-7E63-42FF-A76D-691EB40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F6930-7775-46F9-9BC7-5923416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FB529-DBA0-48BE-BC80-ADB6202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03ADE-99F3-4006-9F16-55BFE20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028-F726-44C0-BF5B-F147EC2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4F917-39A4-49B7-81CC-60EE646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AD79C-AF07-4C62-991D-A51E33C2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CC5C0-2956-4FEE-81C9-75552697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839F-779D-497F-B5C1-DD6EE9DC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02FA-7F3D-427F-B02E-B3A69229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7452-7663-4F86-B2EB-125D9715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DE97-791F-4BFA-B4BC-E1B1FF88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88B50-8589-4996-8E5B-089D087C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2C03-3705-4A02-BC0A-26B0F2CA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5271-5B84-45FA-8FC8-0C13559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37F-18C2-4F1A-BCA1-1483CF0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435E6-01BA-4DA1-98EF-83454A2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74A60-5FE6-4EFA-B2C7-1F39496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391F-82B5-4568-84B7-D5855CE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7D68-9E72-4D33-A9F3-B509E14C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E938-584C-497F-AB84-017ED43B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C5B5-D175-44BE-BC38-09241327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CAC8-9A3D-4B3B-9323-4172EEF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44C5-ABC2-4943-A117-39687D38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20923-55C3-4089-99EA-F34B6337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9064-8092-48D9-9F9F-71D7D2C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1E4-5F10-4F66-A341-BEF64D7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6B09-2C58-4265-BDEF-6333109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92E7-E832-47CA-AFF3-AAFF077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6280-44DB-4E0B-943B-150E8DD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E65D-6ECC-4A87-9962-0EAB12C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1507-CB08-423C-9E23-7EB0EB32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9997-18B5-4D69-9539-474DD0BC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DB5C-C322-45C6-AEA0-5514253F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F11F7-FF8F-47FF-B2D6-9764762B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3FCE4-9F82-4A19-94E5-EC9A0EE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77E3A-F761-480D-A8F6-5F89F12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FAD3-90A6-4801-8243-0AEB28B57E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66C-1874-4C56-85CD-BD48BFA28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1155-1242-4785-BE0B-556AEB321F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63CF-5CA8-40AA-B0C7-9A7EC41447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360C-9812-428B-9B4F-8B742503B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6324-23B2-47AF-BDF5-B539F6D555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18C-AB5E-4B59-A493-5B53DDB658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2454-790E-4BDC-ACBC-8E6660AAC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6EF0-FB16-411B-88BB-20CC02AAC3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738-D2C4-4C33-9ADB-E6088DD1CF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4D2-07EA-4843-90E4-B5115F3C0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D7D-02F6-45A5-A863-D3CA798BC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53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CEC-2338-402A-91D4-BBB3C90347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0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99C9-43A0-4489-880D-C6D4E14CF5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48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C953-C77A-409D-844F-EFFF2ACEDA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9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73DA-3C48-4223-B208-2EC4E08742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A99-81AA-4388-BE64-3746559DD8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8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2338-3C46-48B6-9330-2859E84DE4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DF8-DF7F-464F-8EAF-FF06586B97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9CF-1DE1-421A-B520-0448F5FF93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4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0FA2-7A61-4552-9520-37DE54848D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E8B4-74F7-4867-A26C-E534DC228F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397A-9FD0-4315-A8AA-212F5B1601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5603-6190-44F2-B384-AFFC88C0C3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5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5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7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8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0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1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D29-6F80-49F6-BF8E-A9B8808AC5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9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0B38-9133-4FC1-B80A-92B2B93745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ftr" idx="9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AD0-FF5C-4CCA-A79E-35AD0FF363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64E3-7DA2-474F-9122-9E2CDDFFC7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C3F-407E-4AE6-B66E-92F35CC6F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FCE-B170-498A-9B9D-C16BDB9050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9C3-A2BE-4400-B1F6-F92CDD7A2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F16-CD3D-4AEC-A69E-AF652CC96C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6" name="Picture 4" descr="Все для войны."/>
          <p:cNvPicPr/>
          <p:nvPr/>
        </p:nvPicPr>
        <p:blipFill>
          <a:blip r:embed="rId1"/>
          <a:stretch/>
        </p:blipFill>
        <p:spPr>
          <a:xfrm>
            <a:off x="68400" y="1608120"/>
            <a:ext cx="3654360" cy="5133960"/>
          </a:xfrm>
          <a:prstGeom prst="rect">
            <a:avLst/>
          </a:prstGeom>
          <a:ln w="0">
            <a:noFill/>
          </a:ln>
        </p:spPr>
      </p:pic>
      <p:sp>
        <p:nvSpPr>
          <p:cNvPr id="1767" name="Овал 5"/>
          <p:cNvSpPr/>
          <p:nvPr/>
        </p:nvSpPr>
        <p:spPr>
          <a:xfrm>
            <a:off x="8028000" y="142920"/>
            <a:ext cx="1116000" cy="14749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Овал 6"/>
          <p:cNvSpPr/>
          <p:nvPr/>
        </p:nvSpPr>
        <p:spPr>
          <a:xfrm>
            <a:off x="68400" y="142920"/>
            <a:ext cx="111888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Прямоугольник 7"/>
          <p:cNvSpPr/>
          <p:nvPr/>
        </p:nvSpPr>
        <p:spPr>
          <a:xfrm>
            <a:off x="3722760" y="1735200"/>
            <a:ext cx="1944720" cy="486576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У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0" name="Picture 8" descr=""/>
          <p:cNvPicPr/>
          <p:nvPr/>
        </p:nvPicPr>
        <p:blipFill>
          <a:blip r:embed="rId2"/>
          <a:stretch/>
        </p:blipFill>
        <p:spPr>
          <a:xfrm>
            <a:off x="1224000" y="476280"/>
            <a:ext cx="6694560" cy="125892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5" descr="Foto"/>
          <p:cNvPicPr/>
          <p:nvPr/>
        </p:nvPicPr>
        <p:blipFill>
          <a:blip r:embed="rId3"/>
          <a:stretch/>
        </p:blipFill>
        <p:spPr>
          <a:xfrm>
            <a:off x="5667480" y="1617840"/>
            <a:ext cx="3576600" cy="525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Вопросы к отрывку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«Повесть о житии и храбрости благоверного и великого </a:t>
            </a:r>
            <a:br>
              <a:rPr sz="2900"/>
            </a:b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князя Александ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каком «короле», по вашему, идёт речь? Какие цели он преслед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чью помощь надеялся князь Александ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ие черты характера продемонстрировал княз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8" name="TextBox 24"/>
          <p:cNvGrpSpPr/>
          <p:nvPr/>
        </p:nvGrpSpPr>
        <p:grpSpPr>
          <a:xfrm>
            <a:off x="2316240" y="-12600"/>
            <a:ext cx="4816440" cy="884160"/>
            <a:chOff x="2316240" y="-12600"/>
            <a:chExt cx="4816440" cy="884160"/>
          </a:xfrm>
        </p:grpSpPr>
        <p:pic>
          <p:nvPicPr>
            <p:cNvPr id="1799" name="TextBox 24" descr=""/>
            <p:cNvPicPr/>
            <p:nvPr/>
          </p:nvPicPr>
          <p:blipFill>
            <a:blip r:embed="rId1"/>
            <a:stretch/>
          </p:blipFill>
          <p:spPr>
            <a:xfrm>
              <a:off x="2316240" y="-12600"/>
              <a:ext cx="4816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2500200" y="142920"/>
              <a:ext cx="437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вская битва 15 июля 1240 г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1" name="Picture 8" descr="К Невская битва а"/>
          <p:cNvPicPr/>
          <p:nvPr/>
        </p:nvPicPr>
        <p:blipFill>
          <a:blip r:embed="rId2"/>
          <a:srcRect l="350" t="3966" r="0" b="0"/>
          <a:stretch/>
        </p:blipFill>
        <p:spPr>
          <a:xfrm>
            <a:off x="0" y="785880"/>
            <a:ext cx="9144000" cy="59562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чение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ервая победа русских войск в 13 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становили натиск шведов на русские земли на долго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явился полководческий талант князя Алекса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дохнём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5" name="Picture 5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100760" cy="397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йчас мы с вами немножко разомнемся, но при этом постараемся закрепить наши знания. Я буду говорить утверждения, если утверждение верное, то вы встаете на носочки и тянетесь, если я говорю ложное утверждение, вы наклоняет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и на западе воспользовались слабостью Руси шв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овгороде была сильная неограниченная власть кня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защиты от шведов новгородское вече обратилось за помощью к князю Даниилу Романович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ая битва состоялась 15 июля 124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ая битва закончилась поражением русск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Александра Ярославича принесла ему славу и прозвище Нев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8" name="Picture 2" descr=""/>
          <p:cNvPicPr/>
          <p:nvPr/>
        </p:nvPicPr>
        <p:blipFill>
          <a:blip r:embed="rId1"/>
          <a:stretch/>
        </p:blipFill>
        <p:spPr>
          <a:xfrm>
            <a:off x="20520" y="781200"/>
            <a:ext cx="9123480" cy="6076800"/>
          </a:xfrm>
          <a:prstGeom prst="rect">
            <a:avLst/>
          </a:prstGeom>
          <a:ln w="0">
            <a:noFill/>
          </a:ln>
        </p:spPr>
      </p:pic>
      <p:sp>
        <p:nvSpPr>
          <p:cNvPr id="1809" name="Прямоугольник 1"/>
          <p:cNvSpPr/>
          <p:nvPr/>
        </p:nvSpPr>
        <p:spPr>
          <a:xfrm>
            <a:off x="20520" y="11160"/>
            <a:ext cx="89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довое побоищ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 апреля 1242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2" name="Picture 4" descr=""/>
          <p:cNvPicPr/>
          <p:nvPr/>
        </p:nvPicPr>
        <p:blipFill>
          <a:blip r:embed="rId1"/>
          <a:srcRect l="0" t="-18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3" name="Picture 2" descr=""/>
          <p:cNvPicPr/>
          <p:nvPr/>
        </p:nvPicPr>
        <p:blipFill>
          <a:blip r:embed="rId1"/>
          <a:srcRect l="4687" t="17499" r="1299" b="2110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чение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укрепили веру в свои си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становили натиск немецких рыцарей на русские земли на долго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ководческий талант князя Алекса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гласны ли вы с этой точкой зрения. Почем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ю Александру не нужно было тратить силы своего войска на борьбу со шведскими и немецкими рыцарями, а лучше было отправиться на юг Руси на борьбу с монго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Picture 4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  <p:grpSp>
        <p:nvGrpSpPr>
          <p:cNvPr id="1773" name="TextBox 24"/>
          <p:cNvGrpSpPr/>
          <p:nvPr/>
        </p:nvGrpSpPr>
        <p:grpSpPr>
          <a:xfrm>
            <a:off x="60480" y="66600"/>
            <a:ext cx="8950320" cy="884160"/>
            <a:chOff x="60480" y="66600"/>
            <a:chExt cx="8950320" cy="884160"/>
          </a:xfrm>
        </p:grpSpPr>
        <p:pic>
          <p:nvPicPr>
            <p:cNvPr id="1774" name="TextBox 24" descr=""/>
            <p:cNvPicPr/>
            <p:nvPr/>
          </p:nvPicPr>
          <p:blipFill>
            <a:blip r:embed="rId2"/>
            <a:stretch/>
          </p:blipFill>
          <p:spPr>
            <a:xfrm>
              <a:off x="60480" y="66600"/>
              <a:ext cx="89503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5" name=""/>
            <p:cNvSpPr/>
            <p:nvPr/>
          </p:nvSpPr>
          <p:spPr>
            <a:xfrm>
              <a:off x="214200" y="214200"/>
              <a:ext cx="86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c8c93"/>
                  </a:solidFill>
                  <a:latin typeface="Arial"/>
                </a:rPr>
                <a:t>Обстановка у северо-западных границ русских зем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6" name="Picture 2" descr=""/>
          <p:cNvPicPr/>
          <p:nvPr/>
        </p:nvPicPr>
        <p:blipFill>
          <a:blip r:embed="rId3"/>
          <a:stretch/>
        </p:blipFill>
        <p:spPr>
          <a:xfrm>
            <a:off x="324000" y="3354480"/>
            <a:ext cx="2092320" cy="172872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grpSp>
        <p:nvGrpSpPr>
          <p:cNvPr id="1777" name="Группа 16"/>
          <p:cNvGrpSpPr/>
          <p:nvPr/>
        </p:nvGrpSpPr>
        <p:grpSpPr>
          <a:xfrm>
            <a:off x="611280" y="981000"/>
            <a:ext cx="2708280" cy="2322720"/>
            <a:chOff x="611280" y="981000"/>
            <a:chExt cx="2708280" cy="2322720"/>
          </a:xfrm>
        </p:grpSpPr>
        <p:pic>
          <p:nvPicPr>
            <p:cNvPr id="1778" name="Picture 5" descr=""/>
            <p:cNvPicPr/>
            <p:nvPr/>
          </p:nvPicPr>
          <p:blipFill>
            <a:blip r:embed="rId4"/>
            <a:stretch/>
          </p:blipFill>
          <p:spPr>
            <a:xfrm flipH="1">
              <a:off x="611280" y="1165680"/>
              <a:ext cx="1316880" cy="21380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sp>
          <p:nvSpPr>
            <p:cNvPr id="1779" name="TextBox 15"/>
            <p:cNvSpPr/>
            <p:nvPr/>
          </p:nvSpPr>
          <p:spPr>
            <a:xfrm>
              <a:off x="2239560" y="981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шве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Picture 2" descr=""/>
          <p:cNvPicPr/>
          <p:nvPr/>
        </p:nvPicPr>
        <p:blipFill>
          <a:blip r:embed="rId1"/>
          <a:stretch/>
        </p:blipFill>
        <p:spPr>
          <a:xfrm>
            <a:off x="395280" y="160200"/>
            <a:ext cx="4721400" cy="6697800"/>
          </a:xfrm>
          <a:prstGeom prst="rect">
            <a:avLst/>
          </a:prstGeom>
          <a:ln w="0">
            <a:noFill/>
          </a:ln>
        </p:spPr>
      </p:pic>
      <p:sp>
        <p:nvSpPr>
          <p:cNvPr id="1819" name="Прямоугольник 2"/>
          <p:cNvSpPr/>
          <p:nvPr/>
        </p:nvSpPr>
        <p:spPr>
          <a:xfrm>
            <a:off x="5292720" y="981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ден Александра Невского был учрежден  в 1725 году Екатериной 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июля 1942 был утверждён  Орде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андр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1" name="Picture 4" descr="I-42-RUSSIA-nevsk-f03_640"/>
          <p:cNvPicPr/>
          <p:nvPr/>
        </p:nvPicPr>
        <p:blipFill>
          <a:blip r:embed="rId1"/>
          <a:stretch/>
        </p:blipFill>
        <p:spPr>
          <a:xfrm>
            <a:off x="3419640" y="549360"/>
            <a:ext cx="5464080" cy="566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Picture 4" descr=""/>
          <p:cNvPicPr/>
          <p:nvPr/>
        </p:nvPicPr>
        <p:blipFill>
          <a:blip r:embed="rId1"/>
          <a:stretch/>
        </p:blipFill>
        <p:spPr>
          <a:xfrm>
            <a:off x="0" y="-15840"/>
            <a:ext cx="4427640" cy="618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23" name="Text Box 5"/>
          <p:cNvSpPr/>
          <p:nvPr/>
        </p:nvSpPr>
        <p:spPr>
          <a:xfrm>
            <a:off x="0" y="595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коны святого благоверного князя Александра Нев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4" name="Picture 4" descr="p0000002"/>
          <p:cNvPicPr/>
          <p:nvPr/>
        </p:nvPicPr>
        <p:blipFill>
          <a:blip r:embed="rId2"/>
          <a:stretch/>
        </p:blipFill>
        <p:spPr>
          <a:xfrm>
            <a:off x="4427640" y="-15840"/>
            <a:ext cx="4722840" cy="6181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17, р.т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3 стр.7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ьте по 3 «Тонких вопроса» и 3 «Толстых вопроса» к §17 или вопросы к игре Х и 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 –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дно на выбо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7" name=""/>
          <p:cNvGraphicFramePr/>
          <p:nvPr/>
        </p:nvGraphicFramePr>
        <p:xfrm>
          <a:off x="0" y="836640"/>
          <a:ext cx="9144000" cy="4724280"/>
        </p:xfrm>
        <a:graphic>
          <a:graphicData uri="http://schemas.openxmlformats.org/drawingml/2006/table">
            <a:tbl>
              <a:tblPr/>
              <a:tblGrid>
                <a:gridCol w="3821040"/>
                <a:gridCol w="5322960"/>
              </a:tblGrid>
              <a:tr h="77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онкие вопросы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олстые вопросы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г 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зва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о 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гласны ли вы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бъяснени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думаете, 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считаете, 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чём различи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оложите, что было бы, если…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830" name="Picture 3" descr=""/>
          <p:cNvPicPr/>
          <p:nvPr/>
        </p:nvPicPr>
        <p:blipFill>
          <a:blip r:embed="rId1"/>
          <a:stretch/>
        </p:blipFill>
        <p:spPr>
          <a:xfrm>
            <a:off x="228600" y="166680"/>
            <a:ext cx="8686800" cy="652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В </a:t>
            </a: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XIII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 веке северо-западная Русь столкнулась с агрессией шведских и немецких рыцаре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781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064720" cy="4175280"/>
          </a:xfrm>
          <a:prstGeom prst="rect">
            <a:avLst/>
          </a:prstGeom>
          <a:ln w="9360">
            <a:solidFill>
              <a:srgbClr val="000000">
                <a:alpha val="85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вы причины нашествия крестоносцев на Русь именно в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II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век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ильной княжеской власти в Новгороде и Псков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ление Руси в результате монголо-татарского нашест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щенность русских зем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задачи ставили перед собой крестоносцы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евание богатых земель Новгорода и Пско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е русских людей в своих работ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русских людей в католическую вер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Князь Александр Ярославович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785" name="Picture 4" descr=""/>
          <p:cNvPicPr/>
          <p:nvPr/>
        </p:nvPicPr>
        <p:blipFill>
          <a:blip r:embed="rId1"/>
          <a:srcRect l="0" t="0" r="0" b="4804"/>
          <a:stretch/>
        </p:blipFill>
        <p:spPr>
          <a:xfrm>
            <a:off x="3059280" y="1341360"/>
            <a:ext cx="3419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Александр Невски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250920" y="602100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удожник П. Ко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4572000" y="6092640"/>
            <a:ext cx="40384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трет из «Титулярник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9" name="Picture 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168720" cy="49690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0" descr="137"/>
          <p:cNvPicPr/>
          <p:nvPr/>
        </p:nvPicPr>
        <p:blipFill>
          <a:blip r:embed="rId2"/>
          <a:stretch/>
        </p:blipFill>
        <p:spPr>
          <a:xfrm>
            <a:off x="5076720" y="907920"/>
            <a:ext cx="37432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…И воистину -не без божьего повеления было княжение его. И красив он был, как никто другой, и голос его -как труба в народе, лицо его – как лицо Иосифа, которого египетский царь поставил вторым царем в Египте, сила же его была частью от силы Самсона, и дал ему бог премудрость Соломона, храбрость же его – как у царя римского Веспасиана, который покорил всю землю Иудейскую…»</a:t>
            </a:r>
            <a:br>
              <a:rPr sz="3200"/>
            </a:br>
            <a:br>
              <a:rPr sz="2400"/>
            </a:br>
            <a:br>
              <a:rPr sz="1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гласны ли вы с этой точкой зрения. Почем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ю Александру не нужно было тратить силы своего войска на борьбу со шведскими и немецкими рыцарями, а лучше было отправиться на юг Руси на борьбу с монго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714840" cy="5572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ргер: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можешь, сопротивляйся, но знай, что я здесь пленяю землю твою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5" name="Picture 5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48578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49:56Z</dcterms:created>
  <dc:creator>Инна</dc:creator>
  <dc:description/>
  <dc:language>en-US</dc:language>
  <cp:lastModifiedBy>Пользователь</cp:lastModifiedBy>
  <dcterms:modified xsi:type="dcterms:W3CDTF">2024-03-25T04:34:51Z</dcterms:modified>
  <cp:revision>81</cp:revision>
  <dc:subject/>
  <dc:title>6 класс Тема 4 «Русь между Востоком и Западом». Тема урока №2 «Натиск с Запада».</dc:title>
</cp:coreProperties>
</file>