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23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216-7E11-41E7-AA3C-53F6CEF3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25F-178C-44BB-BABF-1F420A17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8E1DF-C3C5-4B24-B11E-F448C86C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A0035-A23B-4D18-838A-F452DB1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4299B-1EF5-45D7-ADFC-258496C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D001-5700-4FD4-96C9-98AD57B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65441-3025-4B00-9181-A5363D5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D596B-C0FB-4206-A5D7-7004DF5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E1256-182E-4C4E-841F-43998CC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1C94A-4D7B-4B6A-981F-CC427168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FE076-608C-49A4-AFD7-71B70615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53937-97B1-402B-9B01-D1C63FCE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665-E014-4B2C-BF58-577FD2B6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E684-9E75-41F1-BEDD-D413C2A9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F258F-95E5-492F-9623-DA1DD72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2DB6A-F6C6-4FE3-8AFA-01A9AE3D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8771A-582E-4298-B770-6318D940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2E5B5-B999-49CA-85F1-D90B155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F81D0-5E75-4BAB-AB75-30A2AC4E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665A7-276B-4BBA-B0BF-7073AB9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FBE00-30B7-4EE3-A137-7ACE531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DE59-E8AC-438D-A94A-687C9A2F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A2C18-48E4-4D13-9142-D8F61B82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EBB-1B33-4DA9-A8AB-602A7E0E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631F7-E8DB-4B17-8841-FC935062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32D25-273C-4293-9C87-32C9CF23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4757-4318-476B-8018-9EECD0B0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84D8-FF5D-4823-B1BE-14583E55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C2DB-9E89-47B4-BF83-62745C99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D74E-35B4-4D04-8C47-93B2D8C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77F9-D01E-4AFC-8870-6179EDDF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43C48-86A0-4BE1-8136-AB35FE0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D829-08E4-4DD0-9C3A-2787B4B4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779C8-958E-417F-8133-9711B9C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95E-ABEC-4E96-B057-2C1D9A6B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4A07-0944-4FA5-9100-EED2F63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A7538-050F-4EEB-A676-4D92AA89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A50E0-1E2D-49C9-BDE8-A2C6B230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296CC-433D-4260-9E0A-4D767491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DB962-53F5-4ED3-92D9-9A1F25FE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12B9E-C1C9-4895-ABB8-A7E8E6D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F46E7-07A5-46ED-8AD8-1F6EAD1F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F6EBD-6E84-4006-B5BD-79FD7AC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30C7B-A609-455A-A9EE-2524BB5F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6D058-B79C-4AE2-BFE1-C652C05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A39-6738-4349-87CC-1FAC251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00B6D-41F8-46DC-BD2B-CD75A556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922BE-64F6-46C8-8B0F-E39C466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68807-24C6-4F69-B3E2-7E73EB6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687DE-ABF2-4444-9896-53830A6F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32F24-EC4C-4EE4-9300-A087031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37515-141A-4277-A3B1-BBEC23B3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AA09A-C612-4D18-BFB0-78AEDD49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AE05A-952D-4313-9C59-970AD2E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AA559-4F59-49E0-85C7-DB0A02B1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35DB5-D6EC-49E1-8A48-C4309130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5C13-15FB-41A3-B93A-212E929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27C71-BD73-4CF6-9726-0AE1DF9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9A2F4-3429-4BC3-AF19-39AB47F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3A620-6958-4CA6-A299-53F40848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C2714-BE57-45B5-A216-5F8E02E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2FDD8-0123-49A2-AFC5-00D4903A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AE7A7-A1A3-4DD4-8BAA-073DFB28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B08A3-C630-4991-BEEA-39309FB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80D72-4F68-4821-9491-B2B0549C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F6776-B27D-420B-B962-FE9707B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13A09-6AEE-4702-9FEE-510B325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AEF-55DD-4239-8CAD-C24A76B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01897-BA8F-44EF-A955-54A84D92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CDB12-6A57-4401-AF64-A6FCDE2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485CA-40BE-4692-BEE9-077FECC2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C0770-42EE-4DD4-94E2-506CBD8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AC070-E0F7-4D5A-865A-20B0839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82214-34D0-4E2F-8C73-217D3D10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68D47-A2F3-4DAA-835C-347664C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907D3-38D2-4EA2-9A0A-6E2C30DF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2AB4B-A2B1-4C2F-B299-1466B081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FE075A-D87C-4879-AC61-7572D95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75A-F022-4F3E-9200-8F9BD15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85971-8050-415D-A55B-048E8E2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E43C8-4387-4855-8CFA-7EEE8907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EB18F-540B-4E34-AE89-321BE05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54107-2556-4D3D-98D9-66F030C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695A7-084F-46FD-BCCD-A5559FE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35FEB-EB44-481B-A750-25C506D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ABC08-4961-4601-8C9A-553DC88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59279-063F-47A5-8F49-F3B6E8A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8CC5A-E068-4254-AE29-E33818DA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71C4F-3FB9-4645-8840-B204CFC9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00A5-2959-43BE-9CA4-57FE262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86B54-D91E-42B4-8DE0-DE2C6C28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FFD8E-6A77-452F-9D45-FB603DE6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B93E7-BB68-4FEF-8961-1C67D54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41499-47DC-4909-8B98-E690C40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A39F1-7548-48F4-A407-1994C53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3092B-30C9-49E4-AEDB-7271DBA0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EE9B0-5447-44C1-A914-496FE82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4E96A-D525-4918-AE6C-D33033E4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6F383-CC3C-4211-8A4B-74909E7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94666-61B2-4D4B-8371-3C33C19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71C-855F-4BF8-96BF-AC11CFB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F67C0-6812-4558-9ABB-4E6E00B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3A280-A164-465B-A809-120AD6F6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71538-1378-4BAC-BDCD-77DD5331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535A5-35EC-4D6C-AE2F-C015A542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899C0-7683-4ADF-8B57-AF3A2FA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68E3B-9B95-44FD-9F6B-72760A36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1EEB6-5FC2-489C-ABAE-EBB3F78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E7243-DC71-4641-BC5D-EFCE38F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E76C9-9031-4559-9026-63A92294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0A386-00FE-4562-8E76-33B381D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E12-210E-497B-A523-0A120CE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BA3-334E-4334-9FEF-F9F23BB4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FF661-B159-4663-90B1-2C9C406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10035-B9B1-46EF-A272-FD24A16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6664C-4E54-498A-B4A4-7004D065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4C5395-094C-45B3-83A0-F1B1F81B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874A0-D930-45D4-8DFE-E0232D00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22FF0-1718-4A34-95F7-1F635461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43F1B-E76C-4B5F-A39C-7EC0BC1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8A0BD-1C78-4CAB-86AF-5B169F3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3C8DF-6F2D-42D8-8371-F56C44FB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F549C-4DE0-45D7-8B44-F7A6441A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403-C34B-4CA5-8E8A-AA727912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B5354-DEFD-4366-9D1C-E4034E14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141F8-7770-4837-AD7D-CDAAC2A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BEF37-F1BE-41B6-940A-A506481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EC9E14-8FDE-4F97-9656-1AE8C41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59C10-F398-4513-93A8-EFECC07B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9650A-4CB8-4817-9E9D-D77371D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77F12-6508-4816-8950-CE54EC28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159D4-4552-4A15-82A4-03A67148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8BCFE-246B-4177-ADCE-819D8A49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B2F8B-4EE0-4EAC-899D-44A648F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0AC5-9E6D-41EE-A03C-9557D687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927FF-96C7-4DDC-A963-44C40C7F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48693-2018-4996-8BB7-EEEC1678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BDB50-3490-489C-835B-C0260FE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BFCB0-4360-4C83-B2A7-F8C45F5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3E311-A114-4852-ABFA-2F4EE0F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B2693-60EE-42ED-AA01-4D44F11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DFC35-415E-4D06-BB03-790E4E68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84877-1327-4A69-8513-FCDC9E21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0F566-624E-4C3D-A3F5-56D8E374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9CDA8-A9FF-4E53-B554-58CB2048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FD46-D64B-4E6D-A51C-E201033D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19B94-BF7D-456F-8991-6122B07B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E1167-349E-4C99-BD2C-6CA0835B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2ACD6A-200B-4ECB-A3CA-957664D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31D1F-A2BB-4A2C-AFD5-4B8A149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04CF4F-7323-40D7-B248-434DD9B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D014B-FC49-400D-A797-5EA0A63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43FC1-1CAB-43A5-983D-188E294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DF3B1-FF6C-4676-BEF5-BC80482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65505-C7C9-42F3-A271-2865C67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F63CC-673B-4E34-BE6A-04BE7DA4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D3D-8BEE-4ED4-81BE-E58EAFF9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5F170-06AB-4930-B8CA-BA6234E6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BD4A5-2F0D-44E1-A8D0-2D3F458F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D3290-E710-4071-8042-15AB78D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F5F390-2A23-43CD-B052-F7660D7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C5245-1282-45F0-938B-4125C7F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76131-D4F8-405B-A642-9864FF5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8D09C-A4BF-45B6-A069-9A903F4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F19DD-BE96-4F13-9499-BF0E6EA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CB181-01DB-42D5-AFFB-8C3F493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A2428-FA38-47E0-B222-01DEBD3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FEE8-2B94-4C84-8534-FE8F7056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93083-E791-4A54-9C42-F3986C61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B60B6-7465-46F3-B660-1590267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76EBF-C9C7-4EA6-A810-A16F71EE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9BC8D-5D82-46C1-9C24-5B7165B5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0C1A4-A383-4576-8B2E-2946B60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C770C-2307-4C53-AB2C-AB11334C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D3B9F-84CC-4B0A-8B8A-444E2FA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DB2DD-6D95-41C3-B424-5F68E52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2060B-13DD-4802-A0A4-96C7542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A0732-5CA8-4DBC-AA9C-34FB9EB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69D6-DFF9-4B74-9DB6-683CABF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D06D2D-2816-4E94-833E-C93793E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BD828C-4523-4B08-8331-9D5F3E2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09B16-61D5-4EAC-91A7-D93CFFB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4A283-4430-4640-BD48-D258E2FD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60328-F7EE-489F-8CCD-80C4C121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19DE6-D88C-4606-B636-32B7A9DE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B22D7D-327C-41D5-9292-0CBB75D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05943-63FC-41FF-9FF8-D00CBCE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7E5D0-BDD8-4C31-BA50-FF895775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078D6-16EE-4694-A2EA-6F0F657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23AA-E665-4984-82ED-21125DA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F4F104-DD84-4C9A-9D16-183B699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6920D-CF33-4FFE-917D-0573262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920DB2-435A-4184-B271-4F1959A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BAB3A-613A-489B-B2B0-27398AC4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0D4CCE-676E-4ECB-AA70-46C99430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A199B1-31AA-4C51-AA31-C8C2E241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FF1A7-09A1-4820-85FE-0E5AFC56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E71DD-A7D1-4028-90E3-B868355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E44BC-7E44-4B2A-A280-5F0B8A0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4738F4-0610-40FB-9835-960F93E8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B13D-FC99-4AED-B914-B59B9441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A9A64E-5AFC-4494-A1DE-424C0B12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83DBD0-9703-4C2D-A03C-D44F0256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8F28B-EF9F-4936-89B1-550F90BD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17906A-D63C-4A23-83FE-790DB10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81872C-9B06-4AB7-BEA1-BA85E8C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A75DAE-1F19-43DA-8EBD-A586EDE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B9CFA-219C-441A-8ACC-4081B37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592C0-02FE-4F40-95A0-768FFC47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C3FE4-28B1-4EDB-B0B8-94E51FF0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66EE1E-047F-404B-80BB-27ED8234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9D25-8A3D-4544-BC79-8205078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A5A407-C80E-43EE-9DE1-46C9F6D3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8C1BD1-BC07-4D5D-B05D-C73E97D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7138C1-327A-4310-B76D-E57E317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EA3AD3-EDC3-47D7-9020-A25FAA1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A2B9B-D9E3-4EAA-9533-0B90DD4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C4E1F-6296-4B99-AE71-AE9906A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46DC51-C4CB-4B59-90B4-EE6CF64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6C0D9-554F-4436-A947-1894F37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8919B1-2DA0-4643-9196-610C2DA1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25479C-F6D1-4372-A87B-FC4352AD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5C6-2289-4749-A808-DA5B794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FA9B-2FB0-4F5B-A231-202B02B7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EC373-F61B-4802-ABE1-A4A4ED5F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94A2E0-71E3-4DC5-A964-E97BD965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AB894E-5170-4C46-86F4-1BCCC32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473578-F5E9-4FC7-9D2C-C9D2763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26087D-2F3F-4F92-95E8-3599FD22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350AD1-6382-4E77-B0F9-A4BCCAD8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BA3864-9C5E-42A8-A175-BADA49F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10E78D-C564-4655-883F-7693F56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7A3C3C-8302-4CCA-BBDC-2934791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ABA2A4-A202-4206-BDFB-2F3BA04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BB5B-1579-4771-B769-A88EF81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EEBB4-377F-4B64-93DB-F33AD738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02F76E-AED9-48EE-B717-4ADD0A61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F0F3CC-E5A3-4D9F-A604-22A17C28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62F8F5-A5F6-42A2-8209-4F9A2512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1EAAC4-74DD-4037-8FFE-D02F4660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5CCD55-9BFB-4447-A274-CB92D16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F0B926-2817-493B-830F-CB6530AB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5FD7E6-CBD1-4938-82CF-A4B97D1C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F94581-F419-41AC-A668-EDAC3EF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926DDD-8FE6-4D08-AF11-CF41B43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C6BC-8D21-4B2A-BC3C-348E650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448ADA-E8BC-4B52-84C2-AF9612C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A88B05-94C6-4FB1-978F-AEF6E2B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FC6A06-0ABA-4F7D-B88E-41E6954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863049-513F-47C0-BFEF-8BF0628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A6A0E9-0F84-4BB5-8646-65CA7BD5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F6C398-671B-4723-A04D-F95613FB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A72004-2E5A-48F5-A116-873D4C22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393E87-7C22-4064-B416-4CC3C59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661786-3365-4274-A54E-381E4399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1DC0C4-0C7C-403F-8FA7-118F0FD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DE8F-A135-486C-9233-509D8D4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5DC7C8-13B3-4EAD-AFCB-B2F0BB2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86687C-6B33-49DE-9174-7ABBBD0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80EE5E-279E-4750-B24B-8F85509D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8DABAA-7DAC-463D-8A03-3EBD25F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A52EC0-C277-4DED-9E33-928A2EBA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5D90D8-A1D0-44FB-927C-222BE6FB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1909E9-35AF-4A4C-A9AF-DCC99F42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84CA5F-17B5-492E-952A-F97CE115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A2B401-D235-4E8C-8BC9-8AF90BFD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4514F5-81F8-48F2-909D-62058316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CD9F-A8FF-41B3-BA05-5E15B72C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41188-B47C-4C07-BEF3-4AC9F315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8EBAAF-C986-4AB5-8A52-0ECF3565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2F6667-BF0C-46B4-94D8-783275D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C54557-7F51-4AB1-8A77-197992F2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DBABB2-834F-4D79-BAA3-818D29E4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F95648-E05F-4BD7-88EA-2AB6CD2F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01FF5C-C02D-4E14-8A2E-56823E1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34728C-394A-4172-AD6F-9332196C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40EAC4-02A3-4814-8D5C-B4822C9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32BADE-8B08-4355-8418-D8CC0B08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8BEA-342F-4615-9FFA-34D029B3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87E55A-EAC4-4A84-8144-AF77CD7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6590FD-9FE2-4946-B576-1F07B3A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3260A-FA3F-4F52-98C4-B3248E2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27FC2D-8F5D-4013-92B2-5A157D0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5829C6-FB7A-4F6F-A32F-1E076A6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BC06B2-B31C-4443-9DF7-3440239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83DEA-1D6B-48D2-BB6C-C5E75B5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8857A3-AB57-4792-BFC9-0AC38E3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58306D-D69D-42E1-97D3-0127EF8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91C753-7C03-4070-A1A7-15690151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AB36-85D8-46AE-940B-C55CAABB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389943-A90C-427F-871D-0CD34DA9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6D7394-37CD-44DB-9150-95045287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58209F-D770-469C-9D92-F8F88E9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B921B9-25EA-4515-8A8C-120FB880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A4736C-B8CA-4314-B092-34356F72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0DCBBE-8964-4849-B08D-E1CC54BA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2C1E69-FAA5-4911-9E2A-033071E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7C9EBF-F695-4C0D-9D38-DD7FFA5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782125-1F96-4403-ADD8-317B93D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30D588-803B-4EFD-8BE5-75D51DC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E311-0569-4ECD-933E-7279D336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018E10-0E1F-49EC-AB4C-2065558D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59B63A-92A5-4682-A519-EE674BFA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45B21-A772-4A98-81A9-117C5EBB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31C3634-8F53-4D38-8778-0625EF71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ECE3569-DEC4-4413-AB8C-81A6FBB6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6A206B4-48C5-45AB-83B8-F4D264F4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AC749D-25BB-4012-8775-243BCB2F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577ACF3-B862-4CCA-BF86-E94366D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8D1A923-EB98-4208-A286-B3BB1663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DA8F580-825B-4971-9F55-E0D359F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619D-6252-4A69-AE64-FBE44E79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EB04548-B956-4EB7-9F75-EA38B4F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B2B8C54-EFAE-4BA1-B151-A53356B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75174E2-E6EF-4A67-ACC8-20EE75EA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688C70-4299-45DC-B171-0E08FF08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892AFCB-7607-483F-A108-8E8DD3CD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6402-93BC-48BA-A7CC-155965F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90B-0A3E-4F03-B272-1C09490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7194-6F8F-401C-82FB-7D0C7482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D07C-1639-44A0-BA6A-E00E648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6B6A-F65C-4DF9-A37C-6B727BF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ACE1-1A6C-4E77-9B90-A4F8A7A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F325-2EE2-4E8A-A9C9-37A4007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0CE2E-B1E8-4332-9DA1-D9B2118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3F23-27FD-4801-939E-FFB3C90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8FDF-7D50-43C9-8219-313D00F6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297A-507B-47B3-AC7E-7A07043C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85A0-9566-4AE9-8F66-D544EC88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19E-DAC8-4187-B242-33579F94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85CA-9088-4F41-BA95-BEEEF71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D8DE-67FF-414F-B95A-B28EC01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049F-91BD-4865-BEBF-F968615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1365-9B9D-456A-A140-702488E5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1065-1D29-4A68-B457-E4725D1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974E-6B23-4E6C-A982-8C0014AC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020C-9B22-4F3B-9C25-65092C0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8312-7918-460B-9CE2-F4EADDB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61A3B-F3F4-4530-A538-D8E59D26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1C3D-E98C-437B-9288-52710322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2B3-8636-4BF0-99B1-11FC237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A98D-A995-4006-9D04-DC09E669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BFEF4-88B6-4A5B-864B-35BDB9D3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95182-9B07-4106-85E5-7ABBC03C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9ED5A-6576-4B80-BBDE-312F609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55566-08EE-4D72-A83A-AB15CD2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2D895-87B0-4890-A27E-851E5215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65A31-4B5A-4F36-A0E8-9FABB52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91394-94B4-45B1-A5D0-366C936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3E2B3-2629-4EE8-ADF5-B8954981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86FC3-3361-435C-9FC8-20599AD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3EE-3657-472C-9220-E95E663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DB12C-A985-46BA-93F6-195BEC14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FC7E-219D-41B9-8BEE-5DF12032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5F4AB-5638-4F76-95D2-F2E60F62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2488F-4F36-440A-BDF9-E664903B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0808-EDB2-4042-B780-2E2ADCF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D1091-BCC4-40EB-827F-55277618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62D8-C267-4900-B847-7F25E471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A210-54ED-46C1-80A7-919E3350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5396-2DD7-4521-93D7-B9D2C075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861D7-C669-4894-A93D-6ECBB73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8CC-0AA9-48D1-9CAA-CB21AB7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31A4-1C71-4682-B7FD-EFD0E3F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E495-8B42-443B-9155-40DB1ED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AB9E-2BD2-4CC9-9263-55AF71E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1531-593C-4795-8D15-E01B12FA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77B4-51C2-4774-AA6B-9CB0F644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4714-C3B5-46CC-8E56-29AB3106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0A86B-8F2F-47DD-83E7-D4E5C70B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29F5-7D37-4923-BFCB-A7C37CE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3475-41DC-49A5-8DA2-9242198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823CD-99AD-4ADF-92D7-8A77353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1C6-9554-4919-81B1-051F349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F6BA6-4CAF-47CD-BCE7-C3B80E3E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CFB86-8634-4947-AEF2-59CD6EF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59596-C798-4AAE-94E9-12D41BA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35298-5242-44DD-BE03-5C047B35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04BB-C8CD-488B-8516-ECC534E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AB04-E3D7-4F0E-9B19-FB1B83B7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9CFD-A496-47BF-A5B3-CC9C6D6D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F160F-BE27-4FEF-9474-58C17BCE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3FE99-6505-402F-BE80-C949243C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31D39-1BC7-4ED1-A349-B8C996C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641-6FA2-4881-8965-83B2524D3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7FD6-DBE7-419B-A1B0-0A63682184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9D3-7FCF-434F-BC03-5F2C83D070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568-39A4-479F-95A7-9C814C7107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C459-2764-4304-9620-611FC927B9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E3BD-1493-4095-AD66-EE8F134032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C16A-2172-4F60-B037-4E52980C08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9710-B0BD-433B-A6D7-3CEA3E3A30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D0B-C74C-4AAF-849F-C814BA3FCA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229-198D-4CAF-9A7B-A6F00DBC4A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257A-77C3-4383-B028-76D5CA8FA8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BFA-37FE-4E2E-AD21-2614F7845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4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53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021-086E-4CE3-B9EE-487E1F12B0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0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89E-A991-438D-B019-FB66158FE2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48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8E70-62A9-435F-9942-CD50B874E1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19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D6F0-FCDD-4820-B22F-A7D9189B27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2E9-8DBE-4C5A-B50F-4A7591D41F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8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0D8-ACCB-4F0D-A21D-DBA4F9DC6A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FE1C-6BA7-4114-A58D-82998E2278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787-8F4F-4DFC-9F81-2E2A9F8B09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41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D6A4-7CB1-4635-99CC-9CB1763822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987-B036-4E0F-8EE4-62C2EA8C9A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9E51-603D-40FE-9C1E-48ECEC4BD7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9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B84-3C27-4B9C-AACF-354109FD8C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5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5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7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8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60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1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179-5083-4C98-98DC-B04850AABD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6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6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9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E22-F28D-414C-BD11-80DC4AD108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ftr" idx="9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3E3-AB0B-4888-977B-9A4EF0B594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BB78-DA54-4ABE-8ECC-290C30371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052-3246-46BA-9511-0913CDDC8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90E1-6959-41F0-BCE7-4925F5B529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F78-BB70-4176-884E-0C54BAC0EC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358-E919-407A-8117-9213442D74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6" name="Picture 4" descr="Все для войны."/>
          <p:cNvPicPr/>
          <p:nvPr/>
        </p:nvPicPr>
        <p:blipFill>
          <a:blip r:embed="rId1"/>
          <a:stretch/>
        </p:blipFill>
        <p:spPr>
          <a:xfrm>
            <a:off x="68400" y="1608120"/>
            <a:ext cx="3654360" cy="5133960"/>
          </a:xfrm>
          <a:prstGeom prst="rect">
            <a:avLst/>
          </a:prstGeom>
          <a:ln w="0">
            <a:noFill/>
          </a:ln>
        </p:spPr>
      </p:pic>
      <p:sp>
        <p:nvSpPr>
          <p:cNvPr id="1767" name="Овал 5"/>
          <p:cNvSpPr/>
          <p:nvPr/>
        </p:nvSpPr>
        <p:spPr>
          <a:xfrm>
            <a:off x="8028000" y="142920"/>
            <a:ext cx="1116000" cy="14749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Овал 6"/>
          <p:cNvSpPr/>
          <p:nvPr/>
        </p:nvSpPr>
        <p:spPr>
          <a:xfrm>
            <a:off x="68400" y="142920"/>
            <a:ext cx="1118880" cy="180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Прямоугольник 7"/>
          <p:cNvSpPr/>
          <p:nvPr/>
        </p:nvSpPr>
        <p:spPr>
          <a:xfrm>
            <a:off x="3722760" y="1735200"/>
            <a:ext cx="1944720" cy="486576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У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0" name="Picture 8" descr=""/>
          <p:cNvPicPr/>
          <p:nvPr/>
        </p:nvPicPr>
        <p:blipFill>
          <a:blip r:embed="rId2"/>
          <a:stretch/>
        </p:blipFill>
        <p:spPr>
          <a:xfrm>
            <a:off x="1224000" y="476280"/>
            <a:ext cx="6694560" cy="125892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5" descr="Foto"/>
          <p:cNvPicPr/>
          <p:nvPr/>
        </p:nvPicPr>
        <p:blipFill>
          <a:blip r:embed="rId3"/>
          <a:stretch/>
        </p:blipFill>
        <p:spPr>
          <a:xfrm>
            <a:off x="5667480" y="1617840"/>
            <a:ext cx="3576600" cy="525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ecff"/>
                </a:solidFill>
                <a:uFillTx/>
                <a:latin typeface="Arial"/>
              </a:rPr>
              <a:t>Вопросы к отрывку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«Повесть о житии и храбрости благоверного и великого </a:t>
            </a:r>
            <a:br>
              <a:rPr sz="2900"/>
            </a:br>
            <a:r>
              <a:rPr b="1" lang="ru-RU" sz="2900" spc="-1" strike="noStrike">
                <a:solidFill>
                  <a:srgbClr val="ccecff"/>
                </a:solidFill>
                <a:latin typeface="Arial"/>
              </a:rPr>
              <a:t>князя Александ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каком «короле», по вашему, идёт речь? Какие цели он преслед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чью помощь надеялся князь Александ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ие черты характера продемонстрировал княз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8" name="TextBox 24"/>
          <p:cNvGrpSpPr/>
          <p:nvPr/>
        </p:nvGrpSpPr>
        <p:grpSpPr>
          <a:xfrm>
            <a:off x="2316240" y="-12600"/>
            <a:ext cx="4816440" cy="884160"/>
            <a:chOff x="2316240" y="-12600"/>
            <a:chExt cx="4816440" cy="884160"/>
          </a:xfrm>
        </p:grpSpPr>
        <p:pic>
          <p:nvPicPr>
            <p:cNvPr id="1799" name="TextBox 24" descr=""/>
            <p:cNvPicPr/>
            <p:nvPr/>
          </p:nvPicPr>
          <p:blipFill>
            <a:blip r:embed="rId1"/>
            <a:stretch/>
          </p:blipFill>
          <p:spPr>
            <a:xfrm>
              <a:off x="2316240" y="-12600"/>
              <a:ext cx="4816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2500200" y="142920"/>
              <a:ext cx="437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вская битва 15 июля 1240 г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1" name="Picture 8" descr="К Невская битва а"/>
          <p:cNvPicPr/>
          <p:nvPr/>
        </p:nvPicPr>
        <p:blipFill>
          <a:blip r:embed="rId2"/>
          <a:srcRect l="350" t="3966" r="0" b="0"/>
          <a:stretch/>
        </p:blipFill>
        <p:spPr>
          <a:xfrm>
            <a:off x="0" y="785880"/>
            <a:ext cx="9144000" cy="595620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чение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ервая победа русских войск в 13 ве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становили натиск шведов на русские земли на долго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явился полководческий талант князя Алекса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дохнём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5" name="Picture 5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100760" cy="397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йчас мы с вами немножко разомнемся, но при этом постараемся закрепить наши знания. Я буду говорить утверждения, если утверждение верное, то вы встаете на носочки и тянетесь, если я говорю ложное утверждение, вы наклоняете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и на западе воспользовались слабостью Руси шв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овгороде была сильная неограниченная власть кня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защиты от шведов новгородское вече обратилось за помощью к князю Даниилу Романович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ая битва состоялась 15 июля 124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ая битва закончилась поражением русск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Александра Ярославича принесла ему славу и прозвище Нев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8" name="Picture 2" descr=""/>
          <p:cNvPicPr/>
          <p:nvPr/>
        </p:nvPicPr>
        <p:blipFill>
          <a:blip r:embed="rId1"/>
          <a:stretch/>
        </p:blipFill>
        <p:spPr>
          <a:xfrm>
            <a:off x="20520" y="781200"/>
            <a:ext cx="9123480" cy="6076800"/>
          </a:xfrm>
          <a:prstGeom prst="rect">
            <a:avLst/>
          </a:prstGeom>
          <a:ln w="0">
            <a:noFill/>
          </a:ln>
        </p:spPr>
      </p:pic>
      <p:sp>
        <p:nvSpPr>
          <p:cNvPr id="1809" name="Прямоугольник 1"/>
          <p:cNvSpPr/>
          <p:nvPr/>
        </p:nvSpPr>
        <p:spPr>
          <a:xfrm>
            <a:off x="20520" y="11160"/>
            <a:ext cx="894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довое побоищ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5 апреля 1242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2" name="Picture 4" descr=""/>
          <p:cNvPicPr/>
          <p:nvPr/>
        </p:nvPicPr>
        <p:blipFill>
          <a:blip r:embed="rId1"/>
          <a:srcRect l="0" t="-18" r="0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3" name="Picture 2" descr=""/>
          <p:cNvPicPr/>
          <p:nvPr/>
        </p:nvPicPr>
        <p:blipFill>
          <a:blip r:embed="rId1"/>
          <a:srcRect l="4687" t="17499" r="1299" b="2110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начение побе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укрепили веру в свои си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становили натиск немецких рыцарей на русские земли на долгое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ководческий талант князя Алексан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гласны ли вы с этой точкой зрения. Почем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ю Александру не нужно было тратить силы своего войска на борьбу со шведскими и немецкими рыцарями, а лучше было отправиться на юг Руси на борьбу с монго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Picture 4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  <p:grpSp>
        <p:nvGrpSpPr>
          <p:cNvPr id="1773" name="TextBox 24"/>
          <p:cNvGrpSpPr/>
          <p:nvPr/>
        </p:nvGrpSpPr>
        <p:grpSpPr>
          <a:xfrm>
            <a:off x="60480" y="66600"/>
            <a:ext cx="8950320" cy="884160"/>
            <a:chOff x="60480" y="66600"/>
            <a:chExt cx="8950320" cy="884160"/>
          </a:xfrm>
        </p:grpSpPr>
        <p:pic>
          <p:nvPicPr>
            <p:cNvPr id="1774" name="TextBox 24" descr=""/>
            <p:cNvPicPr/>
            <p:nvPr/>
          </p:nvPicPr>
          <p:blipFill>
            <a:blip r:embed="rId2"/>
            <a:stretch/>
          </p:blipFill>
          <p:spPr>
            <a:xfrm>
              <a:off x="60480" y="66600"/>
              <a:ext cx="89503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5" name=""/>
            <p:cNvSpPr/>
            <p:nvPr/>
          </p:nvSpPr>
          <p:spPr>
            <a:xfrm>
              <a:off x="214200" y="214200"/>
              <a:ext cx="86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c8c93"/>
                  </a:solidFill>
                  <a:latin typeface="Arial"/>
                </a:rPr>
                <a:t>Обстановка у северо-западных границ русских зем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6" name="Picture 2" descr=""/>
          <p:cNvPicPr/>
          <p:nvPr/>
        </p:nvPicPr>
        <p:blipFill>
          <a:blip r:embed="rId3"/>
          <a:stretch/>
        </p:blipFill>
        <p:spPr>
          <a:xfrm>
            <a:off x="324000" y="3354480"/>
            <a:ext cx="2092320" cy="172872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grpSp>
        <p:nvGrpSpPr>
          <p:cNvPr id="1777" name="Группа 16"/>
          <p:cNvGrpSpPr/>
          <p:nvPr/>
        </p:nvGrpSpPr>
        <p:grpSpPr>
          <a:xfrm>
            <a:off x="611280" y="981000"/>
            <a:ext cx="2708280" cy="2322720"/>
            <a:chOff x="611280" y="981000"/>
            <a:chExt cx="2708280" cy="2322720"/>
          </a:xfrm>
        </p:grpSpPr>
        <p:pic>
          <p:nvPicPr>
            <p:cNvPr id="1778" name="Picture 5" descr=""/>
            <p:cNvPicPr/>
            <p:nvPr/>
          </p:nvPicPr>
          <p:blipFill>
            <a:blip r:embed="rId4"/>
            <a:stretch/>
          </p:blipFill>
          <p:spPr>
            <a:xfrm flipH="1">
              <a:off x="611280" y="1165680"/>
              <a:ext cx="1316880" cy="21380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sp>
          <p:nvSpPr>
            <p:cNvPr id="1779" name="TextBox 15"/>
            <p:cNvSpPr/>
            <p:nvPr/>
          </p:nvSpPr>
          <p:spPr>
            <a:xfrm>
              <a:off x="2239560" y="98100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шве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8" name="Picture 2" descr=""/>
          <p:cNvPicPr/>
          <p:nvPr/>
        </p:nvPicPr>
        <p:blipFill>
          <a:blip r:embed="rId1"/>
          <a:stretch/>
        </p:blipFill>
        <p:spPr>
          <a:xfrm>
            <a:off x="395280" y="160200"/>
            <a:ext cx="4721400" cy="6697800"/>
          </a:xfrm>
          <a:prstGeom prst="rect">
            <a:avLst/>
          </a:prstGeom>
          <a:ln w="0">
            <a:noFill/>
          </a:ln>
        </p:spPr>
      </p:pic>
      <p:sp>
        <p:nvSpPr>
          <p:cNvPr id="1819" name="Прямоугольник 2"/>
          <p:cNvSpPr/>
          <p:nvPr/>
        </p:nvSpPr>
        <p:spPr>
          <a:xfrm>
            <a:off x="5292720" y="981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ден Александра Невского был учрежден  в 1725 году Екатериной 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 июля 1942 был утверждён  Орде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андр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в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1" name="Picture 4" descr="I-42-RUSSIA-nevsk-f03_640"/>
          <p:cNvPicPr/>
          <p:nvPr/>
        </p:nvPicPr>
        <p:blipFill>
          <a:blip r:embed="rId1"/>
          <a:stretch/>
        </p:blipFill>
        <p:spPr>
          <a:xfrm>
            <a:off x="3419640" y="549360"/>
            <a:ext cx="5464080" cy="566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Picture 4" descr=""/>
          <p:cNvPicPr/>
          <p:nvPr/>
        </p:nvPicPr>
        <p:blipFill>
          <a:blip r:embed="rId1"/>
          <a:stretch/>
        </p:blipFill>
        <p:spPr>
          <a:xfrm>
            <a:off x="0" y="-15840"/>
            <a:ext cx="4427640" cy="618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23" name="Text Box 5"/>
          <p:cNvSpPr/>
          <p:nvPr/>
        </p:nvSpPr>
        <p:spPr>
          <a:xfrm>
            <a:off x="0" y="595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коны святого благоверного князя Александра Нев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4" name="Picture 4" descr="p0000002"/>
          <p:cNvPicPr/>
          <p:nvPr/>
        </p:nvPicPr>
        <p:blipFill>
          <a:blip r:embed="rId2"/>
          <a:stretch/>
        </p:blipFill>
        <p:spPr>
          <a:xfrm>
            <a:off x="4427640" y="-15840"/>
            <a:ext cx="4722840" cy="6181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17, р.т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3 стр.7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ьте по 3 «Тонких вопроса» и 3 «Толстых вопроса» к §17 или вопросы к игре Х и 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 –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дно на выбо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7" name=""/>
          <p:cNvGraphicFramePr/>
          <p:nvPr/>
        </p:nvGraphicFramePr>
        <p:xfrm>
          <a:off x="0" y="836640"/>
          <a:ext cx="9144000" cy="4724280"/>
        </p:xfrm>
        <a:graphic>
          <a:graphicData uri="http://schemas.openxmlformats.org/drawingml/2006/table">
            <a:tbl>
              <a:tblPr/>
              <a:tblGrid>
                <a:gridCol w="3821040"/>
                <a:gridCol w="5322960"/>
              </a:tblGrid>
              <a:tr h="77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онкие вопросы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Толстые вопросы»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гда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г 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зва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о 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гласны ли вы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бъяснени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думаете, 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вы считаете, 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чём различи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оложите, что было бы, если…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830" name="Picture 3" descr=""/>
          <p:cNvPicPr/>
          <p:nvPr/>
        </p:nvPicPr>
        <p:blipFill>
          <a:blip r:embed="rId1"/>
          <a:stretch/>
        </p:blipFill>
        <p:spPr>
          <a:xfrm>
            <a:off x="228600" y="166680"/>
            <a:ext cx="8686800" cy="652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380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В </a:t>
            </a: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XIII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 веке северо-западная Русь столкнулась с агрессией шведских и немецких рыцаре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781" name="Picture 2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064720" cy="4175280"/>
          </a:xfrm>
          <a:prstGeom prst="rect">
            <a:avLst/>
          </a:prstGeom>
          <a:ln w="9360">
            <a:solidFill>
              <a:srgbClr val="000000">
                <a:alpha val="85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овы причины нашествия крестоносцев на Русь именно в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III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век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ильной княжеской власти в Новгороде и Псков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ление Руси в результате монголо-татарского нашест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щенность русских зем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задачи ставили перед собой крестоносцы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евание богатых земель Новгорода и Пско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е русских людей в своих работ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русских людей в католическую вер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Князь Александр Ярославович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1785" name="Picture 4" descr=""/>
          <p:cNvPicPr/>
          <p:nvPr/>
        </p:nvPicPr>
        <p:blipFill>
          <a:blip r:embed="rId1"/>
          <a:srcRect l="0" t="0" r="0" b="4804"/>
          <a:stretch/>
        </p:blipFill>
        <p:spPr>
          <a:xfrm>
            <a:off x="3059280" y="1341360"/>
            <a:ext cx="3419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Александр Невски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250920" y="602100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удожник П. Ко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4572000" y="6092640"/>
            <a:ext cx="403848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трет из «Титулярник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9" name="Picture 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168720" cy="49690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0" descr="137"/>
          <p:cNvPicPr/>
          <p:nvPr/>
        </p:nvPicPr>
        <p:blipFill>
          <a:blip r:embed="rId2"/>
          <a:stretch/>
        </p:blipFill>
        <p:spPr>
          <a:xfrm>
            <a:off x="5076720" y="907920"/>
            <a:ext cx="37432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…И воистину -не без божьего повеления было княжение его. И красив он был, как никто другой, и голос его -как труба в народе, лицо его – как лицо Иосифа, которого египетский царь поставил вторым царем в Египте, сила же его была частью от силы Самсона, и дал ему бог премудрость Соломона, храбрость же его – как у царя римского Веспасиана, который покорил всю землю Иудейскую…»</a:t>
            </a:r>
            <a:br>
              <a:rPr sz="3200"/>
            </a:br>
            <a:br>
              <a:rPr sz="2400"/>
            </a:br>
            <a:br>
              <a:rPr sz="1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гласны ли вы с этой точкой зрения. Почем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ю Александру не нужно было тратить силы своего войска на борьбу со шведскими и немецкими рыцарями, а лучше было отправиться на юг Руси на борьбу с монго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714840" cy="55720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ргер: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можешь, сопротивляйся, но знай, что я здесь пленяю землю твою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5" name="Picture 5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48578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49:56Z</dcterms:created>
  <dc:creator>Инна</dc:creator>
  <dc:description/>
  <dc:language>en-US</dc:language>
  <cp:lastModifiedBy>Пользователь</cp:lastModifiedBy>
  <dcterms:modified xsi:type="dcterms:W3CDTF">2024-03-25T04:34:51Z</dcterms:modified>
  <cp:revision>81</cp:revision>
  <dc:subject/>
  <dc:title>6 класс Тема 4 «Русь между Востоком и Западом». Тема урока №2 «Натиск с Запада».</dc:title>
</cp:coreProperties>
</file>