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AB8-EF12-496C-8BF2-F04BB31B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9AF-14B9-47A5-9FAD-54445C69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7E1-B7AA-49B8-AAB4-B47C9CD2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C61-FDA6-4E84-BEC7-24C522DD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FB1C-D387-4BF9-890A-89A54F19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541E-96D2-4004-A0E4-A43F47AB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492D-1D2F-4559-B800-EBA80249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AA92-A49A-4549-944B-1AA90C73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7947-F447-4A8F-899C-1D54823D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611-8C51-4FE4-B8D0-253DF535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8050-2E48-4AF1-A50B-D413516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7CB-39F6-494E-8568-9D21CD37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B1D7-E8AE-4FFD-8811-6B73700B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ACDA-873E-4EB2-B950-5902675E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B9BE-F606-4AAB-90BD-ED95EEDE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8E8E-AAE1-4F38-B0F5-B415D544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85C4-B516-4A89-BDBB-127525D1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1E1-2D4B-445C-9558-2E0EFE9B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154-A89D-4746-93EA-D9DA3347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5B6-12DA-42B2-875B-B91FDA1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421-DF07-4014-8DA5-E6B639F6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354-F351-42DD-B07F-6E6EA4B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CAE-DB7F-48C6-80FF-C4DA69CB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1C7-66B0-4752-87AA-EBC1240F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A8CB-DDF7-44B4-90EB-E93D064231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33D8-8B2A-48C4-B246-031C6780F2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бобщение знаний о бессоюзных сложных предложения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457200"/>
            <a:ext cx="7924680" cy="77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знал: удар судьбы меня не обойд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 зашло за горизонт - день на исход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увидели неожиданную картину: на опушке стоял ло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рдце Марии колотилось, руки дрожа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брый человек оставляет добрую память - злой человек будет быстро забы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380880" y="3006720"/>
            <a:ext cx="7162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228600" y="140040"/>
            <a:ext cx="853452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 Black"/>
                <a:ea typeface="Calibri"/>
              </a:rPr>
              <a:t>Задание: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Calibri"/>
              </a:rPr>
              <a:t> из двух простых предложений составьте бессоюзное сложное предложение, понаблюдайте за интонацией. Объясните знаки препин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  <a:ea typeface="Calibri"/>
              </a:rPr>
              <a:t>Мы спали на сеновале. В избе было душн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Раздался выстрел. Браконьеры бросились бежат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685800" y="38088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Найти третье лишнее предложение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990720"/>
          <a:ext cx="8305560" cy="4800600"/>
        </p:xfrm>
        <a:graphic>
          <a:graphicData uri="http://schemas.openxmlformats.org/drawingml/2006/table">
            <a:tbl>
              <a:tblPr/>
              <a:tblGrid>
                <a:gridCol w="2768400"/>
                <a:gridCol w="2768760"/>
                <a:gridCol w="2768400"/>
              </a:tblGrid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Помни про школ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лько с 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нешь строителем радостных дн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В. Маяковский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Таким друзьям на св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страшно ниче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дин за всех в отв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все за одног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С. Михалков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Как отчий дом, как старый горец г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юблю я землю: тень её лесов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моря рокоты, и звёзд узор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странные строенья облаков. (В. Брюс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457200" y="281880"/>
            <a:ext cx="8077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: Расставить знаки преп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в соответствии со схемами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 [время,условие] 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[ ] [ причина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[ ] [перечислен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 [ ] [ противопоставлен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[ ] [ пояснение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 [ ] [вывод,следств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 [ ] [быстрая смена событий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 [ ] [дополнен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 [ ] [сравнение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на до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идумать небольшой текст о весне с использованием различных бессоюзных сложных предложе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68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68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6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6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Цель урока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вторить теорию по данной теме; развивать навык пунктуационного анализа предложения; совершенствовать умения обобщать, сравнивать и делать вывод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азнить нельзя помилова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)  Кисель там варят из резин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Галоши делают из глин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увшины лепят пирож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ложное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это предложение, состоящее из двух или нескольких простых предложений, соединённых в одно целое по смыслу и интонацион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Бессоюзное сложное предлож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это такое сложное предложение, в котором простые предложения объединены между собой только по смыслу и интонационно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(без помощи союзов или союзных сл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наки препинания в БСП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Organization Chart 21"/>
          <p:cNvGrpSpPr/>
          <p:nvPr/>
        </p:nvGrpSpPr>
        <p:grpSpPr>
          <a:xfrm>
            <a:off x="685800" y="1828800"/>
            <a:ext cx="7694280" cy="3656520"/>
            <a:chOff x="685800" y="1828800"/>
            <a:chExt cx="7694280" cy="3656520"/>
          </a:xfrm>
        </p:grpSpPr>
        <p:cxnSp>
          <p:nvCxnSpPr>
            <p:cNvPr id="163" name="_s1028"/>
            <p:cNvCxnSpPr>
              <a:stCxn id="164" idx="0"/>
              <a:endCxn id="165" idx="2"/>
            </p:cNvCxnSpPr>
            <p:nvPr/>
          </p:nvCxnSpPr>
          <p:spPr>
            <a:xfrm flipV="1">
              <a:off x="4532760" y="3290760"/>
              <a:ext cx="864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5" name="_s1029"/>
            <p:cNvSpPr/>
            <p:nvPr/>
          </p:nvSpPr>
          <p:spPr>
            <a:xfrm>
              <a:off x="685800" y="1828800"/>
              <a:ext cx="76942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Запятая, 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Точка с запятой.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_s1030"/>
            <p:cNvSpPr/>
            <p:nvPr/>
          </p:nvSpPr>
          <p:spPr>
            <a:xfrm>
              <a:off x="685800" y="4022640"/>
              <a:ext cx="76942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Перечисление.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Organization Chart 7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168" name="_s2052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2053"/>
            <p:cNvCxnSpPr>
              <a:stCxn id="172" idx="0"/>
              <a:endCxn id="170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820960" y="2309760"/>
              <a:ext cx="731880" cy="2694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2055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Двоеточие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2056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) Причина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57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) Пояснение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2058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) Дополнение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смысла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1828800"/>
            <a:ext cx="8838720" cy="3656520"/>
            <a:chOff x="0" y="1828800"/>
            <a:chExt cx="8838720" cy="3656520"/>
          </a:xfrm>
        </p:grpSpPr>
        <p:cxnSp>
          <p:nvCxnSpPr>
            <p:cNvPr id="177" name="_s3076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72960" y="1936800"/>
              <a:ext cx="731880" cy="343980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3077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626360" y="3083400"/>
              <a:ext cx="731880" cy="1146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3078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480480" y="3083400"/>
              <a:ext cx="731880" cy="114660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3079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334960" y="1937880"/>
              <a:ext cx="731880" cy="343800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3080"/>
            <p:cNvSpPr/>
            <p:nvPr/>
          </p:nvSpPr>
          <p:spPr>
            <a:xfrm>
              <a:off x="3437280" y="182880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Тире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_s3081"/>
            <p:cNvSpPr/>
            <p:nvPr/>
          </p:nvSpPr>
          <p:spPr>
            <a:xfrm>
              <a:off x="0" y="402264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mic Sans MS"/>
                </a:rPr>
                <a:t>Противопостав-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mic Sans MS"/>
                </a:rPr>
                <a:t>ление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3082"/>
            <p:cNvSpPr/>
            <p:nvPr/>
          </p:nvSpPr>
          <p:spPr>
            <a:xfrm>
              <a:off x="2291400" y="402264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Comic Sans MS"/>
                </a:rPr>
                <a:t>2) Время,условие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3083"/>
            <p:cNvSpPr/>
            <p:nvPr/>
          </p:nvSpPr>
          <p:spPr>
            <a:xfrm>
              <a:off x="4582800" y="402264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3) Вывод,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следствие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3084"/>
            <p:cNvSpPr/>
            <p:nvPr/>
          </p:nvSpPr>
          <p:spPr>
            <a:xfrm>
              <a:off x="6874560" y="4022640"/>
              <a:ext cx="196416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4) Быстрая смен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событий.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2543400" y="1312920"/>
            <a:ext cx="5263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1  2  3  4  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:  -   :   ,   -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атьяна</cp:lastModifiedBy>
  <dcterms:modified xsi:type="dcterms:W3CDTF">2024-03-20T11:35:4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