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846-72EB-4809-AA50-B0780A1A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A46-6023-4D2A-95EE-DCFF3185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280-F159-49A9-835E-EF001246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D19-69E5-4786-80C6-4BCC1D3C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1EA1-E43B-46A4-9A36-AF4F0DFB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E0F1-93D0-4BA4-9216-3A76CE73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1F91-B1F8-47B1-969D-7127E5C9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7BC0-8F75-41ED-894D-438E856A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89AC-AA4F-47EC-9EE1-290EC64A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1FBA-204A-4437-9F4A-BAB7EFBA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3995-2565-4DC8-A011-064A0C13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D60-F748-403B-A864-89031EE4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01D3-0DDD-4996-9B58-9604CE9D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1B78-426F-4F4B-A4FF-1B1E02C7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0B2E-43F6-4256-934B-2A65C396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2563-C90E-43A3-96CB-8323BDCB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174-8332-4933-8D71-CD42EF6B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8E8-64BC-42B5-A23E-5750DCE2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C56-C863-4F71-BC6A-DDC40930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764-733A-4EC5-A327-7DD85A60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928-F8D2-474D-9B0C-F6C0696C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A8E-0B59-4CD5-B440-01290524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277-37C0-4B3C-A7CB-310265C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6DB-04B0-47BE-BA17-7B6BCC11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8D2E-87FA-4828-8F22-86F0038A12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AD65-E46E-4012-932A-E24098B997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бобщение знаний о бессоюзных сложных предложениях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33520" y="457200"/>
            <a:ext cx="7924680" cy="77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знал: удар судьбы меня не обойд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нце зашло за горизонт - день на исход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увидели неожиданную картину: на опушке стоял лос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рдце Марии колотилось, руки дрожа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брый человек оставляет добрую память - злой человек будет быстро забы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380880" y="3006720"/>
            <a:ext cx="7162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228600" y="140040"/>
            <a:ext cx="853452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 Black"/>
                <a:ea typeface="Calibri"/>
              </a:rPr>
              <a:t>Задание: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 из двух простых предложений составьте бессоюзное сложное предложение, понаблюдайте за интонацией. Объясните знаки препин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Мы спали на сеновале. В избе было душн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Раздался выстрел. Браконьеры бросились бежат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685800" y="38088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Найти третье лишнее предложение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920" y="990720"/>
          <a:ext cx="8305560" cy="480060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Помни про школ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лько с 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нешь строителем радостных дн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В. Маяковский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Таким друзьям на св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страшно ниче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дин за всех в отв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все за одног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С. Михалков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Как отчий дом, как старый горец г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юблю я землю: тень её лесов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моря рокоты, и звёзд узор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странные строенья облаков. (В. Брюс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457200" y="281880"/>
            <a:ext cx="8077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ние: Расставить знаки преп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в соответствии со схемами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 [время,условие] [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[ ] [ причина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[ ] [перечисление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 [ ] [ противопоставление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 [ ] [ пояснение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 [ ] [вывод,следствие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 [ ] [быстрая смена событий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 [ ] [дополнение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 [ ] [сравнение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на дом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идумать небольшой текст о весне с использованием различных бессоюзных сложных предложе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68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68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6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6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Цель урока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вторить теорию по данной теме; развивать навык пунктуационного анализа предложения; совершенствовать умения обобщать, сравнивать и делать вывод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азнить нельзя помиловат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)  Кисель там варят из резин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Галоши делают из глин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увшины лепят пирожк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Сложное предлож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это предложение, состоящее из двух или нескольких простых предложений, соединённых в одно целое по смыслу и интонационн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Бессоюзное сложное предлож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это такое сложное предложение, в котором простые предложения объединены между собой только по смыслу и интонационно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(без помощи союзов или союзных сл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наки препинания в БСП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" name="Organization Chart 21"/>
          <p:cNvGrpSpPr/>
          <p:nvPr/>
        </p:nvGrpSpPr>
        <p:grpSpPr>
          <a:xfrm>
            <a:off x="685800" y="1828800"/>
            <a:ext cx="7694280" cy="3656520"/>
            <a:chOff x="685800" y="1828800"/>
            <a:chExt cx="7694280" cy="3656520"/>
          </a:xfrm>
        </p:grpSpPr>
        <p:cxnSp>
          <p:nvCxnSpPr>
            <p:cNvPr id="163" name="_s1028"/>
            <p:cNvCxnSpPr>
              <a:stCxn id="164" idx="0"/>
              <a:endCxn id="165" idx="2"/>
            </p:cNvCxnSpPr>
            <p:nvPr/>
          </p:nvCxnSpPr>
          <p:spPr>
            <a:xfrm flipV="1">
              <a:off x="4532760" y="3290760"/>
              <a:ext cx="864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5" name="_s1029"/>
            <p:cNvSpPr/>
            <p:nvPr/>
          </p:nvSpPr>
          <p:spPr>
            <a:xfrm>
              <a:off x="685800" y="1828800"/>
              <a:ext cx="76942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Запятая, 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Точка с запятой.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_s1030"/>
            <p:cNvSpPr/>
            <p:nvPr/>
          </p:nvSpPr>
          <p:spPr>
            <a:xfrm>
              <a:off x="685800" y="4022640"/>
              <a:ext cx="76942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Перечисление.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" name="Organization Chart 7"/>
          <p:cNvGrpSpPr/>
          <p:nvPr/>
        </p:nvGrpSpPr>
        <p:grpSpPr>
          <a:xfrm>
            <a:off x="685800" y="1828800"/>
            <a:ext cx="7695720" cy="3656520"/>
            <a:chOff x="685800" y="1828800"/>
            <a:chExt cx="7695720" cy="3656520"/>
          </a:xfrm>
        </p:grpSpPr>
        <p:cxnSp>
          <p:nvCxnSpPr>
            <p:cNvPr id="168" name="_s2052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5514120" y="2309400"/>
              <a:ext cx="731880" cy="2694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2053"/>
            <p:cNvCxnSpPr>
              <a:stCxn id="172" idx="0"/>
              <a:endCxn id="170" idx="2"/>
            </p:cNvCxnSpPr>
            <p:nvPr/>
          </p:nvCxnSpPr>
          <p:spPr>
            <a:xfrm flipV="1">
              <a:off x="4533480" y="3290760"/>
              <a:ext cx="288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0" idx="2"/>
            </p:cNvCxnSpPr>
            <p:nvPr/>
          </p:nvCxnSpPr>
          <p:spPr>
            <a:xfrm flipH="1" flipV="1" rot="5400000">
              <a:off x="2820960" y="2309760"/>
              <a:ext cx="731880" cy="2694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2055"/>
            <p:cNvSpPr/>
            <p:nvPr/>
          </p:nvSpPr>
          <p:spPr>
            <a:xfrm>
              <a:off x="3379320" y="182880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Двоеточие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_s2056"/>
            <p:cNvSpPr/>
            <p:nvPr/>
          </p:nvSpPr>
          <p:spPr>
            <a:xfrm>
              <a:off x="68580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) Причина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2057"/>
            <p:cNvSpPr/>
            <p:nvPr/>
          </p:nvSpPr>
          <p:spPr>
            <a:xfrm>
              <a:off x="337932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) Пояснение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_s2058"/>
            <p:cNvSpPr/>
            <p:nvPr/>
          </p:nvSpPr>
          <p:spPr>
            <a:xfrm>
              <a:off x="607284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) Дополнение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смысла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Organization Chart 7"/>
          <p:cNvGrpSpPr/>
          <p:nvPr/>
        </p:nvGrpSpPr>
        <p:grpSpPr>
          <a:xfrm>
            <a:off x="0" y="1828800"/>
            <a:ext cx="8838720" cy="3656520"/>
            <a:chOff x="0" y="1828800"/>
            <a:chExt cx="8838720" cy="3656520"/>
          </a:xfrm>
        </p:grpSpPr>
        <p:cxnSp>
          <p:nvCxnSpPr>
            <p:cNvPr id="177" name="_s3076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772960" y="1936800"/>
              <a:ext cx="731880" cy="343980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3077"/>
            <p:cNvCxnSpPr>
              <a:stCxn id="181" idx="0"/>
              <a:endCxn id="179" idx="2"/>
            </p:cNvCxnSpPr>
            <p:nvPr/>
          </p:nvCxnSpPr>
          <p:spPr>
            <a:xfrm flipV="1" rot="16200000">
              <a:off x="4626360" y="3083400"/>
              <a:ext cx="731880" cy="1146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3078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3480480" y="3083400"/>
              <a:ext cx="731880" cy="114660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3079"/>
            <p:cNvCxnSpPr>
              <a:stCxn id="185" idx="0"/>
              <a:endCxn id="179" idx="2"/>
            </p:cNvCxnSpPr>
            <p:nvPr/>
          </p:nvCxnSpPr>
          <p:spPr>
            <a:xfrm flipH="1" flipV="1" rot="5400000">
              <a:off x="2334960" y="1937880"/>
              <a:ext cx="731880" cy="343800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3080"/>
            <p:cNvSpPr/>
            <p:nvPr/>
          </p:nvSpPr>
          <p:spPr>
            <a:xfrm>
              <a:off x="3437280" y="1828800"/>
              <a:ext cx="196416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Тире.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_s3081"/>
            <p:cNvSpPr/>
            <p:nvPr/>
          </p:nvSpPr>
          <p:spPr>
            <a:xfrm>
              <a:off x="0" y="4022640"/>
              <a:ext cx="196416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Comic Sans MS"/>
                </a:rPr>
                <a:t>Противопостав-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Comic Sans MS"/>
                </a:rPr>
                <a:t>ление.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3082"/>
            <p:cNvSpPr/>
            <p:nvPr/>
          </p:nvSpPr>
          <p:spPr>
            <a:xfrm>
              <a:off x="2291400" y="4022640"/>
              <a:ext cx="196416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Comic Sans MS"/>
                </a:rPr>
                <a:t>2) Время,условие.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3083"/>
            <p:cNvSpPr/>
            <p:nvPr/>
          </p:nvSpPr>
          <p:spPr>
            <a:xfrm>
              <a:off x="4582800" y="4022640"/>
              <a:ext cx="196416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3) Вывод,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следствие.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3084"/>
            <p:cNvSpPr/>
            <p:nvPr/>
          </p:nvSpPr>
          <p:spPr>
            <a:xfrm>
              <a:off x="6874560" y="4022640"/>
              <a:ext cx="196416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4) Быстрая смен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событий.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2543400" y="1312920"/>
            <a:ext cx="5263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1  2  3  4  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:  -   :   ,   -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татьяна</cp:lastModifiedBy>
  <dcterms:modified xsi:type="dcterms:W3CDTF">2024-03-20T11:35:4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