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95A-BBC0-4804-B311-FE7EC59A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817-820D-407A-B720-C7167A08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ECC-138F-4401-997A-F86DB055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01D-946C-4761-BC91-8B52F3D0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09BB-D229-4194-B6E9-E649F7C9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2F1B-9F99-45BB-98B5-9B8A2185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9666-23B1-4CA3-93F2-0A9CBF69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4B27-6B8E-4F9D-B4E4-387522A4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D263-124C-4D50-8E13-E325C8FA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39A3-1A79-410C-8C9B-D6E6BF6F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C530-3D3E-4D16-97A6-106D47E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1F6-E1D0-4E93-A466-F8E11E46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81FC-485C-4114-ADA1-3BF2E04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FFC-202F-4433-B5CF-38113CC3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31FC-CC5A-4240-B8EC-A720DB6A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6C4D-85D3-4D90-B52C-6C16941D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84E9-D341-4C0C-B7F2-02202A55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ED98-8E1A-4756-8673-D6DDDE5A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77BF-0830-44A0-A637-951B2DC6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ECB2-AB68-4D30-B251-1DEE7745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6495-C659-4688-A851-08E46DF2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8C53-F653-4D73-8081-6EE05F9B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B4D-C3C4-4646-B3AD-4F04C7AA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E8E5-56F3-42E6-97AF-E514F182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BEAB-E824-4A8A-B389-4382B9F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DF5FE-8588-41DD-BBBD-D5A8C257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CF1A-35C1-4B03-8371-0C945B7B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5A23-10E8-4617-B2FA-2409E0F6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DF30E-7EF5-43BC-BEA6-78582D4E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47C4-8063-40F0-94D8-60B6CE37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6E60-0C09-4182-8803-B62CC4FC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9315E-644E-4ABC-A200-7B7FBB09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0AB0E-21B8-4D7F-8112-BBAD0948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BD3-70B0-4796-9279-41B190EA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42D4-924D-4951-81A8-98602984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E77C-E3E3-43BC-862A-ECC93F34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1A585-2751-4636-B922-648C5CE4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CB9B-8915-47B7-A45F-27623FAD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BBBE-F47E-4B8E-942B-CE43978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D87A0-0955-4D6F-856A-A12F8E3B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32B1-09A6-4763-9DBF-F6F73FD9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9DAA-A64E-440B-A22F-5AE3E0C2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ACE02-F87C-40B5-AC9D-291F474A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E43-4CCC-4057-801D-A8A7348D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BA8-5C3A-4EE3-99C7-82548EDF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141-4826-4551-A4AD-8A7CF0E9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858-8924-4490-B47A-5F277C4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FBB-F4C6-4EFD-804D-AD704E5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2664000" y="-4680"/>
            <a:ext cx="6486480" cy="6869160"/>
            <a:chOff x="2664000" y="-4680"/>
            <a:chExt cx="6486480" cy="68691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4680"/>
              <a:ext cx="64864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2667240" y="1440"/>
              <a:ext cx="64767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360B-04A9-46D3-B0A2-BF63A783851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1FF2-882A-4D13-8CAB-38E521354BC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5E63-38C1-4511-9B23-A9A1C2326CA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1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1FF5-62FD-4268-B183-D3299A3A863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2901960" y="3483000"/>
            <a:ext cx="58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прошлом уроке мы разобрали два подхода к инвестициям: с конкретной целью и без неё. Оба подхода имеют право на существование. Однако инвестиции с конкретной целью, хоть и требуют на начальном этапе больше сил и времени, обеспечивают больший возврат. Расскажем, как цели правильно формулиро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4231800" y="2816280"/>
            <a:ext cx="26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Ставим це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179280" y="349200"/>
            <a:ext cx="841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dca2"/>
                </a:solidFill>
                <a:latin typeface="Arial Narrow"/>
              </a:rPr>
              <a:t>Школа   понятных инвестици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28440" y="290844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2597400" cy="202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5364000" y="2424240"/>
            <a:ext cx="2799000" cy="17128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1033560" y="476280"/>
            <a:ext cx="489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о понимать, зачем вы инвестируете. Есть десятки методик для постановки цели, но все они сводятся к трём слагаемым: чёткому описанию самой цели, её стоимости и срока исполн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может быть что угодно: дом за городом, путешествие или телевизор. Поставив цель, вы будете знать, сколько нужно денег и к какому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6480" y="14400"/>
            <a:ext cx="83106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должна быть «правильная» ц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 должна быть конкрет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«просто накопить» работает плохо, потому что вы будете совершать импульсивные траты на то, что нужно здесь и сейчас. Подумайте, чего вы хотите, и сформулируйте цель, которая будет осязаемой и достижим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пить машину — это размытая цель, а вот купить автомобиль определённой марки, модели, комплектации и года выпуска — вполне конкретн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 должна иметь понятную стоимость в определённой валю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имость должна быть реалистичной и измеримой. Допустим, модель, которую вы хотите, стоит 2 миллиона рублей. Так как вы запланировали купить её через три года, важно учитывать возможную инфляц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цель — поехать за границу, то надо учитывать колебания курса и копить сразу в долларах или евр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лом лучше распределять риски и всегда держать часть денег в рублях, часть — в долларах, а часть — в евро. Подробнее об этом расскажем в разделе о диверсифик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цели должны быть понятные с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работать 2 миллиона рублей за два месяца и за три года — две совершенно разные задачи с точки зрения реалистичности и сопутствующих труднос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читайте, какой срок для достижения вашей цели будет комфортным. Главные ориентиры — ваши текущие затраты, постоянные доходы и другие источники заработ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333360"/>
            <a:ext cx="817236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ните с краткосрочных ц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лите цели на краткосрочные (3−4 месяца), среднесрочные (1−1,5 года) и долгосрочные (более полутора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ставить сразу несколько целей, но начинать надо с тех, которые вы сможете быстро реализов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стичные и краткосрочные цели в начале позволят почувствовать вкус победы и быстро пройти первый цик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— реализ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Вы увидите, как накопления работают на практике, с чем возникают трудности, что нужно учесть для достижения следующей це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чше не ставить в качестве первой цели «купить квартиру за 150 миллионов рублей через 20 лет». Такая задача быстро демотивирует своим масштабом и сро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епенно наращивая суммы и сроки, вы привыкнете к моде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— ожидание — результ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к тому, что долгое ожидание приводит к более высокому результ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755640" y="765000"/>
            <a:ext cx="617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Хорошая цель — конкретная, с понятной стоимостью и сроком достиж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1258920" y="2828880"/>
            <a:ext cx="559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technozill.com/techno-https-invest.yandex.ru/school/basics/intr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9:04:38Z</dcterms:created>
  <dc:creator>www.MRMARKER.ru</dc:creator>
  <dc:description/>
  <dc:language>en-US</dc:language>
  <cp:lastModifiedBy>user-3</cp:lastModifiedBy>
  <dcterms:modified xsi:type="dcterms:W3CDTF">2023-08-16T07:08:25Z</dcterms:modified>
  <cp:revision>28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