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4E2C-3658-42E3-A964-6B7D2616B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0FA6-3FB3-427F-9B8A-8AC630487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E4AF-C59F-45F6-A33E-DE65801A3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BBA7-CB52-41E4-8C19-B0CC3E83D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35AF5-783E-43E0-9A3F-674AB8F5B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0202C-17C9-4CD6-B017-7C48A003C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16DE9-B724-4885-BFE7-C5273D30D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0FBDA-9410-4C46-A56B-B9A686859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1F046-B78D-4465-9A9D-672FB4BDF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00D0E-76F6-4747-A03D-0A2AD1291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ECC8D-1C5A-46D6-91C9-C5BD965E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C827-AA95-4C8C-865C-953408465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B4203-08C4-4BD9-84DD-164E3600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8A407-4326-45D6-9561-E6A424FB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934B5-929D-4821-A102-89943BB70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F1560-18B4-43D0-8DDC-D9E405D6A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6EB99-A947-4847-85B2-54F8554D0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58EBC-9046-4F70-BF83-15825934F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83304-2DE3-4D9E-ABFC-D7ABDED88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F738B-3455-4193-9FDF-9402D4987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F2BA0-F07A-43E2-B0CB-9EDEF5A35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9B160-A5B6-4042-AB8D-EF0D10585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25ED-E90C-499D-B136-E67057C9B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F2DA0-EE38-4E0B-A92B-C5AD0D555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18C93-17CC-4AA9-B9BB-4DD1BB88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6CDDB-F068-4AC5-B858-C67072C0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787CF-9AF2-45B2-916B-F3DA9674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DF370-2BC8-4691-8937-1BA87B13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FBEB0-3EE8-43C8-903A-049BE3EC7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14F91-63EF-4A03-97DA-E0E7B934C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1B99E-4D13-4B76-A87A-8AC52AF5A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A9420-5C36-4848-8FCA-2DD08A7A0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EA68A-7C89-41D9-A0D6-EE5F8C6E7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790A-BA78-4B31-98CF-0D81AD137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13DA4-15E3-4155-A2DE-9C2D576EC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1FE27-B4AA-44BD-A304-FA5E3396B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ADC8A-D7AA-4195-A990-27B3EE6B0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7D18E-44DE-4A91-AC11-2993B576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0A38D-1118-4817-8FEE-E1920130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914BA-6BAE-4DA8-BBA5-3AD0D515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BAB9D-4504-4F0F-BF4D-721A5F5CA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AC161-1D4B-44D1-B7AA-ECDD3A373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04389-1944-42A6-9A86-79A9C40DD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D4B4-1BA7-42A6-BF33-0722A16B6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BF81-C330-496D-BA19-73E0054A2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35D4-62F8-42A1-A555-F93012C5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180E-364E-4E36-BDC1-A415E58D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2D44-1FB3-49A4-8DDA-E37D3E77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7"/>
          <p:cNvGrpSpPr/>
          <p:nvPr/>
        </p:nvGrpSpPr>
        <p:grpSpPr>
          <a:xfrm>
            <a:off x="2664000" y="-4680"/>
            <a:ext cx="6486480" cy="6869160"/>
            <a:chOff x="2664000" y="-4680"/>
            <a:chExt cx="6486480" cy="6869160"/>
          </a:xfrm>
        </p:grpSpPr>
        <p:pic>
          <p:nvPicPr>
            <p:cNvPr id="1" name="Прямоугольник 7" descr=""/>
            <p:cNvPicPr/>
            <p:nvPr/>
          </p:nvPicPr>
          <p:blipFill>
            <a:blip r:embed="rId2"/>
            <a:stretch/>
          </p:blipFill>
          <p:spPr>
            <a:xfrm>
              <a:off x="2664000" y="-4680"/>
              <a:ext cx="6486480" cy="686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Text Box 4"/>
            <p:cNvSpPr/>
            <p:nvPr/>
          </p:nvSpPr>
          <p:spPr>
            <a:xfrm>
              <a:off x="2667240" y="1440"/>
              <a:ext cx="6476760" cy="68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BB60F-1DD6-4339-B2FF-8FD1CE9B2B72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Прямоугольник 8"/>
          <p:cNvGrpSpPr/>
          <p:nvPr/>
        </p:nvGrpSpPr>
        <p:grpSpPr>
          <a:xfrm>
            <a:off x="8150400" y="-4680"/>
            <a:ext cx="1000080" cy="6869160"/>
            <a:chOff x="8150400" y="-4680"/>
            <a:chExt cx="1000080" cy="6869160"/>
          </a:xfrm>
        </p:grpSpPr>
        <p:pic>
          <p:nvPicPr>
            <p:cNvPr id="46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4680"/>
              <a:ext cx="1000080" cy="686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4"/>
            <p:cNvSpPr/>
            <p:nvPr/>
          </p:nvSpPr>
          <p:spPr>
            <a:xfrm>
              <a:off x="8153640" y="1440"/>
              <a:ext cx="990360" cy="68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CEC10-4323-49F8-9CE8-45A603264220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1885F-F448-4979-AAE8-467687A3B7F9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Прямоугольник 8"/>
          <p:cNvGrpSpPr/>
          <p:nvPr/>
        </p:nvGrpSpPr>
        <p:grpSpPr>
          <a:xfrm>
            <a:off x="8150400" y="-4680"/>
            <a:ext cx="1000080" cy="6869160"/>
            <a:chOff x="8150400" y="-4680"/>
            <a:chExt cx="1000080" cy="6869160"/>
          </a:xfrm>
        </p:grpSpPr>
        <p:pic>
          <p:nvPicPr>
            <p:cNvPr id="133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4680"/>
              <a:ext cx="1000080" cy="686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4"/>
            <p:cNvSpPr/>
            <p:nvPr/>
          </p:nvSpPr>
          <p:spPr>
            <a:xfrm>
              <a:off x="8153640" y="1440"/>
              <a:ext cx="990360" cy="68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593E5-DD93-4B8B-9A5B-1AB22C8EA5FF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1"/>
          <p:cNvSpPr/>
          <p:nvPr/>
        </p:nvSpPr>
        <p:spPr>
          <a:xfrm>
            <a:off x="2901960" y="3483000"/>
            <a:ext cx="5832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 прошлом уроке мы разобрали два подхода к инвестициям: с конкретной целью и без неё. Оба подхода имеют право на существование. Однако инвестиции с конкретной целью, хоть и требуют на начальном этапе больше сил и времени, обеспечивают больший возврат. Расскажем, как цели правильно формулирова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Прямоугольник 2"/>
          <p:cNvSpPr/>
          <p:nvPr/>
        </p:nvSpPr>
        <p:spPr>
          <a:xfrm>
            <a:off x="4231800" y="2816280"/>
            <a:ext cx="267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Ставим цел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Прямоугольник 3"/>
          <p:cNvSpPr/>
          <p:nvPr/>
        </p:nvSpPr>
        <p:spPr>
          <a:xfrm>
            <a:off x="179280" y="349200"/>
            <a:ext cx="8410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dca2"/>
                </a:solidFill>
                <a:latin typeface="Arial Narrow"/>
              </a:rPr>
              <a:t>Школа   понятных инвестиций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Прямоугольник 4"/>
          <p:cNvSpPr/>
          <p:nvPr/>
        </p:nvSpPr>
        <p:spPr>
          <a:xfrm>
            <a:off x="28440" y="2908440"/>
            <a:ext cx="25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рок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1"/>
          <a:stretch/>
        </p:blipFill>
        <p:spPr>
          <a:xfrm>
            <a:off x="179280" y="4292640"/>
            <a:ext cx="2597400" cy="2023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3" descr=""/>
          <p:cNvPicPr/>
          <p:nvPr/>
        </p:nvPicPr>
        <p:blipFill>
          <a:blip r:embed="rId1"/>
          <a:stretch/>
        </p:blipFill>
        <p:spPr>
          <a:xfrm>
            <a:off x="5364000" y="2424240"/>
            <a:ext cx="2799000" cy="1712880"/>
          </a:xfrm>
          <a:prstGeom prst="rect">
            <a:avLst/>
          </a:prstGeom>
          <a:ln w="0">
            <a:noFill/>
          </a:ln>
        </p:spPr>
      </p:pic>
      <p:sp>
        <p:nvSpPr>
          <p:cNvPr id="182" name="Прямоугольник 2"/>
          <p:cNvSpPr/>
          <p:nvPr/>
        </p:nvSpPr>
        <p:spPr>
          <a:xfrm>
            <a:off x="1033560" y="476280"/>
            <a:ext cx="48974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ажно понимать, зачем вы инвестируете. Есть десятки методик для постановки цели, но все они сводятся к трём слагаемым: чёткому описанию самой цели, её стоимости и срока исполн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 может быть что угодно: дом за городом, путешествие или телевизор. Поставив цель, вы будете знать, сколько нужно денег и к какому времен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Прямоугольник 1"/>
          <p:cNvSpPr/>
          <p:nvPr/>
        </p:nvSpPr>
        <p:spPr>
          <a:xfrm>
            <a:off x="6480" y="14400"/>
            <a:ext cx="83106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ой должна быть «правильная» цел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Цель должна быть конкретно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Цель «просто накопить» работает плохо, потому что вы будете совершать импульсивные траты на то, что нужно здесь и сейчас. Подумайте, чего вы хотите, и сформулируйте цель, которая будет осязаемой и достижимо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пить машину — это размытая цель, а вот купить автомобиль определённой марки, модели, комплектации и года выпуска — вполне конкретна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Цель должна иметь понятную стоимость в определённой валют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оимость должна быть реалистичной и измеримой. Допустим, модель, которую вы хотите, стоит 2 миллиона рублей. Так как вы запланировали купить её через три года, важно учитывать возможную инфляцию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цель — поехать за границу, то надо учитывать колебания курса и копить сразу в долларах или евро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целом лучше распределять риски и всегда держать часть денег в рублях, часть — в долларах, а часть — в евро. Подробнее об этом расскажем в разделе о диверсификац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 цели должны быть понятные сро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работать 2 миллиона рублей за два месяца и за три года — две совершенно разные задачи с точки зрения реалистичности и сопутствующих трудносте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читайте, какой срок для достижения вашей цели будет комфортным. Главные ориентиры — ваши текущие затраты, постоянные доходы и другие источники заработк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Прямоугольник 1"/>
          <p:cNvSpPr/>
          <p:nvPr/>
        </p:nvSpPr>
        <p:spPr>
          <a:xfrm>
            <a:off x="0" y="333360"/>
            <a:ext cx="8172360" cy="57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чните с краткосрочных цел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лите цели на краткосрочные (3−4 месяца), среднесрочные (1−1,5 года) и долгосрочные (более полутора лет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жно ставить сразу несколько целей, но начинать надо с тех, которые вы сможете быстро реализоват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алистичные и краткосрочные цели в начале позволят почувствовать вкус победы и быстро пройти первый цикл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ель — реализац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Вы увидите, как накопления работают на практике, с чем возникают трудности, что нужно учесть для достижения следующей цел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учше не ставить в качестве первой цели «купить квартиру за 150 миллионов рублей через 20 лет». Такая задача быстро демотивирует своим масштабом и срок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тепенно наращивая суммы и сроки, вы привыкнете к модел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ель — ожидание — результа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 к тому, что долгое ожидание приводит к более высокому результат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Прямоугольник 2"/>
          <p:cNvSpPr/>
          <p:nvPr/>
        </p:nvSpPr>
        <p:spPr>
          <a:xfrm>
            <a:off x="755640" y="765000"/>
            <a:ext cx="6173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Хорошая цель — конкретная, с понятной стоимостью и сроком достижения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Прямоугольник 1"/>
          <p:cNvSpPr/>
          <p:nvPr/>
        </p:nvSpPr>
        <p:spPr>
          <a:xfrm>
            <a:off x="1258920" y="2828880"/>
            <a:ext cx="559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s://technozill.com/techno-https-invest.yandex.ru/school/basics/intro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5T19:04:38Z</dcterms:created>
  <dc:creator>www.MRMARKER.ru</dc:creator>
  <dc:description/>
  <dc:language>en-US</dc:language>
  <cp:lastModifiedBy>user-3</cp:lastModifiedBy>
  <dcterms:modified xsi:type="dcterms:W3CDTF">2023-08-16T07:08:25Z</dcterms:modified>
  <cp:revision>280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746</vt:lpwstr>
  </property>
</Properties>
</file>