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951DE-FBBD-4513-A708-4E24EB6B1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1"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D7E4C-DD55-4477-9A6A-444D36C2C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7"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A4728-4C1E-4086-AD62-B1824B80A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9"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4"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4B2CB-6481-4474-A276-1F79CA341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96D29E-C10B-4A3C-848A-125FF825FD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FD14D-BAF2-4921-A9FA-B6EF38F53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62EB0-EB93-4253-9C85-3278FF85A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BA4A2-9C22-4038-ACE5-CCB59B869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5C895-AD1D-4E6B-9962-37173F571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926F2-2CB2-4737-AABE-CE8832D06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7D7A6-73CC-4F00-A43D-59F881309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B0406-33C0-4F15-B849-00E0C4A42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07300-1E5F-4556-8FD6-BBC9EA35F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38AD7-6421-432C-8046-2C83431C9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5E401-D05D-4751-8781-9B6181127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9A2B23-3C40-4CE7-94FA-D7CEC6F4A7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13163B-05F0-4CD2-8731-0398D1F57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2A5412-3022-490F-89AD-B6D0E335FD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4150BB-C1B9-4026-9479-E26D852875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9"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60066B-1C34-4EAA-BA80-0F5F7B4D6E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F13408-3EED-4BC0-B729-4F31B6D37B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4806F7-CF32-4F32-B250-832BA2CC50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3961F-EB8E-4FE1-B6FD-8FE986C9D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0160D3-F998-45DD-B7F1-410C2A47E4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0D8C8D-9AD5-4FE8-88B3-70765D1075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0"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EA7CD6-EB3C-4F10-BAC0-D8276421E2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1F6BB8-930A-4AF1-A642-C89AA96AEF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8"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9"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941DB6-44A0-4628-8F61-D2492610E9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899554-C1B8-417B-925F-C1D0ABBA4C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6"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7"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26B797-E4DD-451B-9F89-ADDA4F70AB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0FB96E-ACA5-4477-ADB6-CC0A14AADE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18FA6E-25AC-4812-916F-4FACA62F36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914B04-A950-4FD6-8277-8505D5D9A9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E58D2-2A76-4087-B6B9-3A003E5DC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390741-0B43-47AC-B8A9-1355EF6FF8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3212FC-20CF-485F-A270-654165991A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0E64B4-45C1-4D39-B50A-FADC75B9D4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D4413F-A915-4166-806E-350D409A9D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616D71-9BDA-4B8E-9BAF-CED24B371B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F8A5A1-1E8E-4592-9371-B81DB2BFCE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2904C8-1D97-468F-A5DF-DA48594190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36AA02-B7A3-450D-9051-2A7C3E0247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814E71-1FB6-45A3-A491-4A1C9F275A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77463-ED11-4889-9B57-54C46FF37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88252-CC7E-43F3-997B-096E673E1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51405-AE4E-4183-B7FA-BEBF49B6A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D3CC8-D713-4C0F-B809-56B41D096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A195B-A730-4D29-A9F5-A3091852DF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7"/>
          <p:cNvGrpSpPr/>
          <p:nvPr/>
        </p:nvGrpSpPr>
        <p:grpSpPr>
          <a:xfrm>
            <a:off x="2664000" y="-4680"/>
            <a:ext cx="6486480" cy="6869160"/>
            <a:chOff x="2664000" y="-4680"/>
            <a:chExt cx="6486480" cy="6869160"/>
          </a:xfrm>
        </p:grpSpPr>
        <p:pic>
          <p:nvPicPr>
            <p:cNvPr id="1" name="Прямоугольник 7" descr=""/>
            <p:cNvPicPr/>
            <p:nvPr/>
          </p:nvPicPr>
          <p:blipFill>
            <a:blip r:embed="rId2"/>
            <a:stretch/>
          </p:blipFill>
          <p:spPr>
            <a:xfrm>
              <a:off x="2664000" y="-4680"/>
              <a:ext cx="6486480" cy="6869160"/>
            </a:xfrm>
            <a:prstGeom prst="rect">
              <a:avLst/>
            </a:prstGeom>
            <a:ln w="0">
              <a:noFill/>
            </a:ln>
          </p:spPr>
        </p:pic>
        <p:sp>
          <p:nvSpPr>
            <p:cNvPr id="2" name="Text Box 4"/>
            <p:cNvSpPr/>
            <p:nvPr/>
          </p:nvSpPr>
          <p:spPr>
            <a:xfrm>
              <a:off x="2667240" y="1440"/>
              <a:ext cx="6476760" cy="685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5"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6" name="PlaceHolder 3"/>
          <p:cNvSpPr>
            <a:spLocks noGrp="1"/>
          </p:cNvSpPr>
          <p:nvPr>
            <p:ph type="dt" idx="1"/>
          </p:nvPr>
        </p:nvSpPr>
        <p:spPr>
          <a:xfrm>
            <a:off x="5870160" y="6558120"/>
            <a:ext cx="2003400" cy="2268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2819160" y="6557760"/>
            <a:ext cx="292716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89746-8011-4243-AA78-5A38AB3C09DC}" type="slidenum">
              <a:rPr b="0" lang="ru-RU"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Прямоугольник 8"/>
          <p:cNvGrpSpPr/>
          <p:nvPr/>
        </p:nvGrpSpPr>
        <p:grpSpPr>
          <a:xfrm>
            <a:off x="8150400" y="-4680"/>
            <a:ext cx="1000080" cy="6869160"/>
            <a:chOff x="8150400" y="-4680"/>
            <a:chExt cx="1000080" cy="6869160"/>
          </a:xfrm>
        </p:grpSpPr>
        <p:pic>
          <p:nvPicPr>
            <p:cNvPr id="46" name="Прямоугольник 8" descr=""/>
            <p:cNvPicPr/>
            <p:nvPr/>
          </p:nvPicPr>
          <p:blipFill>
            <a:blip r:embed="rId2"/>
            <a:stretch/>
          </p:blipFill>
          <p:spPr>
            <a:xfrm>
              <a:off x="8150400" y="-4680"/>
              <a:ext cx="1000080" cy="6869160"/>
            </a:xfrm>
            <a:prstGeom prst="rect">
              <a:avLst/>
            </a:prstGeom>
            <a:ln w="0">
              <a:noFill/>
            </a:ln>
          </p:spPr>
        </p:pic>
        <p:sp>
          <p:nvSpPr>
            <p:cNvPr id="47" name="Text Box 4"/>
            <p:cNvSpPr/>
            <p:nvPr/>
          </p:nvSpPr>
          <p:spPr>
            <a:xfrm>
              <a:off x="8153640" y="1440"/>
              <a:ext cx="990360" cy="685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4723920" y="6555960"/>
            <a:ext cx="2001960" cy="2271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1734840" y="6555960"/>
            <a:ext cx="289548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5A02-5759-43C2-A823-C3DA84B5B307}"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2"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3" name="PlaceHolder 3"/>
          <p:cNvSpPr>
            <a:spLocks noGrp="1"/>
          </p:cNvSpPr>
          <p:nvPr>
            <p:ph type="dt" idx="7"/>
          </p:nvPr>
        </p:nvSpPr>
        <p:spPr>
          <a:xfrm>
            <a:off x="4246200" y="6558120"/>
            <a:ext cx="2001960" cy="2268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4"/>
          <p:cNvSpPr>
            <a:spLocks noGrp="1"/>
          </p:cNvSpPr>
          <p:nvPr>
            <p:ph type="ftr" idx="8"/>
          </p:nvPr>
        </p:nvSpPr>
        <p:spPr>
          <a:xfrm>
            <a:off x="457200" y="65577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5"/>
          <p:cNvSpPr>
            <a:spLocks noGrp="1"/>
          </p:cNvSpPr>
          <p:nvPr>
            <p:ph type="sldNum" idx="9"/>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46074-F76C-432F-958D-D4D8E9D1A9F8}"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Прямоугольник 8"/>
          <p:cNvGrpSpPr/>
          <p:nvPr/>
        </p:nvGrpSpPr>
        <p:grpSpPr>
          <a:xfrm>
            <a:off x="8150400" y="-4680"/>
            <a:ext cx="1000080" cy="6869160"/>
            <a:chOff x="8150400" y="-4680"/>
            <a:chExt cx="1000080" cy="6869160"/>
          </a:xfrm>
        </p:grpSpPr>
        <p:pic>
          <p:nvPicPr>
            <p:cNvPr id="133" name="Прямоугольник 8" descr=""/>
            <p:cNvPicPr/>
            <p:nvPr/>
          </p:nvPicPr>
          <p:blipFill>
            <a:blip r:embed="rId2"/>
            <a:stretch/>
          </p:blipFill>
          <p:spPr>
            <a:xfrm>
              <a:off x="8150400" y="-4680"/>
              <a:ext cx="1000080" cy="6869160"/>
            </a:xfrm>
            <a:prstGeom prst="rect">
              <a:avLst/>
            </a:prstGeom>
            <a:ln w="0">
              <a:noFill/>
            </a:ln>
          </p:spPr>
        </p:pic>
        <p:sp>
          <p:nvSpPr>
            <p:cNvPr id="134" name="Text Box 4"/>
            <p:cNvSpPr/>
            <p:nvPr/>
          </p:nvSpPr>
          <p:spPr>
            <a:xfrm>
              <a:off x="8153640" y="1440"/>
              <a:ext cx="990360" cy="685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37" name="PlaceHolder 3"/>
          <p:cNvSpPr>
            <a:spLocks noGrp="1"/>
          </p:cNvSpPr>
          <p:nvPr>
            <p:ph type="dt" idx="10"/>
          </p:nvPr>
        </p:nvSpPr>
        <p:spPr>
          <a:xfrm>
            <a:off x="4242960" y="6558120"/>
            <a:ext cx="2001960" cy="2268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4"/>
          <p:cNvSpPr>
            <a:spLocks noGrp="1"/>
          </p:cNvSpPr>
          <p:nvPr>
            <p:ph type="ftr" idx="11"/>
          </p:nvPr>
        </p:nvSpPr>
        <p:spPr>
          <a:xfrm>
            <a:off x="457200" y="65559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5"/>
          <p:cNvSpPr>
            <a:spLocks noGrp="1"/>
          </p:cNvSpPr>
          <p:nvPr>
            <p:ph type="sldNum" idx="12"/>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CB0E-FD2C-4F12-9C06-C1C6FA9C0B62}"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Прямоугольник 1"/>
          <p:cNvSpPr/>
          <p:nvPr/>
        </p:nvSpPr>
        <p:spPr>
          <a:xfrm>
            <a:off x="2901960" y="3492360"/>
            <a:ext cx="5832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так, мы выяснили, как формулировать свои цели инвестирования. Три главных критерия: конкретность, определённая стоимость и чёткий срок достижения. На этом уроке продвинемся ещё ближе к нашей цели — началу инвестирования на бирже. Для этого расскажем о понятных способах учёта своих доходов и расходов. И о том, почему это важно.</a:t>
            </a:r>
            <a:endParaRPr b="0" lang="en-US" sz="2400" spc="-1" strike="noStrike">
              <a:solidFill>
                <a:srgbClr val="000000"/>
              </a:solidFill>
              <a:latin typeface="Times New Roman"/>
            </a:endParaRPr>
          </a:p>
        </p:txBody>
      </p:sp>
      <p:sp>
        <p:nvSpPr>
          <p:cNvPr id="177" name="Прямоугольник 2"/>
          <p:cNvSpPr/>
          <p:nvPr/>
        </p:nvSpPr>
        <p:spPr>
          <a:xfrm>
            <a:off x="4003200" y="2816280"/>
            <a:ext cx="3132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Times New Roman"/>
              </a:rPr>
              <a:t>Учет финансов</a:t>
            </a:r>
            <a:endParaRPr b="0" lang="en-US" sz="3600" spc="-1" strike="noStrike">
              <a:solidFill>
                <a:srgbClr val="000000"/>
              </a:solidFill>
              <a:latin typeface="Times New Roman"/>
            </a:endParaRPr>
          </a:p>
        </p:txBody>
      </p:sp>
      <p:sp>
        <p:nvSpPr>
          <p:cNvPr id="178" name="Прямоугольник 3"/>
          <p:cNvSpPr/>
          <p:nvPr/>
        </p:nvSpPr>
        <p:spPr>
          <a:xfrm>
            <a:off x="179280" y="349200"/>
            <a:ext cx="84106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dca2"/>
                </a:solidFill>
                <a:latin typeface="Arial Narrow"/>
              </a:rPr>
              <a:t>Школа   понятных инвестиций</a:t>
            </a:r>
            <a:endParaRPr b="0" lang="en-US" sz="6600" spc="-1" strike="noStrike">
              <a:solidFill>
                <a:srgbClr val="000000"/>
              </a:solidFill>
              <a:latin typeface="Times New Roman"/>
            </a:endParaRPr>
          </a:p>
        </p:txBody>
      </p:sp>
      <p:sp>
        <p:nvSpPr>
          <p:cNvPr id="179" name="Прямоугольник 4"/>
          <p:cNvSpPr/>
          <p:nvPr/>
        </p:nvSpPr>
        <p:spPr>
          <a:xfrm>
            <a:off x="28440" y="2908440"/>
            <a:ext cx="2543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рок 4</a:t>
            </a:r>
            <a:endParaRPr b="0" lang="en-US" sz="2400" spc="-1" strike="noStrike">
              <a:solidFill>
                <a:srgbClr val="000000"/>
              </a:solidFill>
              <a:latin typeface="Times New Roman"/>
            </a:endParaRPr>
          </a:p>
        </p:txBody>
      </p:sp>
      <p:pic>
        <p:nvPicPr>
          <p:cNvPr id="180" name="Picture 6" descr=""/>
          <p:cNvPicPr/>
          <p:nvPr/>
        </p:nvPicPr>
        <p:blipFill>
          <a:blip r:embed="rId1"/>
          <a:stretch/>
        </p:blipFill>
        <p:spPr>
          <a:xfrm>
            <a:off x="179280" y="4292640"/>
            <a:ext cx="2597400" cy="202392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3" descr=""/>
          <p:cNvPicPr/>
          <p:nvPr/>
        </p:nvPicPr>
        <p:blipFill>
          <a:blip r:embed="rId1"/>
          <a:stretch/>
        </p:blipFill>
        <p:spPr>
          <a:xfrm>
            <a:off x="6084720" y="5084640"/>
            <a:ext cx="2799000" cy="1712880"/>
          </a:xfrm>
          <a:prstGeom prst="rect">
            <a:avLst/>
          </a:prstGeom>
          <a:ln w="0">
            <a:noFill/>
          </a:ln>
        </p:spPr>
      </p:pic>
      <p:sp>
        <p:nvSpPr>
          <p:cNvPr id="182" name="Прямоугольник 2"/>
          <p:cNvSpPr/>
          <p:nvPr/>
        </p:nvSpPr>
        <p:spPr>
          <a:xfrm>
            <a:off x="324000" y="333360"/>
            <a:ext cx="7488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т универсального способа спланировать инвестиции, иначе все бы давно им пользовались. Но есть важные шаги, которые стоит пройти перед тем, как начать инвестировать. </a:t>
            </a:r>
            <a:r>
              <a:rPr b="0" lang="ru-RU" sz="2800" spc="-1" strike="noStrike" u="sng">
                <a:solidFill>
                  <a:srgbClr val="000000"/>
                </a:solidFill>
                <a:uFillTx/>
                <a:latin typeface="Times New Roman"/>
              </a:rPr>
              <a:t>Вот и они:</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дсчёт расходов и доходов</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ыделение активов и пассивов</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ормирование подушки безопасности</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иверсификация</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Прямоугольник 1"/>
          <p:cNvSpPr/>
          <p:nvPr/>
        </p:nvSpPr>
        <p:spPr>
          <a:xfrm>
            <a:off x="108000" y="49320"/>
            <a:ext cx="8136000" cy="637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Как посчитать расходы и доходы?</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пробуйте с простого и гибкого варианта — таблицы Exc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дин столбик — расходы, второй — доходы. Остальное — как вам удобнее. Вы‌ ‌можете‌ ‌сами‌ ‌определять‌ ‌категории‌ ‌расходов‌ ‌и‌ ‌другие‌ ‌столбцы,‌ ‌детализировать‌ ‌информацию. Например,‌ ‌делить‌ ‌покупки‌ ‌на‌ ‌обязательные‌ ‌и‌ ‌желаемые,‌ ‌мелкие‌ ‌и‌ ‌крупные‌.‌ ‌Там‌ ‌же‌ ‌можете ‌считать,‌ ‌на‌ ‌сколько‌ ‌удалось‌ ‌оптимизировать‌ ‌расходы, сравнивая плановые и фактические показател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Лучше всего таблица в Excel подойдёт для планирования долгосрочных целей и получения общих данных.</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щё в ней удобно считать разницу между доходами и расходами, чтобы понимать, сколько денег остаётся каждый месяц, а сколько — уходит на «незаметные» траты, вроде кофе</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Прямоугольник 1"/>
          <p:cNvSpPr/>
          <p:nvPr/>
        </p:nvSpPr>
        <p:spPr>
          <a:xfrm>
            <a:off x="179280" y="404640"/>
            <a:ext cx="79930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Times New Roman"/>
              </a:rPr>
              <a:t>Пример</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Если каждый день вы покупаете в офисе капучино за 200 рублей, вы тратите 50 тысяч рублей в год. Если вкладывать эту сумму в финансовые инструменты с доходностью 10% годовых, через три года они могут превратиться в 180 тысяч рублей.</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Прямоугольник 2"/>
          <p:cNvSpPr/>
          <p:nvPr/>
        </p:nvSpPr>
        <p:spPr>
          <a:xfrm>
            <a:off x="9360" y="333360"/>
            <a:ext cx="8066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жедневные расходы удобнее отслеживать в специальных приложениях</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пример, </a:t>
            </a:r>
            <a:r>
              <a:rPr b="0" lang="ru-RU" sz="2400" spc="-1" strike="noStrike">
                <a:solidFill>
                  <a:srgbClr val="0070c0"/>
                </a:solidFill>
                <a:latin typeface="Times New Roman"/>
              </a:rPr>
              <a:t>CoinKeeper, Дзен-мани или Spendee</a:t>
            </a:r>
            <a:r>
              <a:rPr b="0" lang="ru-RU" sz="2400" spc="-1" strike="noStrike">
                <a:solidFill>
                  <a:srgbClr val="000000"/>
                </a:solidFill>
                <a:latin typeface="Times New Roman"/>
              </a:rPr>
              <a:t>. В них можно создавать категории расходов и отмечать, как и на что вы тратили деньги. Приложение будет строить графики и отчёты расходов по периодам — а вы будете знать точную сумму трат и сможете оптимизировать расходы и накопления. Это не требует огромных усилий, скорее привычку, такие сервисы даже умеют подключаться к мобильным банкам и читать СМС-оповещения об операциях.</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Прямоугольник 1"/>
          <p:cNvSpPr/>
          <p:nvPr/>
        </p:nvSpPr>
        <p:spPr>
          <a:xfrm>
            <a:off x="179280" y="333360"/>
            <a:ext cx="784872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ариант для ленивых — приложения банков</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ни тоже умеют разбивать траты на категории и показывать динамику расходов. Но этот способ будет удобен, только если вы держите все деньги в одном банк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в одном месте у вас открыт кредит, в другом — зарплатная карта, а в третьем — карта, которой вы оплачиваете онлайн-покупки, то у вас не будет общей картины. Траты будут учитываться отдельно в приложении каждого банка.</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считав доходы и расходы, вы поймёте, сколько можете выделить на инвестиции.</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Прямоугольник 1"/>
          <p:cNvSpPr/>
          <p:nvPr/>
        </p:nvSpPr>
        <p:spPr>
          <a:xfrm>
            <a:off x="108000" y="428760"/>
            <a:ext cx="806436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Чтобы начать инвестировать, важно просчитать свои расходы и доходы. Понимание своих трат и источников прибыли поможет в дальнейшем понять, сколько денег вам комфортно выделить на инвестиции. Мы предложили три варианта учёта денег: в таблице Excel, с помощью специальных приложений или с помощью онлайн-банка. Выбирайте способ, наиболее подходящий для вас. И переходите к следующему уроку — разберёмся в активах и пассивах.</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Прямоугольник 1"/>
          <p:cNvSpPr/>
          <p:nvPr/>
        </p:nvSpPr>
        <p:spPr>
          <a:xfrm>
            <a:off x="684360" y="2828880"/>
            <a:ext cx="617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echnozill.com/techno-https-invest.yandex.ru/school/basics/intro/</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19:04:38Z</dcterms:created>
  <dc:creator>www.MRMARKER.ru</dc:creator>
  <dc:description/>
  <dc:language>en-US</dc:language>
  <cp:lastModifiedBy>user-3</cp:lastModifiedBy>
  <dcterms:modified xsi:type="dcterms:W3CDTF">2023-08-16T07:08:42Z</dcterms:modified>
  <cp:revision>280</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4746</vt:lpwstr>
  </property>
</Properties>
</file>