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DF85-EC9F-4182-8273-1DBC20BD9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122B-4CF2-4AAE-9B3A-D95E12DF5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B753D-4212-4FFC-81B2-4B1F7D58C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0ADCA-CB6B-4386-9A16-ED1A6ECA9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AE5FF-A572-429F-BFE6-32D764F11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C4402-7283-4673-97C1-94CFAEC6B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F57FF-1907-4E9C-9939-7D394DA32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7E137-F59E-413A-825A-1F2691C1D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995C3-7DB8-4F5E-B472-E8A190A8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F05FE-6367-4E35-9440-0B63BEFFC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E8921-9208-413F-A826-141218F32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AF73-64C8-476A-96F6-C51AA5E90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42D79-83DA-447F-99B3-4113CDC1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8C26-01A4-49B7-A882-0230B947A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B9700-CFF8-4D9B-9E7C-D77F90F10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7C2D8-C7EA-48E3-AF12-F843792EA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407F1-2566-4BAA-93DA-C60690C3F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36BFC-B6E9-4654-BD2B-05D01ADD9A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AE6D4-558A-4F5A-B8DA-740674C20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53F00-3450-437A-BBAF-8C84FE5E1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04A54-E1F7-4D9D-A0AD-9BF57165F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47AC1-5BB7-4697-A598-2F738B0DD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9D1D-ABB9-449D-B262-83356B52B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E3F3A-E39F-414C-AA69-02818DAB6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25318-2A12-4660-8109-824BAC928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DDFAB-CB9A-466D-A9BC-4F6349BC5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6BB5D-3830-4543-9B9D-61CE6DF85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61F12-5583-4091-AEDB-DE3D6EF00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4E920-5C8D-4D99-811E-1D6E6C8CF0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26E4D4-E581-4D16-ADD0-149728C5E2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CC052-D0EC-4D0D-A5B4-FD3C564996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234B4-C580-41D5-BA7B-38F05B877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5B421-BED3-450F-9F40-363FD7433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88C3-B224-4826-A0A6-9C7BDE10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D532C-0FA1-4B55-960E-DBDBD7808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92727-99FB-496E-9647-57868CB26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D7860-CB07-4229-AE98-CCC9795CA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9335D-BB80-4E9F-8256-91099CFB9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C7D81-DD04-456A-B645-9DFC6464A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39CED-E0E8-47DC-8435-9D3A8AB52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7420A-3231-4B8E-A83F-F38909829D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89CBB4-9EF3-4BCA-94CB-CDEBE0A46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F4C08-C6A5-4234-8936-31716E3F02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1CF0-4E97-4E7C-820A-F2D1E1551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3999-9BE4-4CC8-AFF3-1BE1B6FC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242D-2416-4E18-9331-2BB76BBC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C12E-C98D-4BF0-B03A-C9DCBEC2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B877-1232-435B-B9B1-DA33720B1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7"/>
          <p:cNvGrpSpPr/>
          <p:nvPr/>
        </p:nvGrpSpPr>
        <p:grpSpPr>
          <a:xfrm>
            <a:off x="2664000" y="-4680"/>
            <a:ext cx="6486480" cy="6869160"/>
            <a:chOff x="2664000" y="-4680"/>
            <a:chExt cx="6486480" cy="6869160"/>
          </a:xfrm>
        </p:grpSpPr>
        <p:pic>
          <p:nvPicPr>
            <p:cNvPr id="1" name="Прямоугольник 7" descr=""/>
            <p:cNvPicPr/>
            <p:nvPr/>
          </p:nvPicPr>
          <p:blipFill>
            <a:blip r:embed="rId2"/>
            <a:stretch/>
          </p:blipFill>
          <p:spPr>
            <a:xfrm>
              <a:off x="2664000" y="-4680"/>
              <a:ext cx="6486480" cy="6869160"/>
            </a:xfrm>
            <a:prstGeom prst="rect">
              <a:avLst/>
            </a:prstGeom>
            <a:ln w="0">
              <a:noFill/>
            </a:ln>
          </p:spPr>
        </p:pic>
        <p:sp>
          <p:nvSpPr>
            <p:cNvPr id="2" name="Text Box 4"/>
            <p:cNvSpPr/>
            <p:nvPr/>
          </p:nvSpPr>
          <p:spPr>
            <a:xfrm>
              <a:off x="2667240" y="1440"/>
              <a:ext cx="64767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 name="PlaceHolder 3"/>
          <p:cNvSpPr>
            <a:spLocks noGrp="1"/>
          </p:cNvSpPr>
          <p:nvPr>
            <p:ph type="dt" idx="1"/>
          </p:nvPr>
        </p:nvSpPr>
        <p:spPr>
          <a:xfrm>
            <a:off x="5870160" y="6558120"/>
            <a:ext cx="200340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819160" y="6557760"/>
            <a:ext cx="292716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B13B-CC97-47D5-8CFE-27745BAEE282}"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Прямоугольник 8"/>
          <p:cNvGrpSpPr/>
          <p:nvPr/>
        </p:nvGrpSpPr>
        <p:grpSpPr>
          <a:xfrm>
            <a:off x="8150400" y="-4680"/>
            <a:ext cx="1000080" cy="6869160"/>
            <a:chOff x="8150400" y="-4680"/>
            <a:chExt cx="1000080" cy="6869160"/>
          </a:xfrm>
        </p:grpSpPr>
        <p:pic>
          <p:nvPicPr>
            <p:cNvPr id="46" name="Прямоугольник 8" descr=""/>
            <p:cNvPicPr/>
            <p:nvPr/>
          </p:nvPicPr>
          <p:blipFill>
            <a:blip r:embed="rId2"/>
            <a:stretch/>
          </p:blipFill>
          <p:spPr>
            <a:xfrm>
              <a:off x="8150400" y="-4680"/>
              <a:ext cx="1000080" cy="6869160"/>
            </a:xfrm>
            <a:prstGeom prst="rect">
              <a:avLst/>
            </a:prstGeom>
            <a:ln w="0">
              <a:noFill/>
            </a:ln>
          </p:spPr>
        </p:pic>
        <p:sp>
          <p:nvSpPr>
            <p:cNvPr id="47" name="Text Box 4"/>
            <p:cNvSpPr/>
            <p:nvPr/>
          </p:nvSpPr>
          <p:spPr>
            <a:xfrm>
              <a:off x="8153640" y="1440"/>
              <a:ext cx="9903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4723920" y="6555960"/>
            <a:ext cx="2001960" cy="2271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1734840" y="6555960"/>
            <a:ext cx="289548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4D09-5FD2-4D0F-8546-BD651B66EA11}"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3"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9A5F-3690-4824-A85D-007B89957438}"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Прямоугольник 8"/>
          <p:cNvGrpSpPr/>
          <p:nvPr/>
        </p:nvGrpSpPr>
        <p:grpSpPr>
          <a:xfrm>
            <a:off x="8150400" y="-4680"/>
            <a:ext cx="1000080" cy="6869160"/>
            <a:chOff x="8150400" y="-4680"/>
            <a:chExt cx="1000080" cy="6869160"/>
          </a:xfrm>
        </p:grpSpPr>
        <p:pic>
          <p:nvPicPr>
            <p:cNvPr id="133" name="Прямоугольник 8" descr=""/>
            <p:cNvPicPr/>
            <p:nvPr/>
          </p:nvPicPr>
          <p:blipFill>
            <a:blip r:embed="rId2"/>
            <a:stretch/>
          </p:blipFill>
          <p:spPr>
            <a:xfrm>
              <a:off x="8150400" y="-4680"/>
              <a:ext cx="1000080" cy="6869160"/>
            </a:xfrm>
            <a:prstGeom prst="rect">
              <a:avLst/>
            </a:prstGeom>
            <a:ln w="0">
              <a:noFill/>
            </a:ln>
          </p:spPr>
        </p:pic>
        <p:sp>
          <p:nvSpPr>
            <p:cNvPr id="134" name="Text Box 4"/>
            <p:cNvSpPr/>
            <p:nvPr/>
          </p:nvSpPr>
          <p:spPr>
            <a:xfrm>
              <a:off x="8153640" y="1440"/>
              <a:ext cx="990360" cy="685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7" name="PlaceHolder 3"/>
          <p:cNvSpPr>
            <a:spLocks noGrp="1"/>
          </p:cNvSpPr>
          <p:nvPr>
            <p:ph type="dt" idx="10"/>
          </p:nvPr>
        </p:nvSpPr>
        <p:spPr>
          <a:xfrm>
            <a:off x="4242960" y="6558120"/>
            <a:ext cx="2001960" cy="2268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457200" y="6555960"/>
            <a:ext cx="3657600" cy="2286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BD3E-E06A-490A-8F90-49B9C94EC6CD}"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2901960" y="3492360"/>
            <a:ext cx="5832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так, мы выяснили, как формулировать свои цели инвестирования. Три главных критерия: конкретность, определённая стоимость и чёткий срок достижения. На этом уроке продвинемся ещё ближе к нашей цели — началу инвестирования на бирже. Для этого расскажем о понятных способах учёта своих доходов и расходов. И о том, почему это важно.</a:t>
            </a:r>
            <a:endParaRPr b="0" lang="en-US" sz="2400" spc="-1" strike="noStrike">
              <a:solidFill>
                <a:srgbClr val="000000"/>
              </a:solidFill>
              <a:latin typeface="Times New Roman"/>
            </a:endParaRPr>
          </a:p>
        </p:txBody>
      </p:sp>
      <p:sp>
        <p:nvSpPr>
          <p:cNvPr id="177" name="Прямоугольник 2"/>
          <p:cNvSpPr/>
          <p:nvPr/>
        </p:nvSpPr>
        <p:spPr>
          <a:xfrm>
            <a:off x="4003200" y="2816280"/>
            <a:ext cx="3132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Times New Roman"/>
              </a:rPr>
              <a:t>Учет финансов</a:t>
            </a:r>
            <a:endParaRPr b="0" lang="en-US" sz="3600" spc="-1" strike="noStrike">
              <a:solidFill>
                <a:srgbClr val="000000"/>
              </a:solidFill>
              <a:latin typeface="Times New Roman"/>
            </a:endParaRPr>
          </a:p>
        </p:txBody>
      </p:sp>
      <p:sp>
        <p:nvSpPr>
          <p:cNvPr id="178" name="Прямоугольник 3"/>
          <p:cNvSpPr/>
          <p:nvPr/>
        </p:nvSpPr>
        <p:spPr>
          <a:xfrm>
            <a:off x="179280" y="349200"/>
            <a:ext cx="8410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dca2"/>
                </a:solidFill>
                <a:latin typeface="Arial Narrow"/>
              </a:rPr>
              <a:t>Школа   понятных инвестиций</a:t>
            </a:r>
            <a:endParaRPr b="0" lang="en-US" sz="6600" spc="-1" strike="noStrike">
              <a:solidFill>
                <a:srgbClr val="000000"/>
              </a:solidFill>
              <a:latin typeface="Times New Roman"/>
            </a:endParaRPr>
          </a:p>
        </p:txBody>
      </p:sp>
      <p:sp>
        <p:nvSpPr>
          <p:cNvPr id="179" name="Прямоугольник 4"/>
          <p:cNvSpPr/>
          <p:nvPr/>
        </p:nvSpPr>
        <p:spPr>
          <a:xfrm>
            <a:off x="28440" y="2908440"/>
            <a:ext cx="25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рок 4</a:t>
            </a:r>
            <a:endParaRPr b="0" lang="en-US" sz="2400" spc="-1" strike="noStrike">
              <a:solidFill>
                <a:srgbClr val="000000"/>
              </a:solidFill>
              <a:latin typeface="Times New Roman"/>
            </a:endParaRPr>
          </a:p>
        </p:txBody>
      </p:sp>
      <p:pic>
        <p:nvPicPr>
          <p:cNvPr id="180" name="Picture 6" descr=""/>
          <p:cNvPicPr/>
          <p:nvPr/>
        </p:nvPicPr>
        <p:blipFill>
          <a:blip r:embed="rId1"/>
          <a:stretch/>
        </p:blipFill>
        <p:spPr>
          <a:xfrm>
            <a:off x="179280" y="4292640"/>
            <a:ext cx="2597400" cy="202392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6084720" y="5084640"/>
            <a:ext cx="2799000" cy="1712880"/>
          </a:xfrm>
          <a:prstGeom prst="rect">
            <a:avLst/>
          </a:prstGeom>
          <a:ln w="0">
            <a:noFill/>
          </a:ln>
        </p:spPr>
      </p:pic>
      <p:sp>
        <p:nvSpPr>
          <p:cNvPr id="182" name="Прямоугольник 2"/>
          <p:cNvSpPr/>
          <p:nvPr/>
        </p:nvSpPr>
        <p:spPr>
          <a:xfrm>
            <a:off x="324000" y="333360"/>
            <a:ext cx="7488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т универсального способа спланировать инвестиции, иначе все бы давно им пользовались. Но есть важные шаги, которые стоит пройти перед тем, как начать инвестировать. </a:t>
            </a:r>
            <a:r>
              <a:rPr b="0" lang="ru-RU" sz="2800" spc="-1" strike="noStrike" u="sng">
                <a:solidFill>
                  <a:srgbClr val="000000"/>
                </a:solidFill>
                <a:uFillTx/>
                <a:latin typeface="Times New Roman"/>
              </a:rPr>
              <a:t>Вот и он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дсчёт расходов и доход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ение активов и пассив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одушки безопасност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версификация</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108000" y="49320"/>
            <a:ext cx="8136000" cy="637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 посчитать расходы и доход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пробуйте с простого и гибкого варианта — таблицы Exc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ин столбик — расходы, второй — доходы. Остальное — как вам удобнее. Вы‌ ‌можете‌ ‌сами‌ ‌определять‌ ‌категории‌ ‌расходов‌ ‌и‌ ‌другие‌ ‌столбцы,‌ ‌детализировать‌ ‌информацию. Например,‌ ‌делить‌ ‌покупки‌ ‌на‌ ‌обязательные‌ ‌и‌ ‌желаемые,‌ ‌мелкие‌ ‌и‌ ‌крупные‌.‌ ‌Там‌ ‌же‌ ‌можете ‌считать,‌ ‌на‌ ‌сколько‌ ‌удалось‌ ‌оптимизировать‌ ‌расходы, сравнивая плановые и фактические показател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учше всего таблица в Excel подойдёт для планирования долгосрочных целей и получения общих данны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щё в ней удобно считать разницу между доходами и расходами, чтобы понимать, сколько денег остаётся каждый месяц, а сколько — уходит на «незаметные» траты, вроде кофе</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угольник 1"/>
          <p:cNvSpPr/>
          <p:nvPr/>
        </p:nvSpPr>
        <p:spPr>
          <a:xfrm>
            <a:off x="179280" y="404640"/>
            <a:ext cx="7993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Приме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Если каждый день вы покупаете в офисе капучино за 200 рублей, вы тратите 50 тысяч рублей в год. Если вкладывать эту сумму в финансовые инструменты с доходностью 10% годовых, через три года они могут превратиться в 180 тысяч рублей.</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Прямоугольник 2"/>
          <p:cNvSpPr/>
          <p:nvPr/>
        </p:nvSpPr>
        <p:spPr>
          <a:xfrm>
            <a:off x="9360" y="333360"/>
            <a:ext cx="8066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жедневные расходы удобнее отслеживать в специальных приложения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ример, </a:t>
            </a:r>
            <a:r>
              <a:rPr b="0" lang="ru-RU" sz="2400" spc="-1" strike="noStrike">
                <a:solidFill>
                  <a:srgbClr val="0070c0"/>
                </a:solidFill>
                <a:latin typeface="Times New Roman"/>
              </a:rPr>
              <a:t>CoinKeeper, Дзен-мани или Spendee</a:t>
            </a:r>
            <a:r>
              <a:rPr b="0" lang="ru-RU" sz="2400" spc="-1" strike="noStrike">
                <a:solidFill>
                  <a:srgbClr val="000000"/>
                </a:solidFill>
                <a:latin typeface="Times New Roman"/>
              </a:rPr>
              <a:t>. В них можно создавать категории расходов и отмечать, как и на что вы тратили деньги. Приложение будет строить графики и отчёты расходов по периодам — а вы будете знать точную сумму трат и сможете оптимизировать расходы и накопления. Это не требует огромных усилий, скорее привычку, такие сервисы даже умеют подключаться к мобильным банкам и читать СМС-оповещения об операциях.</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1"/>
          <p:cNvSpPr/>
          <p:nvPr/>
        </p:nvSpPr>
        <p:spPr>
          <a:xfrm>
            <a:off x="179280" y="333360"/>
            <a:ext cx="78487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ариант для ленивых — приложения банко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и тоже умеют разбивать траты на категории и показывать динамику расходов. Но этот способ будет удобен, только если вы держите все деньги в одном банк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в одном месте у вас открыт кредит, в другом — зарплатная карта, а в третьем — карта, которой вы оплачиваете онлайн-покупки, то у вас не будет общей картины. Траты будут учитываться отдельно в приложении каждого банк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читав доходы и расходы, вы поймёте, сколько можете выделить на инвестиции.</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Прямоугольник 1"/>
          <p:cNvSpPr/>
          <p:nvPr/>
        </p:nvSpPr>
        <p:spPr>
          <a:xfrm>
            <a:off x="108000" y="428760"/>
            <a:ext cx="8064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тобы начать инвестировать, важно просчитать свои расходы и доходы. Понимание своих трат и источников прибыли поможет в дальнейшем понять, сколько денег вам комфортно выделить на инвестиции. Мы предложили три варианта учёта денег: в таблице Excel, с помощью специальных приложений или с помощью онлайн-банка. Выбирайте способ, наиболее подходящий для вас. И переходите к следующему уроку — разберёмся в активах и пассивах.</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684360" y="2828880"/>
            <a:ext cx="617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echnozill.com/techno-https-invest.yandex.ru/school/basics/intro/</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4:38Z</dcterms:created>
  <dc:creator>www.MRMARKER.ru</dc:creator>
  <dc:description/>
  <dc:language>en-US</dc:language>
  <cp:lastModifiedBy>user-3</cp:lastModifiedBy>
  <dcterms:modified xsi:type="dcterms:W3CDTF">2023-08-16T07:08:42Z</dcterms:modified>
  <cp:revision>28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9.1.0.4746</vt:lpwstr>
  </property>
</Properties>
</file>