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5D5-8BC5-42C2-BB06-57B0DE32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7F2-A878-4076-93F1-0F981E78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B8A-9D0C-41B4-8A9F-1968DE70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4C5-6A06-41F5-A7A0-CE56A06C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1584-08FB-4A34-BE87-439995D7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5962-B9DD-4CE7-A81A-919F8E32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33F3-4F99-487B-BE2B-52B109E6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E50B-E525-4310-A95E-B4BBDB7B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00A4-F12F-4D65-8D0D-A1ED7ADE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87A6-0234-4C67-8E66-8A0BB5E1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D1C9-0C03-4AC1-9A9B-F2E1641C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8DDE-14CA-4256-8DE8-D2EB6E5B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FC10-FDE7-4AED-85A7-8CF73ECA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F0AB-AAF1-4861-AF5C-7E4AE20F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965F-8E67-442B-B311-4C079018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EC14-EF94-4B51-9F0D-6DC53EA0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3BFE-907F-43F1-97D1-CDE06D9E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0E9A1-A653-4A6A-A261-8A76A63A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2536B-5FC4-46BD-B7D0-6AE858B6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56E94-9389-497D-8D1F-B8AE3050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ABFA2-56EF-4687-90B3-519CE074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9D34-28B5-4CE2-877A-87FDB968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FC1-956D-465A-A30D-9C411930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B4736-3096-43E0-AA59-DBFCF536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EC38B-CBE2-45A4-AD3C-366A3185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7CE1-F3F5-4542-84E2-7612F16E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AAB3-9EB6-479C-9489-6D6F1B56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1D51D-D560-4960-9BF6-70B1A4C6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73260-8CD1-4D78-A1E3-931B0B81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B0134-711A-45E3-938A-11FEE05C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5B424-911B-4D04-AD1E-24020866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063D9-33A3-4AEC-8137-E496781A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9D598-0E53-41BF-88D1-3259BBB2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C92-DA24-46D5-9591-FEF25C45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EA937-41F5-4759-94A5-20D55B09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079E8-418A-47C2-893E-556679BA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2709B-7CAF-40E9-AA3A-ACBB4629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CACB9-481B-45DB-B97D-306A4A99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01115-2BC0-4FC4-8F08-4AEDB93C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7B38-63ED-4A50-8555-66E21976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CD607-1072-4A03-812F-EF04C29D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1BBD1-1685-4875-8DAD-CEDD7161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40898-E3E8-48AE-98C0-47C5179E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62B-C07D-46C1-9451-F8D57AE3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5506-548D-4798-A998-8AB1BD01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8C7-7ABC-4D05-9562-61FDDDA1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50A-ED2A-49A2-819A-F546E8D6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3EB-B4EF-4599-B3A6-18FE5894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2664000" y="-4680"/>
            <a:ext cx="6486480" cy="6869160"/>
            <a:chOff x="2664000" y="-4680"/>
            <a:chExt cx="6486480" cy="686916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4680"/>
              <a:ext cx="64864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4"/>
            <p:cNvSpPr/>
            <p:nvPr/>
          </p:nvSpPr>
          <p:spPr>
            <a:xfrm>
              <a:off x="2667240" y="1440"/>
              <a:ext cx="64767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F7DC-016C-4BB5-8604-5C45FD074D7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8"/>
          <p:cNvGrpSpPr/>
          <p:nvPr/>
        </p:nvGrpSpPr>
        <p:grpSpPr>
          <a:xfrm>
            <a:off x="8150400" y="-4680"/>
            <a:ext cx="1000080" cy="6869160"/>
            <a:chOff x="8150400" y="-4680"/>
            <a:chExt cx="1000080" cy="6869160"/>
          </a:xfrm>
        </p:grpSpPr>
        <p:pic>
          <p:nvPicPr>
            <p:cNvPr id="4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4680"/>
              <a:ext cx="10000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4"/>
            <p:cNvSpPr/>
            <p:nvPr/>
          </p:nvSpPr>
          <p:spPr>
            <a:xfrm>
              <a:off x="8153640" y="1440"/>
              <a:ext cx="9903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F84E-4AEC-4A11-BB75-85003BA7D2C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50EE-FB0C-4A6B-A9A0-18423A85F46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8"/>
          <p:cNvGrpSpPr/>
          <p:nvPr/>
        </p:nvGrpSpPr>
        <p:grpSpPr>
          <a:xfrm>
            <a:off x="8150400" y="-4680"/>
            <a:ext cx="1000080" cy="6869160"/>
            <a:chOff x="8150400" y="-4680"/>
            <a:chExt cx="1000080" cy="6869160"/>
          </a:xfrm>
        </p:grpSpPr>
        <p:pic>
          <p:nvPicPr>
            <p:cNvPr id="13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4680"/>
              <a:ext cx="10000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"/>
            <p:cNvSpPr/>
            <p:nvPr/>
          </p:nvSpPr>
          <p:spPr>
            <a:xfrm>
              <a:off x="8153640" y="1440"/>
              <a:ext cx="9903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C50D-8EBB-4CBF-957C-BD88F03B3EB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2901960" y="386064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обрались с личными расходами и доходами — пора выделять активы и пассивы. Рассказываем, какие средства относятся к активам, какие — к пассивам и что делать с долг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3669480" y="281628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Активы и пасси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3"/>
          <p:cNvSpPr/>
          <p:nvPr/>
        </p:nvSpPr>
        <p:spPr>
          <a:xfrm>
            <a:off x="179280" y="349200"/>
            <a:ext cx="841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dca2"/>
                </a:solidFill>
                <a:latin typeface="Arial Narrow"/>
              </a:rPr>
              <a:t>Школа   понятных инвестици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4"/>
          <p:cNvSpPr/>
          <p:nvPr/>
        </p:nvSpPr>
        <p:spPr>
          <a:xfrm>
            <a:off x="28440" y="2908440"/>
            <a:ext cx="25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к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79280" y="4292640"/>
            <a:ext cx="2597400" cy="202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799000" cy="171288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2"/>
          <p:cNvSpPr/>
          <p:nvPr/>
        </p:nvSpPr>
        <p:spPr>
          <a:xfrm>
            <a:off x="250920" y="333360"/>
            <a:ext cx="7377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 есть ч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ив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это деньги и имущество, которое можно превратить в деньги: бизнес, недвижимость, ценные бумаг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ссив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все обязательные расх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втомобиль — это актив, а расходы на его заправку и обслуживание — пасси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948360" y="2205000"/>
            <a:ext cx="2008440" cy="22892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"/>
          <p:cNvSpPr/>
          <p:nvPr/>
        </p:nvSpPr>
        <p:spPr>
          <a:xfrm>
            <a:off x="344520" y="363600"/>
            <a:ext cx="7345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жно понимать, что доход может приносить не только ваша основная работа, но и, например, квартира, которую можно сдать в аренду, или украшения, которые можно прода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аж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путайте пассивы и пассивный доход. Пассивный доход приносит деньги, когда вы ничего для этого не делаете. Например, проценты по вкладу. А пассивы — то, что регулярно отнимает часть бюдже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395280" y="982800"/>
            <a:ext cx="7777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умайте, что у вас есть в активах, а что — в пассивах. Можете ли вы как-то увеличить долю первых и сократить долю вторых? Инвестиции — один из способов нарастить актив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щение пассивов — индивидуальная задача. Например, вы не можете не платить за съёмное жильё, но можете реже пользоваться автомобилем и меньше платить за бенз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2"/>
          <p:cNvSpPr/>
          <p:nvPr/>
        </p:nvSpPr>
        <p:spPr>
          <a:xfrm>
            <a:off x="87480" y="476280"/>
            <a:ext cx="815652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бавляемся от пассивов перед инвестирова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тем как начать инвестировать, разберитесь с текущими долгами: кредитами, штрафами и другими задолженностями. Здесь также поможет финансовое планирование. Сначала вы соотносите доходы с расходами, потом — отказываетесь от лишних трат. В итоге вы поймёте, сколько свободных денег у вас остаётся после обязательных платеж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вам будет проще погасить свои долги досроч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й шаг перед инвестированием — оценить, какие у вас активы и пассивы и можно ли сократить долю последних. Активы — деньги и всё то, что потенциально их приносит, например бизнес или квартира, которую можно продать. Пассивы — всё то, что отнимает у вас деньги: ремонт, долги, обслуживание автомоби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755640" y="2828880"/>
            <a:ext cx="61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s://technozill.com/techno-https-invest.yandex.ru/school/basics/intro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9:04:38Z</dcterms:created>
  <dc:creator>www.MRMARKER.ru</dc:creator>
  <dc:description/>
  <dc:language>en-US</dc:language>
  <cp:lastModifiedBy>user-3</cp:lastModifiedBy>
  <dcterms:modified xsi:type="dcterms:W3CDTF">2023-08-16T07:08:57Z</dcterms:modified>
  <cp:revision>27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