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0B74-9DA4-435E-8453-EA8AC679E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E1FC-BB80-4F51-A95B-8DAF0B95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90D7-0C6B-4226-9777-2BB54C20E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32FE-91BC-434F-8AD1-232E2451F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4C18B-70D2-45CA-8452-F145A8B4C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E66F-092A-4CEF-9185-0F075BA1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9F77-4C6B-4AB0-9E8F-15652776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87D2-F490-4AE4-8E20-BE15EA9E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C1ED-AE28-4EF4-91CF-02B28C6B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6FC0-5B11-412F-8FCE-C407D546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B7925-A583-426E-B34D-FC26C30B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5759-0F9A-4C99-A25C-D878BA11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47A3-0D99-4762-A250-B524F5B6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0059-C14A-49AA-88B4-9E4E46D9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C78A7-BEF8-43F2-BA05-4F6761E4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63E9-D9E4-4FA9-8308-FB561FDE8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FD69-A1D9-4DD4-9718-4ED0106A6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CEE0A-67F2-4170-815C-30082954B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F111C-F27F-4235-91EE-F9B1B5DD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4CCED-C564-40A9-B4FE-15FCB47E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6DFC0-250F-4CCB-BAD3-55BDF2D5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50DED-2D1D-4AC4-BB21-A8901C68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2AE0-1000-4F57-BD32-D9765FE6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7C33B-1FC5-4DC9-B337-05F27D80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21C69-BB72-490C-816D-45FF0D8F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8AED0-96B6-431D-B8DC-D8E4853A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0CEC5-25C6-44F7-AEA3-0EDCAEAF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B8A58-E4E4-4FFF-BDB7-5D8A2ADB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46252-8B21-4337-B34C-FC0DD38DD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E4E5C-0103-43AA-B655-DBB3B40B6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77BEC-AEFC-4967-8EA5-D8084F59B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7A4D9-514E-4B9A-8592-F116CECD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4DB47-C23D-4585-8B87-558EDCA4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4D96-8001-440F-B2AA-D311C515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C0C55-834C-46D1-B1EC-50A261F4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2495D-5825-49B8-9AB9-E1060BBF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0F14A-4525-4265-8EDD-D2CD28EE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3228D-0DB2-4A4A-8DEB-9C440C80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2F9B9-97AB-4EA6-8509-02B82117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82B38-90D8-4CBA-84DE-A39DA2C7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A2F03-1BD7-49D0-AAAF-83AF177E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3ED92-0427-47DD-8152-48FDA4E1D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8447A-345C-49EB-9117-2895DAC7F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B68F-6E59-4435-9202-45750DEA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4F49-4F11-4CB6-AECD-FD5A22DF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807B-E394-493A-9EA1-1CDE32D7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69E8-4699-4E71-8B7E-DD8AC6AF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298F-75D4-472E-B80C-22E0AAFB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7"/>
          <p:cNvGrpSpPr/>
          <p:nvPr/>
        </p:nvGrpSpPr>
        <p:grpSpPr>
          <a:xfrm>
            <a:off x="2664000" y="-4680"/>
            <a:ext cx="6486480" cy="6869160"/>
            <a:chOff x="2664000" y="-4680"/>
            <a:chExt cx="6486480" cy="6869160"/>
          </a:xfrm>
        </p:grpSpPr>
        <p:pic>
          <p:nvPicPr>
            <p:cNvPr id="1" name="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2664000" y="-4680"/>
              <a:ext cx="6486480" cy="686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Text Box 4"/>
            <p:cNvSpPr/>
            <p:nvPr/>
          </p:nvSpPr>
          <p:spPr>
            <a:xfrm>
              <a:off x="2667240" y="1440"/>
              <a:ext cx="647676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8334-BC27-4E44-8458-2F2E00B0BAC1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Прямоугольник 8"/>
          <p:cNvGrpSpPr/>
          <p:nvPr/>
        </p:nvGrpSpPr>
        <p:grpSpPr>
          <a:xfrm>
            <a:off x="8150400" y="-4680"/>
            <a:ext cx="1000080" cy="6869160"/>
            <a:chOff x="8150400" y="-4680"/>
            <a:chExt cx="1000080" cy="6869160"/>
          </a:xfrm>
        </p:grpSpPr>
        <p:pic>
          <p:nvPicPr>
            <p:cNvPr id="46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4680"/>
              <a:ext cx="1000080" cy="686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4"/>
            <p:cNvSpPr/>
            <p:nvPr/>
          </p:nvSpPr>
          <p:spPr>
            <a:xfrm>
              <a:off x="8153640" y="1440"/>
              <a:ext cx="99036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CFCD-32DB-45C4-8B98-948428E1C8B4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0BE8-0D76-47D7-9D8D-A60135743E3F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Прямоугольник 8"/>
          <p:cNvGrpSpPr/>
          <p:nvPr/>
        </p:nvGrpSpPr>
        <p:grpSpPr>
          <a:xfrm>
            <a:off x="8150400" y="-4680"/>
            <a:ext cx="1000080" cy="6869160"/>
            <a:chOff x="8150400" y="-4680"/>
            <a:chExt cx="1000080" cy="6869160"/>
          </a:xfrm>
        </p:grpSpPr>
        <p:pic>
          <p:nvPicPr>
            <p:cNvPr id="13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4680"/>
              <a:ext cx="1000080" cy="686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4"/>
            <p:cNvSpPr/>
            <p:nvPr/>
          </p:nvSpPr>
          <p:spPr>
            <a:xfrm>
              <a:off x="8153640" y="1440"/>
              <a:ext cx="99036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0EB4-8CCB-4AA0-B523-BEDCB2BB8266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1"/>
          <p:cNvSpPr/>
          <p:nvPr/>
        </p:nvSpPr>
        <p:spPr>
          <a:xfrm>
            <a:off x="2901960" y="3860640"/>
            <a:ext cx="583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обрались с личными расходами и доходами — пора выделять активы и пассивы. Рассказываем, какие средства относятся к активам, какие — к пассивам и что делать с долг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Прямоугольник 2"/>
          <p:cNvSpPr/>
          <p:nvPr/>
        </p:nvSpPr>
        <p:spPr>
          <a:xfrm>
            <a:off x="3669480" y="2816280"/>
            <a:ext cx="38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Активы и пассив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оугольник 3"/>
          <p:cNvSpPr/>
          <p:nvPr/>
        </p:nvSpPr>
        <p:spPr>
          <a:xfrm>
            <a:off x="179280" y="349200"/>
            <a:ext cx="8410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dca2"/>
                </a:solidFill>
                <a:latin typeface="Arial Narrow"/>
              </a:rPr>
              <a:t>Школа   понятных инвестиций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Прямоугольник 4"/>
          <p:cNvSpPr/>
          <p:nvPr/>
        </p:nvSpPr>
        <p:spPr>
          <a:xfrm>
            <a:off x="28440" y="2908440"/>
            <a:ext cx="25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ок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179280" y="4292640"/>
            <a:ext cx="2597400" cy="2023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6227640" y="333360"/>
            <a:ext cx="2799000" cy="171288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оугольник 2"/>
          <p:cNvSpPr/>
          <p:nvPr/>
        </p:nvSpPr>
        <p:spPr>
          <a:xfrm>
            <a:off x="250920" y="333360"/>
            <a:ext cx="7377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то есть чт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ктив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— это деньги и имущество, которое можно превратить в деньги: бизнес, недвижимость, ценные бумаг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ассив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— все обязательные расход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Автомобиль — это актив, а расходы на его заправку и обслуживание — пасси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6948360" y="2205000"/>
            <a:ext cx="2008440" cy="228924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оугольник 1"/>
          <p:cNvSpPr/>
          <p:nvPr/>
        </p:nvSpPr>
        <p:spPr>
          <a:xfrm>
            <a:off x="344520" y="363600"/>
            <a:ext cx="73454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жно понимать, что доход может приносить не только ваша основная работа, но и, например, квартира, которую можно сдать в аренду, или украшения, которые можно прода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аж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путайте пассивы и пассивный доход. Пассивный доход приносит деньги, когда вы ничего для этого не делаете. Например, проценты по вкладу. А пассивы — то, что регулярно отнимает часть бюдже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ик 1"/>
          <p:cNvSpPr/>
          <p:nvPr/>
        </p:nvSpPr>
        <p:spPr>
          <a:xfrm>
            <a:off x="395280" y="982800"/>
            <a:ext cx="7777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умайте, что у вас есть в активах, а что — в пассивах. Можете ли вы как-то увеличить долю первых и сократить долю вторых? Инвестиции — один из способов нарастить актив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кращение пассивов — индивидуальная задача. Например, вы не можете не платить за съёмное жильё, но можете реже пользоваться автомобилем и меньше платить за бензи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2"/>
          <p:cNvSpPr/>
          <p:nvPr/>
        </p:nvSpPr>
        <p:spPr>
          <a:xfrm>
            <a:off x="87480" y="476280"/>
            <a:ext cx="815652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бавляемся от пассивов перед инвестирование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д тем как начать инвестировать, разберитесь с текущими долгами: кредитами, штрафами и другими задолженностями. Здесь также поможет финансовое планирование. Сначала вы соотносите доходы с расходами, потом — отказываетесь от лишних трат. В итоге вы поймёте, сколько свободных денег у вас остаётся после обязательных платеже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 вам будет проще погасить свои долги досроч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жный шаг перед инвестированием — оценить, какие у вас активы и пассивы и можно ли сократить долю последних. Активы — деньги и всё то, что потенциально их приносит, например бизнес или квартира, которую можно продать. Пассивы — всё то, что отнимает у вас деньги: ремонт, долги, обслуживание автомобил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1"/>
          <p:cNvSpPr/>
          <p:nvPr/>
        </p:nvSpPr>
        <p:spPr>
          <a:xfrm>
            <a:off x="755640" y="2828880"/>
            <a:ext cx="610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s://technozill.com/techno-https-invest.yandex.ru/school/basics/intro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5T19:04:38Z</dcterms:created>
  <dc:creator>www.MRMARKER.ru</dc:creator>
  <dc:description/>
  <dc:language>en-US</dc:language>
  <cp:lastModifiedBy>user-3</cp:lastModifiedBy>
  <dcterms:modified xsi:type="dcterms:W3CDTF">2023-08-16T07:08:57Z</dcterms:modified>
  <cp:revision>279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746</vt:lpwstr>
  </property>
</Properties>
</file>