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94-AFAE-4EBE-B478-644C9AB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7AD-F7B4-4CDB-893E-B7B6B844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57D-3BE9-4C95-984E-53D2453E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03D-1668-4AF1-A844-2F4847D5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6970-F3FF-405F-A959-7F65C89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C124-2D2A-47BA-969D-D5DDEADF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D1EC-2515-4461-92CF-AAD714D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F52-4434-46B7-8380-2C09CF9F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580-4A55-4B00-BC19-6A32D565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F68-7FC1-44BB-82E6-C1CC889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2970-1FE7-425C-89C7-55BD47B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EF8-AE4F-4CAD-80C9-95466BD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C9D-6D34-4E9F-A104-4A27171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59FF-B7B0-49AE-A10A-C9DE7DE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748A-4417-4346-9E86-C332105D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8F5-F38A-496A-B4AB-F71099C3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0C4-1CFC-45CE-8D51-3BF09BF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3F8F-4FD9-4E03-8856-4D123C44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1D28-C66D-4A8B-B522-6A051D6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8B2D-21F4-4DB7-81D3-D738D81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BF33-983C-459E-BDBC-40127504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66C9-85D8-4D68-97F2-7F928993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899-C159-41CE-864D-8F240051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CB15-DFD6-4642-B3DA-0088093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1C30-D5C9-4CD3-98D7-1B905BC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822B-F97C-41DC-BC2C-38F06C6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2E89-9468-459E-86C6-DCF9ADB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D14C-E3B8-4D12-9C05-B0E85A72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3C0B-BD1E-459D-A2E3-0E43B5EA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73EC-1521-41AD-B560-33D7D979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534C-9A4E-42EC-BFFC-3D2FFB66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9CDE-5052-442C-B180-4A90F3D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82ED-5912-4061-A9A4-9B857CA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729-7B7E-4846-82AD-D13718D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F3DC-3C49-4179-ABF9-47161EEE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FB6E-F598-479B-9389-7918DAE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C9791-39F8-4006-8990-20EE3F32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7118-7932-4178-9DF3-1DB78B2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C22A-2CA5-494C-8B15-EA38A70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DEFD-2B63-49A1-9843-8939FD4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B182-7570-42EE-B440-7406E19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95FE-8D0F-4124-8881-01A333A2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4D79-8E2D-4B9A-95AE-3376D774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676-12B8-48D2-894C-ABAF682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344-545B-49D1-8F1B-17F0DFE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FBF-189B-4473-809D-CAA10FA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B29-7613-4FA1-A311-D030902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D8C-EC7D-44AB-B20C-FCEE3D8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30E3-6CB9-425D-9EB0-316B1867994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2AE-99D1-49E0-91C5-1AEE66AB74D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81D9-6A52-4910-BDF0-CB233225E9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166-7450-4001-A2D7-4FE69DA922D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"/>
          <p:cNvSpPr/>
          <p:nvPr/>
        </p:nvSpPr>
        <p:spPr>
          <a:xfrm>
            <a:off x="3213720" y="2816280"/>
            <a:ext cx="47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душка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2776680" y="3462480"/>
            <a:ext cx="635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ошлых двух уроках мы рассказывали о важности учёта расходов и выделения активов и пассивов. Эти два несложных шага помогают лучше разобраться в своём финансовом состоянии и спланировать инвестиции более рационально. Этот урок мы посвятим подушке безопасности. Без неё мы очень не рекомендуем выходить на бирж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5560" y="4941720"/>
            <a:ext cx="2798640" cy="17132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692360" y="243000"/>
            <a:ext cx="595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жде чем начать инвестировать, отложите часть денег, которые вы не будете тратить и вкладывать. Эта сумма станет вашей подушкой безопасности или неприкосновенным запа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ушка безопасности защитит вас, если ваш основной доход в какие-то месяцы сократится. Или если какие-то инвестиции окажутся неудачными. Неприкосновенный запас не должен идти в ход даже при перспективе манящей прибыли, на то и неприкосно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154560" y="4437000"/>
            <a:ext cx="2008440" cy="2289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147600" y="260280"/>
            <a:ext cx="7848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откладывать и где хран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ьги могут лежать на карте, банковском счёте или даже просто дома. Размер подушки индивидуален — это должно быть столько, сколько вам комфортно всегда иметь в запа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ин из вариантов — отложить сумму, равную вашим месячным расходам — за один или более месяцев. Если сложно накопить сразу столько, можно начать с обязательных расходов, вроде аренды квартиры, проездного и бюджета на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0" y="6206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те инвестировать, только когда у вас отложен минимальный комфортный запас. А затем постепенно увеличивайте его. Например, выделяйте по 5–10% от месячного дохода. Так подушка безопасности будет наращиваться, пока не сравняется с суммой всех расходов на несколько месяцев или даже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ушка безопасности — это часть денег, которую вы откладываете и никак не тратите, пока в них не появится острой нужды. Подушка выручит в месяцы сокращения доходов. Её наличие — обязательный момент в инвестировании. Подумайте, сколько денег вы готовы отложить, и постепенно пополняйте этот запас. Так вам будет проще переживать кризи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403280" y="2828880"/>
            <a:ext cx="54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9:14Z</dcterms:modified>
  <cp:revision>2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