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2CD-D7E7-4BD6-9BDF-6BC585F5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39E-15D5-4CD9-B1E3-7DC7C34D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431-C415-42BA-8A13-48D3A2B5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ECF-CA1F-45D1-A725-B02A0C13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9386-5039-473C-A2A4-1489EE1C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04C4-6E75-4328-9733-8C576268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E0C6-EB94-4A5F-8057-1A4051C9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FFC6-1FC8-42EC-B99D-BCD4F16F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14AD-8280-434E-B6F6-BBA796B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A27D-FC45-44DB-BAE4-E8541C02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25B8-5968-41E4-A476-9E312527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07C-7397-489D-8836-64BDD706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F056-87B8-42A1-8AF3-ECD28A3D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53F6-E260-4504-AD4C-AF96C222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4AFC-F415-412E-BF0F-2038EA43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D5FE-A157-4910-9282-D8655C61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E632-CCC2-4F7A-8306-8A3E6FB1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B255-1320-4781-9932-775DD543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7319-8475-4D76-B84F-B01804C3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F86C-225D-43B5-A66D-C0B12D65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F417-9FEF-4688-B5FB-ACC189A5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8BBB-AC9F-408F-BDA1-A9C8C8FC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B1E-4BE5-4B91-8C42-5677C605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36F6-45E2-462C-AFF5-91043DD5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F842-8688-422B-B85D-52F90986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CE46-17F2-4ADC-A09E-EDE4F4DF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FE20-9977-4539-9AB0-E2F22B6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2EAD-D125-45A8-BB53-BF716935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8BCB-19D2-4A02-BB73-631C12C9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5B2C-E1E7-4D88-B177-8FB2FD2E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F0206-452A-4FEB-8DA4-E663BA4C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F174-4526-424B-B75D-BEE1D82D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2C1C9-90AF-491F-905B-5449ED57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C97-7563-42CF-9392-4DC26231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D6E33-F777-48F1-94C7-55CA06A1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FFF00-E1F2-477E-953A-3D3FF048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45B4-A3EF-48B6-9620-ABFFDD87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F9D2-465A-4A4C-909B-8FD5C9A5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636A-F074-4AE9-B93E-0E0A296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E454-06A8-41D3-B062-C21DFA8D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68B70-BEA4-4CCA-ABEA-C6965121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E9B5-73C9-47A9-BC7B-60E2D807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EACDC-2B4B-4B1E-8B8D-2A1EEA2C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913-67FE-4D6E-8920-EAB86CD5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979-0FFB-4D62-971C-AFBFF786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B9D-245B-427D-ACBF-A020BDB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887-44AE-4D7F-8A36-3A3A33E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954-EF47-4048-A45C-A7FBC7A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4680"/>
            <a:ext cx="6486480" cy="6869160"/>
            <a:chOff x="2664000" y="-4680"/>
            <a:chExt cx="6486480" cy="68691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4680"/>
              <a:ext cx="64864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2667240" y="1440"/>
              <a:ext cx="64767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7CAE-CB2A-40DE-9A73-E62F6B79F1F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1DC-82FF-4FD7-A173-7EF442F5445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14A7-984E-4171-99EF-CF0DDC86400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2F70-6AB7-4BC5-BBAF-A6574E485EB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"/>
          <p:cNvSpPr/>
          <p:nvPr/>
        </p:nvSpPr>
        <p:spPr>
          <a:xfrm>
            <a:off x="3213720" y="2816280"/>
            <a:ext cx="47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одушка безопас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179280" y="349200"/>
            <a:ext cx="841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dca2"/>
                </a:solidFill>
                <a:latin typeface="Arial Narrow"/>
              </a:rPr>
              <a:t>Школа   понятных инвестици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28440" y="290844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597400" cy="202392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"/>
          <p:cNvSpPr/>
          <p:nvPr/>
        </p:nvSpPr>
        <p:spPr>
          <a:xfrm>
            <a:off x="2776680" y="3462480"/>
            <a:ext cx="6357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прошлых двух уроках мы рассказывали о важности учёта расходов и выделения активов и пассивов. Эти два несложных шага помогают лучше разобраться в своём финансовом состоянии и спланировать инвестиции более рационально. Этот урок мы посвятим подушке безопасности. Без неё мы очень не рекомендуем выходить на бирж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25560" y="4941720"/>
            <a:ext cx="2798640" cy="171324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1692360" y="243000"/>
            <a:ext cx="5957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жде чем начать инвестировать, отложите часть денег, которые вы не будете тратить и вкладывать. Эта сумма станет вашей подушкой безопасности или неприкосновенным запас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ушка безопасности защитит вас, если ваш основной доход в какие-то месяцы сократится. Или если какие-то инвестиции окажутся неудачными. Неприкосновенный запас не должен идти в ход даже при перспективе манящей прибыли, на то и неприкосновен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154560" y="4437000"/>
            <a:ext cx="2008440" cy="22892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"/>
          <p:cNvSpPr/>
          <p:nvPr/>
        </p:nvSpPr>
        <p:spPr>
          <a:xfrm>
            <a:off x="147600" y="260280"/>
            <a:ext cx="7848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откладывать и где хран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ньги могут лежать на карте, банковском счёте или даже просто дома. Размер подушки индивидуален — это должно быть столько, сколько вам комфортно всегда иметь в запа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ин из вариантов — отложить сумму, равную вашим месячным расходам — за один или более месяцев. Если сложно накопить сразу столько, можно начать с обязательных расходов, вроде аренды квартиры, проездного и бюджета на е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0" y="620640"/>
            <a:ext cx="792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инайте инвестировать, только когда у вас отложен минимальный комфортный запас. А затем постепенно увеличивайте его. Например, выделяйте по 5–10% от месячного дохода. Так подушка безопасности будет наращиваться, пока не сравняется с суммой всех расходов на несколько месяцев или даже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душка безопасности — это часть денег, которую вы откладываете и никак не тратите, пока в них не появится острой нужды. Подушка выручит в месяцы сокращения доходов. Её наличие — обязательный момент в инвестировании. Подумайте, сколько денег вы готовы отложить, и постепенно пополняйте этот запас. Так вам будет проще переживать кризи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1403280" y="2828880"/>
            <a:ext cx="54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technozill.com/techno-https-invest.yandex.ru/school/basics/intr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www.MRMARKER.ru</dc:creator>
  <dc:description/>
  <dc:language>en-US</dc:language>
  <cp:lastModifiedBy>user-3</cp:lastModifiedBy>
  <dcterms:modified xsi:type="dcterms:W3CDTF">2023-08-16T07:09:14Z</dcterms:modified>
  <cp:revision>2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