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8.jpeg" ContentType="image/jpeg"/>
  <Override PartName="/ppt/media/image44.jpeg" ContentType="image/jpeg"/>
  <Override PartName="/ppt/media/image4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7.png" ContentType="image/pn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722-6CFF-4F87-8465-29BCC47B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944-B692-4EC9-A4D8-FF6A6EDD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76A-40D4-407C-A0CB-2E3848AE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8B3B-C531-44AA-B244-EED94EC5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BA92-1989-4C83-8772-00F7AAA4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AAEB-FE1A-4DD9-8E39-13A9B2C3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C31B-07CD-4B29-BC65-E5B7542B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2329-08DE-4C43-B249-37DB9595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E9B7-6A8C-4E00-BCAB-5806C87D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2892-F014-4258-806A-1DC58BFB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2289-DDC5-4A04-83C5-244C2525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A23-7A67-4136-A80A-9890FC8D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5A2E-B714-4457-86DA-F1660C75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1DFC-707D-4807-A9C8-FC49DFAE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D0FA-B30B-479C-9E76-64140B1D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1D5E-3CBF-40B0-8741-CFF5167B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D422-400F-4F02-8175-E82CEFA2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94C76-631F-42F9-8B38-3B90483D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AAF4-77CD-4132-9A20-3D5F020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0F5E-3B20-4887-915F-E983A233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AFF1F-F4A2-46C5-B637-48F87C99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FD7D-B19D-4C3F-989B-3C69271A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26A-EC32-48FC-B5A8-CA117DD2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48A6-0C88-4624-9DE0-5CCC59F1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A2C0-3628-40FA-9CA4-DECA76C8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CFB3-4307-480E-8AB3-C6F28B5D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4579-8F94-419C-B868-BA72E1A6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6306-7841-42E9-A67D-2E147EF8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C887-7967-4FD8-A7BD-7B92002C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B670-256E-49A3-B408-A0F08A3A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FD0A0-2878-41A0-928F-8D0CDC74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9A9B-423F-484E-8750-5553193D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A84CB-1C4F-4BBC-AC6F-97947DB1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EB5-56A7-40E6-91C2-117567F3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D3F84-7251-41DA-ADB3-4442A85B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295E0-908C-4A82-B445-8EF2FC48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1817A-5811-4E69-9413-F177F816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A1E4-19A1-4675-B767-A41FDAB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9A4A-7C80-4CA1-901E-6CF0BC7C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4C376-A69F-46E3-B153-9275727C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724A-1AAC-4F36-92B1-D4777DFD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34F7A-1DAA-43D4-9ED1-9030EE55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D9BA9-339A-4A30-BBC0-213B83E7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4E4D3-AB73-4575-BE42-6F3CE312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312-C65D-4E6A-95BF-1E73F078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8D4BE-E128-4EBE-80DB-CFA65EF7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B73B-60AE-4D41-B604-38B5E2A5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91BB-B816-412D-92A8-F4DAEEA1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468C-C801-4B38-88AA-3C770706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DEC6C-27CF-49C8-B04B-255C405F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793AB-E240-4A4C-A09B-4D337BCA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09AE2-B8B4-4405-93B0-1BA1D8E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BC1E-41AE-42CC-A26B-26412D6A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B66BB-A835-4BE9-9904-61969CF7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13CBE-A3FC-42C5-965F-FC307027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634-BE48-4D17-B825-D6E50FAD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C329-82A1-42BE-B86A-59FFAA18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F12AD-92C1-409F-9DA1-67A5C826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AB485-B39B-43ED-9E74-575870E0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81C81-B26C-45C1-97B4-97F83B36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FBFD5-0022-4AED-886A-2C975283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D82D-18E5-47CF-8844-5750562D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B7BFC-D20B-48FF-9817-6C52F7C8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3E962-B83B-423B-AD13-C5304380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8D07C-14E7-4B04-851B-E13E01D6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15FC-0F09-47FE-A7DC-1FA2CB64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B5B-8129-46F0-9E3A-F0CB2311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7B0B6-CC0A-42D7-A4A7-FC3546E9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50725-DEC7-49A8-85BF-2B216329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56B0B-B468-46DD-88D8-BB6AF40F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792-43DE-4CB5-8D01-1BE280E9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068-220A-41C0-9740-99DC97E9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5903-C3C2-48F2-835C-0306F9A8DCC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2C40-2270-4C1A-AA31-316D82D50F7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4865-D0C3-4548-8FC1-C4B721D35C9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820-5E41-4EA4-8C0D-9F2FA74DDC8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83BE-6551-485B-A303-CDEDEDBAD55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3FD8-15E8-480E-B98F-67A1EFEC9A3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следовательская работа </a:t>
            </a: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Вторая жизнь бумаг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4143240" y="5219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4061"/>
                </a:solidFill>
                <a:latin typeface="Times New Roman"/>
                <a:ea typeface="Times New Roman"/>
              </a:rPr>
              <a:t>Руководитель Задорова Ольга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4061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4061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44061"/>
                </a:solidFill>
                <a:latin typeface="Times New Roman"/>
                <a:ea typeface="Times New Roman"/>
              </a:rPr>
              <a:t>МБОУ Ново -Горкинская С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4286160" y="3293640"/>
            <a:ext cx="4572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еев Ник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 2 класса МБОУ Ново-Горкинская С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История возникновения бумаг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Первыми бумагу начали делать китайц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Изобрёл её Цай Лунь в Китае в 105 году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Рисунок 3" descr="https://foto.haberler.com/galeri/2013/04/10/tarihin-seyrini-degistiren-en-etkili-10-kisi_46352_b.jpg"/>
          <p:cNvPicPr/>
          <p:nvPr/>
        </p:nvPicPr>
        <p:blipFill>
          <a:blip r:embed="rId1"/>
          <a:stretch/>
        </p:blipFill>
        <p:spPr>
          <a:xfrm>
            <a:off x="1000080" y="3000240"/>
            <a:ext cx="2895480" cy="31194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s://ds03.infourok.ru/uploads/ex/0396/0001d855-ad6a96de/img3.jpg"/>
          <p:cNvPicPr/>
          <p:nvPr/>
        </p:nvPicPr>
        <p:blipFill>
          <a:blip r:embed="rId2"/>
          <a:stretch/>
        </p:blipFill>
        <p:spPr>
          <a:xfrm>
            <a:off x="4357800" y="3071880"/>
            <a:ext cx="3714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Прямоугольник 1"/>
          <p:cNvGrpSpPr/>
          <p:nvPr/>
        </p:nvGrpSpPr>
        <p:grpSpPr>
          <a:xfrm>
            <a:off x="298440" y="231840"/>
            <a:ext cx="4786200" cy="2892240"/>
            <a:chOff x="298440" y="231840"/>
            <a:chExt cx="4786200" cy="2892240"/>
          </a:xfrm>
        </p:grpSpPr>
        <p:pic>
          <p:nvPicPr>
            <p:cNvPr id="30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98440" y="231840"/>
              <a:ext cx="47862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28760" y="285840"/>
              <a:ext cx="45003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Россия – великая лесная держава. Но леса вырубаютс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Что может случиться с планетой, если лес будет уничтожен? Ответ прост - прекратится жизнь на Земле, потому что дышать будет нечем. Лес производит кислород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Прямоугольник 2"/>
          <p:cNvGrpSpPr/>
          <p:nvPr/>
        </p:nvGrpSpPr>
        <p:grpSpPr>
          <a:xfrm>
            <a:off x="4084560" y="4157640"/>
            <a:ext cx="4791240" cy="2590560"/>
            <a:chOff x="4084560" y="4157640"/>
            <a:chExt cx="4791240" cy="2590560"/>
          </a:xfrm>
        </p:grpSpPr>
        <p:pic>
          <p:nvPicPr>
            <p:cNvPr id="31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84560" y="4157640"/>
              <a:ext cx="479124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214880" y="4214880"/>
              <a:ext cx="45720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Ежегодно в мире  на производство бумаги уходит четыре миллиарда деревьев. К тому же бумажные комбинаты загрязняют окружающую среду, ведь для производства бумаги используют слишком много химикат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Рисунок 3" descr="https://i.pinimg.com/originals/51/7d/7f/517d7f13bd5eda822c1bcb0f8fca3992.jpg"/>
          <p:cNvPicPr/>
          <p:nvPr/>
        </p:nvPicPr>
        <p:blipFill>
          <a:blip r:embed="rId3"/>
          <a:stretch/>
        </p:blipFill>
        <p:spPr>
          <a:xfrm>
            <a:off x="5357880" y="1285920"/>
            <a:ext cx="3190680" cy="23716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4" descr="http://img3.dp.ru/images/article/2020/04/29/E35B5B0C-02FB-42A0-B093-6DA0AE855FE4.jpg"/>
          <p:cNvPicPr/>
          <p:nvPr/>
        </p:nvPicPr>
        <p:blipFill>
          <a:blip r:embed="rId4"/>
          <a:stretch/>
        </p:blipFill>
        <p:spPr>
          <a:xfrm>
            <a:off x="571680" y="3357720"/>
            <a:ext cx="3286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Что даёт переработка бумаги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Constantia"/>
              </a:rPr>
              <a:t>1.  Меньше  вырубаются лес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Constantia"/>
              </a:rPr>
              <a:t>2. Уменьшается  количество мусо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Constantia"/>
              </a:rPr>
              <a:t>3. Переработанная бумага стоит намного дешевле, чем сделанная из дере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Рисунок 3" descr="https://www.anypics.ru/download.php?file=201410/1152x864/anypics.ru-78374.jpg"/>
          <p:cNvPicPr/>
          <p:nvPr/>
        </p:nvPicPr>
        <p:blipFill>
          <a:blip r:embed="rId1"/>
          <a:stretch/>
        </p:blipFill>
        <p:spPr>
          <a:xfrm>
            <a:off x="2928960" y="4214880"/>
            <a:ext cx="32227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1 тонна макулатуры экономит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10 деревьев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20 000 литров воды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1000 кВт электроэнергии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ионизированный кислород, достаточный для 30 человек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Из одного килограмма макулатуры можно изготовит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25 школьных тетраде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Рисунок 3" descr="https://click-or-die.ru/wp-content/uploads/2019/02/00C22717-3017-46C8-8D6A-1806CB5388A6-1024x935.jpeg"/>
          <p:cNvPicPr/>
          <p:nvPr/>
        </p:nvPicPr>
        <p:blipFill>
          <a:blip r:embed="rId1"/>
          <a:stretch/>
        </p:blipFill>
        <p:spPr>
          <a:xfrm>
            <a:off x="6000840" y="4143240"/>
            <a:ext cx="25239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Вот что делают из макулатуры в Росс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Одноразовую посуд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Строительные материал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Материалы для изоля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Крафт - паке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Средства личной гигие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Карто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Эковат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Рисунок 3" descr="https://images.ru.prom.st/602455688_w640_h640_odnorazovaya-posuda.jpg"/>
          <p:cNvPicPr/>
          <p:nvPr/>
        </p:nvPicPr>
        <p:blipFill>
          <a:blip r:embed="rId1"/>
          <a:stretch/>
        </p:blipFill>
        <p:spPr>
          <a:xfrm>
            <a:off x="3929040" y="2071800"/>
            <a:ext cx="2890800" cy="19238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https://www.xn--61-6kci2acmbnxil3b.xn--p1ai/_sh/7/702.jpg"/>
          <p:cNvPicPr/>
          <p:nvPr/>
        </p:nvPicPr>
        <p:blipFill>
          <a:blip r:embed="rId2"/>
          <a:stretch/>
        </p:blipFill>
        <p:spPr>
          <a:xfrm>
            <a:off x="6215040" y="3571920"/>
            <a:ext cx="2533680" cy="25336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https://kleilentu.ru/images/thumbnails/878/768/detailed/2/karton_listovoy1_hql0-ys.jpg"/>
          <p:cNvPicPr/>
          <p:nvPr/>
        </p:nvPicPr>
        <p:blipFill>
          <a:blip r:embed="rId3"/>
          <a:stretch/>
        </p:blipFill>
        <p:spPr>
          <a:xfrm>
            <a:off x="3571920" y="4000680"/>
            <a:ext cx="2533680" cy="22158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6" descr="https://ecovata-spb.ru/upload/medialibrary/b27/b27db1a77859175a5936dc23921da0b1.jpg"/>
          <p:cNvPicPr/>
          <p:nvPr/>
        </p:nvPicPr>
        <p:blipFill>
          <a:blip r:embed="rId4"/>
          <a:stretch/>
        </p:blipFill>
        <p:spPr>
          <a:xfrm>
            <a:off x="1000080" y="4643280"/>
            <a:ext cx="2286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Прямоугольник 1"/>
          <p:cNvGrpSpPr/>
          <p:nvPr/>
        </p:nvGrpSpPr>
        <p:grpSpPr>
          <a:xfrm>
            <a:off x="371520" y="658800"/>
            <a:ext cx="4773600" cy="871560"/>
            <a:chOff x="371520" y="658800"/>
            <a:chExt cx="4773600" cy="871560"/>
          </a:xfrm>
        </p:grpSpPr>
        <p:pic>
          <p:nvPicPr>
            <p:cNvPr id="32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71520" y="658800"/>
              <a:ext cx="47736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00040" y="714240"/>
              <a:ext cx="457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Среди своих одноклассников я провёл анкетиров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Прямоугольник 2"/>
          <p:cNvGrpSpPr/>
          <p:nvPr/>
        </p:nvGrpSpPr>
        <p:grpSpPr>
          <a:xfrm>
            <a:off x="3943440" y="4017960"/>
            <a:ext cx="4998960" cy="2101680"/>
            <a:chOff x="3943440" y="4017960"/>
            <a:chExt cx="4998960" cy="2101680"/>
          </a:xfrm>
        </p:grpSpPr>
        <p:pic>
          <p:nvPicPr>
            <p:cNvPr id="33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943440" y="4017960"/>
              <a:ext cx="499896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071960" y="4071960"/>
              <a:ext cx="4714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Регулярно участвуют в акциях по сбору макулатуры 43%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периодически –  46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не принимают участия 11 % 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Рисунок 3" descr="C:\Users\Сергей\AppData\Local\Microsoft\Windows\Temporary Internet Files\Content.Word\IMG_20210409_141219.jpg"/>
          <p:cNvPicPr/>
          <p:nvPr/>
        </p:nvPicPr>
        <p:blipFill>
          <a:blip r:embed="rId3"/>
          <a:stretch/>
        </p:blipFill>
        <p:spPr>
          <a:xfrm>
            <a:off x="5357880" y="1214280"/>
            <a:ext cx="3343320" cy="2514600"/>
          </a:xfrm>
          <a:prstGeom prst="rect">
            <a:avLst/>
          </a:prstGeom>
          <a:ln w="0">
            <a:noFill/>
          </a:ln>
        </p:spPr>
      </p:pic>
      <p:pic>
        <p:nvPicPr>
          <p:cNvPr id="334" name="Диаграмма 4" descr=""/>
          <p:cNvPicPr/>
          <p:nvPr/>
        </p:nvPicPr>
        <p:blipFill>
          <a:blip r:embed="rId4"/>
          <a:stretch/>
        </p:blipFill>
        <p:spPr>
          <a:xfrm>
            <a:off x="500040" y="2357280"/>
            <a:ext cx="3500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Прямоугольник 1"/>
          <p:cNvGrpSpPr/>
          <p:nvPr/>
        </p:nvGrpSpPr>
        <p:grpSpPr>
          <a:xfrm>
            <a:off x="500040" y="347760"/>
            <a:ext cx="4718160" cy="1881360"/>
            <a:chOff x="500040" y="347760"/>
            <a:chExt cx="4718160" cy="1881360"/>
          </a:xfrm>
        </p:grpSpPr>
        <p:pic>
          <p:nvPicPr>
            <p:cNvPr id="33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00040" y="347760"/>
              <a:ext cx="471816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71680" y="428760"/>
              <a:ext cx="4572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роведение акции </a:t>
              </a:r>
              <a:r>
                <a:rPr b="1" lang="ru-RU" sz="2800" spc="-1" strike="noStrike">
                  <a:solidFill>
                    <a:srgbClr val="c00000"/>
                  </a:solidFill>
                  <a:latin typeface="Constantia"/>
                </a:rPr>
                <a:t>«Бумаге – вторую жизнь!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Прямоугольник 2"/>
          <p:cNvGrpSpPr/>
          <p:nvPr/>
        </p:nvGrpSpPr>
        <p:grpSpPr>
          <a:xfrm>
            <a:off x="3517920" y="3322800"/>
            <a:ext cx="5522760" cy="2974680"/>
            <a:chOff x="3517920" y="3322800"/>
            <a:chExt cx="5522760" cy="2974680"/>
          </a:xfrm>
        </p:grpSpPr>
        <p:pic>
          <p:nvPicPr>
            <p:cNvPr id="33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517920" y="3322800"/>
              <a:ext cx="5522760" cy="29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643200" y="3357720"/>
              <a:ext cx="5214960" cy="28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ru-RU" sz="2000" spc="-1" strike="noStrike">
                  <a:solidFill>
                    <a:srgbClr val="083763"/>
                  </a:solidFill>
                  <a:latin typeface="Constantia"/>
                </a:rPr>
                <a:t> </a:t>
              </a:r>
              <a:r>
                <a:rPr b="0" lang="ru-RU" sz="2000" spc="-1" strike="noStrike">
                  <a:solidFill>
                    <a:srgbClr val="083763"/>
                  </a:solidFill>
                  <a:latin typeface="Constantia"/>
                </a:rPr>
                <a:t>Мы предположили, что за учебный год в нашем классе можно набрать приблизительно </a:t>
              </a:r>
              <a:r>
                <a:rPr b="0" lang="ru-RU" sz="2000" spc="-1" strike="noStrike">
                  <a:solidFill>
                    <a:srgbClr val="c00000"/>
                  </a:solidFill>
                  <a:latin typeface="Constantia"/>
                </a:rPr>
                <a:t>60 килограммов </a:t>
              </a:r>
              <a:r>
                <a:rPr b="0" lang="ru-RU" sz="2000" spc="-1" strike="noStrike">
                  <a:solidFill>
                    <a:srgbClr val="083763"/>
                  </a:solidFill>
                  <a:latin typeface="Constantia"/>
                </a:rPr>
                <a:t>макулатуры. А если учесть, что в нашей школе учатся </a:t>
              </a:r>
              <a:r>
                <a:rPr b="0" lang="ru-RU" sz="2000" spc="-1" strike="noStrike">
                  <a:solidFill>
                    <a:srgbClr val="c00000"/>
                  </a:solidFill>
                  <a:latin typeface="Constantia"/>
                </a:rPr>
                <a:t>12 классов</a:t>
              </a:r>
              <a:r>
                <a:rPr b="0" lang="ru-RU" sz="2000" spc="-1" strike="noStrike">
                  <a:solidFill>
                    <a:srgbClr val="083763"/>
                  </a:solidFill>
                  <a:latin typeface="Constantia"/>
                </a:rPr>
                <a:t>, можно набрать </a:t>
              </a:r>
              <a:r>
                <a:rPr b="0" lang="ru-RU" sz="2000" spc="-1" strike="noStrike">
                  <a:solidFill>
                    <a:srgbClr val="c00000"/>
                  </a:solidFill>
                  <a:latin typeface="Constantia"/>
                </a:rPr>
                <a:t>720 килограммов </a:t>
              </a:r>
              <a:r>
                <a:rPr b="0" lang="ru-RU" sz="2000" spc="-1" strike="noStrike">
                  <a:solidFill>
                    <a:srgbClr val="083763"/>
                  </a:solidFill>
                  <a:latin typeface="Constantia"/>
                </a:rPr>
                <a:t>ненужной бумаги. И ведь эта бумага каждый день выбрасывается в урны!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Рисунок 3" descr="C:\Users\Сергей\AppData\Local\Microsoft\Windows\Temporary Internet Files\Content.Word\IMG_20210407_162221.jpg"/>
          <p:cNvPicPr/>
          <p:nvPr/>
        </p:nvPicPr>
        <p:blipFill>
          <a:blip r:embed="rId3"/>
          <a:stretch/>
        </p:blipFill>
        <p:spPr>
          <a:xfrm>
            <a:off x="6357960" y="571680"/>
            <a:ext cx="2000160" cy="25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2" name=""/>
          <p:cNvGraphicFramePr/>
          <p:nvPr/>
        </p:nvGraphicFramePr>
        <p:xfrm>
          <a:off x="357120" y="3000240"/>
          <a:ext cx="3071880" cy="3000600"/>
        </p:xfrm>
        <a:graphic>
          <a:graphicData uri="http://schemas.openxmlformats.org/drawingml/2006/table">
            <a:tbl>
              <a:tblPr/>
              <a:tblGrid>
                <a:gridCol w="768240"/>
                <a:gridCol w="844560"/>
                <a:gridCol w="690840"/>
                <a:gridCol w="768240"/>
              </a:tblGrid>
              <a:tr h="6001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ден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ден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5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35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1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9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0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Прямоугольник 1"/>
          <p:cNvGrpSpPr/>
          <p:nvPr/>
        </p:nvGrpSpPr>
        <p:grpSpPr>
          <a:xfrm>
            <a:off x="500040" y="347760"/>
            <a:ext cx="4718160" cy="1881360"/>
            <a:chOff x="500040" y="347760"/>
            <a:chExt cx="4718160" cy="1881360"/>
          </a:xfrm>
        </p:grpSpPr>
        <p:pic>
          <p:nvPicPr>
            <p:cNvPr id="344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00040" y="347760"/>
              <a:ext cx="471816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571680" y="428760"/>
              <a:ext cx="4572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роведение акции </a:t>
              </a:r>
              <a:r>
                <a:rPr b="1" lang="ru-RU" sz="2800" spc="-1" strike="noStrike">
                  <a:solidFill>
                    <a:srgbClr val="c00000"/>
                  </a:solidFill>
                  <a:latin typeface="Constantia"/>
                </a:rPr>
                <a:t>«Бумаге – вторую жизнь!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Прямоугольник 2"/>
          <p:cNvGrpSpPr/>
          <p:nvPr/>
        </p:nvGrpSpPr>
        <p:grpSpPr>
          <a:xfrm>
            <a:off x="3054240" y="3498840"/>
            <a:ext cx="5986440" cy="2727360"/>
            <a:chOff x="3054240" y="3498840"/>
            <a:chExt cx="5986440" cy="2727360"/>
          </a:xfrm>
        </p:grpSpPr>
        <p:pic>
          <p:nvPicPr>
            <p:cNvPr id="347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054240" y="3498840"/>
              <a:ext cx="598644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214800" y="3571920"/>
              <a:ext cx="5643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b5395"/>
                  </a:solidFill>
                  <a:latin typeface="Constantia"/>
                </a:rPr>
                <a:t>Учитывая, что из </a:t>
              </a:r>
              <a:r>
                <a:rPr b="0" lang="ru-RU" sz="2400" spc="-1" strike="noStrike">
                  <a:solidFill>
                    <a:srgbClr val="c00000"/>
                  </a:solidFill>
                  <a:latin typeface="Constantia"/>
                </a:rPr>
                <a:t>1 килограмма </a:t>
              </a:r>
              <a:r>
                <a:rPr b="0" lang="ru-RU" sz="2400" spc="-1" strike="noStrike">
                  <a:solidFill>
                    <a:srgbClr val="0b5395"/>
                  </a:solidFill>
                  <a:latin typeface="Constantia"/>
                </a:rPr>
                <a:t>макулатуры получается </a:t>
              </a:r>
              <a:r>
                <a:rPr b="0" lang="ru-RU" sz="2400" spc="-1" strike="noStrike">
                  <a:solidFill>
                    <a:srgbClr val="c00000"/>
                  </a:solidFill>
                  <a:latin typeface="Constantia"/>
                </a:rPr>
                <a:t>25 школьных тетрадей</a:t>
              </a:r>
              <a:r>
                <a:rPr b="0" lang="ru-RU" sz="2400" spc="-1" strike="noStrike">
                  <a:solidFill>
                    <a:srgbClr val="0b5395"/>
                  </a:solidFill>
                  <a:latin typeface="Constantia"/>
                </a:rPr>
                <a:t>, можно предположить, что из нашей макулатуры можно сделать </a:t>
              </a:r>
              <a:r>
                <a:rPr b="0" lang="ru-RU" sz="2400" spc="-1" strike="noStrike">
                  <a:solidFill>
                    <a:srgbClr val="c00000"/>
                  </a:solidFill>
                  <a:latin typeface="Constantia"/>
                </a:rPr>
                <a:t>18 000 таких тетрадей</a:t>
              </a:r>
              <a:r>
                <a:rPr b="0" lang="ru-RU" sz="2400" spc="-1" strike="noStrike">
                  <a:solidFill>
                    <a:srgbClr val="0b5395"/>
                  </a:solidFill>
                  <a:latin typeface="Constantia"/>
                </a:rPr>
                <a:t>. И при этом можно спасти от вырубки </a:t>
              </a:r>
              <a:r>
                <a:rPr b="0" lang="ru-RU" sz="2400" spc="-1" strike="noStrike">
                  <a:solidFill>
                    <a:srgbClr val="c00000"/>
                  </a:solidFill>
                  <a:latin typeface="Constantia"/>
                </a:rPr>
                <a:t>7-10 деревье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9" name="Рисунок 3" descr="https://click-or-die.ru/wp-content/uploads/2019/02/00C22717-3017-46C8-8D6A-1806CB5388A6-1024x935.jpeg"/>
          <p:cNvPicPr/>
          <p:nvPr/>
        </p:nvPicPr>
        <p:blipFill>
          <a:blip r:embed="rId3"/>
          <a:stretch/>
        </p:blipFill>
        <p:spPr>
          <a:xfrm>
            <a:off x="357120" y="2571840"/>
            <a:ext cx="26672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Прямоугольник 1"/>
          <p:cNvGrpSpPr/>
          <p:nvPr/>
        </p:nvGrpSpPr>
        <p:grpSpPr>
          <a:xfrm>
            <a:off x="566640" y="596880"/>
            <a:ext cx="7150320" cy="1857240"/>
            <a:chOff x="566640" y="596880"/>
            <a:chExt cx="7150320" cy="1857240"/>
          </a:xfrm>
        </p:grpSpPr>
        <p:pic>
          <p:nvPicPr>
            <p:cNvPr id="351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66640" y="596880"/>
              <a:ext cx="715032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42960" y="714240"/>
              <a:ext cx="7000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Constantia"/>
                  <a:ea typeface="Times New Roman"/>
                </a:rPr>
                <a:t>Изготовление бумаги в домашних условиях.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Прямоугольник 2"/>
          <p:cNvGrpSpPr/>
          <p:nvPr/>
        </p:nvGrpSpPr>
        <p:grpSpPr>
          <a:xfrm>
            <a:off x="4071960" y="2176560"/>
            <a:ext cx="5145120" cy="517320"/>
            <a:chOff x="4071960" y="2176560"/>
            <a:chExt cx="5145120" cy="517320"/>
          </a:xfrm>
        </p:grpSpPr>
        <p:pic>
          <p:nvPicPr>
            <p:cNvPr id="354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071960" y="2176560"/>
              <a:ext cx="51451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143240" y="2214720"/>
              <a:ext cx="5000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Прямоугольник 1"/>
          <p:cNvGrpSpPr/>
          <p:nvPr/>
        </p:nvGrpSpPr>
        <p:grpSpPr>
          <a:xfrm>
            <a:off x="244440" y="633240"/>
            <a:ext cx="8161200" cy="1028160"/>
            <a:chOff x="244440" y="633240"/>
            <a:chExt cx="8161200" cy="1028160"/>
          </a:xfrm>
        </p:grpSpPr>
        <p:pic>
          <p:nvPicPr>
            <p:cNvPr id="357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44440" y="633240"/>
              <a:ext cx="81612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57120" y="7142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onstantia"/>
                </a:rPr>
                <a:t>Изготовление бумаги в домашних услов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Прямоугольник 8"/>
          <p:cNvSpPr/>
          <p:nvPr/>
        </p:nvSpPr>
        <p:spPr>
          <a:xfrm>
            <a:off x="928800" y="1928880"/>
            <a:ext cx="757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Сначала мы рассортировали бумагу на две части: одна часть – это старые газеты, вторая – использованные листы офисной бумаги. Нарвали руками на маленькие кус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Рисунок 3" descr="C:\Users\Сергей\AppData\Local\Microsoft\Windows\Temporary Internet Files\Content.Word\IMG-4488e1f6006a2ed439317793194f93e6-V.JPG"/>
          <p:cNvPicPr/>
          <p:nvPr/>
        </p:nvPicPr>
        <p:blipFill>
          <a:blip r:embed="rId2"/>
          <a:stretch/>
        </p:blipFill>
        <p:spPr>
          <a:xfrm>
            <a:off x="1571760" y="3071880"/>
            <a:ext cx="2400120" cy="32004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4214880" y="3643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Сложили в две миски, добавили        немного горячей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Оставили бумагу на ночь, чтобы она размок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83763"/>
                </a:solidFill>
                <a:latin typeface="Constantia"/>
              </a:rPr>
              <a:t>Если посмотреть вокруг, мы увидим, какое огромное количество бумаги  нас окружа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3763"/>
                </a:solidFill>
                <a:latin typeface="Constantia"/>
              </a:rPr>
              <a:t>С каждым годом потребность в бумаге увеличивается, а запасы древесины, из которой её получают - уменьшаются.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1"/>
          <p:cNvGrpSpPr/>
          <p:nvPr/>
        </p:nvGrpSpPr>
        <p:grpSpPr>
          <a:xfrm>
            <a:off x="244440" y="633240"/>
            <a:ext cx="8161200" cy="1028160"/>
            <a:chOff x="244440" y="633240"/>
            <a:chExt cx="8161200" cy="1028160"/>
          </a:xfrm>
        </p:grpSpPr>
        <p:pic>
          <p:nvPicPr>
            <p:cNvPr id="363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44440" y="633240"/>
              <a:ext cx="81612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57120" y="7142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onstantia"/>
                </a:rPr>
                <a:t>Изготовление бумаги в домашних услов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Прямоугольник 8"/>
          <p:cNvSpPr/>
          <p:nvPr/>
        </p:nvSpPr>
        <p:spPr>
          <a:xfrm>
            <a:off x="928800" y="2000160"/>
            <a:ext cx="75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785880" y="1928880"/>
            <a:ext cx="7286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Затем измельчили бумагу миксе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и получили бумажную масс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пригодную дл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В полученную массу добавили клей П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4" descr="C:\Users\Сергей\AppData\Local\Microsoft\Windows\Temporary Internet Files\Content.Word\IMG-e2eedc696a1af7d158647f666cf10411-V.JPG"/>
          <p:cNvPicPr/>
          <p:nvPr/>
        </p:nvPicPr>
        <p:blipFill>
          <a:blip r:embed="rId2"/>
          <a:stretch/>
        </p:blipFill>
        <p:spPr>
          <a:xfrm>
            <a:off x="5786280" y="1714680"/>
            <a:ext cx="2071800" cy="29383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5" descr="C:\Users\Сергей\AppData\Local\Microsoft\Windows\Temporary Internet Files\Content.Word\IMG-ebf03e187e237a32c6c080b24515904e-V.JPG"/>
          <p:cNvPicPr/>
          <p:nvPr/>
        </p:nvPicPr>
        <p:blipFill>
          <a:blip r:embed="rId3"/>
          <a:stretch/>
        </p:blipFill>
        <p:spPr>
          <a:xfrm>
            <a:off x="1571760" y="3714840"/>
            <a:ext cx="2286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Прямоугольник 1"/>
          <p:cNvGrpSpPr/>
          <p:nvPr/>
        </p:nvGrpSpPr>
        <p:grpSpPr>
          <a:xfrm>
            <a:off x="244440" y="633240"/>
            <a:ext cx="8161200" cy="1028160"/>
            <a:chOff x="244440" y="633240"/>
            <a:chExt cx="8161200" cy="1028160"/>
          </a:xfrm>
        </p:grpSpPr>
        <p:pic>
          <p:nvPicPr>
            <p:cNvPr id="370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44440" y="633240"/>
              <a:ext cx="81612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57120" y="7142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onstantia"/>
                </a:rPr>
                <a:t>Изготовление бумаги в домашних услов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Прямоугольник 8"/>
          <p:cNvSpPr/>
          <p:nvPr/>
        </p:nvSpPr>
        <p:spPr>
          <a:xfrm>
            <a:off x="928800" y="157176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Немного отжали массу от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Разложили массу на твердую поверх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Разровняли массу руками, высуш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3" descr="C:\Users\Сергей\AppData\Local\Microsoft\Windows\Temporary Internet Files\Content.Word\IMG-07dfa4039435e597367b579edb252dc4-V.JPG"/>
          <p:cNvPicPr/>
          <p:nvPr/>
        </p:nvPicPr>
        <p:blipFill>
          <a:blip r:embed="rId2"/>
          <a:stretch/>
        </p:blipFill>
        <p:spPr>
          <a:xfrm>
            <a:off x="714240" y="3571920"/>
            <a:ext cx="2143440" cy="29336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4" descr="C:\Users\Сергей\AppData\Local\Microsoft\Windows\Temporary Internet Files\Content.Word\IMG-0d1bcea7c0b9905676b840dc0026a6ea-V.JPG"/>
          <p:cNvPicPr/>
          <p:nvPr/>
        </p:nvPicPr>
        <p:blipFill>
          <a:blip r:embed="rId3"/>
          <a:stretch/>
        </p:blipFill>
        <p:spPr>
          <a:xfrm>
            <a:off x="6786720" y="1357200"/>
            <a:ext cx="200016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5" descr="C:\Users\Сергей\AppData\Local\Microsoft\Windows\Temporary Internet Files\Content.Word\IMG-ea1428435100fbcb7f6f33282dab7ba1-V.JPG"/>
          <p:cNvPicPr/>
          <p:nvPr/>
        </p:nvPicPr>
        <p:blipFill>
          <a:blip r:embed="rId4"/>
          <a:stretch/>
        </p:blipFill>
        <p:spPr>
          <a:xfrm>
            <a:off x="3786120" y="3500280"/>
            <a:ext cx="2286000" cy="285768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6" descr="C:\Users\Сергей\AppData\Local\Microsoft\Windows\Temporary Internet Files\Content.Word\IMG-c18ab77293cfda26f2ab14cf3d2f7ea6-V.JPG"/>
          <p:cNvPicPr/>
          <p:nvPr/>
        </p:nvPicPr>
        <p:blipFill>
          <a:blip r:embed="rId5"/>
          <a:stretch/>
        </p:blipFill>
        <p:spPr>
          <a:xfrm>
            <a:off x="6715080" y="3714840"/>
            <a:ext cx="22003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Прямоугольник 1"/>
          <p:cNvGrpSpPr/>
          <p:nvPr/>
        </p:nvGrpSpPr>
        <p:grpSpPr>
          <a:xfrm>
            <a:off x="244440" y="633240"/>
            <a:ext cx="8161200" cy="1028160"/>
            <a:chOff x="244440" y="633240"/>
            <a:chExt cx="8161200" cy="1028160"/>
          </a:xfrm>
        </p:grpSpPr>
        <p:pic>
          <p:nvPicPr>
            <p:cNvPr id="37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44440" y="633240"/>
              <a:ext cx="81612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57120" y="714240"/>
              <a:ext cx="79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onstantia"/>
                </a:rPr>
                <a:t>Изготовление бумаги в домашних услов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Прямоугольник 8"/>
          <p:cNvSpPr/>
          <p:nvPr/>
        </p:nvSpPr>
        <p:spPr>
          <a:xfrm>
            <a:off x="928800" y="1928880"/>
            <a:ext cx="757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з газет получилась бумага серого цв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а из исписанной бумаги для офисной техники – белоснежная</a:t>
            </a:r>
            <a:r>
              <a:rPr b="0" lang="en-US" sz="2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3" descr="http://abc-paper.ru/wp-content/uploads/2020/12/papel-reciclado-1024x677.jpg"/>
          <p:cNvPicPr/>
          <p:nvPr/>
        </p:nvPicPr>
        <p:blipFill>
          <a:blip r:embed="rId2"/>
          <a:stretch/>
        </p:blipFill>
        <p:spPr>
          <a:xfrm>
            <a:off x="4857840" y="3500280"/>
            <a:ext cx="3892320" cy="254808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4" descr="https://im0-tub-ru.yandex.net/i?id=27fdc7d0053876e4d6ca7475ad6fecf0&amp;ref=rim&amp;n=33&amp;w=248&amp;h=165"/>
          <p:cNvPicPr/>
          <p:nvPr/>
        </p:nvPicPr>
        <p:blipFill>
          <a:blip r:embed="rId3"/>
          <a:stretch/>
        </p:blipFill>
        <p:spPr>
          <a:xfrm>
            <a:off x="714240" y="3500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Прямоугольник 1"/>
          <p:cNvGrpSpPr/>
          <p:nvPr/>
        </p:nvGrpSpPr>
        <p:grpSpPr>
          <a:xfrm>
            <a:off x="285840" y="633240"/>
            <a:ext cx="8072280" cy="714600"/>
            <a:chOff x="285840" y="633240"/>
            <a:chExt cx="8072280" cy="714600"/>
          </a:xfrm>
        </p:grpSpPr>
        <p:pic>
          <p:nvPicPr>
            <p:cNvPr id="384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5840" y="633240"/>
              <a:ext cx="807228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57120" y="714240"/>
              <a:ext cx="79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onstantia"/>
                </a:rPr>
                <a:t>Заключ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Прямоугольник 8"/>
          <p:cNvSpPr/>
          <p:nvPr/>
        </p:nvSpPr>
        <p:spPr>
          <a:xfrm>
            <a:off x="928800" y="1928880"/>
            <a:ext cx="7572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Arial"/>
              </a:rPr>
              <a:t>Подводя итоги моего исследования, можно с уверенностью сказать,  что  переработка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дной тонны макулатуры </a:t>
            </a:r>
            <a:r>
              <a:rPr b="0" lang="ru-RU" sz="2000" spc="-1" strike="noStrike">
                <a:solidFill>
                  <a:srgbClr val="0b5395"/>
                </a:solidFill>
                <a:latin typeface="Arial"/>
              </a:rPr>
              <a:t>спасает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10 -12 деревьев</a:t>
            </a:r>
            <a:r>
              <a:rPr b="0" lang="ru-RU" sz="2000" spc="-1" strike="noStrike">
                <a:solidFill>
                  <a:srgbClr val="0b5395"/>
                </a:solidFill>
                <a:latin typeface="Arial"/>
              </a:rPr>
              <a:t>, экономит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20 000 литров </a:t>
            </a:r>
            <a:r>
              <a:rPr b="0" lang="ru-RU" sz="2000" spc="-1" strike="noStrike">
                <a:solidFill>
                  <a:srgbClr val="0b5395"/>
                </a:solidFill>
                <a:latin typeface="Arial"/>
              </a:rPr>
              <a:t>воды и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1000 кВ</a:t>
            </a:r>
            <a:r>
              <a:rPr b="0" lang="ru-RU" sz="2000" spc="-1" strike="noStrike">
                <a:solidFill>
                  <a:srgbClr val="0b5395"/>
                </a:solidFill>
                <a:latin typeface="Arial"/>
              </a:rPr>
              <a:t>т электроэнергии. Таким образом, гипотеза,  выдвинутая мной, подтвердилась. Сбор макулатуры действительно является  огромным вкладом в спасение лесного богатства нашей план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Заголовок 1"/>
          <p:cNvGrpSpPr/>
          <p:nvPr/>
        </p:nvGrpSpPr>
        <p:grpSpPr>
          <a:xfrm>
            <a:off x="281160" y="1517760"/>
            <a:ext cx="8667720" cy="4114800"/>
            <a:chOff x="281160" y="1517760"/>
            <a:chExt cx="8667720" cy="4114800"/>
          </a:xfrm>
        </p:grpSpPr>
        <p:pic>
          <p:nvPicPr>
            <p:cNvPr id="38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1160" y="1517760"/>
              <a:ext cx="86677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71680" y="1785960"/>
              <a:ext cx="8305560" cy="37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0b5395"/>
                  </a:solidFill>
                  <a:latin typeface="Times New Roman"/>
                  <a:ea typeface="Times New Roman"/>
                </a:rPr>
                <a:t>Даже маленький вклад очень ценен для большого и важного дела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0b5395"/>
                  </a:solidFill>
                  <a:latin typeface="Times New Roman"/>
                  <a:ea typeface="Times New Roman"/>
                </a:rPr>
                <a:t>Сдай макулатуру — спаси жизнь дереву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500"/>
              </a:b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бъект исследо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4e6d"/>
                </a:solidFill>
                <a:latin typeface="Constantia"/>
              </a:rPr>
              <a:t>ненужная бумага ( макулатура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Рисунок 3" descr="https://informupack.ru/upload/iblock/4a0/4a035438ac9f9a7c0246f509fef0bceb.jpg"/>
          <p:cNvPicPr/>
          <p:nvPr/>
        </p:nvPicPr>
        <p:blipFill>
          <a:blip r:embed="rId1"/>
          <a:stretch/>
        </p:blipFill>
        <p:spPr>
          <a:xfrm>
            <a:off x="500040" y="2786040"/>
            <a:ext cx="4025880" cy="268452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4" descr="http://xn--12-dlcm8bmahg7gm.xn--p1ai/assets/images/depositphotos-10990933-original-2000x1333.jpg"/>
          <p:cNvPicPr/>
          <p:nvPr/>
        </p:nvPicPr>
        <p:blipFill>
          <a:blip r:embed="rId2"/>
          <a:stretch/>
        </p:blipFill>
        <p:spPr>
          <a:xfrm>
            <a:off x="5214960" y="3357720"/>
            <a:ext cx="33577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едмет  исследо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4e6d"/>
                </a:solidFill>
                <a:latin typeface="Constantia"/>
              </a:rPr>
              <a:t>возможность вторичного использования бумаг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Рисунок 3" descr="https://siberia.sibnovosti.ru/pictures/0615/7307/vIstmiRgIww_thumb_fed_photo.jpg"/>
          <p:cNvPicPr/>
          <p:nvPr/>
        </p:nvPicPr>
        <p:blipFill>
          <a:blip r:embed="rId1"/>
          <a:stretch/>
        </p:blipFill>
        <p:spPr>
          <a:xfrm>
            <a:off x="2500200" y="2928960"/>
            <a:ext cx="4400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Цель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e6d"/>
                </a:solidFill>
                <a:latin typeface="Constantia"/>
              </a:rPr>
              <a:t>привлечь внимание людей к тому, что необходимо сдавать макулатуру, дав бумаге вторую жизнь, чтобы сберечь ле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Рисунок 3" descr="https://im0-tub-ru.yandex.net/i?id=620e06ae459f350a8730f9a7b087d6fe&amp;n=13"/>
          <p:cNvPicPr/>
          <p:nvPr/>
        </p:nvPicPr>
        <p:blipFill>
          <a:blip r:embed="rId1"/>
          <a:stretch/>
        </p:blipFill>
        <p:spPr>
          <a:xfrm>
            <a:off x="2071800" y="3286080"/>
            <a:ext cx="5000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Проанализировать литературу по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- Изучить пользу сбора макулату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- Изготовить бумагу в домашних услов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- Провести акцию «Бумаге – вторая жизнь!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- Сделать выводы о значении бумаг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Constantia"/>
              </a:rPr>
              <a:t>- Привлечь внимание окружающих к проблеме вырубки леса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План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e6d"/>
                </a:solidFill>
                <a:latin typeface="Constantia"/>
              </a:rPr>
              <a:t>1</a:t>
            </a: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. Изучение бумаги, как материала с использованием  литературы.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2. Познакомиться с понятием макулатуры и изучить области ее применения;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3. Выявить   осведомленность учащихся об  использовании вторичного бумажного сырь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4. Изучить, сколько макулатуры собирает наш класс, и сколько деревьев это сможет сохранить от вырубки; 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5. Попытаться  получить бумагу в домашних условия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6. Изготовить поделки из полученной бумаг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7. Обобщить проделанную работу и сделать вывод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4e6d"/>
                </a:solidFill>
                <a:latin typeface="Constantia"/>
              </a:rPr>
              <a:t>8. Организовать экологическую акцию «Бумаге – вторую жизнь!» в класс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Гипо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считаю, что возрождение сбора макулатуры в школах поможет спасению лесов от вырубки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и что изготовление новой бумаги из  макулатуры доступно в домашних условиях даже школьник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Constantia"/>
              </a:rPr>
              <a:t>История возникновения бумаг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Кам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Гли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Кора деревье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Деревянные дощечк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окрытые воск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Папиру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1" name="Рисунок 3" descr="https://avatars.mds.yandex.net/get-zen_doc/1912454/pub_5cb35c875e307d00b4f89a95_5cb3621493828900b32ecc81/scale_1200"/>
          <p:cNvPicPr/>
          <p:nvPr/>
        </p:nvPicPr>
        <p:blipFill>
          <a:blip r:embed="rId1"/>
          <a:stretch/>
        </p:blipFill>
        <p:spPr>
          <a:xfrm>
            <a:off x="5429160" y="1928880"/>
            <a:ext cx="3067200" cy="218736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4" descr="https://images-na.ssl-images-amazon.com/images/I/81ddJ5YZSNL._AC_SL1500_.jpg"/>
          <p:cNvPicPr/>
          <p:nvPr/>
        </p:nvPicPr>
        <p:blipFill>
          <a:blip r:embed="rId2"/>
          <a:stretch/>
        </p:blipFill>
        <p:spPr>
          <a:xfrm>
            <a:off x="1428840" y="4286160"/>
            <a:ext cx="3286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Сергей</cp:lastModifiedBy>
  <dcterms:modified xsi:type="dcterms:W3CDTF">2021-04-28T19:13:51Z</dcterms:modified>
  <cp:revision>135</cp:revision>
  <dc:subject/>
  <dc:title>Слайд 1</dc:title>
</cp:coreProperties>
</file>