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8.jpeg" ContentType="image/jpeg"/>
  <Override PartName="/ppt/media/image44.jpeg" ContentType="image/jpeg"/>
  <Override PartName="/ppt/media/image4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7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75C-126F-4FD4-90C0-7704E91A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30E-B47B-4B2E-8F86-707D251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DD1-0263-46F0-8AB7-BA4E7E0C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370-8B22-4425-A444-FB4DA013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A8A5-42A3-4D88-BE3C-76D728BC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A8E6-B2B7-40D3-ACAF-8F3D94B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8C2-3013-4696-B38F-D5CA4538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3BB2-FDE3-4BE8-B04B-FF2918B7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D190-C1AD-4CB1-985A-B15438E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A841-90B3-4739-99BC-EE1B0E1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FC63-5456-4208-AD4B-A839100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E66-BC6D-42F1-AF0B-D6880A4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CD3C-E400-47BE-A35C-BF2C0F0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DB61-6465-4189-9EC2-6DB1A58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8F8D-B754-4F64-9035-E6C1B78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DAF-F0DA-436D-BDC7-7BF7FD07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B93-07E6-4AFF-BBA5-80E8FE1C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6860-821E-495D-A506-F6119A26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DDC4-4924-4941-98DE-C9D18CC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AF22-374F-4D37-8DB7-98CB61A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687B-513E-428B-B644-CE62215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F921-9CA6-415B-91D9-91ECA27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860-D2DD-4900-9C5C-5CA30329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B507-59B4-4812-B735-38DC81D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899A-536B-44C0-9D37-6B11D1B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AABF-798E-40C8-9C24-AA68EDE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9A0A-D11B-4511-8E80-8077042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E1E7-5865-4B77-92C1-C00B3F7E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34CA-9F1C-4541-AFDC-831B203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A2A2-087B-4C12-BB15-91B613E4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C8AE-A3FD-4E6E-8B3F-55266BC8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E30C-9D9B-459C-8E92-AF33E87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16B5-D043-4C3F-A7F8-BAE9CE0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2E3-4D34-4746-B0B2-995FD2FD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76AA-29AD-429E-973E-1255AE1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5DD5-F976-46DF-9CDA-7599BD5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0FC2-EA3D-4F03-88F1-F1F5020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810F-B5FC-4FF5-8379-2E4B3E1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3834-2D0A-496D-B4D6-71E1AD4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458C-0444-4889-A88E-6A70259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7CE1-328F-43EC-9525-72F63EF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F9CA-36C5-4F48-9B03-7B4F856A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8EAD-2090-401F-99E4-5ED407F6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80FC-54E9-44DA-9F94-3CC644B6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F52-4B03-4385-A2C4-22F6955B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143E9-43AA-4604-AC81-BA2298A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B27F-A7D8-4685-9E9A-0E2E04A5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8025-FAD1-4824-9DE2-CB5D8F31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D835-F118-406E-8069-7B2BF53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D01D-8B4C-438A-BB81-41C6489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CE99D-18FF-4B52-8532-8AFD5DA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E33B-3D8D-4CB7-A438-0545DC8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D047-6890-4ED9-BFCD-CE515B8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E8CC-11D6-43B3-966C-69401C7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A576-FD42-4ECE-A520-A09093F7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BD6-414A-4790-886E-9325F5E2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D383-2056-4F6A-AD14-25AE4B46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6772-CAF7-47A9-924E-37D2EC8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0C1E-07D0-4E31-8A9E-1DDCF19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D12C-1B8E-412F-BF21-E2C4A63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969C0-8512-4B8C-9BEF-7A0DAD5C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F3A3-2684-4E06-9050-86F373E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267A-9ED2-4E30-9556-CD3AA59A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E76B-15DC-4F42-B4DC-4B47C62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D087-7EBC-40A7-B74E-D78C3982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FB095-E739-4CAE-9884-2EA589C4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A1F-9167-4A45-9A98-248B527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2B694-4F05-4233-9166-D5DC3BF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258A-795F-4F28-87A0-23EB55CD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4138-DBC7-4DB6-B4DB-C8033AC7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050-2880-4C27-86C3-451F47E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756-A765-49C4-BE59-D8BC393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D55-0229-4A00-AF88-42B0BBC82B3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6FE-F93D-4EB6-9C0A-161EF134C2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7D2-4EDD-4602-B9E2-2F0211ED662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E6DF-5B7E-4260-A040-5A2544536D0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210-0F1F-49AB-B430-4972468C894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8DAD-66C2-4449-B7AA-75DBE57F43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следовательская работа 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торая жизнь бумаг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143240" y="5219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Руководитель Задорова Ольг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МБОУ Ново -Горкинская С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4286160" y="329364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ев Ник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 2 класса МБОУ Ново-Горкинская С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История возникновения бумаг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Первыми бумагу начали делать китайц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Изобрёл её Цай Лунь в Китае в 105 году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Рисунок 3" descr="https://foto.haberler.com/galeri/2013/04/10/tarihin-seyrini-degistiren-en-etkili-10-kisi_46352_b.jpg"/>
          <p:cNvPicPr/>
          <p:nvPr/>
        </p:nvPicPr>
        <p:blipFill>
          <a:blip r:embed="rId1"/>
          <a:stretch/>
        </p:blipFill>
        <p:spPr>
          <a:xfrm>
            <a:off x="1000080" y="3000240"/>
            <a:ext cx="2895480" cy="31194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s://ds03.infourok.ru/uploads/ex/0396/0001d855-ad6a96de/img3.jpg"/>
          <p:cNvPicPr/>
          <p:nvPr/>
        </p:nvPicPr>
        <p:blipFill>
          <a:blip r:embed="rId2"/>
          <a:stretch/>
        </p:blipFill>
        <p:spPr>
          <a:xfrm>
            <a:off x="4357800" y="3071880"/>
            <a:ext cx="3714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1"/>
          <p:cNvGrpSpPr/>
          <p:nvPr/>
        </p:nvGrpSpPr>
        <p:grpSpPr>
          <a:xfrm>
            <a:off x="298440" y="231840"/>
            <a:ext cx="4786200" cy="2892240"/>
            <a:chOff x="298440" y="231840"/>
            <a:chExt cx="4786200" cy="2892240"/>
          </a:xfrm>
        </p:grpSpPr>
        <p:pic>
          <p:nvPicPr>
            <p:cNvPr id="30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8440" y="231840"/>
              <a:ext cx="47862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8760" y="285840"/>
              <a:ext cx="45003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Россия – великая лесная держава. Но леса вырубаю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Что может случиться с планетой, если лес будет уничтожен? Ответ прост - прекратится жизнь на Земле, потому что дышать будет нечем. Лес производит кислород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Прямоугольник 2"/>
          <p:cNvGrpSpPr/>
          <p:nvPr/>
        </p:nvGrpSpPr>
        <p:grpSpPr>
          <a:xfrm>
            <a:off x="4084560" y="4157640"/>
            <a:ext cx="4791240" cy="2590560"/>
            <a:chOff x="4084560" y="4157640"/>
            <a:chExt cx="4791240" cy="2590560"/>
          </a:xfrm>
        </p:grpSpPr>
        <p:pic>
          <p:nvPicPr>
            <p:cNvPr id="31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84560" y="4157640"/>
              <a:ext cx="4791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214880" y="4214880"/>
              <a:ext cx="45720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Ежегодно в мире  на производство бумаги уходит четыре миллиарда деревьев. К тому же бумажные комбинаты загрязняют окружающую среду, ведь для производства бумаги используют слишком много химикат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Рисунок 3" descr="https://i.pinimg.com/originals/51/7d/7f/517d7f13bd5eda822c1bcb0f8fca3992.jpg"/>
          <p:cNvPicPr/>
          <p:nvPr/>
        </p:nvPicPr>
        <p:blipFill>
          <a:blip r:embed="rId3"/>
          <a:stretch/>
        </p:blipFill>
        <p:spPr>
          <a:xfrm>
            <a:off x="5357880" y="1285920"/>
            <a:ext cx="3190680" cy="23716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" descr="http://img3.dp.ru/images/article/2020/04/29/E35B5B0C-02FB-42A0-B093-6DA0AE855FE4.jpg"/>
          <p:cNvPicPr/>
          <p:nvPr/>
        </p:nvPicPr>
        <p:blipFill>
          <a:blip r:embed="rId4"/>
          <a:stretch/>
        </p:blipFill>
        <p:spPr>
          <a:xfrm>
            <a:off x="571680" y="335772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Что даёт переработка бумаги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1.  Меньше  вырубаются лес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2. Уменьшается  количество мус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3. Переработанная бумага стоит намного дешевле, чем сделанная из дере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https://www.anypics.ru/download.php?file=201410/1152x864/anypics.ru-78374.jpg"/>
          <p:cNvPicPr/>
          <p:nvPr/>
        </p:nvPicPr>
        <p:blipFill>
          <a:blip r:embed="rId1"/>
          <a:stretch/>
        </p:blipFill>
        <p:spPr>
          <a:xfrm>
            <a:off x="2928960" y="4214880"/>
            <a:ext cx="322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1 тонна макулатуры экономит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10 деревье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20 000 литров воды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1000 кВт электроэнерг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ионизированный кислород, достаточный для 30 челове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Из одного килограмма макулатуры можно изготови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25 школьных тетрад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Рисунок 3" descr="https://click-or-die.ru/wp-content/uploads/2019/02/00C22717-3017-46C8-8D6A-1806CB5388A6-1024x935.jpeg"/>
          <p:cNvPicPr/>
          <p:nvPr/>
        </p:nvPicPr>
        <p:blipFill>
          <a:blip r:embed="rId1"/>
          <a:stretch/>
        </p:blipFill>
        <p:spPr>
          <a:xfrm>
            <a:off x="6000840" y="4143240"/>
            <a:ext cx="25239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Вот что делают из макулатуры в Росс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Одноразовую посуд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Строительные материал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Материалы для изоля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Крафт - паке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Средства личной гиги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Карт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Экова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Рисунок 3" descr="https://images.ru.prom.st/602455688_w640_h640_odnorazovaya-posuda.jpg"/>
          <p:cNvPicPr/>
          <p:nvPr/>
        </p:nvPicPr>
        <p:blipFill>
          <a:blip r:embed="rId1"/>
          <a:stretch/>
        </p:blipFill>
        <p:spPr>
          <a:xfrm>
            <a:off x="3929040" y="2071800"/>
            <a:ext cx="2890800" cy="19238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https://www.xn--61-6kci2acmbnxil3b.xn--p1ai/_sh/7/702.jpg"/>
          <p:cNvPicPr/>
          <p:nvPr/>
        </p:nvPicPr>
        <p:blipFill>
          <a:blip r:embed="rId2"/>
          <a:stretch/>
        </p:blipFill>
        <p:spPr>
          <a:xfrm>
            <a:off x="6215040" y="3571920"/>
            <a:ext cx="2533680" cy="25336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https://kleilentu.ru/images/thumbnails/878/768/detailed/2/karton_listovoy1_hql0-ys.jpg"/>
          <p:cNvPicPr/>
          <p:nvPr/>
        </p:nvPicPr>
        <p:blipFill>
          <a:blip r:embed="rId3"/>
          <a:stretch/>
        </p:blipFill>
        <p:spPr>
          <a:xfrm>
            <a:off x="3571920" y="4000680"/>
            <a:ext cx="2533680" cy="22158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https://ecovata-spb.ru/upload/medialibrary/b27/b27db1a77859175a5936dc23921da0b1.jpg"/>
          <p:cNvPicPr/>
          <p:nvPr/>
        </p:nvPicPr>
        <p:blipFill>
          <a:blip r:embed="rId4"/>
          <a:stretch/>
        </p:blipFill>
        <p:spPr>
          <a:xfrm>
            <a:off x="1000080" y="464328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Прямоугольник 1"/>
          <p:cNvGrpSpPr/>
          <p:nvPr/>
        </p:nvGrpSpPr>
        <p:grpSpPr>
          <a:xfrm>
            <a:off x="371520" y="658800"/>
            <a:ext cx="4773600" cy="871560"/>
            <a:chOff x="371520" y="658800"/>
            <a:chExt cx="4773600" cy="871560"/>
          </a:xfrm>
        </p:grpSpPr>
        <p:pic>
          <p:nvPicPr>
            <p:cNvPr id="32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1520" y="658800"/>
              <a:ext cx="47736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00040" y="71424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реди своих одноклассников я провёл анкет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2"/>
          <p:cNvGrpSpPr/>
          <p:nvPr/>
        </p:nvGrpSpPr>
        <p:grpSpPr>
          <a:xfrm>
            <a:off x="3943440" y="4017960"/>
            <a:ext cx="4998960" cy="2101680"/>
            <a:chOff x="3943440" y="4017960"/>
            <a:chExt cx="4998960" cy="2101680"/>
          </a:xfrm>
        </p:grpSpPr>
        <p:pic>
          <p:nvPicPr>
            <p:cNvPr id="33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943440" y="4017960"/>
              <a:ext cx="499896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071960" y="4071960"/>
              <a:ext cx="4714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Регулярно участвуют в акциях по сбору макулатуры 43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периодически –  46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 принимают участия 11 % 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Рисунок 3" descr="C:\Users\Сергей\AppData\Local\Microsoft\Windows\Temporary Internet Files\Content.Word\IMG_20210409_141219.jpg"/>
          <p:cNvPicPr/>
          <p:nvPr/>
        </p:nvPicPr>
        <p:blipFill>
          <a:blip r:embed="rId3"/>
          <a:stretch/>
        </p:blipFill>
        <p:spPr>
          <a:xfrm>
            <a:off x="5357880" y="1214280"/>
            <a:ext cx="3343320" cy="2514600"/>
          </a:xfrm>
          <a:prstGeom prst="rect">
            <a:avLst/>
          </a:prstGeom>
          <a:ln w="0">
            <a:noFill/>
          </a:ln>
        </p:spPr>
      </p:pic>
      <p:pic>
        <p:nvPicPr>
          <p:cNvPr id="334" name="Диаграмма 4" descr=""/>
          <p:cNvPicPr/>
          <p:nvPr/>
        </p:nvPicPr>
        <p:blipFill>
          <a:blip r:embed="rId4"/>
          <a:stretch/>
        </p:blipFill>
        <p:spPr>
          <a:xfrm>
            <a:off x="500040" y="2357280"/>
            <a:ext cx="3500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Прямоугольник 1"/>
          <p:cNvGrpSpPr/>
          <p:nvPr/>
        </p:nvGrpSpPr>
        <p:grpSpPr>
          <a:xfrm>
            <a:off x="500040" y="347760"/>
            <a:ext cx="4718160" cy="1881360"/>
            <a:chOff x="500040" y="347760"/>
            <a:chExt cx="4718160" cy="1881360"/>
          </a:xfrm>
        </p:grpSpPr>
        <p:pic>
          <p:nvPicPr>
            <p:cNvPr id="3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00040" y="347760"/>
              <a:ext cx="47181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71680" y="42876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роведение акции </a:t>
              </a:r>
              <a:r>
                <a:rPr b="1" lang="ru-RU" sz="2800" spc="-1" strike="noStrike">
                  <a:solidFill>
                    <a:srgbClr val="c00000"/>
                  </a:solidFill>
                  <a:latin typeface="Constantia"/>
                </a:rPr>
                <a:t>«Бумаге – вторую жизнь!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оугольник 2"/>
          <p:cNvGrpSpPr/>
          <p:nvPr/>
        </p:nvGrpSpPr>
        <p:grpSpPr>
          <a:xfrm>
            <a:off x="3517920" y="3322800"/>
            <a:ext cx="5522760" cy="2974680"/>
            <a:chOff x="3517920" y="3322800"/>
            <a:chExt cx="5522760" cy="2974680"/>
          </a:xfrm>
        </p:grpSpPr>
        <p:pic>
          <p:nvPicPr>
            <p:cNvPr id="33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517920" y="3322800"/>
              <a:ext cx="552276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643200" y="3357720"/>
              <a:ext cx="5214960" cy="28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Мы предположили, что за учебный год в нашем классе можно набрать приблизительно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60 килограммов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макулатуры. А если учесть, что в нашей школе учатся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12 классов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, можно набрать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720 килограммов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ненужной бумаги. И ведь эта бумага каждый день выбрасывается в урны!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Рисунок 3" descr="C:\Users\Сергей\AppData\Local\Microsoft\Windows\Temporary Internet Files\Content.Word\IMG_20210407_162221.jpg"/>
          <p:cNvPicPr/>
          <p:nvPr/>
        </p:nvPicPr>
        <p:blipFill>
          <a:blip r:embed="rId3"/>
          <a:stretch/>
        </p:blipFill>
        <p:spPr>
          <a:xfrm>
            <a:off x="6357960" y="571680"/>
            <a:ext cx="2000160" cy="25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"/>
          <p:cNvGraphicFramePr/>
          <p:nvPr/>
        </p:nvGraphicFramePr>
        <p:xfrm>
          <a:off x="357120" y="3000240"/>
          <a:ext cx="3071880" cy="3000600"/>
        </p:xfrm>
        <a:graphic>
          <a:graphicData uri="http://schemas.openxmlformats.org/drawingml/2006/table">
            <a:tbl>
              <a:tblPr/>
              <a:tblGrid>
                <a:gridCol w="768240"/>
                <a:gridCol w="844560"/>
                <a:gridCol w="690840"/>
                <a:gridCol w="768240"/>
              </a:tblGrid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5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5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1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9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Прямоугольник 1"/>
          <p:cNvGrpSpPr/>
          <p:nvPr/>
        </p:nvGrpSpPr>
        <p:grpSpPr>
          <a:xfrm>
            <a:off x="500040" y="347760"/>
            <a:ext cx="4718160" cy="1881360"/>
            <a:chOff x="500040" y="347760"/>
            <a:chExt cx="4718160" cy="1881360"/>
          </a:xfrm>
        </p:grpSpPr>
        <p:pic>
          <p:nvPicPr>
            <p:cNvPr id="34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00040" y="347760"/>
              <a:ext cx="47181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71680" y="42876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роведение акции </a:t>
              </a:r>
              <a:r>
                <a:rPr b="1" lang="ru-RU" sz="2800" spc="-1" strike="noStrike">
                  <a:solidFill>
                    <a:srgbClr val="c00000"/>
                  </a:solidFill>
                  <a:latin typeface="Constantia"/>
                </a:rPr>
                <a:t>«Бумаге – вторую жизнь!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Прямоугольник 2"/>
          <p:cNvGrpSpPr/>
          <p:nvPr/>
        </p:nvGrpSpPr>
        <p:grpSpPr>
          <a:xfrm>
            <a:off x="3054240" y="3498840"/>
            <a:ext cx="5986440" cy="2727360"/>
            <a:chOff x="3054240" y="3498840"/>
            <a:chExt cx="5986440" cy="2727360"/>
          </a:xfrm>
        </p:grpSpPr>
        <p:pic>
          <p:nvPicPr>
            <p:cNvPr id="34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54240" y="3498840"/>
              <a:ext cx="598644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14800" y="3571920"/>
              <a:ext cx="5643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Учитывая, что из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1 килограмма 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макулатуры получается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25 школьных тетрадей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, можно предположить, что из нашей макулатуры можно сделать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18 000 таких тетрадей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. И при этом можно спасти от вырубки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7-10 деревь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Рисунок 3" descr="https://click-or-die.ru/wp-content/uploads/2019/02/00C22717-3017-46C8-8D6A-1806CB5388A6-1024x935.jpeg"/>
          <p:cNvPicPr/>
          <p:nvPr/>
        </p:nvPicPr>
        <p:blipFill>
          <a:blip r:embed="rId3"/>
          <a:stretch/>
        </p:blipFill>
        <p:spPr>
          <a:xfrm>
            <a:off x="357120" y="2571840"/>
            <a:ext cx="26672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Прямоугольник 1"/>
          <p:cNvGrpSpPr/>
          <p:nvPr/>
        </p:nvGrpSpPr>
        <p:grpSpPr>
          <a:xfrm>
            <a:off x="566640" y="596880"/>
            <a:ext cx="7150320" cy="1857240"/>
            <a:chOff x="566640" y="596880"/>
            <a:chExt cx="7150320" cy="1857240"/>
          </a:xfrm>
        </p:grpSpPr>
        <p:pic>
          <p:nvPicPr>
            <p:cNvPr id="35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66640" y="596880"/>
              <a:ext cx="71503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42960" y="714240"/>
              <a:ext cx="700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Изготовление бумаги в домашних условиях.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Прямоугольник 2"/>
          <p:cNvGrpSpPr/>
          <p:nvPr/>
        </p:nvGrpSpPr>
        <p:grpSpPr>
          <a:xfrm>
            <a:off x="4071960" y="2176560"/>
            <a:ext cx="5145120" cy="517320"/>
            <a:chOff x="4071960" y="2176560"/>
            <a:chExt cx="5145120" cy="517320"/>
          </a:xfrm>
        </p:grpSpPr>
        <p:pic>
          <p:nvPicPr>
            <p:cNvPr id="35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71960" y="2176560"/>
              <a:ext cx="51451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143240" y="2214720"/>
              <a:ext cx="5000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57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Прямоугольник 8"/>
          <p:cNvSpPr/>
          <p:nvPr/>
        </p:nvSpPr>
        <p:spPr>
          <a:xfrm>
            <a:off x="928800" y="192888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Сначала мы рассортировали бумагу на две части: одна часть – это старые газеты, вторая – использованные листы офисной бумаги. Нарвали руками на маленькие кус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3" descr="C:\Users\Сергей\AppData\Local\Microsoft\Windows\Temporary Internet Files\Content.Word\IMG-4488e1f6006a2ed439317793194f93e6-V.JPG"/>
          <p:cNvPicPr/>
          <p:nvPr/>
        </p:nvPicPr>
        <p:blipFill>
          <a:blip r:embed="rId2"/>
          <a:stretch/>
        </p:blipFill>
        <p:spPr>
          <a:xfrm>
            <a:off x="1571760" y="3071880"/>
            <a:ext cx="2400120" cy="3200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4214880" y="364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Сложили в две миски, добавили        немного горячей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Оставили бумагу на ночь, чтобы она размок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Если посмотреть вокруг, мы увидим, какое огромное количество бумаги  нас окружа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С каждым годом потребность в бумаге увеличивается, а запасы древесины, из которой её получают - уменьшаются.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6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Прямоугольник 8"/>
          <p:cNvSpPr/>
          <p:nvPr/>
        </p:nvSpPr>
        <p:spPr>
          <a:xfrm>
            <a:off x="928800" y="20001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785880" y="1928880"/>
            <a:ext cx="72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Затем измельчили бумагу миксе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и получили бумажную масс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пригодную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В полученную массу добавили клей П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4" descr="C:\Users\Сергей\AppData\Local\Microsoft\Windows\Temporary Internet Files\Content.Word\IMG-e2eedc696a1af7d158647f666cf10411-V.JPG"/>
          <p:cNvPicPr/>
          <p:nvPr/>
        </p:nvPicPr>
        <p:blipFill>
          <a:blip r:embed="rId2"/>
          <a:stretch/>
        </p:blipFill>
        <p:spPr>
          <a:xfrm>
            <a:off x="5786280" y="1714680"/>
            <a:ext cx="2071800" cy="2938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5" descr="C:\Users\Сергей\AppData\Local\Microsoft\Windows\Temporary Internet Files\Content.Word\IMG-ebf03e187e237a32c6c080b24515904e-V.JPG"/>
          <p:cNvPicPr/>
          <p:nvPr/>
        </p:nvPicPr>
        <p:blipFill>
          <a:blip r:embed="rId3"/>
          <a:stretch/>
        </p:blipFill>
        <p:spPr>
          <a:xfrm>
            <a:off x="1571760" y="3714840"/>
            <a:ext cx="2286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7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Прямоугольник 8"/>
          <p:cNvSpPr/>
          <p:nvPr/>
        </p:nvSpPr>
        <p:spPr>
          <a:xfrm>
            <a:off x="928800" y="157176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Немного отжали массу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Разложили массу на твердую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Разровняли массу руками, высуш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3" descr="C:\Users\Сергей\AppData\Local\Microsoft\Windows\Temporary Internet Files\Content.Word\IMG-07dfa4039435e597367b579edb252dc4-V.JPG"/>
          <p:cNvPicPr/>
          <p:nvPr/>
        </p:nvPicPr>
        <p:blipFill>
          <a:blip r:embed="rId2"/>
          <a:stretch/>
        </p:blipFill>
        <p:spPr>
          <a:xfrm>
            <a:off x="714240" y="3571920"/>
            <a:ext cx="2143440" cy="29336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C:\Users\Сергей\AppData\Local\Microsoft\Windows\Temporary Internet Files\Content.Word\IMG-0d1bcea7c0b9905676b840dc0026a6ea-V.JPG"/>
          <p:cNvPicPr/>
          <p:nvPr/>
        </p:nvPicPr>
        <p:blipFill>
          <a:blip r:embed="rId3"/>
          <a:stretch/>
        </p:blipFill>
        <p:spPr>
          <a:xfrm>
            <a:off x="6786720" y="135720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C:\Users\Сергей\AppData\Local\Microsoft\Windows\Temporary Internet Files\Content.Word\IMG-ea1428435100fbcb7f6f33282dab7ba1-V.JPG"/>
          <p:cNvPicPr/>
          <p:nvPr/>
        </p:nvPicPr>
        <p:blipFill>
          <a:blip r:embed="rId4"/>
          <a:stretch/>
        </p:blipFill>
        <p:spPr>
          <a:xfrm>
            <a:off x="3786120" y="350028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C:\Users\Сергей\AppData\Local\Microsoft\Windows\Temporary Internet Files\Content.Word\IMG-c18ab77293cfda26f2ab14cf3d2f7ea6-V.JPG"/>
          <p:cNvPicPr/>
          <p:nvPr/>
        </p:nvPicPr>
        <p:blipFill>
          <a:blip r:embed="rId5"/>
          <a:stretch/>
        </p:blipFill>
        <p:spPr>
          <a:xfrm>
            <a:off x="6715080" y="3714840"/>
            <a:ext cx="2200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Прямоугольник 8"/>
          <p:cNvSpPr/>
          <p:nvPr/>
        </p:nvSpPr>
        <p:spPr>
          <a:xfrm>
            <a:off x="928800" y="192888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з газет получилась бумага серого ц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а из исписанной бумаги для офисной техники – белоснежная</a:t>
            </a:r>
            <a:r>
              <a:rPr b="0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3" descr="http://abc-paper.ru/wp-content/uploads/2020/12/papel-reciclado-1024x677.jpg"/>
          <p:cNvPicPr/>
          <p:nvPr/>
        </p:nvPicPr>
        <p:blipFill>
          <a:blip r:embed="rId2"/>
          <a:stretch/>
        </p:blipFill>
        <p:spPr>
          <a:xfrm>
            <a:off x="4857840" y="3500280"/>
            <a:ext cx="3892320" cy="25480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https://im0-tub-ru.yandex.net/i?id=27fdc7d0053876e4d6ca7475ad6fecf0&amp;ref=rim&amp;n=33&amp;w=248&amp;h=165"/>
          <p:cNvPicPr/>
          <p:nvPr/>
        </p:nvPicPr>
        <p:blipFill>
          <a:blip r:embed="rId3"/>
          <a:stretch/>
        </p:blipFill>
        <p:spPr>
          <a:xfrm>
            <a:off x="714240" y="350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Прямоугольник 1"/>
          <p:cNvGrpSpPr/>
          <p:nvPr/>
        </p:nvGrpSpPr>
        <p:grpSpPr>
          <a:xfrm>
            <a:off x="285840" y="633240"/>
            <a:ext cx="8072280" cy="714600"/>
            <a:chOff x="285840" y="633240"/>
            <a:chExt cx="8072280" cy="714600"/>
          </a:xfrm>
        </p:grpSpPr>
        <p:pic>
          <p:nvPicPr>
            <p:cNvPr id="38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5840" y="633240"/>
              <a:ext cx="80722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57120" y="714240"/>
              <a:ext cx="79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Заключ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Прямоугольник 8"/>
          <p:cNvSpPr/>
          <p:nvPr/>
        </p:nvSpPr>
        <p:spPr>
          <a:xfrm>
            <a:off x="928800" y="1928880"/>
            <a:ext cx="7572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Подводя итоги моего исследования, можно с уверенностью сказать,  что  переработ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дной тонны макулатуры 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спасает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0 -12 деревьев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, экономит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20 000 литров 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воды 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000 кВ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т электроэнергии. Таким образом, гипотеза,  выдвинутая мной, подтвердилась. Сбор макулатуры действительно является  огромным вкладом в спасение лесного богатства нашей план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Заголовок 1"/>
          <p:cNvGrpSpPr/>
          <p:nvPr/>
        </p:nvGrpSpPr>
        <p:grpSpPr>
          <a:xfrm>
            <a:off x="281160" y="1517760"/>
            <a:ext cx="8667720" cy="4114800"/>
            <a:chOff x="281160" y="1517760"/>
            <a:chExt cx="8667720" cy="4114800"/>
          </a:xfrm>
        </p:grpSpPr>
        <p:pic>
          <p:nvPicPr>
            <p:cNvPr id="3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67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71680" y="1785960"/>
              <a:ext cx="830556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Даже маленький вклад очень ценен для большого и важного дела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Сдай макулатуру — спаси жизнь дереву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500"/>
              </a:b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бъект исслед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4e6d"/>
                </a:solidFill>
                <a:latin typeface="Constantia"/>
              </a:rPr>
              <a:t>ненужная бумага ( макулатур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Рисунок 3" descr="https://informupack.ru/upload/iblock/4a0/4a035438ac9f9a7c0246f509fef0bceb.jpg"/>
          <p:cNvPicPr/>
          <p:nvPr/>
        </p:nvPicPr>
        <p:blipFill>
          <a:blip r:embed="rId1"/>
          <a:stretch/>
        </p:blipFill>
        <p:spPr>
          <a:xfrm>
            <a:off x="500040" y="2786040"/>
            <a:ext cx="4025880" cy="2684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http://xn--12-dlcm8bmahg7gm.xn--p1ai/assets/images/depositphotos-10990933-original-2000x1333.jpg"/>
          <p:cNvPicPr/>
          <p:nvPr/>
        </p:nvPicPr>
        <p:blipFill>
          <a:blip r:embed="rId2"/>
          <a:stretch/>
        </p:blipFill>
        <p:spPr>
          <a:xfrm>
            <a:off x="5214960" y="3357720"/>
            <a:ext cx="3357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едмет  исслед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4e6d"/>
                </a:solidFill>
                <a:latin typeface="Constantia"/>
              </a:rPr>
              <a:t>возможность вторичного использования бумаг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Рисунок 3" descr="https://siberia.sibnovosti.ru/pictures/0615/7307/vIstmiRgIww_thumb_fed_photo.jpg"/>
          <p:cNvPicPr/>
          <p:nvPr/>
        </p:nvPicPr>
        <p:blipFill>
          <a:blip r:embed="rId1"/>
          <a:stretch/>
        </p:blipFill>
        <p:spPr>
          <a:xfrm>
            <a:off x="2500200" y="2928960"/>
            <a:ext cx="4400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Цель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привлечь внимание людей к тому, что необходимо сдавать макулатуру, дав бумаге вторую жизнь, чтобы сберечь л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Рисунок 3" descr="https://im0-tub-ru.yandex.net/i?id=620e06ae459f350a8730f9a7b087d6fe&amp;n=13"/>
          <p:cNvPicPr/>
          <p:nvPr/>
        </p:nvPicPr>
        <p:blipFill>
          <a:blip r:embed="rId1"/>
          <a:stretch/>
        </p:blipFill>
        <p:spPr>
          <a:xfrm>
            <a:off x="2071800" y="3286080"/>
            <a:ext cx="5000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Проанализировать литературу по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Изучить пользу сбора макула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Изготовить бумагу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Провести акцию «Бумаге – вторая жизнь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Сделать выводы о значении бума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Привлечь внимание окружающих к проблеме вырубки леса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План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6d"/>
                </a:solidFill>
                <a:latin typeface="Constantia"/>
              </a:rPr>
              <a:t>1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. Изучение бумаги, как материала с использованием  литературы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2. Познакомиться с понятием макулатуры и изучить области ее применения;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3. Выявить   осведомленность учащихся об  использовании вторичного бумажного сырь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4. Изучить, сколько макулатуры собирает наш класс, и сколько деревьев это сможет сохранить от вырубки;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5. Попытаться  получить бумагу в домашних условия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6. Изготовить поделки из полученной бумаг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7. Обобщить проделанную работу и сделать вывод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8. Организовать экологическую акцию «Бумаге – вторую жизнь!» в класс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Гипо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считаю, что возрождение сбора макулатуры в школах поможет спасению лесов от вырубк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и что изготовление новой бумаги из  макулатуры доступно в домашних условиях даже школьни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История возникновения бумаг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ам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Гли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ора деревье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еревянные дощеч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окрытые воск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апиру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Рисунок 3" descr="https://avatars.mds.yandex.net/get-zen_doc/1912454/pub_5cb35c875e307d00b4f89a95_5cb3621493828900b32ecc81/scale_1200"/>
          <p:cNvPicPr/>
          <p:nvPr/>
        </p:nvPicPr>
        <p:blipFill>
          <a:blip r:embed="rId1"/>
          <a:stretch/>
        </p:blipFill>
        <p:spPr>
          <a:xfrm>
            <a:off x="5429160" y="1928880"/>
            <a:ext cx="3067200" cy="2187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" descr="https://images-na.ssl-images-amazon.com/images/I/81ddJ5YZSNL._AC_SL1500_.jpg"/>
          <p:cNvPicPr/>
          <p:nvPr/>
        </p:nvPicPr>
        <p:blipFill>
          <a:blip r:embed="rId2"/>
          <a:stretch/>
        </p:blipFill>
        <p:spPr>
          <a:xfrm>
            <a:off x="1428840" y="4286160"/>
            <a:ext cx="3286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ергей</cp:lastModifiedBy>
  <dcterms:modified xsi:type="dcterms:W3CDTF">2021-04-28T19:13:51Z</dcterms:modified>
  <cp:revision>135</cp:revision>
  <dc:subject/>
  <dc:title>Слайд 1</dc:title>
</cp:coreProperties>
</file>