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9FA-754C-4647-8DB2-0149BFBDB7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1218-82F6-4B12-A573-943942D23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DA0-6B8C-40DB-AA61-6AFC274B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9CC-7A86-4924-96CF-D21CDB4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404-89F3-4DE3-B147-5B39788D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0C2-0EB6-4C91-A1A1-12E4A4F2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C305-275B-4DA3-852D-E3B37902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1B55-E3F6-4688-A831-95D20111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1BDB-0568-4292-9EA8-52C27B97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B46F-9447-40E2-A7AA-BCEA74B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35C-3BB7-4772-B870-65596E77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D936-3A88-42A6-B7EE-AF37AE4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3620-5C39-4B26-9ABD-484F426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46D-C4BE-43AC-A277-D53783C6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096-C191-4A4E-A15F-48922C7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680-CD3A-4325-BC61-100A0BC7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1CB3-09D3-42F2-B31A-EB40581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635D-2776-4F23-B4B2-DE43525E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99E6-7194-4C41-B903-55E1F97B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80167-02A3-4CC6-9D59-F50EAF99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EC01F-4EE1-482A-992E-28F4E75F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94A96-6F01-481C-B74F-C0EA12EA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00297-5457-4B7D-B0D5-0B14A8F0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1E6AA-BD75-48AF-BFF3-55C6950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957-C372-4501-B691-5CBD7DB3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B8008-4ADF-4BF8-BDE1-2E96F233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AD2A3-5660-4305-BA10-CF24B7AC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22FE1-64D4-470B-AA07-5C778D39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C9C2B-0331-466A-A876-77D031A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5DB6D-D32B-446C-8BBB-A48BA25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EF63F-A317-409F-A845-CBDA5E80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3104E-BF28-479C-AEC8-E0EB2CA5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36E5-E66C-43A0-A27D-1FCA294F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F444-2143-456D-B02E-547D57C6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F542-6BC5-4A98-9117-2BF05D88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49B-3393-428E-B9BA-2C5D3073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F3B4-F18B-4C04-9E1E-00B194AD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B0EC-C4E7-49E1-BC2E-599A131B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EBD3-F416-4029-8D4C-67BAF74E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D8DC-6B16-4B09-9A70-F9742D55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5372-3B8E-4BE5-B2CA-1CBD412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1780-681D-4EF1-B9EC-0485870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66F3-841B-4034-B137-7B715D4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F814-53DC-4D01-A068-19A48610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8D5D-3D99-4F9D-99AF-D059949A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809A7-D96B-4B08-8BCD-B764441F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F92-844C-4844-8CBE-5FB28C0D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E79C1-57D4-46EE-9F25-9C28909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1DF8A-27ED-4883-84B2-BF16C552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5DE68-3892-4B63-89F6-325FFBD6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624AD-26E2-447F-A9B6-31C4F01E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D160D-8FA4-46C5-8DF6-52E4D5FA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22540-EAAE-4F66-AD9C-3B97B36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BD4B0-9C27-498B-867F-E65085D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F4D27-15EA-4A12-9CB0-6CB7EBE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1AAE0-EED5-48E4-B352-512C706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3238B-4BCD-4C3E-9C5A-A1DBDDFF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D19-F217-4B9A-8C69-912B266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4DF58-65A2-4339-952A-76357BE3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F35F0-DD1D-488A-9906-DF415815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E014F-6B2B-4872-BCE1-3FC5FB3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348B3-D229-498A-8639-76BA5BAC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3DD3A-1CFB-4359-80CE-69BF0CB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00044-F8FE-460C-919E-55B9BDC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CB2B2-15F2-44DA-84C6-6EE56EBE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E2151-E4D0-4054-8409-D6F45AF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BD2CE-0C46-4943-9751-A179475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153CB-B0C7-49BC-A20E-AD200AE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D4A-5EAF-4087-B18C-A6EF6D2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A6D22-DF17-4AEE-A6B5-4D86F4BB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C8CFA-91F8-4F08-94FA-9D9B8430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703F6-3B23-4F5F-8D0D-1831EFF7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BE889-678C-4B3D-A0F1-52FEAD4A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E247E-57B9-4D79-B894-A377F61D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BB3C4-D557-4023-8F4B-440BD66F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90291-612B-444D-A592-D71D585A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D8EC3-78F9-46DD-8CBE-FDCE6D7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3619B-00ED-49F6-8C12-BCFAEED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0A946-1A5A-4A2C-9A2A-BC85FCA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43B-A68F-4100-963A-03EF455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61737-6449-4044-B190-BEC1CA40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F4197-D2B4-478F-B256-CA17670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DE5F9-2083-4227-8F2E-CB1852A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15EFB-064A-4FC5-A613-256D8670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832DB-6A14-4004-BECE-018B13DA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659-DA00-4FCA-A851-E048C1F8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003-C5B8-427C-B9BE-06D60C3D56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319-4FAD-4953-9A89-CA7A31A228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C7E2-A2F4-4062-AF0D-04BA50C59F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F19-C02A-46AE-8B80-8BA238B909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869-AF56-4E03-81BF-62A2172285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CA83-6498-4E51-BE5D-3BEB9DE1299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24F9-BA60-466E-B2AA-4E84B67CAD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34920" y="1844640"/>
            <a:ext cx="858996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6044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440">
              <a:lnSpc>
                <a:spcPct val="120000"/>
              </a:lnSpc>
              <a:spcBef>
                <a:spcPts val="1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мотивации учеб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4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ате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4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3892680" y="5338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"/>
              </a:rPr>
              <a:t>Ахмадова Мадина Сал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829800" y="62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2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1564200" y="6508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од бабочки. Сравнение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902880" y="5229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TextBox 5" descr=""/>
          <p:cNvPicPr/>
          <p:nvPr/>
        </p:nvPicPr>
        <p:blipFill>
          <a:blip r:embed="rId2"/>
          <a:stretch/>
        </p:blipFill>
        <p:spPr>
          <a:xfrm>
            <a:off x="1371600" y="5168880"/>
            <a:ext cx="828720" cy="54288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6" descr=""/>
          <p:cNvPicPr/>
          <p:nvPr/>
        </p:nvPicPr>
        <p:blipFill>
          <a:blip r:embed="rId3"/>
          <a:stretch/>
        </p:blipFill>
        <p:spPr>
          <a:xfrm>
            <a:off x="2255760" y="5168880"/>
            <a:ext cx="432000" cy="542880"/>
          </a:xfrm>
          <a:prstGeom prst="rect">
            <a:avLst/>
          </a:prstGeom>
          <a:ln w="0">
            <a:noFill/>
          </a:ln>
        </p:spPr>
      </p:pic>
      <p:pic>
        <p:nvPicPr>
          <p:cNvPr id="407" name="TextBox 7" descr=""/>
          <p:cNvPicPr/>
          <p:nvPr/>
        </p:nvPicPr>
        <p:blipFill>
          <a:blip r:embed="rId4"/>
          <a:stretch/>
        </p:blipFill>
        <p:spPr>
          <a:xfrm>
            <a:off x="5089680" y="5168880"/>
            <a:ext cx="420480" cy="542880"/>
          </a:xfrm>
          <a:prstGeom prst="rect">
            <a:avLst/>
          </a:prstGeom>
          <a:ln w="0">
            <a:noFill/>
          </a:ln>
        </p:spPr>
      </p:pic>
      <p:pic>
        <p:nvPicPr>
          <p:cNvPr id="408" name="TextBox 8" descr=""/>
          <p:cNvPicPr/>
          <p:nvPr/>
        </p:nvPicPr>
        <p:blipFill>
          <a:blip r:embed="rId5"/>
          <a:stretch/>
        </p:blipFill>
        <p:spPr>
          <a:xfrm>
            <a:off x="4608360" y="5168880"/>
            <a:ext cx="414360" cy="54288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9" descr=""/>
          <p:cNvPicPr/>
          <p:nvPr/>
        </p:nvPicPr>
        <p:blipFill>
          <a:blip r:embed="rId6"/>
          <a:stretch/>
        </p:blipFill>
        <p:spPr>
          <a:xfrm>
            <a:off x="5541840" y="5168880"/>
            <a:ext cx="517680" cy="542880"/>
          </a:xfrm>
          <a:prstGeom prst="rect">
            <a:avLst/>
          </a:prstGeom>
          <a:ln w="0">
            <a:noFill/>
          </a:ln>
        </p:spPr>
      </p:pic>
      <p:pic>
        <p:nvPicPr>
          <p:cNvPr id="410" name="TextBox 10" descr=""/>
          <p:cNvPicPr/>
          <p:nvPr/>
        </p:nvPicPr>
        <p:blipFill>
          <a:blip r:embed="rId7"/>
          <a:stretch/>
        </p:blipFill>
        <p:spPr>
          <a:xfrm>
            <a:off x="4145040" y="5168880"/>
            <a:ext cx="414360" cy="542880"/>
          </a:xfrm>
          <a:prstGeom prst="rect">
            <a:avLst/>
          </a:prstGeom>
          <a:ln w="0">
            <a:noFill/>
          </a:ln>
        </p:spPr>
      </p:pic>
      <p:pic>
        <p:nvPicPr>
          <p:cNvPr id="411" name="TextBox 11" descr=""/>
          <p:cNvPicPr/>
          <p:nvPr/>
        </p:nvPicPr>
        <p:blipFill>
          <a:blip r:embed="rId8"/>
          <a:stretch/>
        </p:blipFill>
        <p:spPr>
          <a:xfrm>
            <a:off x="3475080" y="5168880"/>
            <a:ext cx="620640" cy="542880"/>
          </a:xfrm>
          <a:prstGeom prst="rect">
            <a:avLst/>
          </a:prstGeom>
          <a:ln w="0">
            <a:noFill/>
          </a:ln>
        </p:spPr>
      </p:pic>
      <p:pic>
        <p:nvPicPr>
          <p:cNvPr id="412" name="TextBox 12" descr=""/>
          <p:cNvPicPr/>
          <p:nvPr/>
        </p:nvPicPr>
        <p:blipFill>
          <a:blip r:embed="rId9"/>
          <a:stretch/>
        </p:blipFill>
        <p:spPr>
          <a:xfrm>
            <a:off x="2786040" y="5168880"/>
            <a:ext cx="622440" cy="542880"/>
          </a:xfrm>
          <a:prstGeom prst="rect">
            <a:avLst/>
          </a:prstGeom>
          <a:ln w="0">
            <a:noFill/>
          </a:ln>
        </p:spPr>
      </p:pic>
      <p:sp>
        <p:nvSpPr>
          <p:cNvPr id="413" name="Левая круглая скобка 13"/>
          <p:cNvSpPr/>
          <p:nvPr/>
        </p:nvSpPr>
        <p:spPr>
          <a:xfrm rot="16200000">
            <a:off x="3693960" y="3867120"/>
            <a:ext cx="341280" cy="3770280"/>
          </a:xfrm>
          <a:custGeom>
            <a:avLst/>
            <a:gdLst>
              <a:gd name="textAreaLeft" fmla="*/ 100080 w 341280"/>
              <a:gd name="textAreaRight" fmla="*/ 341640 w 341280"/>
              <a:gd name="textAreaTop" fmla="*/ 14040 h 3770280"/>
              <a:gd name="textAreaBottom" fmla="*/ 375624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2"/>
                  <a:pt x="0" y="163"/>
                </a:cubicBezTo>
                <a:lnTo>
                  <a:pt x="0" y="21437"/>
                </a:lnTo>
                <a:cubicBezTo>
                  <a:pt x="0" y="21519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829800" y="62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TextBox 2" descr=""/>
          <p:cNvPicPr/>
          <p:nvPr/>
        </p:nvPicPr>
        <p:blipFill>
          <a:blip r:embed="rId1"/>
          <a:stretch/>
        </p:blipFill>
        <p:spPr>
          <a:xfrm>
            <a:off x="1463760" y="609480"/>
            <a:ext cx="620640" cy="549360"/>
          </a:xfrm>
          <a:prstGeom prst="rect">
            <a:avLst/>
          </a:prstGeom>
          <a:ln w="0">
            <a:noFill/>
          </a:ln>
        </p:spPr>
      </p:pic>
      <p:pic>
        <p:nvPicPr>
          <p:cNvPr id="416" name="TextBox 3" descr=""/>
          <p:cNvPicPr/>
          <p:nvPr/>
        </p:nvPicPr>
        <p:blipFill>
          <a:blip r:embed="rId2"/>
          <a:stretch/>
        </p:blipFill>
        <p:spPr>
          <a:xfrm>
            <a:off x="2193840" y="609480"/>
            <a:ext cx="476280" cy="549360"/>
          </a:xfrm>
          <a:prstGeom prst="rect">
            <a:avLst/>
          </a:prstGeom>
          <a:ln w="0">
            <a:noFill/>
          </a:ln>
        </p:spPr>
      </p:pic>
      <p:pic>
        <p:nvPicPr>
          <p:cNvPr id="417" name="TextBox 4" descr=""/>
          <p:cNvPicPr/>
          <p:nvPr/>
        </p:nvPicPr>
        <p:blipFill>
          <a:blip r:embed="rId3"/>
          <a:stretch/>
        </p:blipFill>
        <p:spPr>
          <a:xfrm>
            <a:off x="4827600" y="609480"/>
            <a:ext cx="622440" cy="54936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5" descr=""/>
          <p:cNvPicPr/>
          <p:nvPr/>
        </p:nvPicPr>
        <p:blipFill>
          <a:blip r:embed="rId4"/>
          <a:stretch/>
        </p:blipFill>
        <p:spPr>
          <a:xfrm>
            <a:off x="5529240" y="609480"/>
            <a:ext cx="579600" cy="54936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6" descr=""/>
          <p:cNvPicPr/>
          <p:nvPr/>
        </p:nvPicPr>
        <p:blipFill>
          <a:blip r:embed="rId5"/>
          <a:stretch/>
        </p:blipFill>
        <p:spPr>
          <a:xfrm>
            <a:off x="4164120" y="603360"/>
            <a:ext cx="579240" cy="542880"/>
          </a:xfrm>
          <a:prstGeom prst="rect">
            <a:avLst/>
          </a:prstGeom>
          <a:ln w="0">
            <a:noFill/>
          </a:ln>
        </p:spPr>
      </p:pic>
      <p:pic>
        <p:nvPicPr>
          <p:cNvPr id="420" name="TextBox 7" descr=""/>
          <p:cNvPicPr/>
          <p:nvPr/>
        </p:nvPicPr>
        <p:blipFill>
          <a:blip r:embed="rId6"/>
          <a:stretch/>
        </p:blipFill>
        <p:spPr>
          <a:xfrm>
            <a:off x="3468600" y="609480"/>
            <a:ext cx="627120" cy="54936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8" descr=""/>
          <p:cNvPicPr/>
          <p:nvPr/>
        </p:nvPicPr>
        <p:blipFill>
          <a:blip r:embed="rId7"/>
          <a:stretch/>
        </p:blipFill>
        <p:spPr>
          <a:xfrm>
            <a:off x="2773440" y="603360"/>
            <a:ext cx="639720" cy="542880"/>
          </a:xfrm>
          <a:prstGeom prst="rect">
            <a:avLst/>
          </a:prstGeom>
          <a:ln w="0">
            <a:noFill/>
          </a:ln>
        </p:spPr>
      </p:pic>
      <p:sp>
        <p:nvSpPr>
          <p:cNvPr id="422" name="Левая круглая скобка 9"/>
          <p:cNvSpPr/>
          <p:nvPr/>
        </p:nvSpPr>
        <p:spPr>
          <a:xfrm rot="16200000">
            <a:off x="3703680" y="-774360"/>
            <a:ext cx="341280" cy="3960720"/>
          </a:xfrm>
          <a:custGeom>
            <a:avLst/>
            <a:gdLst>
              <a:gd name="textAreaLeft" fmla="*/ 100080 w 341280"/>
              <a:gd name="textAreaRight" fmla="*/ 341640 w 341280"/>
              <a:gd name="textAreaTop" fmla="*/ 14040 h 3960720"/>
              <a:gd name="textAreaBottom" fmla="*/ 394668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8"/>
                  <a:pt x="0" y="155"/>
                </a:cubicBezTo>
                <a:lnTo>
                  <a:pt x="0" y="21445"/>
                </a:lnTo>
                <a:cubicBezTo>
                  <a:pt x="0" y="2152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0"/>
          <p:cNvSpPr/>
          <p:nvPr/>
        </p:nvSpPr>
        <p:spPr>
          <a:xfrm>
            <a:off x="829800" y="1835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TextBox 21" descr=""/>
          <p:cNvPicPr/>
          <p:nvPr/>
        </p:nvPicPr>
        <p:blipFill>
          <a:blip r:embed="rId8"/>
          <a:stretch/>
        </p:blipFill>
        <p:spPr>
          <a:xfrm>
            <a:off x="1432080" y="1762200"/>
            <a:ext cx="415800" cy="54756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22" descr=""/>
          <p:cNvPicPr/>
          <p:nvPr/>
        </p:nvPicPr>
        <p:blipFill>
          <a:blip r:embed="rId9"/>
          <a:stretch/>
        </p:blipFill>
        <p:spPr>
          <a:xfrm>
            <a:off x="2425680" y="1762200"/>
            <a:ext cx="841320" cy="547560"/>
          </a:xfrm>
          <a:prstGeom prst="rect">
            <a:avLst/>
          </a:prstGeom>
          <a:ln w="0">
            <a:noFill/>
          </a:ln>
        </p:spPr>
      </p:pic>
      <p:pic>
        <p:nvPicPr>
          <p:cNvPr id="426" name="TextBox 23" descr=""/>
          <p:cNvPicPr/>
          <p:nvPr/>
        </p:nvPicPr>
        <p:blipFill>
          <a:blip r:embed="rId10"/>
          <a:stretch/>
        </p:blipFill>
        <p:spPr>
          <a:xfrm>
            <a:off x="3328920" y="1779480"/>
            <a:ext cx="633600" cy="542880"/>
          </a:xfrm>
          <a:prstGeom prst="rect">
            <a:avLst/>
          </a:prstGeom>
          <a:ln w="0">
            <a:noFill/>
          </a:ln>
        </p:spPr>
      </p:pic>
      <p:pic>
        <p:nvPicPr>
          <p:cNvPr id="427" name="TextBox 24" descr=""/>
          <p:cNvPicPr/>
          <p:nvPr/>
        </p:nvPicPr>
        <p:blipFill>
          <a:blip r:embed="rId11"/>
          <a:stretch/>
        </p:blipFill>
        <p:spPr>
          <a:xfrm>
            <a:off x="4035600" y="1779480"/>
            <a:ext cx="639720" cy="542880"/>
          </a:xfrm>
          <a:prstGeom prst="rect">
            <a:avLst/>
          </a:prstGeom>
          <a:ln w="0">
            <a:noFill/>
          </a:ln>
        </p:spPr>
      </p:pic>
      <p:pic>
        <p:nvPicPr>
          <p:cNvPr id="428" name="TextBox 25" descr=""/>
          <p:cNvPicPr/>
          <p:nvPr/>
        </p:nvPicPr>
        <p:blipFill>
          <a:blip r:embed="rId12"/>
          <a:stretch/>
        </p:blipFill>
        <p:spPr>
          <a:xfrm>
            <a:off x="5430960" y="1785960"/>
            <a:ext cx="641160" cy="549360"/>
          </a:xfrm>
          <a:prstGeom prst="rect">
            <a:avLst/>
          </a:prstGeom>
          <a:ln w="0">
            <a:noFill/>
          </a:ln>
        </p:spPr>
      </p:pic>
      <p:pic>
        <p:nvPicPr>
          <p:cNvPr id="429" name="TextBox 26" descr=""/>
          <p:cNvPicPr/>
          <p:nvPr/>
        </p:nvPicPr>
        <p:blipFill>
          <a:blip r:embed="rId13"/>
          <a:stretch/>
        </p:blipFill>
        <p:spPr>
          <a:xfrm>
            <a:off x="4737240" y="1785960"/>
            <a:ext cx="633240" cy="549360"/>
          </a:xfrm>
          <a:prstGeom prst="rect">
            <a:avLst/>
          </a:prstGeom>
          <a:ln w="0">
            <a:noFill/>
          </a:ln>
        </p:spPr>
      </p:pic>
      <p:pic>
        <p:nvPicPr>
          <p:cNvPr id="430" name="TextBox 27" descr=""/>
          <p:cNvPicPr/>
          <p:nvPr/>
        </p:nvPicPr>
        <p:blipFill>
          <a:blip r:embed="rId14"/>
          <a:stretch/>
        </p:blipFill>
        <p:spPr>
          <a:xfrm>
            <a:off x="6126120" y="1779480"/>
            <a:ext cx="639720" cy="542880"/>
          </a:xfrm>
          <a:prstGeom prst="rect">
            <a:avLst/>
          </a:prstGeom>
          <a:ln w="0">
            <a:noFill/>
          </a:ln>
        </p:spPr>
      </p:pic>
      <p:pic>
        <p:nvPicPr>
          <p:cNvPr id="431" name="TextBox 29" descr=""/>
          <p:cNvPicPr/>
          <p:nvPr/>
        </p:nvPicPr>
        <p:blipFill>
          <a:blip r:embed="rId15"/>
          <a:stretch/>
        </p:blipFill>
        <p:spPr>
          <a:xfrm>
            <a:off x="1944720" y="1762200"/>
            <a:ext cx="426960" cy="547560"/>
          </a:xfrm>
          <a:prstGeom prst="rect">
            <a:avLst/>
          </a:prstGeom>
          <a:ln w="0">
            <a:noFill/>
          </a:ln>
        </p:spPr>
      </p:pic>
      <p:sp>
        <p:nvSpPr>
          <p:cNvPr id="432" name="Левая круглая скобка 30"/>
          <p:cNvSpPr/>
          <p:nvPr/>
        </p:nvSpPr>
        <p:spPr>
          <a:xfrm rot="16200000">
            <a:off x="1977840" y="1892160"/>
            <a:ext cx="341280" cy="1017720"/>
          </a:xfrm>
          <a:custGeom>
            <a:avLst/>
            <a:gdLst>
              <a:gd name="textAreaLeft" fmla="*/ 100080 w 341280"/>
              <a:gd name="textAreaRight" fmla="*/ 341640 w 341280"/>
              <a:gd name="textAreaTop" fmla="*/ 14040 h 1017720"/>
              <a:gd name="textAreaBottom" fmla="*/ 1003680 h 10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02"/>
                  <a:pt x="0" y="604"/>
                </a:cubicBezTo>
                <a:lnTo>
                  <a:pt x="0" y="20996"/>
                </a:lnTo>
                <a:cubicBezTo>
                  <a:pt x="0" y="21298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1956600" y="249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1619280" y="765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вой размер обуви умножаете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1619280" y="13208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 нему прибавляете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"/>
          <p:cNvSpPr/>
          <p:nvPr/>
        </p:nvSpPr>
        <p:spPr>
          <a:xfrm>
            <a:off x="1581120" y="187632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лученный результат умножаете на 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1619280" y="246528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т этого ответа отнимаете свой год 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7"/>
          <p:cNvSpPr/>
          <p:nvPr/>
        </p:nvSpPr>
        <p:spPr>
          <a:xfrm>
            <a:off x="1763640" y="98100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приходит в этот мир со своей целью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й он и должен стремиться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таком случае,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человека обретает смысл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846520" y="3359160"/>
            <a:ext cx="4822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4000" y="2637000"/>
            <a:ext cx="74674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Мотивация</a:t>
            </a:r>
            <a:r>
              <a:rPr b="1" lang="ru-RU" sz="2800" spc="-1" strike="noStrike">
                <a:solidFill>
                  <a:srgbClr val="3f6d19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3f6d19"/>
                </a:solidFill>
                <a:latin typeface="Century Schoolbook"/>
              </a:rPr>
              <a:t>– это система внутренних и внешних мотивов, побуждающих к выполнению каких-либо действ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0" t="0" r="0" b="7068"/>
          <a:stretch/>
        </p:blipFill>
        <p:spPr>
          <a:xfrm>
            <a:off x="250920" y="404640"/>
            <a:ext cx="3384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rcRect l="0" t="0" r="0" b="7068"/>
          <a:stretch/>
        </p:blipFill>
        <p:spPr>
          <a:xfrm>
            <a:off x="19080" y="20520"/>
            <a:ext cx="1657440" cy="18003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1700280" y="189000"/>
            <a:ext cx="683892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считаете, почему на один и тот же вопрос, люди,  занимающиеся одной и той же работой, отвечали по -  разному? Почему так вы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илось это в Средние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руководивший строительством школы, решил посмотреть, как  работают каменщ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дошел к первому и попросил его рассказать  о свое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сижу перед каменной глыбой и работаю резцом. Скучная и ну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, изнуряющая меня,- сказал тот со зл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подошел ко второму каменщику и спросил его о том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работаю по камню резцом и зарабатываю этим деньги. Теперь м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не будет голодать,- ответил мастер сдерж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увидел третьего каменщика и спросил о его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 стороны, кажется, что я режу камень. Но на самом деле я строю  школу, которая простоит тысячу лет. Я строю будущее, - улыбнувшись,  ответил третий камен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4"/>
          <p:cNvSpPr/>
          <p:nvPr/>
        </p:nvSpPr>
        <p:spPr>
          <a:xfrm>
            <a:off x="1763640" y="1916280"/>
            <a:ext cx="7056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459000" algn="ctr">
              <a:lnSpc>
                <a:spcPct val="12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мотивации   учеб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4"/>
          <p:cNvSpPr/>
          <p:nvPr/>
        </p:nvSpPr>
        <p:spPr>
          <a:xfrm>
            <a:off x="755640" y="83664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Если падаешь со ска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в пропа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почему бы не попробо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полете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Что ты теря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2"/>
          <p:cNvSpPr/>
          <p:nvPr/>
        </p:nvSpPr>
        <p:spPr>
          <a:xfrm>
            <a:off x="250920" y="1376280"/>
            <a:ext cx="8281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2160"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мотива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бучающийся захотел получить знания,  которые мы с Вами готовы ему передать,  либо создать условия, чтобы он сам вз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над повышением мотив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читываю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object 11"/>
          <p:cNvSpPr/>
          <p:nvPr/>
        </p:nvSpPr>
        <p:spPr>
          <a:xfrm>
            <a:off x="324000" y="692280"/>
            <a:ext cx="8424720" cy="57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600" bIns="0" anchor="t">
            <a:spAutoFit/>
          </a:bodyPr>
          <a:p>
            <a:pPr marL="1952640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мя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ё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264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услыша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baseline="25000">
                <a:solidFill>
                  <a:srgbClr val="00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900" spc="-1" strike="noStrike" baseline="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</a:t>
            </a:r>
            <a:r>
              <a:rPr b="1" lang="ru-RU" sz="3900" spc="-1" strike="noStrike" baseline="-21000">
                <a:solidFill>
                  <a:srgbClr val="00ff00"/>
                </a:solidFill>
                <a:latin typeface="Times New Roman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увид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2640" algn="ctr">
              <a:lnSpc>
                <a:spcPct val="101000"/>
              </a:lnSpc>
              <a:spcBef>
                <a:spcPts val="1962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услышанного и увиденного  одновременн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2640" algn="ctr">
              <a:lnSpc>
                <a:spcPct val="101000"/>
              </a:lnSpc>
              <a:spcBef>
                <a:spcPts val="1049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¾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атериала, если ко всему прочему  ученик вовлечён в активные действия в  процессе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863640" y="1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йфха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63640" y="1397160"/>
          <a:ext cx="2016360" cy="66348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64800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Прямая соединительная линия 6"/>
          <p:cNvSpPr/>
          <p:nvPr/>
        </p:nvSpPr>
        <p:spPr>
          <a:xfrm flipH="1">
            <a:off x="1332000" y="1413000"/>
            <a:ext cx="107928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7"/>
          <p:cNvSpPr/>
          <p:nvPr/>
        </p:nvSpPr>
        <p:spPr>
          <a:xfrm flipH="1">
            <a:off x="2010960" y="1397160"/>
            <a:ext cx="107964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8"/>
          <p:cNvSpPr/>
          <p:nvPr/>
        </p:nvSpPr>
        <p:spPr>
          <a:xfrm flipH="1">
            <a:off x="2690640" y="1413000"/>
            <a:ext cx="108144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20142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26442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28428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938400" y="15447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3439800" y="170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4"/>
          <p:cNvSpPr/>
          <p:nvPr/>
        </p:nvSpPr>
        <p:spPr>
          <a:xfrm>
            <a:off x="3185640" y="14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5"/>
          <p:cNvSpPr/>
          <p:nvPr/>
        </p:nvSpPr>
        <p:spPr>
          <a:xfrm>
            <a:off x="178380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6"/>
          <p:cNvSpPr/>
          <p:nvPr/>
        </p:nvSpPr>
        <p:spPr>
          <a:xfrm>
            <a:off x="2068200" y="165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246492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2758680" y="169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9"/>
          <p:cNvSpPr/>
          <p:nvPr/>
        </p:nvSpPr>
        <p:spPr>
          <a:xfrm>
            <a:off x="3323880" y="2070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0"/>
          <p:cNvSpPr/>
          <p:nvPr/>
        </p:nvSpPr>
        <p:spPr>
          <a:xfrm>
            <a:off x="250632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1"/>
          <p:cNvSpPr/>
          <p:nvPr/>
        </p:nvSpPr>
        <p:spPr>
          <a:xfrm>
            <a:off x="1820520" y="20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2"/>
          <p:cNvSpPr/>
          <p:nvPr/>
        </p:nvSpPr>
        <p:spPr>
          <a:xfrm>
            <a:off x="1150560" y="202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3"/>
          <p:cNvSpPr/>
          <p:nvPr/>
        </p:nvSpPr>
        <p:spPr>
          <a:xfrm>
            <a:off x="5519880" y="11746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9 х 7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4"/>
          <p:cNvSpPr/>
          <p:nvPr/>
        </p:nvSpPr>
        <p:spPr>
          <a:xfrm>
            <a:off x="866520" y="90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5"/>
          <p:cNvSpPr/>
          <p:nvPr/>
        </p:nvSpPr>
        <p:spPr>
          <a:xfrm>
            <a:off x="6658920" y="1144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6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7"/>
          <p:cNvSpPr/>
          <p:nvPr/>
        </p:nvSpPr>
        <p:spPr>
          <a:xfrm>
            <a:off x="850680" y="3070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TextBox 29" descr=""/>
          <p:cNvPicPr/>
          <p:nvPr/>
        </p:nvPicPr>
        <p:blipFill>
          <a:blip r:embed="rId1"/>
          <a:stretch/>
        </p:blipFill>
        <p:spPr>
          <a:xfrm>
            <a:off x="1859040" y="3144960"/>
            <a:ext cx="981000" cy="598320"/>
          </a:xfrm>
          <a:prstGeom prst="rect">
            <a:avLst/>
          </a:prstGeom>
          <a:ln w="0">
            <a:noFill/>
          </a:ln>
        </p:spPr>
      </p:pic>
      <p:sp>
        <p:nvSpPr>
          <p:cNvPr id="394" name="Дуга 31"/>
          <p:cNvSpPr/>
          <p:nvPr/>
        </p:nvSpPr>
        <p:spPr>
          <a:xfrm rot="15431400">
            <a:off x="2016720" y="3073680"/>
            <a:ext cx="522360" cy="374400"/>
          </a:xfrm>
          <a:custGeom>
            <a:avLst/>
            <a:gdLst/>
            <a:ahLst/>
            <a:rect l="l" t="t" r="r" b="b"/>
            <a:pathLst>
              <a:path stroke="0" w="522288" h="374650">
                <a:moveTo>
                  <a:pt x="261144" y="0"/>
                </a:moveTo>
                <a:cubicBezTo>
                  <a:pt x="321389" y="0"/>
                  <a:pt x="379781" y="14942"/>
                  <a:pt x="426424" y="42293"/>
                </a:cubicBezTo>
                <a:cubicBezTo>
                  <a:pt x="500032" y="85456"/>
                  <a:pt x="535123" y="153905"/>
                  <a:pt x="518036" y="220992"/>
                </a:cubicBezTo>
                <a:lnTo>
                  <a:pt x="261144" y="187325"/>
                </a:lnTo>
                <a:lnTo>
                  <a:pt x="261144" y="0"/>
                </a:lnTo>
                <a:close/>
              </a:path>
              <a:path fill="none" w="522288" h="374650">
                <a:moveTo>
                  <a:pt x="261144" y="0"/>
                </a:moveTo>
                <a:cubicBezTo>
                  <a:pt x="321389" y="0"/>
                  <a:pt x="379781" y="14942"/>
                  <a:pt x="426424" y="42293"/>
                </a:cubicBezTo>
                <a:cubicBezTo>
                  <a:pt x="500032" y="85456"/>
                  <a:pt x="535123" y="153905"/>
                  <a:pt x="518036" y="220992"/>
                </a:cubicBezTo>
              </a:path>
            </a:pathLst>
          </a:custGeom>
          <a:noFill/>
          <a:ln w="25560">
            <a:solidFill>
              <a:srgbClr val="ea157a"/>
            </a:solidFill>
            <a:round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2"/>
          <p:cNvSpPr/>
          <p:nvPr/>
        </p:nvSpPr>
        <p:spPr>
          <a:xfrm>
            <a:off x="2156400" y="2657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Прямая со стрелкой 34"/>
          <p:cNvCxnSpPr/>
          <p:nvPr/>
        </p:nvCxnSpPr>
        <p:spPr>
          <a:xfrm>
            <a:off x="2471760" y="2966760"/>
            <a:ext cx="467280" cy="176760"/>
          </a:xfrm>
          <a:prstGeom prst="straightConnector1">
            <a:avLst/>
          </a:prstGeom>
          <a:ln w="25560">
            <a:solidFill>
              <a:srgbClr val="ea157a"/>
            </a:solidFill>
            <a:miter/>
            <a:tailEnd len="med" type="triangle" w="med"/>
          </a:ln>
        </p:spPr>
      </p:cxnSp>
      <p:sp>
        <p:nvSpPr>
          <p:cNvPr id="397" name="TextBox 35"/>
          <p:cNvSpPr/>
          <p:nvPr/>
        </p:nvSpPr>
        <p:spPr>
          <a:xfrm>
            <a:off x="1748880" y="288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6"/>
          <p:cNvSpPr/>
          <p:nvPr/>
        </p:nvSpPr>
        <p:spPr>
          <a:xfrm>
            <a:off x="2600640" y="31798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7"/>
          <p:cNvSpPr/>
          <p:nvPr/>
        </p:nvSpPr>
        <p:spPr>
          <a:xfrm>
            <a:off x="2804400" y="315432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3"/>
          <p:cNvSpPr/>
          <p:nvPr/>
        </p:nvSpPr>
        <p:spPr>
          <a:xfrm>
            <a:off x="3243960" y="315288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дина</dc:creator>
  <dc:description/>
  <dc:language>en-US</dc:language>
  <cp:lastModifiedBy>Мадина Магомадова</cp:lastModifiedBy>
  <dcterms:modified xsi:type="dcterms:W3CDTF">2024-03-24T20:43:52Z</dcterms:modified>
  <cp:revision>82</cp:revision>
  <dc:subject/>
  <dc:title>Прие</dc:title>
</cp:coreProperties>
</file>