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CE4-0030-451B-AC06-7EC369FA36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9B1-5EAA-4FE5-8682-916E7F316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9E2-D85E-492E-8B84-8067F069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553-3293-4813-A9F4-F6158EF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D2E-F015-4291-B6DE-B86CCC86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A75-EADA-4D2F-99B6-A1AE98FA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7F4-1574-42E3-B4C6-DC1E7824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D6F-9829-4FCC-81AA-CA70DCD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6FD-D216-4E0F-8728-623A439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FE81-3184-49D9-B022-CED88FF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679F-96DF-45D1-82BC-E9D0D49C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F01C-DAFD-4C0F-8AE5-720510B6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BBE-3931-430B-B352-A88E467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32-C399-405B-B851-6B851891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0D4-3CEF-46AE-B1AA-7F577912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3FAA-BF0D-4CB9-9C1D-AB6427A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253-F372-40C0-8D63-7D5951A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AE9-7934-4904-8359-8F0F61AC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62A2-1516-4503-ABA3-8DE0A0D5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F853-845F-4EBD-96BD-D7FCABBE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55F54-50FE-4073-AEF2-20CABAF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17E25-7BE2-460B-B06B-808A9AAC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DA55-6AD8-4F34-A533-3970639A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56EA1-26CC-4759-93D9-3FFB9B34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6F2-B2E9-4B91-A6D6-77EB936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AA59A-37AE-4734-96D3-5892C46E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F9AE9-4B88-484E-864F-3F554A6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19F96-171C-4D9A-9A02-D361C89D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B0FE0-2F28-4429-ACCE-843E0FC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7D745-2727-407C-9B57-8210D91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80471-68A8-48EF-8BEE-06E9B8B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CB32C-62AF-4C78-9ECE-D303CEC5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5E7F-C9D4-4722-BB74-54A00552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1C458-598A-45CD-897C-3685A299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4ED6-1FEF-48C2-801E-56982456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6B2-EA8B-4EC8-A3A3-51800AF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891A-A6CC-4277-A1BE-F5D5B6B0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25BF-4B35-48C3-B155-8353CC6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6DC9-DC72-4981-998F-B0AF4B5A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3717-89C5-4F9C-8CF9-51C55072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2AC1-D06F-4242-A4B3-5AE57AA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C787-9872-4D72-8AB0-666CC45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0D3E-42A2-41FD-8271-802CD25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77D8-B310-4D6B-91DA-F74DC49D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FD82-480C-4DBA-885E-7E0E8676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ED9C8-ABAF-4EB9-8758-A8614594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2A6-129F-401D-BA47-AE07EDD8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B28BA-DB07-4BB0-965B-C82CB1A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2A274-6BC6-476E-BC73-24D6B92B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FD668-ADB8-488D-AD45-E82E136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BA88F-A47E-4185-A2F3-2EA8819A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A5475-A2B4-4B43-A90F-02C7A9F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03D29-E292-413C-8D2F-E2E6DFA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7FDED-1FD1-4B8E-9802-EB9347F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2B8E1-40AF-488B-8668-1FC4AD0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87230-17FB-4754-9467-A11E5407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31ED7-38E7-4DBE-89C7-22C6191F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AF4-A3FE-457A-A2F9-B49C91C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47E7A-7AF0-47F5-842C-049F389E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08D8F-EB3E-44E4-9A67-DBB2ECD3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37A62-20C3-4BAB-B6A3-9A7D0C0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E5875-E3DB-44A4-99B6-0374BEE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9D953-054C-4F51-B29A-612BA5EC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60C35-9D98-4CBF-B0EF-F2CCE75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A0900-5AE0-4911-8F11-BC02405E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2F3E6-E946-4571-A295-2BB4015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9E0DD-4BA9-4E5D-AC88-5062915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E9644-F296-4EC7-9D15-264E87D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055-5142-46B5-AE53-C430CB8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58B6A-F4E6-4A07-8914-E13293B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25B44-E3BF-444C-B383-97822681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568E5-0523-4C98-815A-11263851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A9DFA-F4CC-410B-B0FD-109CEED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5B28B-AF5C-455F-AA6A-F804525C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91F55-B2C5-46C7-B817-219A3F4E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4BD29-2AC7-49A2-9DEC-C4A4B90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50FC5-DEBE-4768-AE96-B07E298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1833A-2531-48F3-B5A9-5545DC8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7A4AC-36C4-4948-AF56-29128FF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15B-676D-435C-B3C4-EAF1901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2F1DA-B4A8-4774-AA64-2E06F57B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C7258-3538-4076-914A-3435EE1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DF869-F1C5-49C7-95A7-DFBC4BD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FC16D-8AED-4ACE-9531-06EB1C7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454EC-0EB2-4C8B-9820-85993206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849-28F8-4021-A68C-0B52EFC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2B26-4E27-478C-811F-2771BBA282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8F3-0764-414E-AC91-0F0F037DFF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D43-A604-40C5-A34F-53A5732CEF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4321-821A-447D-ADDB-538BC4D145A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329E-BE22-4453-A194-FF936B9D8E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CAA7-923D-4B04-B021-24B2055C96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C53D-F4C6-46A7-86F7-0A234B4F48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34920" y="1844640"/>
            <a:ext cx="8589960" cy="17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60440">
              <a:lnSpc>
                <a:spcPct val="120000"/>
              </a:lnSpc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астер-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20000"/>
              </a:lnSpc>
              <a:spcBef>
                <a:spcPts val="1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мотивации учеб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ате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4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3892680" y="5338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6d19"/>
                </a:solidFill>
                <a:latin typeface="Arial"/>
              </a:rPr>
              <a:t>Ахмадова Мадина Сал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829800" y="62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1564200" y="6508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 бабочки. Сравнение дро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902880" y="5229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TextBox 5" descr=""/>
          <p:cNvPicPr/>
          <p:nvPr/>
        </p:nvPicPr>
        <p:blipFill>
          <a:blip r:embed="rId2"/>
          <a:stretch/>
        </p:blipFill>
        <p:spPr>
          <a:xfrm>
            <a:off x="1371600" y="5168880"/>
            <a:ext cx="828720" cy="54288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6" descr=""/>
          <p:cNvPicPr/>
          <p:nvPr/>
        </p:nvPicPr>
        <p:blipFill>
          <a:blip r:embed="rId3"/>
          <a:stretch/>
        </p:blipFill>
        <p:spPr>
          <a:xfrm>
            <a:off x="2255760" y="5168880"/>
            <a:ext cx="432000" cy="542880"/>
          </a:xfrm>
          <a:prstGeom prst="rect">
            <a:avLst/>
          </a:prstGeom>
          <a:ln w="0">
            <a:noFill/>
          </a:ln>
        </p:spPr>
      </p:pic>
      <p:pic>
        <p:nvPicPr>
          <p:cNvPr id="407" name="TextBox 7" descr=""/>
          <p:cNvPicPr/>
          <p:nvPr/>
        </p:nvPicPr>
        <p:blipFill>
          <a:blip r:embed="rId4"/>
          <a:stretch/>
        </p:blipFill>
        <p:spPr>
          <a:xfrm>
            <a:off x="5089680" y="5168880"/>
            <a:ext cx="420480" cy="542880"/>
          </a:xfrm>
          <a:prstGeom prst="rect">
            <a:avLst/>
          </a:prstGeom>
          <a:ln w="0">
            <a:noFill/>
          </a:ln>
        </p:spPr>
      </p:pic>
      <p:pic>
        <p:nvPicPr>
          <p:cNvPr id="408" name="TextBox 8" descr=""/>
          <p:cNvPicPr/>
          <p:nvPr/>
        </p:nvPicPr>
        <p:blipFill>
          <a:blip r:embed="rId5"/>
          <a:stretch/>
        </p:blipFill>
        <p:spPr>
          <a:xfrm>
            <a:off x="4608360" y="5168880"/>
            <a:ext cx="414360" cy="54288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9" descr=""/>
          <p:cNvPicPr/>
          <p:nvPr/>
        </p:nvPicPr>
        <p:blipFill>
          <a:blip r:embed="rId6"/>
          <a:stretch/>
        </p:blipFill>
        <p:spPr>
          <a:xfrm>
            <a:off x="5541840" y="5168880"/>
            <a:ext cx="517680" cy="542880"/>
          </a:xfrm>
          <a:prstGeom prst="rect">
            <a:avLst/>
          </a:prstGeom>
          <a:ln w="0">
            <a:noFill/>
          </a:ln>
        </p:spPr>
      </p:pic>
      <p:pic>
        <p:nvPicPr>
          <p:cNvPr id="410" name="TextBox 10" descr=""/>
          <p:cNvPicPr/>
          <p:nvPr/>
        </p:nvPicPr>
        <p:blipFill>
          <a:blip r:embed="rId7"/>
          <a:stretch/>
        </p:blipFill>
        <p:spPr>
          <a:xfrm>
            <a:off x="4145040" y="5168880"/>
            <a:ext cx="414360" cy="542880"/>
          </a:xfrm>
          <a:prstGeom prst="rect">
            <a:avLst/>
          </a:prstGeom>
          <a:ln w="0">
            <a:noFill/>
          </a:ln>
        </p:spPr>
      </p:pic>
      <p:pic>
        <p:nvPicPr>
          <p:cNvPr id="411" name="TextBox 11" descr=""/>
          <p:cNvPicPr/>
          <p:nvPr/>
        </p:nvPicPr>
        <p:blipFill>
          <a:blip r:embed="rId8"/>
          <a:stretch/>
        </p:blipFill>
        <p:spPr>
          <a:xfrm>
            <a:off x="3475080" y="5168880"/>
            <a:ext cx="620640" cy="542880"/>
          </a:xfrm>
          <a:prstGeom prst="rect">
            <a:avLst/>
          </a:prstGeom>
          <a:ln w="0">
            <a:noFill/>
          </a:ln>
        </p:spPr>
      </p:pic>
      <p:pic>
        <p:nvPicPr>
          <p:cNvPr id="412" name="TextBox 12" descr=""/>
          <p:cNvPicPr/>
          <p:nvPr/>
        </p:nvPicPr>
        <p:blipFill>
          <a:blip r:embed="rId9"/>
          <a:stretch/>
        </p:blipFill>
        <p:spPr>
          <a:xfrm>
            <a:off x="2786040" y="5168880"/>
            <a:ext cx="622440" cy="542880"/>
          </a:xfrm>
          <a:prstGeom prst="rect">
            <a:avLst/>
          </a:prstGeom>
          <a:ln w="0">
            <a:noFill/>
          </a:ln>
        </p:spPr>
      </p:pic>
      <p:sp>
        <p:nvSpPr>
          <p:cNvPr id="413" name="Левая круглая скобка 13"/>
          <p:cNvSpPr/>
          <p:nvPr/>
        </p:nvSpPr>
        <p:spPr>
          <a:xfrm rot="16200000">
            <a:off x="3693960" y="3867120"/>
            <a:ext cx="341280" cy="377028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3770280"/>
              <a:gd name="textAreaBottom" fmla="*/ 375624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2"/>
                  <a:pt x="0" y="163"/>
                </a:cubicBezTo>
                <a:lnTo>
                  <a:pt x="0" y="21437"/>
                </a:lnTo>
                <a:cubicBezTo>
                  <a:pt x="0" y="2151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829800" y="62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TextBox 2" descr=""/>
          <p:cNvPicPr/>
          <p:nvPr/>
        </p:nvPicPr>
        <p:blipFill>
          <a:blip r:embed="rId1"/>
          <a:stretch/>
        </p:blipFill>
        <p:spPr>
          <a:xfrm>
            <a:off x="1463760" y="609480"/>
            <a:ext cx="620640" cy="54936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3" descr=""/>
          <p:cNvPicPr/>
          <p:nvPr/>
        </p:nvPicPr>
        <p:blipFill>
          <a:blip r:embed="rId2"/>
          <a:stretch/>
        </p:blipFill>
        <p:spPr>
          <a:xfrm>
            <a:off x="2193840" y="609480"/>
            <a:ext cx="476280" cy="54936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4" descr=""/>
          <p:cNvPicPr/>
          <p:nvPr/>
        </p:nvPicPr>
        <p:blipFill>
          <a:blip r:embed="rId3"/>
          <a:stretch/>
        </p:blipFill>
        <p:spPr>
          <a:xfrm>
            <a:off x="4827600" y="609480"/>
            <a:ext cx="622440" cy="54936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5" descr=""/>
          <p:cNvPicPr/>
          <p:nvPr/>
        </p:nvPicPr>
        <p:blipFill>
          <a:blip r:embed="rId4"/>
          <a:stretch/>
        </p:blipFill>
        <p:spPr>
          <a:xfrm>
            <a:off x="5529240" y="609480"/>
            <a:ext cx="579600" cy="54936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6" descr=""/>
          <p:cNvPicPr/>
          <p:nvPr/>
        </p:nvPicPr>
        <p:blipFill>
          <a:blip r:embed="rId5"/>
          <a:stretch/>
        </p:blipFill>
        <p:spPr>
          <a:xfrm>
            <a:off x="4164120" y="603360"/>
            <a:ext cx="579240" cy="542880"/>
          </a:xfrm>
          <a:prstGeom prst="rect">
            <a:avLst/>
          </a:prstGeom>
          <a:ln w="0">
            <a:noFill/>
          </a:ln>
        </p:spPr>
      </p:pic>
      <p:pic>
        <p:nvPicPr>
          <p:cNvPr id="420" name="TextBox 7" descr=""/>
          <p:cNvPicPr/>
          <p:nvPr/>
        </p:nvPicPr>
        <p:blipFill>
          <a:blip r:embed="rId6"/>
          <a:stretch/>
        </p:blipFill>
        <p:spPr>
          <a:xfrm>
            <a:off x="3468600" y="609480"/>
            <a:ext cx="627120" cy="54936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8" descr=""/>
          <p:cNvPicPr/>
          <p:nvPr/>
        </p:nvPicPr>
        <p:blipFill>
          <a:blip r:embed="rId7"/>
          <a:stretch/>
        </p:blipFill>
        <p:spPr>
          <a:xfrm>
            <a:off x="2773440" y="603360"/>
            <a:ext cx="639720" cy="542880"/>
          </a:xfrm>
          <a:prstGeom prst="rect">
            <a:avLst/>
          </a:prstGeom>
          <a:ln w="0">
            <a:noFill/>
          </a:ln>
        </p:spPr>
      </p:pic>
      <p:sp>
        <p:nvSpPr>
          <p:cNvPr id="422" name="Левая круглая скобка 9"/>
          <p:cNvSpPr/>
          <p:nvPr/>
        </p:nvSpPr>
        <p:spPr>
          <a:xfrm rot="16200000">
            <a:off x="3703680" y="-774360"/>
            <a:ext cx="341280" cy="396072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3960720"/>
              <a:gd name="textAreaBottom" fmla="*/ 394668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8"/>
                  <a:pt x="0" y="155"/>
                </a:cubicBezTo>
                <a:lnTo>
                  <a:pt x="0" y="21445"/>
                </a:lnTo>
                <a:cubicBezTo>
                  <a:pt x="0" y="21523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0"/>
          <p:cNvSpPr/>
          <p:nvPr/>
        </p:nvSpPr>
        <p:spPr>
          <a:xfrm>
            <a:off x="829800" y="1835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TextBox 21" descr=""/>
          <p:cNvPicPr/>
          <p:nvPr/>
        </p:nvPicPr>
        <p:blipFill>
          <a:blip r:embed="rId8"/>
          <a:stretch/>
        </p:blipFill>
        <p:spPr>
          <a:xfrm>
            <a:off x="1432080" y="1762200"/>
            <a:ext cx="415800" cy="54756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22" descr=""/>
          <p:cNvPicPr/>
          <p:nvPr/>
        </p:nvPicPr>
        <p:blipFill>
          <a:blip r:embed="rId9"/>
          <a:stretch/>
        </p:blipFill>
        <p:spPr>
          <a:xfrm>
            <a:off x="2425680" y="1762200"/>
            <a:ext cx="841320" cy="54756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23" descr=""/>
          <p:cNvPicPr/>
          <p:nvPr/>
        </p:nvPicPr>
        <p:blipFill>
          <a:blip r:embed="rId10"/>
          <a:stretch/>
        </p:blipFill>
        <p:spPr>
          <a:xfrm>
            <a:off x="3328920" y="1779480"/>
            <a:ext cx="633600" cy="542880"/>
          </a:xfrm>
          <a:prstGeom prst="rect">
            <a:avLst/>
          </a:prstGeom>
          <a:ln w="0">
            <a:noFill/>
          </a:ln>
        </p:spPr>
      </p:pic>
      <p:pic>
        <p:nvPicPr>
          <p:cNvPr id="427" name="TextBox 24" descr=""/>
          <p:cNvPicPr/>
          <p:nvPr/>
        </p:nvPicPr>
        <p:blipFill>
          <a:blip r:embed="rId11"/>
          <a:stretch/>
        </p:blipFill>
        <p:spPr>
          <a:xfrm>
            <a:off x="4035600" y="1779480"/>
            <a:ext cx="639720" cy="542880"/>
          </a:xfrm>
          <a:prstGeom prst="rect">
            <a:avLst/>
          </a:prstGeom>
          <a:ln w="0">
            <a:noFill/>
          </a:ln>
        </p:spPr>
      </p:pic>
      <p:pic>
        <p:nvPicPr>
          <p:cNvPr id="428" name="TextBox 25" descr=""/>
          <p:cNvPicPr/>
          <p:nvPr/>
        </p:nvPicPr>
        <p:blipFill>
          <a:blip r:embed="rId12"/>
          <a:stretch/>
        </p:blipFill>
        <p:spPr>
          <a:xfrm>
            <a:off x="5430960" y="1785960"/>
            <a:ext cx="641160" cy="549360"/>
          </a:xfrm>
          <a:prstGeom prst="rect">
            <a:avLst/>
          </a:prstGeom>
          <a:ln w="0">
            <a:noFill/>
          </a:ln>
        </p:spPr>
      </p:pic>
      <p:pic>
        <p:nvPicPr>
          <p:cNvPr id="429" name="TextBox 26" descr=""/>
          <p:cNvPicPr/>
          <p:nvPr/>
        </p:nvPicPr>
        <p:blipFill>
          <a:blip r:embed="rId13"/>
          <a:stretch/>
        </p:blipFill>
        <p:spPr>
          <a:xfrm>
            <a:off x="4737240" y="1785960"/>
            <a:ext cx="633240" cy="549360"/>
          </a:xfrm>
          <a:prstGeom prst="rect">
            <a:avLst/>
          </a:prstGeom>
          <a:ln w="0">
            <a:noFill/>
          </a:ln>
        </p:spPr>
      </p:pic>
      <p:pic>
        <p:nvPicPr>
          <p:cNvPr id="430" name="TextBox 27" descr=""/>
          <p:cNvPicPr/>
          <p:nvPr/>
        </p:nvPicPr>
        <p:blipFill>
          <a:blip r:embed="rId14"/>
          <a:stretch/>
        </p:blipFill>
        <p:spPr>
          <a:xfrm>
            <a:off x="6126120" y="1779480"/>
            <a:ext cx="639720" cy="542880"/>
          </a:xfrm>
          <a:prstGeom prst="rect">
            <a:avLst/>
          </a:prstGeom>
          <a:ln w="0">
            <a:noFill/>
          </a:ln>
        </p:spPr>
      </p:pic>
      <p:pic>
        <p:nvPicPr>
          <p:cNvPr id="431" name="TextBox 29" descr=""/>
          <p:cNvPicPr/>
          <p:nvPr/>
        </p:nvPicPr>
        <p:blipFill>
          <a:blip r:embed="rId15"/>
          <a:stretch/>
        </p:blipFill>
        <p:spPr>
          <a:xfrm>
            <a:off x="1944720" y="1762200"/>
            <a:ext cx="426960" cy="547560"/>
          </a:xfrm>
          <a:prstGeom prst="rect">
            <a:avLst/>
          </a:prstGeom>
          <a:ln w="0">
            <a:noFill/>
          </a:ln>
        </p:spPr>
      </p:pic>
      <p:sp>
        <p:nvSpPr>
          <p:cNvPr id="432" name="Левая круглая скобка 30"/>
          <p:cNvSpPr/>
          <p:nvPr/>
        </p:nvSpPr>
        <p:spPr>
          <a:xfrm rot="16200000">
            <a:off x="1977840" y="1892160"/>
            <a:ext cx="341280" cy="1017720"/>
          </a:xfrm>
          <a:custGeom>
            <a:avLst/>
            <a:gdLst>
              <a:gd name="textAreaLeft" fmla="*/ 100080 w 341280"/>
              <a:gd name="textAreaRight" fmla="*/ 341640 w 341280"/>
              <a:gd name="textAreaTop" fmla="*/ 14040 h 1017720"/>
              <a:gd name="textAreaBottom" fmla="*/ 1003680 h 10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02"/>
                  <a:pt x="0" y="604"/>
                </a:cubicBezTo>
                <a:lnTo>
                  <a:pt x="0" y="20996"/>
                </a:lnTo>
                <a:cubicBezTo>
                  <a:pt x="0" y="21298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1956600" y="24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1619280" y="765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вой размер обуви умножаете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1619280" y="13208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 нему прибавляете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1581120" y="187632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лученный результат умножаете на 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1619280" y="246528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т этого ответа отнимаете свой год 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7"/>
          <p:cNvSpPr/>
          <p:nvPr/>
        </p:nvSpPr>
        <p:spPr>
          <a:xfrm>
            <a:off x="1763640" y="98100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приходит в этот мир со своей целью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й он и должен стремиться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таком случае,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человека обретает смысл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846520" y="3359160"/>
            <a:ext cx="48225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4000" y="2637000"/>
            <a:ext cx="74674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Мотивация</a:t>
            </a:r>
            <a:r>
              <a:rPr b="1" lang="ru-RU" sz="2800" spc="-1" strike="noStrike">
                <a:solidFill>
                  <a:srgbClr val="3f6d19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3f6d19"/>
                </a:solidFill>
                <a:latin typeface="Century Schoolbook"/>
              </a:rPr>
              <a:t>– это система внутренних и внешних мотивов, побуждающих к выполнению каких-либо действи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0" t="0" r="0" b="7068"/>
          <a:stretch/>
        </p:blipFill>
        <p:spPr>
          <a:xfrm>
            <a:off x="250920" y="404640"/>
            <a:ext cx="3384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rcRect l="0" t="0" r="0" b="7068"/>
          <a:stretch/>
        </p:blipFill>
        <p:spPr>
          <a:xfrm>
            <a:off x="19080" y="20520"/>
            <a:ext cx="1657440" cy="18003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1700280" y="189000"/>
            <a:ext cx="6838920" cy="61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считаете, почему на один и тот же вопрос, люди,  занимающиеся одной и той же работой, отвечали по -  разному? Почему так вы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илось это в Средние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руководивший строительством школы, решил посмотреть, как  работают каменщ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дошел к первому и попросил его рассказать  о свое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сижу перед каменной глыбой и работаю резцом. Скучная и ну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, изнуряющая меня,- сказал тот со зл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подошел ко второму каменщику и спросил его о том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работаю по камню резцом и зарабатываю этим деньги. Теперь м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не будет голодать,- ответил мастер сдержа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увидел третьего каменщика и спросил о его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тороны, кажется, что я режу камень. Но на самом деле я строю  школу, которая простоит тысячу лет. Я строю будущее, - улыбнувшись,  ответил третий камен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4"/>
          <p:cNvSpPr/>
          <p:nvPr/>
        </p:nvSpPr>
        <p:spPr>
          <a:xfrm>
            <a:off x="1763640" y="1916280"/>
            <a:ext cx="7056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459000" algn="ctr">
              <a:lnSpc>
                <a:spcPct val="12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мотивации   учеб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4"/>
          <p:cNvSpPr/>
          <p:nvPr/>
        </p:nvSpPr>
        <p:spPr>
          <a:xfrm>
            <a:off x="755640" y="83664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Если падаешь со ска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в пропа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почему бы не попробо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полете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29"/>
                </a:solidFill>
                <a:latin typeface="Arial Black"/>
              </a:rPr>
              <a:t>Что ты теря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2"/>
          <p:cNvSpPr/>
          <p:nvPr/>
        </p:nvSpPr>
        <p:spPr>
          <a:xfrm>
            <a:off x="250920" y="1376280"/>
            <a:ext cx="8281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2160"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мотива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учающийся захотел получить знания,  которые мы с Вами готовы ему передать,  либо создать условия, чтобы он сам вз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над повышением мотив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читываю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2160" algn="ctr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object 11"/>
          <p:cNvSpPr/>
          <p:nvPr/>
        </p:nvSpPr>
        <p:spPr>
          <a:xfrm>
            <a:off x="324000" y="692280"/>
            <a:ext cx="8424720" cy="57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8600" bIns="0" anchor="t">
            <a:spAutoFit/>
          </a:bodyPr>
          <a:p>
            <a:pPr marL="1952640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мя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ё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264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слыша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baseline="25000">
                <a:solidFill>
                  <a:srgbClr val="00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900" spc="-1" strike="noStrike" baseline="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/</a:t>
            </a:r>
            <a:r>
              <a:rPr b="1" lang="ru-RU" sz="3900" spc="-1" strike="noStrike" baseline="-21000">
                <a:solidFill>
                  <a:srgbClr val="00ff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вид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 algn="ctr">
              <a:lnSpc>
                <a:spcPct val="101000"/>
              </a:lnSpc>
              <a:spcBef>
                <a:spcPts val="1962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услышанного и увиденного  одновременн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2640" algn="ctr">
              <a:lnSpc>
                <a:spcPct val="101000"/>
              </a:lnSpc>
              <a:spcBef>
                <a:spcPts val="1049"/>
              </a:spcBef>
              <a:tabLst>
                <a:tab algn="l" pos="0"/>
                <a:tab algn="l" pos="3897360"/>
                <a:tab algn="l" pos="5616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¾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атериала, если ко всему прочему  ученик вовлечён в активные действия в  процессе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86364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йфха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63640" y="1397160"/>
          <a:ext cx="2016360" cy="66348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64800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Прямая соединительная линия 6"/>
          <p:cNvSpPr/>
          <p:nvPr/>
        </p:nvSpPr>
        <p:spPr>
          <a:xfrm flipH="1">
            <a:off x="1332000" y="1413000"/>
            <a:ext cx="107928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7"/>
          <p:cNvSpPr/>
          <p:nvPr/>
        </p:nvSpPr>
        <p:spPr>
          <a:xfrm flipH="1">
            <a:off x="2010960" y="1397160"/>
            <a:ext cx="10796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8"/>
          <p:cNvSpPr/>
          <p:nvPr/>
        </p:nvSpPr>
        <p:spPr>
          <a:xfrm flipH="1">
            <a:off x="2690640" y="1413000"/>
            <a:ext cx="10814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20142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26442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28428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3938400" y="154476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3439800" y="170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4"/>
          <p:cNvSpPr/>
          <p:nvPr/>
        </p:nvSpPr>
        <p:spPr>
          <a:xfrm>
            <a:off x="3185640" y="142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5"/>
          <p:cNvSpPr/>
          <p:nvPr/>
        </p:nvSpPr>
        <p:spPr>
          <a:xfrm>
            <a:off x="178380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6"/>
          <p:cNvSpPr/>
          <p:nvPr/>
        </p:nvSpPr>
        <p:spPr>
          <a:xfrm>
            <a:off x="2068200" y="165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246492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2758680" y="169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9"/>
          <p:cNvSpPr/>
          <p:nvPr/>
        </p:nvSpPr>
        <p:spPr>
          <a:xfrm>
            <a:off x="3323880" y="207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0"/>
          <p:cNvSpPr/>
          <p:nvPr/>
        </p:nvSpPr>
        <p:spPr>
          <a:xfrm>
            <a:off x="2506320" y="20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1"/>
          <p:cNvSpPr/>
          <p:nvPr/>
        </p:nvSpPr>
        <p:spPr>
          <a:xfrm>
            <a:off x="1820520" y="20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1150560" y="202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5519880" y="1174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9 х 7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866520" y="90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5"/>
          <p:cNvSpPr/>
          <p:nvPr/>
        </p:nvSpPr>
        <p:spPr>
          <a:xfrm>
            <a:off x="6658920" y="1144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6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7"/>
          <p:cNvSpPr/>
          <p:nvPr/>
        </p:nvSpPr>
        <p:spPr>
          <a:xfrm>
            <a:off x="850680" y="3070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TextBox 29" descr=""/>
          <p:cNvPicPr/>
          <p:nvPr/>
        </p:nvPicPr>
        <p:blipFill>
          <a:blip r:embed="rId1"/>
          <a:stretch/>
        </p:blipFill>
        <p:spPr>
          <a:xfrm>
            <a:off x="1859040" y="3144960"/>
            <a:ext cx="981000" cy="598320"/>
          </a:xfrm>
          <a:prstGeom prst="rect">
            <a:avLst/>
          </a:prstGeom>
          <a:ln w="0">
            <a:noFill/>
          </a:ln>
        </p:spPr>
      </p:pic>
      <p:sp>
        <p:nvSpPr>
          <p:cNvPr id="394" name="Дуга 31"/>
          <p:cNvSpPr/>
          <p:nvPr/>
        </p:nvSpPr>
        <p:spPr>
          <a:xfrm rot="15431400">
            <a:off x="2016720" y="3073680"/>
            <a:ext cx="522360" cy="374400"/>
          </a:xfrm>
          <a:custGeom>
            <a:avLst/>
            <a:gdLst/>
            <a:ahLst/>
            <a:rect l="l" t="t" r="r" b="b"/>
            <a:pathLst>
              <a:path stroke="0" w="522288" h="374650">
                <a:moveTo>
                  <a:pt x="261144" y="0"/>
                </a:moveTo>
                <a:cubicBezTo>
                  <a:pt x="321389" y="0"/>
                  <a:pt x="379781" y="14942"/>
                  <a:pt x="426424" y="42293"/>
                </a:cubicBezTo>
                <a:cubicBezTo>
                  <a:pt x="500032" y="85456"/>
                  <a:pt x="535123" y="153905"/>
                  <a:pt x="518036" y="220992"/>
                </a:cubicBezTo>
                <a:lnTo>
                  <a:pt x="261144" y="187325"/>
                </a:lnTo>
                <a:lnTo>
                  <a:pt x="261144" y="0"/>
                </a:lnTo>
                <a:close/>
              </a:path>
              <a:path fill="none" w="522288" h="374650">
                <a:moveTo>
                  <a:pt x="261144" y="0"/>
                </a:moveTo>
                <a:cubicBezTo>
                  <a:pt x="321389" y="0"/>
                  <a:pt x="379781" y="14942"/>
                  <a:pt x="426424" y="42293"/>
                </a:cubicBezTo>
                <a:cubicBezTo>
                  <a:pt x="500032" y="85456"/>
                  <a:pt x="535123" y="153905"/>
                  <a:pt x="518036" y="220992"/>
                </a:cubicBezTo>
              </a:path>
            </a:pathLst>
          </a:custGeom>
          <a:noFill/>
          <a:ln w="25560">
            <a:solidFill>
              <a:srgbClr val="ea157a"/>
            </a:solidFill>
            <a:round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2"/>
          <p:cNvSpPr/>
          <p:nvPr/>
        </p:nvSpPr>
        <p:spPr>
          <a:xfrm>
            <a:off x="2156400" y="2657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Прямая со стрелкой 34"/>
          <p:cNvCxnSpPr/>
          <p:nvPr/>
        </p:nvCxnSpPr>
        <p:spPr>
          <a:xfrm>
            <a:off x="2471760" y="2966760"/>
            <a:ext cx="467280" cy="176760"/>
          </a:xfrm>
          <a:prstGeom prst="straightConnector1">
            <a:avLst/>
          </a:prstGeom>
          <a:ln w="25560">
            <a:solidFill>
              <a:srgbClr val="ea157a"/>
            </a:solidFill>
            <a:miter/>
            <a:tailEnd len="med" type="triangle" w="med"/>
          </a:ln>
        </p:spPr>
      </p:cxnSp>
      <p:sp>
        <p:nvSpPr>
          <p:cNvPr id="397" name="TextBox 35"/>
          <p:cNvSpPr/>
          <p:nvPr/>
        </p:nvSpPr>
        <p:spPr>
          <a:xfrm>
            <a:off x="1748880" y="288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6"/>
          <p:cNvSpPr/>
          <p:nvPr/>
        </p:nvSpPr>
        <p:spPr>
          <a:xfrm>
            <a:off x="2600640" y="3179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7"/>
          <p:cNvSpPr/>
          <p:nvPr/>
        </p:nvSpPr>
        <p:spPr>
          <a:xfrm>
            <a:off x="2804400" y="315432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3"/>
          <p:cNvSpPr/>
          <p:nvPr/>
        </p:nvSpPr>
        <p:spPr>
          <a:xfrm>
            <a:off x="3243960" y="3152880"/>
            <a:ext cx="6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дина</dc:creator>
  <dc:description/>
  <dc:language>en-US</dc:language>
  <cp:lastModifiedBy>Мадина Магомадова</cp:lastModifiedBy>
  <dcterms:modified xsi:type="dcterms:W3CDTF">2024-03-24T20:43:52Z</dcterms:modified>
  <cp:revision>82</cp:revision>
  <dc:subject/>
  <dc:title>Прие</dc:title>
</cp:coreProperties>
</file>