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png" ContentType="image/pn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D43AD-185D-41C6-8CB1-6BAF14944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FF2EB-923F-4D5E-A26C-95A7BD66D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7FA18-C248-41D4-9F8D-5CA65FAB0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D537D-0D26-4D4D-977E-9B881851F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8B841-DE11-4B2C-A384-30B6AD4B1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3E9DA-E946-49F4-B293-E6D602B20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D2E42-BBA9-4275-BC08-6D81CBF3D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DAD4A-761C-4A99-9123-EE7547671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4AE18-6E7F-4E66-8D43-82DEE6803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0A956-8B52-4082-A757-1EDDA8C96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9C849-4F70-40E9-B965-66149C77F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D08E6-93B0-4CAB-9C2E-1EF141EBA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A17B7-11A1-4ABC-8F62-DA6EAC695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2C8D6-DA12-4534-A2E8-8761D1F03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66088-24DD-4D83-A3EA-C0E4D6312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8B2F7-03E5-4771-A5DB-AF78A614A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0784B-0B23-4932-BAAE-295BE114A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C274B-6ED7-4FA8-A60A-BA5E1EA0A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48933-DE5F-4AFD-90BC-49C80F6B7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59CEB-3696-4DC1-8D64-11378C3FB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E475B-9F99-41D6-87B8-2D5732B0B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B67E6-7DD9-477F-AD4A-70EBC7D6B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73424-3FD2-4A1A-8D04-99F532C30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70F8A-7B76-4493-8A3D-C62621D1E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BBC29-89AC-4BB8-A793-248281AEC98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FD6E5-FB9F-401E-99F9-7C7AB2866E3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2590920"/>
            <a:ext cx="7772400" cy="19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Georgia"/>
                <a:ea typeface="Times New Roman"/>
              </a:rPr>
              <a:t>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енности преподавания математики на уровне среднего общего образования:</a:t>
            </a:r>
            <a:br>
              <a:rPr sz="3000"/>
            </a:b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ые риски и перспективы</a:t>
            </a:r>
            <a:br>
              <a:rPr sz="4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3" descr=""/>
          <p:cNvPicPr/>
          <p:nvPr/>
        </p:nvPicPr>
        <p:blipFill>
          <a:blip r:embed="rId1"/>
          <a:stretch/>
        </p:blipFill>
        <p:spPr>
          <a:xfrm>
            <a:off x="324000" y="189000"/>
            <a:ext cx="1149120" cy="143964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2"/>
          <p:cNvSpPr/>
          <p:nvPr/>
        </p:nvSpPr>
        <p:spPr>
          <a:xfrm>
            <a:off x="1371600" y="152280"/>
            <a:ext cx="7772400" cy="19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Georgia"/>
                <a:ea typeface="SimHei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SimHei"/>
              </a:rPr>
              <a:t>Районное методическое объедине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SimHei"/>
              </a:rPr>
              <a:t>учителей естественно – математического цикла Жарковского района Тверской области</a:t>
            </a:r>
            <a:br>
              <a:rPr sz="40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2"/>
          <p:cNvSpPr/>
          <p:nvPr/>
        </p:nvSpPr>
        <p:spPr>
          <a:xfrm>
            <a:off x="5029200" y="5181480"/>
            <a:ext cx="38862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Georgia"/>
                <a:ea typeface="SimHei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SimHei"/>
              </a:rPr>
              <a:t>Лакеева Елена Ивановн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SimHei"/>
              </a:rPr>
              <a:t>учител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SimHei"/>
              </a:rPr>
              <a:t>МОУ «Жарковская СОШ №1»</a:t>
            </a:r>
            <a:br>
              <a:rPr sz="4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атическое планирование</a:t>
            </a:r>
            <a:br>
              <a:rPr sz="2500"/>
            </a:b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чебного курса «Вероятность и статистика», 10 клас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152280" y="1600200"/>
          <a:ext cx="8839440" cy="4846680"/>
        </p:xfrm>
        <a:graphic>
          <a:graphicData uri="http://schemas.openxmlformats.org/drawingml/2006/table">
            <a:tbl>
              <a:tblPr/>
              <a:tblGrid>
                <a:gridCol w="4724640"/>
                <a:gridCol w="41148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Hei"/>
                        </a:rPr>
                        <a:t>Базовый уровен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Hei"/>
                        </a:rPr>
                        <a:t>(не менее 35 часов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Hei"/>
                        </a:rPr>
                        <a:t>Углубленный уровен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Hei"/>
                        </a:rPr>
                        <a:t>(не менее 35 часов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20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16000" indent="-2160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Hei"/>
                        </a:rPr>
                        <a:t>1.Представление данных и описательная статистика. (4 ч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16000" indent="-2160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Hei"/>
                        </a:rPr>
                        <a:t>2.Случайные опыты и случайные события, опыты с равновозможными элементарными исходами. (3 ч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16000" indent="-2160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Hei"/>
                        </a:rPr>
                        <a:t>3. Операции над событиями, сложение вероятностей. (3 ч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16000" indent="-2160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Hei"/>
                        </a:rPr>
                        <a:t>4.Условная вероятность, дерево случайного опыта, формула полной вероятности и независимость событий. (6 ч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16000" indent="-2160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Hei"/>
                        </a:rPr>
                        <a:t>5.Элементы комбинаторики. (4 ч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16000" indent="-2160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Hei"/>
                        </a:rPr>
                        <a:t>6.Серии последовательных испытаний. (3 ч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16000" indent="-2160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Hei"/>
                        </a:rPr>
                        <a:t>7.Случайные величины и распределения. (6 ч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16000" indent="-2160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Hei"/>
                        </a:rPr>
                        <a:t>8.Обобщение и систематизация знаний. (6 ч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16000" indent="-2160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Hei"/>
                        </a:rPr>
                        <a:t>1.Элементы теории графов. (3 ч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16000" indent="-2160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Hei"/>
                        </a:rPr>
                        <a:t>2. Случайные опыты, случайные события и вероятности событий. (3 ч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16000" indent="-2160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Hei"/>
                        </a:rPr>
                        <a:t>3. Операции над множествами и событиями. Сложение и умножение вероятностей. Условная вероятность. Независимые события. (5 ч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16000" indent="-2160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Hei"/>
                        </a:rPr>
                        <a:t>4. Элементы комбинаторики. (3 ч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16000" indent="-2160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Hei"/>
                        </a:rPr>
                        <a:t>5. Серии последовательных испытаний. Испытания Бернулли. Случайный выбор из конечной совокупности. (5 ч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16000" indent="-2160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Hei"/>
                        </a:rPr>
                        <a:t>6. Случайные величины и распределения. (16 ч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16000" indent="-2160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атическое планирование</a:t>
            </a:r>
            <a:br>
              <a:rPr sz="2500"/>
            </a:b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чебного курса «Вероятность и статистика», 11 клас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152280" y="1600200"/>
          <a:ext cx="8839440" cy="4022640"/>
        </p:xfrm>
        <a:graphic>
          <a:graphicData uri="http://schemas.openxmlformats.org/drawingml/2006/table">
            <a:tbl>
              <a:tblPr/>
              <a:tblGrid>
                <a:gridCol w="4724640"/>
                <a:gridCol w="41148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Hei"/>
                        </a:rPr>
                        <a:t>Базовый уровен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Hei"/>
                        </a:rPr>
                        <a:t>(не менее 35 часов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Hei"/>
                        </a:rPr>
                        <a:t>Углубленный уровен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Hei"/>
                        </a:rPr>
                        <a:t>(не менее 35 часов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3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16000" indent="-2160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Hei"/>
                        </a:rPr>
                        <a:t>1. Повторение, обобщение и систематизация знаний. (4 ч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16000" indent="-2160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Hei"/>
                        </a:rPr>
                        <a:t>2. Математическое ожидание случайной величины. (4 ч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16000" indent="-2160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Hei"/>
                        </a:rPr>
                        <a:t>3. Дисперсия и стандартное отклонение случайной величины. (4 ч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16000" indent="-2160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Hei"/>
                        </a:rPr>
                        <a:t>4. Закон больших чисел. (3 ч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16000" indent="-2160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Hei"/>
                        </a:rPr>
                        <a:t>5. Непрерывные случайные величины. (2 ч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16000" indent="-2160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Hei"/>
                        </a:rPr>
                        <a:t>6. Нормальное распределение. (2 ч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16000" indent="-2160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Hei"/>
                        </a:rPr>
                        <a:t>7. Повторение, обобщение и систематизация знаний. (16 ч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16000" indent="-2160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16000" indent="-2160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Hei"/>
                        </a:rPr>
                        <a:t>1. Закон больших чисел. (5 ч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16000" indent="-2160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Hei"/>
                        </a:rPr>
                        <a:t>2. Элементы математической статистики. (6 ч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16000" indent="-2160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Hei"/>
                        </a:rPr>
                        <a:t>3. Непрерывные случайные величины (распределения), показательное и нормальное распределения. (4 ч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16000" indent="-2160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Hei"/>
                        </a:rPr>
                        <a:t>4. Распределение Пуассона. (2 ч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16000" indent="-2160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Hei"/>
                        </a:rPr>
                        <a:t>5. Связь между случайными величинами.  (6 ч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16000" indent="-2160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Hei"/>
                        </a:rPr>
                        <a:t>6. Обобщение и систематизация знаний. (11 ч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16000" indent="-2160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https://lifeo.ru/wp-content/uploads/kartinka-spasibo-za-vnimanie-dlya-prezentacii-2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9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сто предмета в учебном плане </a:t>
            </a:r>
            <a:br>
              <a:rPr sz="2500"/>
            </a:b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уровне основного общего образования </a:t>
            </a:r>
            <a:br>
              <a:rPr sz="2500"/>
            </a:b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2023 – 2024 уч.г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28600" y="1600200"/>
          <a:ext cx="8763120" cy="4846680"/>
        </p:xfrm>
        <a:graphic>
          <a:graphicData uri="http://schemas.openxmlformats.org/drawingml/2006/table">
            <a:tbl>
              <a:tblPr/>
              <a:tblGrid>
                <a:gridCol w="990720"/>
                <a:gridCol w="1523880"/>
                <a:gridCol w="2895480"/>
                <a:gridCol w="3353040"/>
              </a:tblGrid>
              <a:tr h="752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Hei"/>
                        </a:rPr>
                        <a:t>Класс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Hei"/>
                        </a:rPr>
                        <a:t>Предм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Hei"/>
                        </a:rPr>
                        <a:t>Курс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Hei"/>
                        </a:rPr>
                        <a:t>Количество час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Hei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Hei"/>
                        </a:rPr>
                        <a:t>(базовый уровень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41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SimHei"/>
                        </a:rPr>
                        <a:t>5 - 6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SimHei"/>
                        </a:rPr>
                        <a:t>Математика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SimHei"/>
                        </a:rPr>
                        <a:t>5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1135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SimHei"/>
                        </a:rPr>
                        <a:t>7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SimHei"/>
                        </a:rPr>
                        <a:t>Математика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SimHei"/>
                        </a:rPr>
                        <a:t>Алгебра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SimHei"/>
                        </a:rPr>
                        <a:t>Геометрия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SimHei"/>
                        </a:rPr>
                        <a:t>Вероятность и статистика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SimHei"/>
                        </a:rPr>
                        <a:t>3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SimHei"/>
                        </a:rPr>
                        <a:t>2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SimHei"/>
                        </a:rPr>
                        <a:t>1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261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SimHei"/>
                        </a:rPr>
                        <a:t>8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SimHei"/>
                        </a:rPr>
                        <a:t>Математика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SimHei"/>
                        </a:rPr>
                        <a:t>Алгебра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SimHei"/>
                        </a:rPr>
                        <a:t>Геометрия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Hei"/>
                        </a:rPr>
                        <a:t>Использование ранее разработанных рабочих программ по предмету математика учебные курсы: алгебра, геометр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1261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SimHei"/>
                        </a:rPr>
                        <a:t>9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SimHei"/>
                        </a:rPr>
                        <a:t>Математика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SimHei"/>
                        </a:rPr>
                        <a:t>Алгебра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SimHei"/>
                        </a:rPr>
                        <a:t>Геометрия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Hei"/>
                        </a:rPr>
                        <a:t>Использование ранее разработанных рабочих программ по предмету математика учебные курсы: алгебра, геометр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  <p:pic>
        <p:nvPicPr>
          <p:cNvPr id="88" name="Picture 3" descr=""/>
          <p:cNvPicPr/>
          <p:nvPr/>
        </p:nvPicPr>
        <p:blipFill>
          <a:blip r:embed="rId1"/>
          <a:stretch/>
        </p:blipFill>
        <p:spPr>
          <a:xfrm>
            <a:off x="324000" y="189000"/>
            <a:ext cx="1065240" cy="133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сто предмета в учебном плане </a:t>
            </a:r>
            <a:br>
              <a:rPr sz="2500"/>
            </a:b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уровне среднего общего образования </a:t>
            </a:r>
            <a:br>
              <a:rPr sz="2500"/>
            </a:b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2023 – 2024 уч.г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152280" y="1600200"/>
          <a:ext cx="8839440" cy="4599000"/>
        </p:xfrm>
        <a:graphic>
          <a:graphicData uri="http://schemas.openxmlformats.org/drawingml/2006/table">
            <a:tbl>
              <a:tblPr/>
              <a:tblGrid>
                <a:gridCol w="1219320"/>
                <a:gridCol w="1600200"/>
                <a:gridCol w="2895480"/>
                <a:gridCol w="1355760"/>
                <a:gridCol w="1768680"/>
              </a:tblGrid>
              <a:tr h="1081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Hei"/>
                        </a:rPr>
                        <a:t>Класс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Hei"/>
                        </a:rPr>
                        <a:t>Предм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Hei"/>
                        </a:rPr>
                        <a:t>Курс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Hei"/>
                        </a:rPr>
                        <a:t>Количество час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Hei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Hei"/>
                        </a:rPr>
                        <a:t>базовый         углублен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Hei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Hei"/>
                        </a:rPr>
                        <a:t>уровень               уровен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6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SimHei"/>
                        </a:rPr>
                        <a:t>1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SimHei"/>
                        </a:rPr>
                        <a:t>Математика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SimHei"/>
                        </a:rPr>
                        <a:t>Алгебра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SimHei"/>
                        </a:rPr>
                        <a:t>Геометрия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SimHei"/>
                        </a:rPr>
                        <a:t>Вероятность и статистика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SimHei"/>
                        </a:rPr>
                        <a:t>2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SimHei"/>
                        </a:rPr>
                        <a:t>2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SimHei"/>
                        </a:rPr>
                        <a:t>1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SimHei"/>
                        </a:rPr>
                        <a:t>4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SimHei"/>
                        </a:rPr>
                        <a:t>3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SimHei"/>
                        </a:rPr>
                        <a:t>1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1593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SimHei"/>
                        </a:rPr>
                        <a:t>11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SimHei"/>
                        </a:rPr>
                        <a:t>Математика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SimHei"/>
                        </a:rPr>
                        <a:t>Алгебра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SimHei"/>
                        </a:rPr>
                        <a:t>Геометрия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Hei"/>
                        </a:rPr>
                        <a:t>Использование ранее разработанных рабочих программ по предмету математика учебные курсы: алгебра, геометр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6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SimHei"/>
                        </a:rPr>
                        <a:t>11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Hei"/>
                        </a:rPr>
                        <a:t>2024 - 2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SimHei"/>
                        </a:rPr>
                        <a:t>Математика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SimHei"/>
                        </a:rPr>
                        <a:t>Алгебра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SimHei"/>
                        </a:rPr>
                        <a:t>Геометрия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SimHei"/>
                        </a:rPr>
                        <a:t>Вероятность и статистика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SimHei"/>
                        </a:rPr>
                        <a:t>3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SimHei"/>
                        </a:rPr>
                        <a:t>1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SimHei"/>
                        </a:rPr>
                        <a:t>1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SimHei"/>
                        </a:rPr>
                        <a:t>4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SimHei"/>
                        </a:rPr>
                        <a:t>3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SimHei"/>
                        </a:rPr>
                        <a:t>1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pic>
        <p:nvPicPr>
          <p:cNvPr id="91" name="Picture 3" descr=""/>
          <p:cNvPicPr/>
          <p:nvPr/>
        </p:nvPicPr>
        <p:blipFill>
          <a:blip r:embed="rId1"/>
          <a:stretch/>
        </p:blipFill>
        <p:spPr>
          <a:xfrm>
            <a:off x="324000" y="189000"/>
            <a:ext cx="1065240" cy="133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бники на уровне основного общего образования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Рисунок 3" descr=""/>
          <p:cNvPicPr/>
          <p:nvPr/>
        </p:nvPicPr>
        <p:blipFill>
          <a:blip r:embed="rId1"/>
          <a:stretch/>
        </p:blipFill>
        <p:spPr>
          <a:xfrm>
            <a:off x="685800" y="1219320"/>
            <a:ext cx="2687760" cy="2286000"/>
          </a:xfrm>
          <a:prstGeom prst="rect">
            <a:avLst/>
          </a:prstGeom>
          <a:ln w="0">
            <a:noFill/>
          </a:ln>
        </p:spPr>
      </p:pic>
      <p:pic>
        <p:nvPicPr>
          <p:cNvPr id="94" name="Рисунок 4" descr=""/>
          <p:cNvPicPr/>
          <p:nvPr/>
        </p:nvPicPr>
        <p:blipFill>
          <a:blip r:embed="rId2"/>
          <a:stretch/>
        </p:blipFill>
        <p:spPr>
          <a:xfrm>
            <a:off x="609480" y="4038480"/>
            <a:ext cx="2667240" cy="1974960"/>
          </a:xfrm>
          <a:prstGeom prst="rect">
            <a:avLst/>
          </a:prstGeom>
          <a:ln w="0">
            <a:noFill/>
          </a:ln>
        </p:spPr>
      </p:pic>
      <p:pic>
        <p:nvPicPr>
          <p:cNvPr id="95" name="Рисунок 5" descr=""/>
          <p:cNvPicPr/>
          <p:nvPr/>
        </p:nvPicPr>
        <p:blipFill>
          <a:blip r:embed="rId3"/>
          <a:stretch/>
        </p:blipFill>
        <p:spPr>
          <a:xfrm>
            <a:off x="5638680" y="1219320"/>
            <a:ext cx="1677960" cy="19810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" descr=""/>
          <p:cNvPicPr/>
          <p:nvPr/>
        </p:nvPicPr>
        <p:blipFill>
          <a:blip r:embed="rId4"/>
          <a:stretch/>
        </p:blipFill>
        <p:spPr>
          <a:xfrm>
            <a:off x="4343400" y="3638520"/>
            <a:ext cx="2590920" cy="2381400"/>
          </a:xfrm>
          <a:prstGeom prst="rect">
            <a:avLst/>
          </a:prstGeom>
          <a:ln w="0">
            <a:noFill/>
          </a:ln>
        </p:spPr>
      </p:pic>
      <p:sp>
        <p:nvSpPr>
          <p:cNvPr id="97" name="TextBox 7"/>
          <p:cNvSpPr/>
          <p:nvPr/>
        </p:nvSpPr>
        <p:spPr>
          <a:xfrm>
            <a:off x="457200" y="358128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1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матика, Н.Я. Виленкини д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8"/>
          <p:cNvSpPr/>
          <p:nvPr/>
        </p:nvSpPr>
        <p:spPr>
          <a:xfrm>
            <a:off x="380880" y="6248520"/>
            <a:ext cx="350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1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гебра, Ю.Н. Макарычев и д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9"/>
          <p:cNvSpPr/>
          <p:nvPr/>
        </p:nvSpPr>
        <p:spPr>
          <a:xfrm>
            <a:off x="5757840" y="3352680"/>
            <a:ext cx="338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4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ометрия, Л.С. Атанасян и д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10"/>
          <p:cNvSpPr/>
          <p:nvPr/>
        </p:nvSpPr>
        <p:spPr>
          <a:xfrm>
            <a:off x="4495680" y="5943600"/>
            <a:ext cx="4419720" cy="6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4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роятность и статистик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.Р. Высоцкий, И.В. Ященко и д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бники на уровне среднего общего образования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2" descr=""/>
          <p:cNvPicPr/>
          <p:nvPr/>
        </p:nvPicPr>
        <p:blipFill>
          <a:blip r:embed="rId1"/>
          <a:stretch/>
        </p:blipFill>
        <p:spPr>
          <a:xfrm>
            <a:off x="5638680" y="1295280"/>
            <a:ext cx="3232440" cy="2971800"/>
          </a:xfrm>
          <a:prstGeom prst="rect">
            <a:avLst/>
          </a:prstGeom>
          <a:ln w="0">
            <a:noFill/>
          </a:ln>
        </p:spPr>
      </p:pic>
      <p:sp>
        <p:nvSpPr>
          <p:cNvPr id="103" name="TextBox 10"/>
          <p:cNvSpPr/>
          <p:nvPr/>
        </p:nvSpPr>
        <p:spPr>
          <a:xfrm>
            <a:off x="5562720" y="4419720"/>
            <a:ext cx="358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4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роятность и статистика, И.Р. Высоцкий, И.В. Ященко и д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Рисунок 11" descr=""/>
          <p:cNvPicPr/>
          <p:nvPr/>
        </p:nvPicPr>
        <p:blipFill>
          <a:blip r:embed="rId2"/>
          <a:stretch/>
        </p:blipFill>
        <p:spPr>
          <a:xfrm>
            <a:off x="609480" y="1447920"/>
            <a:ext cx="1801800" cy="2601720"/>
          </a:xfrm>
          <a:prstGeom prst="rect">
            <a:avLst/>
          </a:prstGeom>
          <a:ln w="0">
            <a:noFill/>
          </a:ln>
        </p:spPr>
      </p:pic>
      <p:pic>
        <p:nvPicPr>
          <p:cNvPr id="105" name="Рисунок 12" descr=""/>
          <p:cNvPicPr/>
          <p:nvPr/>
        </p:nvPicPr>
        <p:blipFill>
          <a:blip r:embed="rId3"/>
          <a:stretch/>
        </p:blipFill>
        <p:spPr>
          <a:xfrm>
            <a:off x="3200400" y="1447920"/>
            <a:ext cx="1930320" cy="2587680"/>
          </a:xfrm>
          <a:prstGeom prst="rect">
            <a:avLst/>
          </a:prstGeom>
          <a:ln w="0">
            <a:noFill/>
          </a:ln>
        </p:spPr>
      </p:pic>
      <p:sp>
        <p:nvSpPr>
          <p:cNvPr id="106" name="TextBox 13"/>
          <p:cNvSpPr/>
          <p:nvPr/>
        </p:nvSpPr>
        <p:spPr>
          <a:xfrm>
            <a:off x="152280" y="4363920"/>
            <a:ext cx="2819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21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гебра и начала математического анализа,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21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имов Ш. А. И д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21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14"/>
          <p:cNvSpPr/>
          <p:nvPr/>
        </p:nvSpPr>
        <p:spPr>
          <a:xfrm>
            <a:off x="2971800" y="4876920"/>
            <a:ext cx="2743200" cy="6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ts val="192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ометрия, Атанасян Л. С. и д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атическое планирование </a:t>
            </a:r>
            <a:br>
              <a:rPr sz="2500"/>
            </a:b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бного курса «Алгебра», 10 класс </a:t>
            </a:r>
            <a:br>
              <a:rPr sz="25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базовый уровень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457200" y="1600200"/>
          <a:ext cx="8229600" cy="48513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Hei"/>
                        </a:rPr>
                        <a:t>2022 – 2023 уч.г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Hei"/>
                        </a:rPr>
                        <a:t>2023 – 2024 уч.г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483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Hei"/>
                        </a:rPr>
                        <a:t>Действительные числа. Арифметический корень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Hei"/>
                        </a:rPr>
                        <a:t>n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Hei"/>
                        </a:rPr>
                        <a:t>-ой степени. Степень с рациональным показателем. (10ч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Hei"/>
                        </a:rPr>
                        <a:t>Степенная функция. иррациональные уравнения и неравенства. (10ч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Hei"/>
                        </a:rPr>
                        <a:t>Показательная функция. Показательные уравнения и неравенства. (9ч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Hei"/>
                        </a:rPr>
                        <a:t>Логарифмическая функция. Логарифмические уравнения и неравенства. (10ч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Hei"/>
                        </a:rPr>
                        <a:t>Тригонометрические формулы. (14ч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Hei"/>
                        </a:rPr>
                        <a:t>Тригонометрические уравнения.(9ч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Hei"/>
                        </a:rPr>
                        <a:t>Множество рациональных и действительных чисел. Рациональные уравнения и неравенства. (14ч.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Hei"/>
                        </a:rPr>
                        <a:t>Функции и графики. Степень с целым показателем.(6ч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Hei"/>
                        </a:rPr>
                        <a:t>Арифметический корень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Hei"/>
                        </a:rPr>
                        <a:t>n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Hei"/>
                        </a:rPr>
                        <a:t>-ой степени. Иррациональные уравнения и неравенства. (10ч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Hei"/>
                        </a:rPr>
                        <a:t>Формулы тригонометрии. Тригонометрические уравнения. (22ч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Hei"/>
                        </a:rPr>
                        <a:t>Последовательности и прогрессии. (6ч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Hei"/>
                        </a:rPr>
                        <a:t>Повторение, обобщение, систематизация знаний. (4ч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атическое планирование </a:t>
            </a:r>
            <a:br>
              <a:rPr sz="2500"/>
            </a:b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бного курса «Алгебра», 10 класс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152280" y="1143000"/>
          <a:ext cx="8839440" cy="5394240"/>
        </p:xfrm>
        <a:graphic>
          <a:graphicData uri="http://schemas.openxmlformats.org/drawingml/2006/table">
            <a:tbl>
              <a:tblPr/>
              <a:tblGrid>
                <a:gridCol w="4267440"/>
                <a:gridCol w="4572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Hei"/>
                        </a:rPr>
                        <a:t>Базовый уровень (не менее 70 часов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Hei"/>
                        </a:rPr>
                        <a:t>Углубленный уровен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Hei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Hei"/>
                        </a:rPr>
                        <a:t>(не менее 140 часов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759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SimHei"/>
                        </a:rPr>
                        <a:t>Множество рациональных и действительных чисел. Рациональные уравнения и неравенства. (14ч.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SimHei"/>
                        </a:rPr>
                        <a:t>Функции и графики. Степень с целым показателем.(6ч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SimHei"/>
                        </a:rPr>
                        <a:t>Арифметический корень 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SimHei"/>
                        </a:rPr>
                        <a:t>n</a:t>
                      </a: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SimHei"/>
                        </a:rPr>
                        <a:t>-ой степени. Иррациональные уравнения и неравенства. (18ч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SimHei"/>
                        </a:rPr>
                        <a:t>Формулы тригонометрии. Тригонометрические уравнения. (22ч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SimHei"/>
                        </a:rPr>
                        <a:t>Последовательности и прогрессии. (6ч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SimHei"/>
                        </a:rPr>
                        <a:t>Повторение, обобщение, систематизация знаний. (4ч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SimHei"/>
                        </a:rPr>
                        <a:t>Множество действительных чисел. Многочлены. Рациональные уравнения и неравенства. Системы линейных уравнений. (28ч.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SimHei"/>
                        </a:rPr>
                        <a:t>Функции и графики. Степенная функция с целым показателем.(12ч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SimHei"/>
                        </a:rPr>
                        <a:t>Арифметический корень 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SimHei"/>
                        </a:rPr>
                        <a:t>n</a:t>
                      </a: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SimHei"/>
                        </a:rPr>
                        <a:t>-ой степени. Иррациональные уравнения. (18ч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SimHei"/>
                        </a:rPr>
                        <a:t>Показательная функция. Показательные уравнения. (10ч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SimHei"/>
                        </a:rPr>
                        <a:t>Логарифмическая функция. Логарифмические уравнения. (18ч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SimHei"/>
                        </a:rPr>
                        <a:t>Тригонометрические выражения и уравнения.(22ч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SimHei"/>
                        </a:rPr>
                        <a:t>Последовательности и прогрессии. (10ч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SimHei"/>
                        </a:rPr>
                        <a:t>Непрерывные функции. Производная (20ч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SimHei"/>
                        </a:rPr>
                        <a:t>Повторение, обобщение, систематизация знаний. (2ч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атическое планирование </a:t>
            </a:r>
            <a:br>
              <a:rPr sz="2500"/>
            </a:b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бного курса «Алгебра», 11 класс </a:t>
            </a:r>
            <a:br>
              <a:rPr sz="25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024 – 2025 уч.г.)</a:t>
            </a:r>
            <a:br>
              <a:rPr sz="25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52280" y="1143000"/>
          <a:ext cx="8839440" cy="5151600"/>
        </p:xfrm>
        <a:graphic>
          <a:graphicData uri="http://schemas.openxmlformats.org/drawingml/2006/table">
            <a:tbl>
              <a:tblPr/>
              <a:tblGrid>
                <a:gridCol w="4343400"/>
                <a:gridCol w="44960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Hei"/>
                        </a:rPr>
                        <a:t>Базовый уровень (не менее 105 часов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Hei"/>
                        </a:rPr>
                        <a:t>Углубленный уровен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Hei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Hei"/>
                        </a:rPr>
                        <a:t>(не менее 140 часов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509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SimHei"/>
                        </a:rPr>
                        <a:t>Степень с рациональным показателем. Показательная функция. Показательные уравнения и неравенства. (12ч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SimHei"/>
                        </a:rPr>
                        <a:t>Логарифмическая функция. Логарифмические уравнения и неравенства. (12ч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SimHei"/>
                        </a:rPr>
                        <a:t>Тригонометрические функции и их графики. Тригонометрические неравенства. (9ч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SimHei"/>
                        </a:rPr>
                        <a:t>Производная. Применение производной. (24ч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SimHei"/>
                        </a:rPr>
                        <a:t>Интеграл и его применения. (9ч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SimHei"/>
                        </a:rPr>
                        <a:t>Системы уравнений. (12ч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SimHei"/>
                        </a:rPr>
                        <a:t>Натуральные и целые числа. (6ч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SimHei"/>
                        </a:rPr>
                        <a:t>Повторение, обобщение, систематизация знаний. (21ч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SimHei"/>
                        </a:rPr>
                        <a:t>Исследование функций с помощью производной. (24ч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SimHei"/>
                        </a:rPr>
                        <a:t>Первообразная и интеграл. (12ч.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SimHei"/>
                        </a:rPr>
                        <a:t>Графики тригонометрических функций. Тригонометрические неравенства.(16ч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SimHei"/>
                        </a:rPr>
                        <a:t>Иррациональные, показательные и логарифмические неравенства. (24ч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SimHei"/>
                        </a:rPr>
                        <a:t>Комплексные числа. (10ч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SimHei"/>
                        </a:rPr>
                        <a:t>Системы рациональных, иррациональных, показательных и логарифмических уравнений. (12ч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SimHei"/>
                        </a:rPr>
                        <a:t>Задачи с параметрами. (16ч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SimHei"/>
                        </a:rPr>
                        <a:t>Повторение, обобщение, систематизация знаний. (2ч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атическое планирование</a:t>
            </a:r>
            <a:br>
              <a:rPr sz="2500"/>
            </a:b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чебного курса «Геометрия»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152280" y="990720"/>
          <a:ext cx="8839440" cy="5684760"/>
        </p:xfrm>
        <a:graphic>
          <a:graphicData uri="http://schemas.openxmlformats.org/drawingml/2006/table">
            <a:tbl>
              <a:tblPr/>
              <a:tblGrid>
                <a:gridCol w="838440"/>
                <a:gridCol w="3962160"/>
                <a:gridCol w="403884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Hei"/>
                        </a:rPr>
                        <a:t>Базовый уровень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Hei"/>
                        </a:rPr>
                        <a:t>(не менее 70 часов / не менее 35 часов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Hei"/>
                        </a:rPr>
                        <a:t>Углубленный уровен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Hei"/>
                        </a:rPr>
                        <a:t>(не менее 70 часов /не менее 35 часов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818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SimHei"/>
                        </a:rPr>
                        <a:t>1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Hei"/>
                        </a:rPr>
                        <a:t>(2023 – 2024 уч.г.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57200" indent="-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Hei"/>
                        </a:rPr>
                        <a:t>1. Введение в стереометрию. (10ч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Hei"/>
                        </a:rPr>
                        <a:t>2. Прямые и плоскости в пространстве.    Параллельность прямых и плоскостей. (12ч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Hei"/>
                        </a:rPr>
                        <a:t>3. Перпендикулярность прямых и плоскостей. (12ч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Hei"/>
                        </a:rPr>
                        <a:t>4. Многогранники.(10ч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Hei"/>
                        </a:rPr>
                        <a:t>5. Объемы многогранников. (8ч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Hei"/>
                        </a:rPr>
                        <a:t>6. Повторение: сечения, расстояния и углы. (8ч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4572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57200" indent="-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Hei"/>
                        </a:rPr>
                        <a:t>1.Введение в стереометрию. (24ч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Hei"/>
                        </a:rPr>
                        <a:t>2.Взаимное расположение прямых и плоскостей в пространстве. (6ч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Hei"/>
                        </a:rPr>
                        <a:t>3.Параллельность прямых и плоскостей в пространстве. (8ч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Hei"/>
                        </a:rPr>
                        <a:t>4.Перпендикулярность прямых и плоскостей в пространстве. (26ч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Hei"/>
                        </a:rPr>
                        <a:t>5.Углы и расстояния. (16ч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Hei"/>
                        </a:rPr>
                        <a:t>6.Многогранники.(7ч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Hei"/>
                        </a:rPr>
                        <a:t>7.Векторы в пространстве. (13ч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Hei"/>
                        </a:rPr>
                        <a:t>8.Движения. (5ч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28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SimHei"/>
                        </a:rPr>
                        <a:t>11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Hei"/>
                        </a:rPr>
                        <a:t>(2024 – 2025 уч.г.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57200" indent="-4572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Hei"/>
                        </a:rPr>
                        <a:t>Тела вращения. (12ч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4572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Hei"/>
                        </a:rPr>
                        <a:t>Объемы тел. (5ч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4572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Hei"/>
                        </a:rPr>
                        <a:t>Векторы и координаты в пространстве. (10ч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4572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Hei"/>
                        </a:rPr>
                        <a:t>Повторение, обобщение и систематизация знаний. (8ч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57200" indent="-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Hei"/>
                        </a:rPr>
                        <a:t>1.Аналитическая геометрия. (15ч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Hei"/>
                        </a:rPr>
                        <a:t>2.Повторение, обобщение и систематизация знаний. (15ч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Hei"/>
                        </a:rPr>
                        <a:t>3.Объем многогранника. (17ч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Hei"/>
                        </a:rPr>
                        <a:t>4.Тела вращения. (12ч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Hei"/>
                        </a:rPr>
                        <a:t>5.Площади поверхности и объемы круглых тел. (9ч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Hei"/>
                        </a:rPr>
                        <a:t>6.Повторение, обобщение и систематизация знаний. (25ч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Azerty</cp:lastModifiedBy>
  <dcterms:modified xsi:type="dcterms:W3CDTF">2024-03-24T17:30:23Z</dcterms:modified>
  <cp:revision>57</cp:revision>
  <dc:subject/>
  <dc:title>Заголовок слайд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8.1.0.3018</vt:lpwstr>
  </property>
  <property fmtid="{D5CDD505-2E9C-101B-9397-08002B2CF9AE}" pid="3" name="Version">
    <vt:r8>1</vt:r8>
  </property>
</Properties>
</file>