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58F-BEDF-4D35-A374-828B5C81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488-A7E8-4A82-A7BE-DEA1641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FA7-BDD3-45C8-A009-E504E958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017-0D7B-488F-9CB8-0B780BF3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00EE-D122-42AE-B2AB-1179F543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173-D4FC-4D2B-838F-7905A633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43E-EC77-4EA2-8EB7-1FC6E5B8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845A-61FF-4628-AACF-B39C2E5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84B5-5C57-44F2-9A77-27C787C6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AE7-298B-467A-9CD1-80DAD8F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4CD7-E086-49CF-A617-487BD87E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99F-4FC5-4F38-A2B4-4401B1A1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2194-8D9C-449D-AA10-B632582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2B1-F88E-47B1-A3BA-84561F9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78FC-904F-4FB8-9454-3700306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3F2F-B8D4-4CD0-9C9B-FDC83247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2832-1ED2-40AD-AE14-2421C203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E13-D143-4D94-8C76-E130BAE0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568-85EF-4316-B968-A9A81515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97E-71E7-4939-A5F4-0AE2DE9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A8D-C0FF-42F1-B4FE-B3907CF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178-79AD-43AC-B1CD-14AC768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2C3-99BB-497F-B4F0-A6A5407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FD9-2881-4C79-8414-EE43768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ABDC-A027-4894-BF6F-536C094A66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71FE-9006-4E1C-BFA2-E16071181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259092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еподавания математики на уровне среднего общего образования: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риски и перспективы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14912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371600" y="152280"/>
            <a:ext cx="7772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Sim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Районное методическое объ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Hei"/>
              </a:rPr>
              <a:t>учителей естественно – математического цикла Жарковского района Тверской области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029200" y="518148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SimHe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Hei"/>
              </a:rPr>
              <a:t>Лакеева Елен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Hei"/>
              </a:rPr>
              <a:t>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Hei"/>
              </a:rPr>
              <a:t>МОУ «Жарковская СОШ №1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го курса «Вероятность и статистика», 10 кла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1600200"/>
          <a:ext cx="8839440" cy="4846680"/>
        </p:xfrm>
        <a:graphic>
          <a:graphicData uri="http://schemas.openxmlformats.org/drawingml/2006/table">
            <a:tbl>
              <a:tblPr/>
              <a:tblGrid>
                <a:gridCol w="472464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Представление данных и описательная статистика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Случайные опыты и случайные события, опыты с равновозможными элементарными исходами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Операции над событиями, сложение вероятностей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Условная вероятность, дерево случайного опыта, формула полной вероятности и независимость событий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Элементы комбинаторики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Серии последовательных испытаний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.Случайные величины и распределения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8.Обобщение и систематизация знаний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Элементы теории графов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Случайные опыты, случайные события и вероятности событий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Операции над множествами и событиями. Сложение и умножение вероятностей. Условная вероятность. Независимые события.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Элементы комбинаторики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Серии последовательных испытаний. Испытания Бернулли. Случайный выбор из конечной совокупности.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Случайные величины и распределения. (1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го курса «Вероятность и статистика», 11 клас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600200"/>
          <a:ext cx="8839440" cy="4022640"/>
        </p:xfrm>
        <a:graphic>
          <a:graphicData uri="http://schemas.openxmlformats.org/drawingml/2006/table">
            <a:tbl>
              <a:tblPr/>
              <a:tblGrid>
                <a:gridCol w="472464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3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 Повторение, обобщение и систематизация знаний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Математическое ожидание случайной величины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Дисперсия и стандартное отклонение случайной величины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Закон больших чисел. (3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Непрерывные случайные величины.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Нормальное распределение.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. Повторение, обобщение и систематизация знаний. (1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 Закон больших чисел. (5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Элементы математической статистики.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Непрерывные случайные величины (распределения), показательное и нормальное распределения. (4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Распределение Пуассона. (2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Связь между случайными величинами.  (6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Обобщение и систематизация знаний. (11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lifeo.ru/wp-content/uploads/kartinka-spasibo-za-vnimanie-dlya-prezentacii-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едмета в учебном план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основного общего образовани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– 2024 уч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600200"/>
          <a:ext cx="8763120" cy="4846680"/>
        </p:xfrm>
        <a:graphic>
          <a:graphicData uri="http://schemas.openxmlformats.org/drawingml/2006/table">
            <a:tbl>
              <a:tblPr/>
              <a:tblGrid>
                <a:gridCol w="990720"/>
                <a:gridCol w="1523880"/>
                <a:gridCol w="2895480"/>
                <a:gridCol w="335304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базовый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 - 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роятность и статис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пользование ранее разработанных рабочих программ по предмету математика учебные курсы: алгебра,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пользование ранее разработанных рабочих программ по предмету математика учебные курсы: алгебра,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0652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едмета в учебном план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среднего общего образования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– 2024 уч.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00200"/>
          <a:ext cx="8839440" cy="4599000"/>
        </p:xfrm>
        <a:graphic>
          <a:graphicData uri="http://schemas.openxmlformats.org/drawingml/2006/table">
            <a:tbl>
              <a:tblPr/>
              <a:tblGrid>
                <a:gridCol w="1219320"/>
                <a:gridCol w="1600200"/>
                <a:gridCol w="2895480"/>
                <a:gridCol w="1355760"/>
                <a:gridCol w="176868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        углубл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ровень              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роятность и статис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пользование ранее разработанных рабочих программ по предмету математика учебные курсы: алгебра, гео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024 - 2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атема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лгеб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еометр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роятность и статистик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0652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 на уровне основного общего образов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68776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667240" cy="1974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167796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4343400" y="3638520"/>
            <a:ext cx="2590920" cy="2381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457200" y="3581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, Н.Я. Виленкин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08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, Ю.Н. Макарыче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757840" y="335268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, Л.С. Атанася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495680" y="5943600"/>
            <a:ext cx="4419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Р. Высоцкий, И.В. Ященко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 на уровне среднего общего образов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23244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5562720" y="4419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, И.Р. Высоцкий, И.В. Ященко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1801800" cy="2601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"/>
          <p:cNvPicPr/>
          <p:nvPr/>
        </p:nvPicPr>
        <p:blipFill>
          <a:blip r:embed="rId3"/>
          <a:stretch/>
        </p:blipFill>
        <p:spPr>
          <a:xfrm>
            <a:off x="3200400" y="1447920"/>
            <a:ext cx="1930320" cy="2587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3"/>
          <p:cNvSpPr/>
          <p:nvPr/>
        </p:nvSpPr>
        <p:spPr>
          <a:xfrm>
            <a:off x="152280" y="4363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и начала математического анализ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ов Ш. А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2971800" y="4876920"/>
            <a:ext cx="2743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9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, Атанасян Л. С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курса «Алгебра», 10 класс </a:t>
            </a:r>
            <a:br>
              <a:rPr sz="25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 уро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022 – 2023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023 – 2024 уч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Действительные числа. Арифметический корен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Степень с рациональным показателем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тепенная функция. иррациональные уравнения и неравенства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казательная функция. Показательные уравнения и неравенства. (9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Логарифмическая функция. Логарифмические уравнения и неравенства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формулы. (14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уравнения.(9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ножество рациональных и действительных чисел. Рациональные уравнения и неравенства. (14ч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ункции и графики. Степень с целым показателем.(6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рифметический корен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Иррациональные уравнения и неравенства. (10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ормулы тригонометрии. Тригонометрические уравнения. (22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следовательности и прогрессии. (6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4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курса «Алгебра», 10 класс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1143000"/>
          <a:ext cx="8839440" cy="5394240"/>
        </p:xfrm>
        <a:graphic>
          <a:graphicData uri="http://schemas.openxmlformats.org/drawingml/2006/table">
            <a:tbl>
              <a:tblPr/>
              <a:tblGrid>
                <a:gridCol w="4267440"/>
                <a:gridCol w="457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 (не менее 70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140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ножество рациональных и действительных чисел. Рациональные уравнения и неравенства. (14ч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ункции и графики. Степень с целым показателем.(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рифметический корень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Иррациональные уравнения и неравенства. (18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ормулы тригонометрии. Тригонометрические уравнения. (2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следовательности и прогрессии. (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Множество действительных чисел. Многочлены. Рациональные уравнения и неравенства. Системы линейных уравнений. (28ч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Функции и графики. Степенная функция с целым показателем.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Арифметический корень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n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-ой степени. Иррациональные уравнения. (18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казательная функция. Показательные уравнения. (1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Логарифмическая функция. Логарифмические уравнения. (18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выражения и уравнения.(2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следовательности и прогрессии. (1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Непрерывные функции. Производная (2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курса «Алгебра», 11 класс </a:t>
            </a:r>
            <a:br>
              <a:rPr sz="25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24 – 2025 уч.г.)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1143000"/>
          <a:ext cx="8839440" cy="5151600"/>
        </p:xfrm>
        <a:graphic>
          <a:graphicData uri="http://schemas.openxmlformats.org/drawingml/2006/table">
            <a:tbl>
              <a:tblPr/>
              <a:tblGrid>
                <a:gridCol w="4343400"/>
                <a:gridCol w="4496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 (не менее 105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140 час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0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тепень с рациональным показателем. Показательная функция. Показательные уравнения и неравенства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Логарифмическая функция. Логарифмические уравнения и неравенства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ригонометрические функции и их графики. Тригонометрические неравенства. (9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роизводная. Применение производной. (2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нтеграл и его применения. (9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истемы уравнений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Натуральные и целые числа. (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21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сследование функций с помощью производной. (2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ервообразная и интеграл. (12ч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Графики тригонометрических функций. Тригонометрические неравенства.(1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Иррациональные, показательные и логарифмические неравенства. (24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Комплексные числа. (10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Системы рациональных, иррациональных, показательных и логарифмических уравнений. (1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Задачи с параметрами. (16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, систематизация знаний. (2ч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го курса «Геометр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990720"/>
          <a:ext cx="8839440" cy="5684760"/>
        </p:xfrm>
        <a:graphic>
          <a:graphicData uri="http://schemas.openxmlformats.org/drawingml/2006/table">
            <a:tbl>
              <a:tblPr/>
              <a:tblGrid>
                <a:gridCol w="838440"/>
                <a:gridCol w="3962160"/>
                <a:gridCol w="403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Базовый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70 часов / не менее 35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Углублен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не менее 70 часов /не менее 35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1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2023 – 2024 уч.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 Введение в стереометрию. (10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 Прямые и плоскости в пространстве.    Параллельность прямых и плоскостей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 Перпендикулярность прямых и плоскостей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 Многогранники.(10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 Объемы многогранников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 Повторение: сечения, расстояния и углы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Введение в стереометрию. (24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Взаимное расположение прямых и плоскостей в пространстве. (6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Параллельность прямых и плоскостей в пространстве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Перпендикулярность прямых и плоскостей в пространстве. (26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Углы и расстояния. (16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Многогранники.(7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7.Векторы в пространстве. (13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8.Движения. (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(2024 – 2025 уч.г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Тела вращения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Объемы тел. (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Векторы и координаты в пространстве. (10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Повторение, обобщение и систематизация знаний. (8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1.Аналитическая геометрия. (1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2.Повторение, обобщение и систематизация знаний. (1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3.Объем многогранника. (17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4.Тела вращения. (12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5.Площади поверхности и объемы круглых тел. (9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Hei"/>
                        </a:rPr>
                        <a:t>6.Повторение, обобщение и систематизация знаний. (25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zerty</cp:lastModifiedBy>
  <dcterms:modified xsi:type="dcterms:W3CDTF">2024-03-24T17:30:23Z</dcterms:modified>
  <cp:revision>57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