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118-5AC4-4C12-BBDD-651FAFA1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A18-9DBA-47BE-B123-8C06855A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D21-3A43-42EF-9AA9-1824A5E9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2EC-2636-4EBF-A8CF-22003367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420D-4A81-4B46-B8D6-8B680558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FA1E-C7FE-4CBE-9E16-9A968941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20E1-AB27-4D43-A516-E4E18550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D3AA-D956-4DE4-A62A-9CDD15B7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CED3-0A1F-46FC-8B14-097F1A59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E32B-5CF2-46BA-BE4A-EAE138EF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D915-F3B8-4AC6-849D-46448BFD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61F-CA5B-421E-910F-CC7BC368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9EC5-0DA9-4FE9-84CB-F7072110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D6CE-3C53-4266-B9A0-03714BC5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C2CD-9D22-4251-A466-B8F39940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1725-1432-4F70-A155-54810B28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93DA-9CFB-449D-8BE4-E49DE236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DE7D1-B865-4FEF-BB4D-78BC2958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FE219-5ED8-4C07-9CF4-61687F9C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A5F3E-B384-4168-87B9-0D204BC7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493BF-1236-4891-8889-96FF1A4E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68C3D-B090-46F7-9496-889C4536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7E4-270B-45CA-A517-BE19FEFD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94575-92A8-4D6C-AE50-9AF3D8B5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D8F56-F188-40A7-A1A2-15241A74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C417A-5A8A-436F-AF22-E288C3EA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9B303-E2C3-4356-AD0E-50454FA4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CF509-8EAD-4AC9-9F86-017DD660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AB4B4-1409-468E-995C-9CDF1F75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80B0E-39A5-4D39-BFBF-1A701E63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5516A1-3364-44B9-96F6-EEBF90AE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058EB4-80CA-4046-9204-EE9A8EB3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AB843E-2DFA-4614-8143-C766AD47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E93-B04F-47D4-BAE8-83F2032B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0BBDA9-DD3E-4B72-AFB0-CA3428A2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8DB3DE-5521-4BDD-98FF-D059F50D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317BF-8424-4A26-B867-A069FE95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55F1A-392C-4DEB-8363-34359C11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232DDB-55A8-45BD-901F-2AB81BA2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F659DA-B458-42E7-A796-B299CC70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FF735-7210-485D-8A99-2CAC1E1D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C5F88-DE95-49E7-B09C-9875E22B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343DE-38CD-4145-BF0F-A6288271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A2F353-468E-44B1-85FA-2ECD2102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2D2-B7BD-4030-B6E6-DA4D29A0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D675C4-73C1-4749-B6CA-668084EC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46DD1-103C-4EF6-AAFB-7B56301D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681F33-F0B4-4841-9FDC-0E4BA85A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35DCE-4686-4144-B5DF-80C944F4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7971B-C554-4406-967F-6DA46CEB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759064-5DAF-48DA-9F72-87431380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82ACC-1FA9-40F4-8CA1-6A4C464C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BFD19-D78C-4E2C-AF0B-1F4C6974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E365F-2ADF-4B48-A45D-6C3457A4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B3E45B-66A1-47F3-BA44-F3AA74C1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BB7-0A23-4DFE-9E69-61198BDF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7A7C6-E2AE-4B00-BD8B-1B3B35EF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974B5-4FBC-4966-AAAD-653A2CB3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0AEE9-6697-456B-8C63-6E31E59C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F6EEF-DB8B-4C31-85F4-BF305FC0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A5661-1F28-4F19-AC01-0F161ABD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46FE1-F67A-4B50-ADB8-A9FE9188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A9817-210C-4EC0-BA10-3AC7F08F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0A5F7-3F48-47F9-B74B-F57D3FB8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8830D-4F11-4154-9292-80DDE91D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6FA03-6C22-41FE-9232-8EF0EBD7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578-E159-48FA-9620-E4FD6AAF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8E14C-C6DC-4174-B137-7FDE8A4E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06CFD-3FCD-4F23-A5AC-9563040D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CEB05-441F-440C-90D4-0878DECA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36BEFB-9538-411B-81A6-59414409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7192B3-9C3C-46CF-99AC-84C7E721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B05B5-CDE7-40EA-BE45-75C7A009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E6AB4D-9029-402D-82E7-93610626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FC120-E28A-4473-8290-99CF5C30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D34B7D-E4FC-41B0-84E6-A7B6AB97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5917D9-99FF-4705-A1A5-D08CCB80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2C4-942E-471D-A4A6-8EA4AF90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C06A6D-1657-477A-95D8-EC472B9A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294026-5EE2-41A6-B757-F6D2CC56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2DE7D5-ACD6-4AE9-B433-5387313E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273B7C-3D47-478E-93FE-D5B9B85F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97B6D-AB54-4E71-88DE-E568648B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42473-9D45-47F8-8EB0-710870E5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37395-A770-4057-8819-9B2E33FE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884AE-9F93-4A3E-AB83-E26B3A2C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82F69-26F5-41E1-9997-6F74F3AB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847E9-934E-476E-A608-65F53FCC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669-9FE9-408C-8EC2-4872F7CC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834B0-C431-4EDB-876F-1FAA081C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AAED5-3A3A-4FCE-BB61-2E6E7ADC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2DA8C-D3B8-441B-A18A-F684988D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E8FA2-8027-4178-8032-6678042F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FB8D1-4D8E-47E9-8285-6B07EE5F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6E7D6-629B-4E55-8ABB-4498088A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51C12-1D36-4494-8568-90F1D302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E022-45F8-4A9A-9210-2FCA62EA1B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1596-EBF8-4F9E-94CE-9962DB704227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52A0-CB7D-4981-A49A-A53F7DC30E8A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24A0-7DEC-43F6-A5B3-D55F105B3D5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C3B8-5769-4D86-B6D9-06AE805D016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94E9-F349-4806-90D2-868154912610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61FD-E832-483B-9572-6C4D589B7E15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EF4E-3234-470E-B091-B707872990D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sevastopol.su/news/tragediya-v-krokuse-pominutno?ysclid=lu5xnt1phi94128526" TargetMode="External"/><Relationship Id="rId2" Type="http://schemas.openxmlformats.org/officeDocument/2006/relationships/hyperlink" Target="https://wsem.ru/publications/pamyati-pogibshim-v-krokus-siti-povyashhaetsya-ved-bol-chuzhoyu-byt-ne-mozhet-_22289/?ysclid=lu5x1vdzpz236429072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9720" y="571680"/>
            <a:ext cx="635796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РАЗГОВОРЫ О ВАЖНОМ</a:t>
            </a:r>
            <a:br>
              <a:rPr sz="4400"/>
            </a:b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ЕДИНСТВО НАРОДОВ РОССИИ</a:t>
            </a:r>
            <a:br>
              <a:rPr sz="4400"/>
            </a:br>
            <a:r>
              <a:rPr b="0" lang="ru-RU" sz="2200" spc="-1" strike="noStrike">
                <a:solidFill>
                  <a:srgbClr val="ebddc3"/>
                </a:solidFill>
                <a:latin typeface="Calibri"/>
              </a:rPr>
              <a:t>О ТРАГЕДИИ 22.03. 2024Г. В КРОКУС СИТИ ХОЛЛЕ</a:t>
            </a:r>
            <a:endParaRPr b="0" lang="en-US" sz="22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000160" y="4500360"/>
            <a:ext cx="577224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готовила учитель ГБОУ школа 1164 г. Москв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ихайлова М.Г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Победитель шоу «Голос» помог матери выбраться из толпы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4" name="Содержимое 4" descr="bd16ca09599d7c8ba292f23c0ed58754.jpg"/>
          <p:cNvPicPr/>
          <p:nvPr/>
        </p:nvPicPr>
        <p:blipFill>
          <a:blip r:embed="rId1"/>
          <a:stretch/>
        </p:blipFill>
        <p:spPr>
          <a:xfrm>
            <a:off x="285840" y="1571760"/>
            <a:ext cx="4209840" cy="36320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бедитель шоу «Голос. Дети» Рутгер Гарехт помог своей матери выбраться из толпы. По ее словам, как только раздались громкие звуки выстрелов, люди в панике кинулись к запасному выходу. В дверях была сильная давка, в которой невозможно двигать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Я очень маленького роста, и меня там почти задавили. Вытащил меня мой сын», — отметила он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История врача, который один из первых прибыл к «Крокусу»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рач Вячеслав Сахаров вместе с коллегами-реаниматологами Юлией Орловой и Ольгой Миланиной одними из первых приехали на вызов. По их словам, они стали поступать в 19:50 по московскому времени. По прибытии они увидели бегущих в панике людей. Врачи начали распределять пострадавших по степени тяжести. Один из первых пациентов — мужчина с восемью огнестрельными ранениями. Ему оперативно оказали помощь и отдали новой бригаде скорой помощ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 какой-то момент к бригаде вышел человек, у которых на руках была девочка с огнестрельным ранением. Ребенок спросил у врача: «А вы всех спасете?» «Да. Мы спасем всех, всех, кого сможем. Другого пути нет. Наше право — только спасать», — заявил Вячеслав Саха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Содержимое 4" descr="scale_1200 (4).jpg"/>
          <p:cNvPicPr/>
          <p:nvPr/>
        </p:nvPicPr>
        <p:blipFill>
          <a:blip r:embed="rId1"/>
          <a:stretch/>
        </p:blipFill>
        <p:spPr>
          <a:xfrm>
            <a:off x="4429080" y="1714680"/>
            <a:ext cx="4162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Calibri"/>
              </a:rPr>
              <a:t>Преподаватель ГИТР Иван Поморин спас в "Крокус Сити" группу из 20 операторов</a:t>
            </a:r>
            <a:br>
              <a:rPr sz="3200"/>
            </a:b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85480" y="1643040"/>
            <a:ext cx="378612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еподаватель Института кино и ТВ Иван Поморин спас в "Крокус Сити Холл" группу из почти двадцати операторов - Иван и его коллеги должны были снимать концерт группы "Пикник"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Содержимое 4" descr="IMG_9771-2-1536x914-1.jpg"/>
          <p:cNvPicPr/>
          <p:nvPr/>
        </p:nvPicPr>
        <p:blipFill>
          <a:blip r:embed="rId1"/>
          <a:stretch/>
        </p:blipFill>
        <p:spPr>
          <a:xfrm>
            <a:off x="3929040" y="2000160"/>
            <a:ext cx="50418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рач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Медики спешат на помощь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84" name="Рисунок 8" descr="krokus-velengurin3-1200_1711189099_1711189304.jpg"/>
          <p:cNvPicPr/>
          <p:nvPr/>
        </p:nvPicPr>
        <p:blipFill>
          <a:blip r:embed="rId1"/>
          <a:srcRect l="0" t="4849" r="0" b="4849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Фельдшер Олег Алешков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7168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оссальная нагрузка в этот вечер легла на Красногорскую городскую больницу, куда привозили самых тяжелых больных. Врачи, которые были на смене, работали на износ. Заведующий ФАП «Светлые горы» Олег Алешков, как только в новостях увидел про происшествие и осознал, куда будут везти раненных, то сразу же отправился на подмогу. В итоге отработал наравне с другими медиками. И это при том, что в тот день у него был полный рабочий день, а утром снова нужно было отправляться на основную работу. В итоге фельдшер не спал практически двое суток, но своей самоотверженностью помог многим пострадавш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Содержимое 7" descr="scale_1200 (5).jpg"/>
          <p:cNvPicPr/>
          <p:nvPr/>
        </p:nvPicPr>
        <p:blipFill>
          <a:blip r:embed="rId1"/>
          <a:stretch/>
        </p:blipFill>
        <p:spPr>
          <a:xfrm>
            <a:off x="5038560" y="1589040"/>
            <a:ext cx="3498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58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Граждане страны продемонстрировали единство в тяжелый момент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89" name="Рисунок 7" descr="maxresdefault (1).jpg"/>
          <p:cNvPicPr/>
          <p:nvPr/>
        </p:nvPicPr>
        <p:blipFill>
          <a:blip r:embed="rId1"/>
          <a:stretch/>
        </p:blipFill>
        <p:spPr>
          <a:xfrm>
            <a:off x="457200" y="2286000"/>
            <a:ext cx="4040280" cy="30002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теракта в московском Крокусе в Москве и Подмосковье выстроились огромные очереди в пункты сдачи крови. Более 5 тыс. жителей Москвы и Подмосковья сдали кровь для пострадавших в теракте в «Крокус Сити Холле». Об этом 23 марта сообщили в Федеральном медико-биологическом агентстве (ФМБА)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3.03.20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29120" y="1785960"/>
            <a:ext cx="3757680" cy="38880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Россия скорбит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37 человек погибло 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5" name="Рисунок 4" descr="scale_1200.jpg"/>
          <p:cNvPicPr/>
          <p:nvPr/>
        </p:nvPicPr>
        <p:blipFill>
          <a:blip r:embed="rId1"/>
          <a:srcRect l="0" t="9866" r="0" b="9866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я скорб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анкт-Петербург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8" name="Рисунок 4" descr="1080x1920.jpg"/>
          <p:cNvPicPr/>
          <p:nvPr/>
        </p:nvPicPr>
        <p:blipFill>
          <a:blip r:embed="rId1"/>
          <a:srcRect l="3279" t="0" r="3279" b="0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ссия скорби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остов-на-Дону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1" name="Рисунок 4" descr="2024-03-23-at-11.22.29-pm1.jpeg"/>
          <p:cNvPicPr/>
          <p:nvPr/>
        </p:nvPicPr>
        <p:blipFill>
          <a:blip r:embed="rId1"/>
          <a:srcRect l="0" t="9734" r="0" b="9734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Россия скорбит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литополь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4" name="Рисунок 4" descr="fc7c6e0cc47cec5972bf708915f3457f_o.jpg"/>
          <p:cNvPicPr/>
          <p:nvPr/>
        </p:nvPicPr>
        <p:blipFill>
          <a:blip r:embed="rId1"/>
          <a:srcRect l="6171" t="0" r="6171" b="0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Вся Россия скорбит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3" name="Содержимое 3" descr="lg!zfh.jpg"/>
          <p:cNvPicPr/>
          <p:nvPr/>
        </p:nvPicPr>
        <p:blipFill>
          <a:blip r:embed="rId1"/>
          <a:stretch/>
        </p:blipFill>
        <p:spPr>
          <a:xfrm>
            <a:off x="1289160" y="1600200"/>
            <a:ext cx="6800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ссия скорби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евастополь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7" name="Рисунок 4" descr="memorial_krokus.jpg"/>
          <p:cNvPicPr/>
          <p:nvPr/>
        </p:nvPicPr>
        <p:blipFill>
          <a:blip r:embed="rId1"/>
          <a:srcRect l="0" t="9835" r="0" b="9835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Погибшим в «Крокус Сити Холл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99680" y="1143000"/>
            <a:ext cx="3995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тни белых шаров, словно души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летают и в небе парят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лёзы горечи льются и душат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все по погибшим скорбят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льга Безрукова, Тамбовская обл</a:t>
            </a:r>
            <a:br>
              <a:rPr sz="1900"/>
            </a:b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Содержимое 8" descr="nBkSUhL2h1AnncuxI76BrNOp2Z3z8Zj21iDEh_fH_nKUPXuaDyXTjHou4MVO6BCVoZKf9GqVe5Q_CPawk214LyWK9G1N5ho=dshpEXEypS0U6rAErsymwQ.jpg"/>
          <p:cNvPicPr/>
          <p:nvPr/>
        </p:nvPicPr>
        <p:blipFill>
          <a:blip r:embed="rId1"/>
          <a:stretch/>
        </p:blipFill>
        <p:spPr>
          <a:xfrm>
            <a:off x="4857840" y="1785960"/>
            <a:ext cx="38862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Россия скорбит по жертвам Крокус Сити Холла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12" name="Содержимое 6" descr="WhatsApp-Image-2024-03-24-at-10.11.12.jpeg"/>
          <p:cNvPicPr/>
          <p:nvPr/>
        </p:nvPicPr>
        <p:blipFill>
          <a:blip r:embed="rId1"/>
          <a:stretch/>
        </p:blipFill>
        <p:spPr>
          <a:xfrm>
            <a:off x="857160" y="1571760"/>
            <a:ext cx="7574040" cy="449568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7"/>
          <p:cNvSpPr/>
          <p:nvPr/>
        </p:nvSpPr>
        <p:spPr>
          <a:xfrm>
            <a:off x="1000080" y="3286080"/>
            <a:ext cx="378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ddc3"/>
                </a:solidFill>
                <a:latin typeface="Calibri"/>
              </a:rPr>
              <a:t>Лишь черный дым над зданием клубитс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ddc3"/>
                </a:solidFill>
                <a:latin typeface="Calibri"/>
              </a:rPr>
              <a:t>А нужных слов в ответ не подобрать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ddc3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ebddc3"/>
                </a:solidFill>
                <a:latin typeface="Calibri"/>
              </a:rPr>
              <a:t>Крепись, народ. Держись моя столиц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ddc3"/>
                </a:solidFill>
                <a:latin typeface="Calibri"/>
              </a:rPr>
              <a:t>Им все равно нас всех не запуга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ddc3"/>
                </a:solidFill>
                <a:latin typeface="Calibri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ebddc3"/>
                </a:solidFill>
                <a:latin typeface="Calibri"/>
              </a:rPr>
              <a:t>А.Черр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Используемые Интернет-ресурс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Прямоугольник 3"/>
          <p:cNvSpPr/>
          <p:nvPr/>
        </p:nvSpPr>
        <p:spPr>
          <a:xfrm>
            <a:off x="1500120" y="1428840"/>
            <a:ext cx="535788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s://sevastopol.su/news/tragediya-v-krokuse-pominutno?ysclid=lu5xnt1phi941285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s://wsem.ru/publications/pamyati-pogibshim-v-krokus-siti-povyashhaetsya-ved-bol-chuzhoyu-byt-ne-mozhet-_22289/?ysclid=lu5x1vdzpz23642907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s://tass.ru/proisshestviya/20343259?ysclid=lu5xzw2lfc2149539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s://ya.ru/images/search?img_url=https%3A%2F%2Ft.me%2Fuaobozrevatel%2F113267_fake&amp;lr=214&amp;pos=9&amp;rpt=simage&amp;source=serp&amp;text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%20все%20произошло%20в%20крокус%20си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Число жертв 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еракта в "Крокус сити холле" в Красногорске, по последним данным,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остигло 137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еще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82 человека пострадали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Содержимое 6" descr="scale_1200 (2).jpg"/>
          <p:cNvPicPr/>
          <p:nvPr/>
        </p:nvPicPr>
        <p:blipFill>
          <a:blip r:embed="rId1"/>
          <a:stretch/>
        </p:blipFill>
        <p:spPr>
          <a:xfrm>
            <a:off x="2616120" y="1752480"/>
            <a:ext cx="5892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14240" y="272880"/>
            <a:ext cx="27511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До и после.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2965320" cy="5054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2.03.204 г в 19.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здание «Крокус Сити Холла» вошли несколько мужчин в камуфляже. И судьбы сотен людей разделились на «до» и «посл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Содержимое 3" descr="maxresdefault.jpg"/>
          <p:cNvPicPr/>
          <p:nvPr/>
        </p:nvPicPr>
        <p:blipFill>
          <a:blip r:embed="rId1"/>
          <a:stretch/>
        </p:blipFill>
        <p:spPr>
          <a:xfrm>
            <a:off x="3643200" y="1857240"/>
            <a:ext cx="51199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Восстановим хронологию событий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9:55 — мужчины в камуфляже и без масок заходят в «Крокус», убивая охранников и в упор расстреливая находящихся в холле люд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0:01 — в скорую и экстренные службы поступают первые вызов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0:03 — нападавшие проходят в партер концертного зала, стреляют в зрителей, бросают зажигательные шашк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0:04 — поступают первые сообщения о стрельбе, люди пытаются выбраться из зд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0.42 — появляется информация о пожар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0:44 — на место ЧП прибывают сотрудники правоохранительных орган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0:54 — создан оперативный штаб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1:04 — к зданию подъехали 30 областных и 20 московских бригад скорой помощ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03:17 — Главы ФСБ, МВД, Следственного комитета и Росгвардии доложили Владимиру Путину о ходе расследования теракт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Героизм не ради славы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редки случаи, когда во время теракта в «Крокус Сити Холле» люди помогали друг другу выбраться. Помощь оказывали не только взрослые, но и подростки,и работники Крокуса, и зрители, и  работники скорой, и таксисты , бесплатно развозившие люд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Содержимое 6" descr="0dd907c89d40d3af5cdae2d5c9797e63.jpg"/>
          <p:cNvPicPr/>
          <p:nvPr/>
        </p:nvPicPr>
        <p:blipFill>
          <a:blip r:embed="rId1"/>
          <a:stretch/>
        </p:blipFill>
        <p:spPr>
          <a:xfrm>
            <a:off x="5537160" y="1589040"/>
            <a:ext cx="250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Напал на террориста, чтобы другие спаслись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колько десятков человек смогли покинуть здание благодаря одному незнакомцу. Он выждал определенный момент и прыгнул к террористу, когда тот перезаряжался. Выхватив автомат, мужчина стал бить преступника прикладом, что позволило спастись люд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Содержимое 4" descr="scale_1200 (1).jpg"/>
          <p:cNvPicPr/>
          <p:nvPr/>
        </p:nvPicPr>
        <p:blipFill>
          <a:blip r:embed="rId1"/>
          <a:stretch/>
        </p:blipFill>
        <p:spPr>
          <a:xfrm>
            <a:off x="4572000" y="20718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Школьник вывел из здания более 100 человек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1" name="Содержимое 4" descr="школьник спасший 100 челове.jpg"/>
          <p:cNvPicPr/>
          <p:nvPr/>
        </p:nvPicPr>
        <p:blipFill>
          <a:blip r:embed="rId1"/>
          <a:stretch/>
        </p:blipFill>
        <p:spPr>
          <a:xfrm>
            <a:off x="723960" y="158904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лам, который подрабатывал в гардеробе, вывел из здания более 100 человек. Как рассказывает сам мальчик, он просто следовал инструкциям, которые заранее тщательно изучил. Он помог паникующей толпе, которая уперлась в тупик, выбраться показав путь через служебное помещ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 Я понимал, что если уйду, то погибнут сотни. Вывел, кого смог и ушел домой. Героем себя не считаю, - рассказал ученик восьмого кла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3-24T17:29:00Z</dcterms:created>
  <dc:creator>User</dc:creator>
  <dc:description/>
  <dc:language>en-US</dc:language>
  <cp:lastModifiedBy>User</cp:lastModifiedBy>
  <dcterms:modified xsi:type="dcterms:W3CDTF">2024-03-24T20:15:43Z</dcterms:modified>
  <cp:revision>17</cp:revision>
  <dc:subject/>
  <dc:title>Слайд 1</dc:title>
</cp:coreProperties>
</file>