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B871-1790-4FF6-8471-5FAC6A0B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0E11-4708-4D49-A5CD-66F566DA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0F66-8D88-40A8-B7D3-B76B32FB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9177-CF57-41D0-BBC1-65A7A1C3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5662-CDF3-41CC-A131-1559B5EE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9488-647E-4AD0-8B17-A6EBA387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6784-2BBA-43E4-A6E1-AE0ABE94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08B3-DD86-4E89-B5CA-70AC88E6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252F-6ABB-48EB-A266-B837D335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A78A-CDDA-4C3C-9E20-91791F43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98B7-CFC7-46A4-9F61-447333F2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9F10-F4BC-4966-A265-3D761FA6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E828-C4C3-4467-8EB0-2F7E4C8F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B9DB-A1FF-4821-A9B2-6F0EADF2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BB48-6BE8-431B-886A-CDD2B528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F5F3-E9DD-46FB-9071-567ED2A90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48ED-321B-4045-A8D8-7051570C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E33840-6D21-4BEC-9D4B-C5A757EF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DA190-9494-4431-AB80-2AF333B0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1B98CC-0A4E-4FE0-AF14-AD6DBB2A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5BD16F-8DAB-4BDE-99D3-32274F0F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8F1E83-C200-46A7-8C04-276B76D0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7AB0-6A21-4303-A09B-65995D15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706307-4534-4EED-B8C4-233006B0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20DB74-9343-4F1B-855C-2433F40E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5B14C6-E776-454C-B2C5-19F53F7C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2AE412-D869-4047-AAE0-7065FDB7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8E4C08-0E64-4564-B24C-1708F196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0380AF-2D40-4D15-805D-229B68FA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F9DFC5-5960-4AC3-AED5-0B190717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D257C7-B1AB-4D20-B48B-7F8407D5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1A18BB-1798-4FF5-BD19-46547F7D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D04A5F-75A4-468C-A5E8-6260E270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5067-F721-411F-862F-6BE991D0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C49826-C164-4355-A6E9-B909C7DD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68363C-A64E-46B4-9A41-F4C39888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220DC5-36F9-487E-97ED-BDEDAC5C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14F67B-CC2C-4F5F-A674-A16AB027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064541-378F-4C7B-9A28-DE8FC98D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237D7C-7C6F-4644-93D5-0E8589B6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8B92C7-17D1-40F1-8FF4-CF29EDF1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7C0316-83DA-4761-A482-7E6C94BA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D07B7A-474E-48C4-AB37-A9EACC6F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D63A7F-B8E9-4D5D-A377-3ABD2213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848F-9DDD-4B51-8523-377CCC51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EE36F5-0C60-43C5-ABFE-B27A8CDF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9B04D5-30AB-45E7-9741-8BE3BA87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0C4884-8DEC-4775-B99E-3748F548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3610E6-EBA4-4F14-8AC6-D59FD790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A67457-6284-4A06-B5A9-CB6CA343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EC0A3A-9737-4472-BA31-953FFFC0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80C1CB-A01E-42EC-8C52-53BCF773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E784A8-1DDF-4C94-8E6D-BEC6F07B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9173B4-3BBC-4001-BBDD-21FBEFDC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9B5BB5-88DA-4CD1-A0D6-E69CD09C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E621-6AF9-4EEC-82AC-3D9ED09F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C91FA8-6D94-4866-BFFF-61CC5B6C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F0BCE-52D8-47E4-BB9E-52E215C0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DCA0E-D698-4E70-9F5E-96D36CB7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CB2F3-0C54-4935-BA69-4D25EF62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BABD5-BCBE-464D-A481-A1E30E36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1A2DA-A9B3-49AF-9764-B09F8DC7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241D9-B873-435B-814F-508F8FE5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A07AC-0AD5-4D43-A973-6C2F0EF0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028E3-356E-4875-900B-AE2825B1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B4187-3228-470E-9324-EA449810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D53C-80DE-4F1F-8F68-F75E8A80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6A723-24EA-44A1-9437-0D6CC519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08FF3-E77A-4329-8C34-2C135C69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88775-473C-448A-948C-1BFE4AEA6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2C0A3C-59C1-4A52-8735-D9D67904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D4D611-10C5-491A-98FE-92F2378E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911B49-E857-442E-A940-DAEFB0B6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4BD0FE-5DEA-45D7-8F06-B42689F1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CBC915-6F26-4145-9044-D58D5E65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64BA1D-28C4-42C3-932D-7DB1213B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144D0E-8A26-460B-AEB0-1D83921F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E757-2D19-44CB-A6E5-FFFF81FD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088ADC-C531-4375-9AD4-F72E5DD9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AE3D83-77CF-42FF-B4D5-E520DC37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B33215-F03A-43F6-B52A-C9BA6738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66D8A3-DA07-43ED-B06B-87344D03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F547AF-09CB-44A9-9F51-6A8643E2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BF5D8-964D-4400-BCA3-1D9B0FFB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3B865-D304-4677-B8A5-64CFCB30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DDD75-5FE8-4131-8C6E-CE15D9B0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F115A-FB0D-4081-9447-A97D40F5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FFE06-0D4B-4300-8922-9D699994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4800-42B2-48B4-9042-33252218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086E7-F90D-4531-ABDF-AD043332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ED88E-A460-40B0-9A20-BA7F3B1A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5C769-4D4B-47CC-BF60-C92FBC6C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16012-DF9B-4FBE-BA7B-30A3C2E9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B5C36-4766-467F-BFCE-EED2473F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29262-A922-4A54-B8F5-1F618BDC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96F82-0AC1-488C-A26C-F3402D19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C4D6-2830-4588-9B7D-98B9CC2C6FF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7B5F-039B-46BC-B9B6-E7E4602F167F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D070-1FBB-42BD-A7A4-86D479CA184E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04E8-960E-4836-B6FE-FE85FDE0360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5F7E-1A34-4691-852F-1BEEFD80E84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D4B5-80CF-4EE3-A6EE-AC21716FCFDE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CA97-0442-4C95-8B3E-9CA8799831DB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6FB8-A3A3-4E9B-BB60-2755F4FA6B8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sevastopol.su/news/tragediya-v-krokuse-pominutno?ysclid=lu5xnt1phi94128526" TargetMode="External"/><Relationship Id="rId2" Type="http://schemas.openxmlformats.org/officeDocument/2006/relationships/hyperlink" Target="https://wsem.ru/publications/pamyati-pogibshim-v-krokus-siti-povyashhaetsya-ved-bol-chuzhoyu-byt-ne-mozhet-_22289/?ysclid=lu5x1vdzpz236429072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9720" y="571680"/>
            <a:ext cx="635796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dc3"/>
                </a:solidFill>
                <a:latin typeface="Calibri"/>
              </a:rPr>
              <a:t>РАЗГОВОРЫ О ВАЖНОМ</a:t>
            </a:r>
            <a:br>
              <a:rPr sz="4400"/>
            </a:br>
            <a:r>
              <a:rPr b="0" lang="ru-RU" sz="4400" spc="-1" strike="noStrike">
                <a:solidFill>
                  <a:srgbClr val="ebddc3"/>
                </a:solidFill>
                <a:latin typeface="Calibri"/>
              </a:rPr>
              <a:t>ЕДИНСТВО НАРОДОВ РОССИИ</a:t>
            </a:r>
            <a:br>
              <a:rPr sz="4400"/>
            </a:br>
            <a:r>
              <a:rPr b="0" lang="ru-RU" sz="2200" spc="-1" strike="noStrike">
                <a:solidFill>
                  <a:srgbClr val="ebddc3"/>
                </a:solidFill>
                <a:latin typeface="Calibri"/>
              </a:rPr>
              <a:t>О ТРАГЕДИИ 22.03. 2024Г. В КРОКУС СИТИ ХОЛЛЕ</a:t>
            </a:r>
            <a:endParaRPr b="0" lang="en-US" sz="22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000160" y="4500360"/>
            <a:ext cx="577224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дготовила учитель ГБОУ школа 1164 г. Москв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ихайлова М.Г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Победитель шоу «Голос» помог матери выбраться из толпы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4" name="Содержимое 4" descr="bd16ca09599d7c8ba292f23c0ed58754.jpg"/>
          <p:cNvPicPr/>
          <p:nvPr/>
        </p:nvPicPr>
        <p:blipFill>
          <a:blip r:embed="rId1"/>
          <a:stretch/>
        </p:blipFill>
        <p:spPr>
          <a:xfrm>
            <a:off x="285840" y="1571760"/>
            <a:ext cx="4209840" cy="36320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бедитель шоу «Голос. Дети» Рутгер Гарехт помог своей матери выбраться из толпы. По ее словам, как только раздались громкие звуки выстрелов, люди в панике кинулись к запасному выходу. В дверях была сильная давка, в которой невозможно двигать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Я очень маленького роста, и меня там почти задавили. Вытащил меня мой сын», — отметила она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История врача, который один из первых прибыл к «Крокусу»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рач Вячеслав Сахаров вместе с коллегами-реаниматологами Юлией Орловой и Ольгой Миланиной одними из первых приехали на вызов. По их словам, они стали поступать в 19:50 по московскому времени. По прибытии они увидели бегущих в панике людей. Врачи начали распределять пострадавших по степени тяжести. Один из первых пациентов — мужчина с восемью огнестрельными ранениями. Ему оперативно оказали помощь и отдали новой бригаде скорой помощ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 какой-то момент к бригаде вышел человек, у которых на руках была девочка с огнестрельным ранением. Ребенок спросил у врача: «А вы всех спасете?» «Да. Мы спасем всех, всех, кого сможем. Другого пути нет. Наше право — только спасать», — заявил Вячеслав Сахар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Содержимое 4" descr="scale_1200 (4).jpg"/>
          <p:cNvPicPr/>
          <p:nvPr/>
        </p:nvPicPr>
        <p:blipFill>
          <a:blip r:embed="rId1"/>
          <a:stretch/>
        </p:blipFill>
        <p:spPr>
          <a:xfrm>
            <a:off x="4429080" y="1714680"/>
            <a:ext cx="41623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5f55"/>
                </a:solidFill>
                <a:latin typeface="Calibri"/>
              </a:rPr>
              <a:t>Преподаватель ГИТР Иван Поморин спас в "Крокус Сити" группу из 20 операторов</a:t>
            </a:r>
            <a:br>
              <a:rPr sz="3200"/>
            </a:b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85480" y="1643040"/>
            <a:ext cx="378612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еподаватель Института кино и ТВ Иван Поморин спас в "Крокус Сити Холл" группу из почти двадцати операторов - Иван и его коллеги должны были снимать концерт группы "Пикник"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Содержимое 4" descr="IMG_9771-2-1536x914-1.jpg"/>
          <p:cNvPicPr/>
          <p:nvPr/>
        </p:nvPicPr>
        <p:blipFill>
          <a:blip r:embed="rId1"/>
          <a:stretch/>
        </p:blipFill>
        <p:spPr>
          <a:xfrm>
            <a:off x="3929040" y="2000160"/>
            <a:ext cx="50418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рачи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Медики спешат на помощь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84" name="Рисунок 8" descr="krokus-velengurin3-1200_1711189099_1711189304.jpg"/>
          <p:cNvPicPr/>
          <p:nvPr/>
        </p:nvPicPr>
        <p:blipFill>
          <a:blip r:embed="rId1"/>
          <a:srcRect l="0" t="4849" r="0" b="4849"/>
          <a:stretch/>
        </p:blipFill>
        <p:spPr>
          <a:xfrm>
            <a:off x="1560600" y="0"/>
            <a:ext cx="75834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Фельдшер Олег Алешков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71680" y="121392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лоссальная нагрузка в этот вечер легла на Красногорскую городскую больницу, куда привозили самых тяжелых больных. Врачи, которые были на смене, работали на износ. Заведующий ФАП «Светлые горы» Олег Алешков, как только в новостях увидел про происшествие и осознал, куда будут везти раненных, то сразу же отправился на подмогу. В итоге отработал наравне с другими медиками. И это при том, что в тот день у него был полный рабочий день, а утром снова нужно было отправляться на основную работу. В итоге фельдшер не спал практически двое суток, но своей самоотверженностью помог многим пострадавши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Содержимое 7" descr="scale_1200 (5).jpg"/>
          <p:cNvPicPr/>
          <p:nvPr/>
        </p:nvPicPr>
        <p:blipFill>
          <a:blip r:embed="rId1"/>
          <a:stretch/>
        </p:blipFill>
        <p:spPr>
          <a:xfrm>
            <a:off x="5038560" y="1589040"/>
            <a:ext cx="3498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58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Граждане страны продемонстрировали единство в тяжелый момент.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89" name="Рисунок 7" descr="maxresdefault (1).jpg"/>
          <p:cNvPicPr/>
          <p:nvPr/>
        </p:nvPicPr>
        <p:blipFill>
          <a:blip r:embed="rId1"/>
          <a:stretch/>
        </p:blipFill>
        <p:spPr>
          <a:xfrm>
            <a:off x="457200" y="2286000"/>
            <a:ext cx="4040280" cy="300024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480024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 теракта в московском Крокусе в Москве и Подмосковье выстроились огромные очереди в пункты сдачи крови. Более 5 тыс. жителей Москвы и Подмосковья сдали кровь для пострадавших в теракте в «Крокус Сити Холле». Об этом 23 марта сообщили в Федеральном медико-биологическом агентстве (ФМБА) Росс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23.03.20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929120" y="1785960"/>
            <a:ext cx="3757680" cy="38880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Россия скорбит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37 человек погибло 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95" name="Рисунок 4" descr="scale_1200.jpg"/>
          <p:cNvPicPr/>
          <p:nvPr/>
        </p:nvPicPr>
        <p:blipFill>
          <a:blip r:embed="rId1"/>
          <a:srcRect l="0" t="9866" r="0" b="9866"/>
          <a:stretch/>
        </p:blipFill>
        <p:spPr>
          <a:xfrm>
            <a:off x="1560600" y="0"/>
            <a:ext cx="75834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сия скорби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анкт-Петербург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98" name="Рисунок 4" descr="1080x1920.jpg"/>
          <p:cNvPicPr/>
          <p:nvPr/>
        </p:nvPicPr>
        <p:blipFill>
          <a:blip r:embed="rId1"/>
          <a:srcRect l="3279" t="0" r="3279" b="0"/>
          <a:stretch/>
        </p:blipFill>
        <p:spPr>
          <a:xfrm>
            <a:off x="1560600" y="0"/>
            <a:ext cx="75834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оссия скорби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остов-на-Дону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01" name="Рисунок 4" descr="2024-03-23-at-11.22.29-pm1.jpeg"/>
          <p:cNvPicPr/>
          <p:nvPr/>
        </p:nvPicPr>
        <p:blipFill>
          <a:blip r:embed="rId1"/>
          <a:srcRect l="0" t="9734" r="0" b="9734"/>
          <a:stretch/>
        </p:blipFill>
        <p:spPr>
          <a:xfrm>
            <a:off x="1560600" y="0"/>
            <a:ext cx="75834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Россия скорбит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елитополь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04" name="Рисунок 4" descr="fc7c6e0cc47cec5972bf708915f3457f_o.jpg"/>
          <p:cNvPicPr/>
          <p:nvPr/>
        </p:nvPicPr>
        <p:blipFill>
          <a:blip r:embed="rId1"/>
          <a:srcRect l="6171" t="0" r="6171" b="0"/>
          <a:stretch/>
        </p:blipFill>
        <p:spPr>
          <a:xfrm>
            <a:off x="1560600" y="0"/>
            <a:ext cx="75834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Вся Россия скорбит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3" name="Содержимое 3" descr="lg!zfh.jpg"/>
          <p:cNvPicPr/>
          <p:nvPr/>
        </p:nvPicPr>
        <p:blipFill>
          <a:blip r:embed="rId1"/>
          <a:stretch/>
        </p:blipFill>
        <p:spPr>
          <a:xfrm>
            <a:off x="1289160" y="1600200"/>
            <a:ext cx="6800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оссия скорби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евастополь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07" name="Рисунок 4" descr="memorial_krokus.jpg"/>
          <p:cNvPicPr/>
          <p:nvPr/>
        </p:nvPicPr>
        <p:blipFill>
          <a:blip r:embed="rId1"/>
          <a:srcRect l="0" t="9835" r="0" b="9835"/>
          <a:stretch/>
        </p:blipFill>
        <p:spPr>
          <a:xfrm>
            <a:off x="1560600" y="0"/>
            <a:ext cx="75834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79725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Погибшим в «Крокус Сити Холл»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99680" y="1143000"/>
            <a:ext cx="3995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тни белых шаров, словно души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летают и в небе парят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лёзы горечи льются и душат,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то все по погибшим скорбят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льга Безрукова, Тамбовская обл</a:t>
            </a:r>
            <a:br>
              <a:rPr sz="1900"/>
            </a:b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Содержимое 8" descr="nBkSUhL2h1AnncuxI76BrNOp2Z3z8Zj21iDEh_fH_nKUPXuaDyXTjHou4MVO6BCVoZKf9GqVe5Q_CPawk214LyWK9G1N5ho=dshpEXEypS0U6rAErsymwQ.jpg"/>
          <p:cNvPicPr/>
          <p:nvPr/>
        </p:nvPicPr>
        <p:blipFill>
          <a:blip r:embed="rId1"/>
          <a:stretch/>
        </p:blipFill>
        <p:spPr>
          <a:xfrm>
            <a:off x="4857840" y="1785960"/>
            <a:ext cx="388620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Россия скорбит по жертвам Крокус Сити Холла.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12" name="Содержимое 6" descr="WhatsApp-Image-2024-03-24-at-10.11.12.jpeg"/>
          <p:cNvPicPr/>
          <p:nvPr/>
        </p:nvPicPr>
        <p:blipFill>
          <a:blip r:embed="rId1"/>
          <a:stretch/>
        </p:blipFill>
        <p:spPr>
          <a:xfrm>
            <a:off x="857160" y="1571760"/>
            <a:ext cx="7574040" cy="449568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оугольник 7"/>
          <p:cNvSpPr/>
          <p:nvPr/>
        </p:nvSpPr>
        <p:spPr>
          <a:xfrm>
            <a:off x="1000080" y="3286080"/>
            <a:ext cx="3786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ddc3"/>
                </a:solidFill>
                <a:latin typeface="Calibri"/>
              </a:rPr>
              <a:t>Лишь черный дым над зданием клубитс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ddc3"/>
                </a:solidFill>
                <a:latin typeface="Calibri"/>
              </a:rPr>
              <a:t>А нужных слов в ответ не подобрать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ddc3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ebddc3"/>
                </a:solidFill>
                <a:latin typeface="Calibri"/>
              </a:rPr>
              <a:t>Крепись, народ. Держись моя столиц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ddc3"/>
                </a:solidFill>
                <a:latin typeface="Calibri"/>
              </a:rPr>
              <a:t>Им все равно нас всех не запугат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ddc3"/>
                </a:solidFill>
                <a:latin typeface="Calibri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ebddc3"/>
                </a:solidFill>
                <a:latin typeface="Calibri"/>
              </a:rPr>
              <a:t>А.Черри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Используемые Интернет-ресурс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Прямоугольник 3"/>
          <p:cNvSpPr/>
          <p:nvPr/>
        </p:nvSpPr>
        <p:spPr>
          <a:xfrm>
            <a:off x="1500120" y="1428840"/>
            <a:ext cx="5357880" cy="40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s://sevastopol.su/news/tragediya-v-krokuse-pominutno?ysclid=lu5xnt1phi9412852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https://wsem.ru/publications/pamyati-pogibshim-v-krokus-siti-povyashhaetsya-ved-bol-chuzhoyu-byt-ne-mozhet-_22289/?ysclid=lu5x1vdzpz23642907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ttps://tass.ru/proisshestviya/20343259?ysclid=lu5xzw2lfc2149539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ttps://ya.ru/images/search?img_url=https%3A%2F%2Ft.me%2Fuaobozrevatel%2F113267_fake&amp;lr=214&amp;pos=9&amp;rpt=simage&amp;source=serp&amp;text=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%20все%20произошло%20в%20крокус%20си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Число жертв 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еракта в "Крокус сити холле" в Красногорске, по последним данным, 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остигло 137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еще 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82 человека пострадали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Содержимое 6" descr="scale_1200 (2).jpg"/>
          <p:cNvPicPr/>
          <p:nvPr/>
        </p:nvPicPr>
        <p:blipFill>
          <a:blip r:embed="rId1"/>
          <a:stretch/>
        </p:blipFill>
        <p:spPr>
          <a:xfrm>
            <a:off x="2616120" y="1752480"/>
            <a:ext cx="58928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14240" y="272880"/>
            <a:ext cx="27511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До и после..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2965320" cy="5054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2.03.204 г в 19.5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здание «Крокус Сити Холла» вошли несколько мужчин в камуфляже. И судьбы сотен людей разделились на «до» и «посл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Содержимое 3" descr="maxresdefault.jpg"/>
          <p:cNvPicPr/>
          <p:nvPr/>
        </p:nvPicPr>
        <p:blipFill>
          <a:blip r:embed="rId1"/>
          <a:stretch/>
        </p:blipFill>
        <p:spPr>
          <a:xfrm>
            <a:off x="3643200" y="1857240"/>
            <a:ext cx="51199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Восстановим хронологию событий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9:55 — мужчины в камуфляже и без масок заходят в «Крокус», убивая охранников и в упор расстреливая находящихся в холле люд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0:01 — в скорую и экстренные службы поступают первые вызов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0:03 — нападавшие проходят в партер концертного зала, стреляют в зрителей, бросают зажигательные шашк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0:04 — поступают первые сообщения о стрельбе, люди пытаются выбраться из зда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0.42 — появляется информация о пожар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20:44 — на место ЧП прибывают сотрудники правоохранительных орган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20:54 — создан оперативный штаб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21:04 — к зданию подъехали 30 областных и 20 московских бригад скорой помощ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03:17 — Главы ФСБ, МВД, Следственного комитета и Росгвардии доложили Владимиру Путину о ходе расследования теракт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Героизм не ради славы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редки случаи, когда во время теракта в «Крокус Сити Холле» люди помогали друг другу выбраться. Помощь оказывали не только взрослые, но и подростки,и работники Крокуса, и зрители, и  работники скорой, и таксисты , бесплатно развозившие люд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Содержимое 6" descr="0dd907c89d40d3af5cdae2d5c9797e63.jpg"/>
          <p:cNvPicPr/>
          <p:nvPr/>
        </p:nvPicPr>
        <p:blipFill>
          <a:blip r:embed="rId1"/>
          <a:stretch/>
        </p:blipFill>
        <p:spPr>
          <a:xfrm>
            <a:off x="5537160" y="1589040"/>
            <a:ext cx="250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Напал на террориста, чтобы другие спаслись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сколько десятков человек смогли покинуть здание благодаря одному незнакомцу. Он выждал определенный момент и прыгнул к террористу, когда тот перезаряжался. Выхватив автомат, мужчина стал бить преступника прикладом, что позволило спастись люд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Содержимое 4" descr="scale_1200 (1).jpg"/>
          <p:cNvPicPr/>
          <p:nvPr/>
        </p:nvPicPr>
        <p:blipFill>
          <a:blip r:embed="rId1"/>
          <a:stretch/>
        </p:blipFill>
        <p:spPr>
          <a:xfrm>
            <a:off x="4572000" y="20718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Школьник вывел из здания более 100 человек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1" name="Содержимое 4" descr="школьник спасший 100 челове.jpg"/>
          <p:cNvPicPr/>
          <p:nvPr/>
        </p:nvPicPr>
        <p:blipFill>
          <a:blip r:embed="rId1"/>
          <a:stretch/>
        </p:blipFill>
        <p:spPr>
          <a:xfrm>
            <a:off x="723960" y="1589040"/>
            <a:ext cx="3657600" cy="4572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лам, который подрабатывал в гардеробе, вывел из здания более 100 человек. Как рассказывает сам мальчик, он просто следовал инструкциям, которые заранее тщательно изучил. Он помог паникующей толпе, которая уперлась в тупик, выбраться показав путь через служебное помещ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 Я понимал, что если уйду, то погибнут сотни. Вывел, кого смог и ушел домой. Героем себя не считаю, - рассказал ученик восьмого клас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3-24T17:29:00Z</dcterms:created>
  <dc:creator>User</dc:creator>
  <dc:description/>
  <dc:language>en-US</dc:language>
  <cp:lastModifiedBy>User</cp:lastModifiedBy>
  <dcterms:modified xsi:type="dcterms:W3CDTF">2024-03-24T20:15:43Z</dcterms:modified>
  <cp:revision>17</cp:revision>
  <dc:subject/>
  <dc:title>Слайд 1</dc:title>
</cp:coreProperties>
</file>