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03A-62F6-4DCA-A1D3-E6B9D4E3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21A-A008-47E4-BC56-78CDC27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081-629B-475C-9DC6-976B4398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FAA-1993-4366-B865-4AA5E6D8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1E5A-B09B-4DCB-A40E-D7961B63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F84A-53CD-4866-B151-9FA1ABE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2C2-61A0-4003-9E02-0DF33B0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DF6-1974-4FDB-A1F2-419AFD7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E122-62B8-416F-B49E-3D1CF694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811B-7019-4E46-9375-C91BDA2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5DA-AC07-4035-9F6B-0F50B4F7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418-DC24-4B73-8E96-9F63F2F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61A-F5D0-4355-8183-7054674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A2C-6EC0-4204-88E1-6317012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0EAF-B288-4BEB-842B-A7C0672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3F0-4F9C-40D2-9D85-40770E11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8CE-96DD-4676-9640-25F41858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EDFF1-EB19-4F59-BEC9-53921BE7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39884-01C1-4E69-9026-85A37AE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53DA0-EA6D-4AC8-BCB7-F2F6865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963FF-D496-4676-96A2-A22F2EC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E2388-A57B-4BCB-8FC0-9469B197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544-DEDB-4E6A-B20B-C7FDA30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CBA41-01B0-401F-A31D-674E8D2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86191-B36A-4B85-890D-A607287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9431C-1EA4-4E2E-94E4-89334287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DDD69-3B0A-4F3F-A728-99EEF8A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0F70A-64D6-4641-A826-359E6C1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1838A-7861-4DFC-8A00-AF28F47F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DBDD9-27C3-4401-B18A-4E963371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DE64-5932-43CA-9B4C-E4AF8450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DCAA3-006B-49D0-A413-DFA5BA3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C54A-2FEE-465B-8767-8F024AC9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80F-7FC7-49D3-8999-9BF0017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7BE4-8AE9-46AF-9846-3BE1065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0FE0-3871-4B0B-8BA4-0708D936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10C6-58BE-4FE3-9FEF-6E8FBF3E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F2C6-8297-41BF-9982-614D003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CC8C-ACB2-4DFB-B2D7-47809518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C955-01DF-43DE-8020-9B75460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693A-85F8-4D71-ACFE-73AEBD22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4E46-3D0D-4705-9516-82D2776D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006C-4964-448C-910F-978DAFE7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A7964-BD55-44C9-990D-FF885BAF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874-642A-4447-B5F1-AC31B900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455DF-D76C-4428-A18B-B63C3027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1554C-81A0-45A0-9CAC-F56082D8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2C0D5-59C2-4222-917B-744862BA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D163E-746F-4916-A2B8-581D14B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F9DF2-2BB3-4896-8B13-FDC29FD9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3C615-2230-4111-AD86-E13BDFD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F92C8-6172-4A0B-8D5A-60B6521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F90FD-038A-4E9A-8401-639C1B7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20C32-2564-45EB-AD7F-8275593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36C19-92E3-44EF-AA88-0867D0BD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9F4-DC57-41D5-91DC-8C8FCF59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B1052-9366-4D3C-B2AD-9DA24E71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6755A-E9FF-4478-9B1F-320D6A77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1A35-B5CA-450C-9333-E8D6EAF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F782B-C43D-438E-9949-C3F945DF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1973D-4D09-4FF2-A11E-5DE2F066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02541-6724-45C0-853A-78DF757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C228E-C44F-46EC-8824-DAC09B3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451C3-3A5E-4249-A051-8D76366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29279-E219-403A-BEA8-04E4CBF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D59D4-2714-448F-A46E-61406B7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976-85D0-47C1-BCE5-F46DA3A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6999D-F049-46C0-9978-5F006A2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89BE4-4DD5-4AC9-91EE-DA9BF9B8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49D75-FEFE-4B6B-87EF-83CE1B0B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F51BA-6E98-4D43-AF3F-395ADC5F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3AFD0-8B67-4B4E-B2B6-0E3EED1A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3BBF3-D68C-4888-A029-FBB213AD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43418-5D08-48E7-8DAF-460CDCA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5F047-15DB-4290-B2B9-F9447D6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2B5A9-D965-4C2D-BBE5-D50F933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59CBB-89C2-4C04-85A2-61B6A5F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B4F-5D4F-4F1A-9CCB-D1533F9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4C1AD-9274-4A4E-A742-2E7D522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5B9AD-D599-4691-ADE6-5F2CE4F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029E3-922B-458C-8088-5297734E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256D2-302D-4DEE-A0EA-47E9C6AD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C170F-F3B3-4060-AC94-750EDF53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863-B2CB-4063-8422-530F415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15E-3BD1-4DB3-9628-AB846E8887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046F-68FA-4602-BDDC-BAB4FFBC29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FDD-E144-4622-B405-1A995B925C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D228-929D-43C5-A2B2-DFF1E62E7C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012-A7CC-42FA-B8AF-52267683BD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09AB-721C-4FFB-B4BC-9F9283408E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C432-7469-424C-B7DF-A8608B5934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питание есть процесс социальный в самом широком смысле. Воспитывает все: люди, вещи, явления, но прежде всего и больше всего – люди. Из них на первом месте – родители и педагог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аренко.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ловек должен любить людей. Если он людей будет любить, то ему будет жить лучше, ибо никто не живет так худо в мире, как мизантроп-человеконенавистни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/>
          <p:nvPr/>
        </p:nvSpPr>
        <p:spPr>
          <a:xfrm>
            <a:off x="6302160" y="479736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и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Не забывайте </a:t>
            </a:r>
            <a:br>
              <a:rPr sz="4400"/>
            </a:b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повторять детям, </a:t>
            </a:r>
            <a:br>
              <a:rPr sz="4400"/>
            </a:b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что вы их любите.</a:t>
            </a:r>
            <a:br>
              <a:rPr sz="36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80438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е прекрасное в мир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релище- это ребенок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ренно идущий по дороге жизн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того как вы указали ему пу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/>
          <p:nvPr/>
        </p:nvSpPr>
        <p:spPr>
          <a:xfrm>
            <a:off x="6804360" y="4724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Конфу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75f6d"/>
                </a:solidFill>
                <a:uFillTx/>
                <a:latin typeface="Arial"/>
              </a:rPr>
              <a:t>Научитесь уважать окружающих, будете всегда желанным человеком, сможете достичь всего лучшего и на работе, и в семье, и  в дружбе</a:t>
            </a:r>
            <a:r>
              <a:rPr b="0" lang="en-US" sz="2600" spc="-1" strike="noStrike" u="sng">
                <a:solidFill>
                  <a:srgbClr val="575f6d"/>
                </a:solidFill>
                <a:uFillTx/>
                <a:latin typeface="Arial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640" y="3212640"/>
            <a:ext cx="74678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это основа всех отношений. Отношений со сверстниками, родителями, учителями, пожилыми людь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00000" y="259920"/>
            <a:ext cx="74678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смотрим сквозь кривые зерк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идим жизнь как сгусток темнот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сем не различая ни тепл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счастья, ни любви, ни крас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оброта в тех зеркалах- обман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творство и губительное зл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почему ж мы смотрим сквозь тума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живое, продажное стекл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плохое в людях замеч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 чужих ошибках говори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чем от черной зависти сгор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сех потоки ненависти ли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росто перестали уважа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ить добро, смеяться  и  люб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постепенно стали забыва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значит в полном смысле- ж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89000"/>
            <a:ext cx="86281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Нравственность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это небезразличное, неформальное отношение к ребенку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со стороны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взрослых, создание условий его понимания самого себя, своих мироощущений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ценностных ориентаций и притяжени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Духовность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стремление к общечеловеческим идеалам добра, справедливости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честности и уважения индивидуальности каждого человека и его культур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920" y="764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Arial"/>
              </a:rPr>
              <a:t>Что представляет ребенок? Каковы его особенности, потребности, каковы скрытые, не замеченные еще возможности?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бенок – это сто масок, сто ролей способного актера. Иной с матерью, иной с отцом, с бабушкой, с дедушкой, иной со строгим и с  ласковым педагогом, иной на кухне и среди ровесников, иной с богатыми и бедными, иной в будничной и в праздничной одежде. Наивный и хитрый, кроткий и мстительный, благовоспитанный шаловливый, он умеет так замкнуться в себе, что вводит нас в заблуждение и использует в своих целях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рчак.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6920" y="404280"/>
            <a:ext cx="748836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должны знать, чем живет, интересуется, что любит, чего не любит, чего хочет и чего не хочет ваш ребенок. Вы должны знать, с кем он дружит, с кем играет и во что играет, что читает, как воспринимает прочитанное…  Это вы должны знать всегда,  с малых лет вашего ребенка. Вы не должны неожиданно узнавать о разных неприятностях и конфликтах, вы должны их предугадывать и предупрежда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аренк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47640" y="1499760"/>
            <a:ext cx="698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О НРАВСТВЕННЫХ КАЧЕСТВАХ ЧЕЛОВЕКА 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НУЖНО СУДИТЬ НЕ ПО ОТДЕЛЬНЫМ ЕГО 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УСИЛИЯМ , А ПО ЕГО ПОВСЕДНЕВНОЙ ЖИЗНИ</a:t>
            </a:r>
            <a:br>
              <a:rPr sz="2400"/>
            </a:b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БРЕЗ ПАСКАЛЬ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31431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Тема: «Воспитание духовно-нравственной личности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2803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«Жизнь без нравственного усилия есть сон»</a:t>
            </a:r>
            <a:br>
              <a:rPr sz="4000"/>
            </a:b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Лев Толстой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«Духовность есть норма человеческой жизни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10920" y="836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ашей стран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3тыс. детей –сиро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2 дома ребенка для 35 тыс. дет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тыс. детей нуждаются в опек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75f6d"/>
                </a:solidFill>
                <a:uFillTx/>
                <a:latin typeface="Arial"/>
              </a:rPr>
              <a:t>Предсказание Нострадамуса на 2008г.</a:t>
            </a:r>
            <a:br>
              <a:rPr sz="2400"/>
            </a:br>
            <a:r>
              <a:rPr b="0" lang="en-US" sz="2400" spc="-1" strike="noStrike" u="sng">
                <a:solidFill>
                  <a:srgbClr val="575f6d"/>
                </a:solidFill>
                <a:uFillTx/>
                <a:latin typeface="Arial"/>
              </a:rPr>
              <a:t>Нострадамус- французский предсказатель, астролог и врач (1503-1566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нету Завета, жить будет опас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вестник небес говорит очень ясно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частью не бывать, потакая гордын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еды там, будут всё чаще отнын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5360" indent="-317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ховных успехов в достатке не вид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щения нет- вот что очень обид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ного ещё, в сути, мстительны стыче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ногие гибнут от грязных привыче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ё изменилось, и тайны открыты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ж меньше страданий, и смерти забыты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ты Пророка народами признаны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то их не принял, те станут безжизнен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койствие и доброта у славян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ими не найден в Завете изъян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ступникам будет впоследствии стыдн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ь им за неверие- счастье не вид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67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75f6d"/>
                </a:solidFill>
                <a:uFillTx/>
                <a:latin typeface="Arial"/>
              </a:rPr>
              <a:t>Подготовка к изменениям: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Не бойтесь продвигаться медленно, </a:t>
            </a:r>
            <a:br>
              <a:rPr sz="2800"/>
            </a:b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бойтесь находиться в бездействии.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/>
          <p:nvPr/>
        </p:nvSpPr>
        <p:spPr>
          <a:xfrm>
            <a:off x="5220000" y="429264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Arial"/>
              </a:rPr>
              <a:t>-Китайская послов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467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 детей легко и свободно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литься со своими друзьям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, что у них есть, 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тавьте их убедитьс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пыте, что самый щедрый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ловек всегда оказываетс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амым богатым, да вдобавок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пользуется признание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одобрением; и тогда он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стро научатся быть щедрыми н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ле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/>
          <p:nvPr/>
        </p:nvSpPr>
        <p:spPr>
          <a:xfrm>
            <a:off x="7094880" y="5805360"/>
            <a:ext cx="110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кк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6:13:57Z</dcterms:created>
  <dc:creator>admin</dc:creator>
  <dc:description/>
  <dc:language>en-US</dc:language>
  <cp:lastModifiedBy>school</cp:lastModifiedBy>
  <dcterms:modified xsi:type="dcterms:W3CDTF">2010-01-27T11:46:37Z</dcterms:modified>
  <cp:revision>3</cp:revision>
  <dc:subject/>
  <dc:title>О нравственных качествах человека  нужно судить не по отдельным его  усилиям , а по его повседневной жизни  Брез Паскаль  </dc:title>
</cp:coreProperties>
</file>