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01A-ECFA-4999-A013-DCFFA3CA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141-DA8D-49DB-B34F-A3F31434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55F-CCC8-4201-A621-BEEF23B1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6D5-BFAE-4782-B617-9C5815E2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084F-E1E9-4140-A400-A1016723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AE81-1AB1-4B39-9505-CA1511E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BF4-0D64-4AC4-98DA-BC563AE9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9868-9A4C-4546-AF00-AC3461A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B64-CEF5-416F-AACA-D471A6E1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448C-8742-4F5D-8571-1A20D03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EB83-B5EC-477E-B3DB-29AB4B3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AC9-FC06-4609-B821-A52DB304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7A6-4D2D-4E9F-B85C-52A23E81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1CE6-0AA2-436B-82CC-CDF74C3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C099-773A-4C38-A779-8D6F3FF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C5EE-8149-422A-9F4C-DD61898F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9CB6-CFD0-49B5-AC26-A5992D63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08311-28E3-460D-B780-BDBA3DEC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FD8CE-C37E-4951-9412-9B4CA758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7D2D2-7986-4B97-89DD-F9568FE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5A20B-506B-46DD-A593-B4F778F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E2691-2AAD-4079-BE44-0CD9D561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9B8-D1DE-42A1-AFF6-82A44840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FDEAB-AE82-4127-B128-58AD75C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3E0F1-C51D-47C4-A677-5D2615E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4EAE5-6189-45CE-8B98-14B5B14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0F517-1D7A-4898-AEEA-4125585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49601-34C0-420B-8AB8-6A6FC2B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AB101-CC2B-4D2D-9698-8821BE23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1F638-6EDA-4290-B3F3-F475EC6B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F077-EA4E-4392-9B3F-B40B2229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36CD-41A7-4A79-9513-8B6477FD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4ED5-412B-463F-B9DF-5552E43E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650-78C9-4ED8-9573-2E5AFC1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16C3-A04E-4763-A36E-CE1534F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46C4-EC5B-4EE4-94E6-E348D242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F4CA1-BF29-46FF-AA21-1B630316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24DD-F023-45D9-ADF1-5C67598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03C8-8498-4B18-A683-28B963D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C49A-C8A8-493F-BD99-9AFA33F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56B7-B29E-46BB-8F75-5CDFE62A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2F85-CE09-4D1A-BA6E-81B95FA7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E786-3A36-42B2-9B80-4E42E29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BBE0B-724D-4F8B-8507-C99BA5CB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906-7E70-4688-8A88-82ABDEF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85684-1801-41F0-BF51-B01BF8A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E45E7-6CC2-4178-A08A-03CA3DB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ED73D-728E-4A93-8108-5F762577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96798-2873-4741-9602-10623DD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AF274-1E10-4EC1-AA8E-ABF70168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EFB0D-6FBF-4DDB-93D4-C975D3B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72640-305C-4BA5-97E9-29675FB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89ACF-F5BD-416F-8EA5-AE34443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0092C-DCAE-46C5-B5B7-D68141A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F8EC9-B4EA-437D-8F27-5D9FD801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D0D-10CE-4C38-99E3-97B9DEC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23F84-0745-406F-A65D-33099B5F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C0EF2-60BB-4694-A8FB-955897C2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3F802-FFFB-42D0-AAB3-CFFCD29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9A36D-F8AA-40DF-A39D-B87E74A6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22160-94C0-4CD7-80CA-956CF88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C6546-1719-4244-81E4-5C196F1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034E5-5648-4B66-8CCB-438020B0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FBED4-25E2-45B3-A9D8-451A90D9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30075-2CDF-4105-979C-30AB578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6AB0D-B0E5-4C25-BBD3-8C286EA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45F-EE58-4847-AD01-941CEC76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F126E-AC18-467E-95D8-076C8371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76BF7-10B3-49A6-B599-B2ED7C6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5733D-FE98-4BD4-8A54-6A9F84F3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A7821-F655-4DB8-897C-4B379B43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8104A-68E3-4886-816E-A346E852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F56F5-E382-4D01-9A58-C769DC7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D68A4-5145-4EAF-AEE6-A8B1909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444B6-A602-413E-918A-CFBB9CE2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9F093-172C-43A2-AF7D-1D6415E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3AE0E-F96E-4E3D-8C0D-259892B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FD5-C533-4F4F-B016-38AB184C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B1794-B5D5-4D67-A142-C2DB3222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FDB8B-448C-4257-B748-973AE37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CE817-2199-4671-915D-F42AD55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C4D02-A893-440C-B4D8-23F79DB7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75BD6-8894-4674-A31D-1B8144E4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2AE-AA05-4F6B-857D-F37EC6B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734-AC6D-4282-8A96-E4B4279853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10C-2FD9-404E-A939-DC73B74FA9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6EED-440C-4064-8E09-C500D2636E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648-8096-4EFC-8EFA-E01F6BA5AA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2278-3E33-490D-86FA-77F455E3B3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627-267D-405E-A72E-89207F654F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F78-E854-49B7-A2C5-8E8DEF8939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спитание есть процесс социальный в самом широком смысле. Воспитывает все: люди, вещи, явления, но прежде всего и больше всего – люди. Из них на первом месте – родители и педагог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аренко.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ловек должен любить людей. Если он людей будет любить, то ему будет жить лучше, ибо никто не живет так худо в мире, как мизантроп-человеконенавистни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/>
          <p:nvPr/>
        </p:nvSpPr>
        <p:spPr>
          <a:xfrm>
            <a:off x="6302160" y="479736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и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Не забывайте </a:t>
            </a:r>
            <a:br>
              <a:rPr sz="4400"/>
            </a:b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повторять детям, </a:t>
            </a:r>
            <a:br>
              <a:rPr sz="4400"/>
            </a:b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что вы их любите.</a:t>
            </a:r>
            <a:br>
              <a:rPr sz="36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80438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е прекрасное в мир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релище- это ребенок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ренно идущий по дороге жизн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того как вы указали ему пу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/>
          <p:nvPr/>
        </p:nvSpPr>
        <p:spPr>
          <a:xfrm>
            <a:off x="6804360" y="4724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Конфу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75f6d"/>
                </a:solidFill>
                <a:uFillTx/>
                <a:latin typeface="Arial"/>
              </a:rPr>
              <a:t>Научитесь уважать окружающих, будете всегда желанным человеком, сможете достичь всего лучшего и на работе, и в семье, и  в дружбе</a:t>
            </a:r>
            <a:r>
              <a:rPr b="0" lang="en-US" sz="2600" spc="-1" strike="noStrike" u="sng">
                <a:solidFill>
                  <a:srgbClr val="575f6d"/>
                </a:solidFill>
                <a:uFillTx/>
                <a:latin typeface="Arial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640" y="3212640"/>
            <a:ext cx="74678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это основа всех отношений. Отношений со сверстниками, родителями, учителями, пожилыми людь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4678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мотрим сквозь кривые зерк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идим жизнь как сгусток темнот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сем не различая ни тепл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счастья, ни любви, ни крас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оброта в тех зеркалах- обман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творство и губительное зл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почему ж мы смотрим сквозь тума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живое, продажное стекл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чем плохое в людях замеч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 чужих ошибках говори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чем от черной зависти сгор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сех потоки ненависти ли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росто перестали уважа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ить добро, смеяться  и  люб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остепенно стали забыва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значит в полном смысле- ж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189000"/>
            <a:ext cx="86281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Нравственность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это небезразличное, неформальное отношение к ребенку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со стороны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взрослых, создание условий его понимания самого себя, своих мироощущений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ценностных ориентаций и притяжен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Духовность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стремление к общечеловеческим идеалам добра, справедливости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честности и уважения индивидуальности каждого человека и его культур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5f6d"/>
                </a:solidFill>
                <a:latin typeface="Arial"/>
              </a:rPr>
              <a:t>Что представляет ребенок? Каковы его особенности, потребности, каковы скрытые, не замеченные еще возможности?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бенок – это сто масок, сто ролей способного актера. Иной с матерью, иной с отцом, с бабушкой, с дедушкой, иной со строгим и с  ласковым педагогом, иной на кухне и среди ровесников, иной с богатыми и бедными, иной в будничной и в праздничной одежде. Наивный и хитрый, кроткий и мстительный, благовоспитанный шаловливый, он умеет так замкнуться в себе, что вводит нас в заблуждение и использует в своих целях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орчак.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6920" y="404280"/>
            <a:ext cx="7488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должны знать, чем живет, интересуется, что любит, чего не любит, чего хочет и чего не хочет ваш ребенок. Вы должны знать, с кем он дружит, с кем играет и во что играет, что читает, как воспринимает прочитанное…  Это вы должны знать всегда,  с малых лет вашего ребенка. Вы не должны неожиданно узнавать о разных неприятностях и конфликтах, вы должны их предугадывать и предупрежда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аренк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47640" y="1499760"/>
            <a:ext cx="698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О НРАВСТВЕННЫХ КАЧЕСТВАХ ЧЕЛОВЕКА 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НУЖНО СУДИТЬ НЕ ПО ОТДЕЛЬНЫМ ЕГО 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УСИЛИЯМ , А ПО ЕГО ПОВСЕДНЕВНОЙ ЖИЗНИ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БРЕЗ ПАСКАЛЬ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85640" y="31431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Тема: «Воспитание духовно-нравственной личности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28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«Жизнь без нравственного усилия есть сон»</a:t>
            </a:r>
            <a:br>
              <a:rPr sz="4000"/>
            </a:b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Лев Толстой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«Духовность есть норма человеческой жизни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1092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ашей стран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3тыс. детей –сиро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2 дома ребенка для 35 тыс. дете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тыс. детей нуждаются в опек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75f6d"/>
                </a:solidFill>
                <a:uFillTx/>
                <a:latin typeface="Arial"/>
              </a:rPr>
              <a:t>Предсказание Нострадамуса на 2008г.</a:t>
            </a:r>
            <a:br>
              <a:rPr sz="2400"/>
            </a:br>
            <a:r>
              <a:rPr b="0" lang="en-US" sz="2400" spc="-1" strike="noStrike" u="sng">
                <a:solidFill>
                  <a:srgbClr val="575f6d"/>
                </a:solidFill>
                <a:uFillTx/>
                <a:latin typeface="Arial"/>
              </a:rPr>
              <a:t>Нострадамус- французский предсказатель, астролог и врач (1503-1566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91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нету Завета, жить будет опас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вестник небес говорит очень ясно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частью не бывать, потакая гордын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еды там, будут всё чаще отнын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5360" indent="-317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ховных успехов в достатке не вид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щения нет- вот что очень обид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много ещё, в сути, мстительны стыче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многие гибнут от грязных привыче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ё изменилось, и тайны открыты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ж меньше страданий, и смерти забыты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ты Пророка народами признаны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то их не принял, те станут безжизнен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койствие и доброта у славян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ими не найден в Завете изъян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ступникам будет впоследствии стыдн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ь им за неверие- счастье не видн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67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75f6d"/>
                </a:solidFill>
                <a:uFillTx/>
                <a:latin typeface="Arial"/>
              </a:rPr>
              <a:t>Подготовка к изменениям: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Не бойтесь продвигаться медленно, </a:t>
            </a:r>
            <a:br>
              <a:rPr sz="2800"/>
            </a:b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бойтесь находиться в бездействии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/>
          <p:nvPr/>
        </p:nvSpPr>
        <p:spPr>
          <a:xfrm>
            <a:off x="5220000" y="429264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Arial"/>
              </a:rPr>
              <a:t>-Китайская послов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 детей легко и свободно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литься со своими друзьям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, что у них есть, 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тавьте их убедитьс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пыте, что самый щедрый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ловек всегда оказываетс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амым богатым, да вдобавок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пользуется признанием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одобрением; и тогда он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стро научатся быть щедрыми н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л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/>
          <p:nvPr/>
        </p:nvSpPr>
        <p:spPr>
          <a:xfrm>
            <a:off x="7094880" y="5805360"/>
            <a:ext cx="110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кк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6:13:57Z</dcterms:created>
  <dc:creator>admin</dc:creator>
  <dc:description/>
  <dc:language>en-US</dc:language>
  <cp:lastModifiedBy>school</cp:lastModifiedBy>
  <dcterms:modified xsi:type="dcterms:W3CDTF">2010-01-27T11:46:37Z</dcterms:modified>
  <cp:revision>3</cp:revision>
  <dc:subject/>
  <dc:title>О нравственных качествах человека  нужно судить не по отдельным его  усилиям , а по его повседневной жизни  Брез Паскаль  </dc:title>
</cp:coreProperties>
</file>