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8CBB-167E-435A-A9CB-8A4C7ABBFC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27DC-F058-4EF6-97DA-0625F45F2A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E165-BA52-4F8B-A355-2761AC1BBD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8422-B1CE-4995-A54A-BA944EFBF1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E772-9E21-49CA-87CF-DB61B43199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A414-A18B-40B2-BB6B-C004A770B1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5BC4-79DC-490D-9EEA-5561BC794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B5D2-F6E3-4178-AF34-F9D1D47FC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15D7-43EA-4DDD-A615-7AA2C8D037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3907-A868-4B37-A9A3-37196E59D7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FB74-0738-43D2-9498-DB5FA785B5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306-D5D8-4C61-91D8-9824D400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8BB-9B39-49D8-A25C-9C2FCDA1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952-337D-4356-B2CE-5BFBE3E3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E23-E2F3-4FB7-A8FD-05AA399D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7AE3-1B0D-4BED-BFD7-DDD7EF11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22B9-E6DF-4A13-8181-FC197F85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A928-8B82-41C8-BDDE-2F204726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9CD1-7855-47AA-8DB4-55F24FB4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E3B2-B495-4924-82FB-F259A4A7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612B-405D-4786-944F-FCD3E3C8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8155-6527-4659-8A41-C6605CE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E2D-2C5E-42AF-AE49-B1424C4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058E-453C-4E9C-B43B-AA1BE034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A356-BF56-4FA4-917B-A3B40457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BC29-5DBE-4DEB-A908-2CE4DA00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080F-359B-4B34-A312-BDDA444A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D459-6636-4164-803B-A7499EC5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951EA-B741-456D-92ED-25932DE8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627C0-622B-4981-B597-438645DF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39E67-E527-46C9-88CC-6270983B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BFC23-B054-4BAC-8427-13DFA74F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814CE-FB26-457D-A0F0-961AABE1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201-B43E-42B2-88B7-A635E217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88658-CF40-4DB1-AB64-F51160EB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44986-06CE-4240-BE7E-21E14F2C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F267D-BE53-4FC0-B47C-A8B05F23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1E266-2A1D-4A20-AEED-DBCC889E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44D91-60DC-48C6-B78F-A64AB068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1D662-4280-4EDF-9986-4178B96F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626E4-26E9-4FB2-9192-C237B83F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5D7AF-CEB1-4C39-9394-9474CB61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A329C-846E-4736-9C12-24E489C7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9D1E8-174C-4511-A3E3-96789F36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85A-5974-4593-958A-AFCA3EEB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E9387-CF3C-4FD4-AA1F-DC249AA2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1D7D8-6D69-4243-AE01-15B47A75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ED25A-D503-450B-8370-1D911629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6F6B9-1E12-4343-A7AC-BC4CDCA6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839F3-9DFC-4CF3-B79C-78D57CA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BA562-B413-499C-B75C-E04A9F4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0EA39-4FA5-4039-AEEA-0C8FECAE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77F1F-B6FA-4D49-BA0C-F5AB8FA6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BEBA9-C26D-4E1A-A578-969FCE42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05E2A-8037-40C3-9B04-85BC34D3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17F-B450-4A44-AAB5-A0F6D37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23F1A-6280-4789-95FF-B3095A39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48B88-33F3-4891-BE8F-E0F9A1E8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0E321-3F21-4950-9BF5-DAE4F67E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C1733-DEB3-4462-848A-201F4EAC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D5771-3457-4303-ACFC-1C61C7A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37668-B110-4734-B951-73FD2553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43AB8-3683-44E0-8E2A-AA1E52D4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54110-6E3E-4B1F-B765-5F324ECF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DAEC6-680F-43D7-B091-4E590C55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926C8-3FB7-4633-9A62-0125BEB4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62F-14D6-4F9C-B3A1-44774BA4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7FB81-1D16-48FD-A448-003681EE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ECC88-44ED-4085-BD84-7523E997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6B6A-157A-4BDB-B67F-3EC04395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04E02-0FDD-441A-A7B5-647BDCFB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68F35-C0C4-43AF-A17B-FCEBC59B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1040-55B8-45FF-8D79-6B39920F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7F7F3-C5C0-4B49-8E10-C75F97EE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8F7FB-7EF0-49C9-9C8E-E50395B8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B7DA4-B18B-44EC-AF92-C30C5B44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CBFCD-C0FF-451B-BE47-9B51EDBC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5EF-375F-494A-8561-8A738AD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E4ED7-7FAA-4C8D-960F-0BEEA50D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807E5-3EDC-4E7A-B400-F906E359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DA704-51FB-42BD-B50F-CC5DD594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3715F-0A2E-4765-858F-5152D73C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1A5728-3BA2-48DE-B506-70F3D05F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8B735-DB32-495F-B066-5E159C5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229E9-2DC1-4F9F-9D5D-F067CCDA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ECF95-2701-40B0-9031-0C89EA16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F8809-6AA7-43C5-B88A-CEC754CA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B3C3A-3D15-4853-8571-50D44096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036-BA8A-41D2-9944-43360374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969307-BFC7-499B-9737-5B8B0670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C1ABD-6E4F-4B3F-A42A-6E5D8DE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85501-E335-4B98-A2FB-72CA075C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5BD2F-545A-4774-91D4-D5E43437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1C9AE-232B-4A91-878C-DE41E7F9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513-2935-4A7A-A79A-8066B9C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FDDD-2484-49BE-9820-53F24FE953BB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1D5E-B286-4534-B696-C6BD07ABA83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44784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4540320"/>
            <a:ext cx="2249280" cy="5349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4533840"/>
            <a:ext cx="6784920" cy="533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4551480"/>
            <a:ext cx="20574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3584-AFAD-4FC7-A0C8-1E7971BB8173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1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177840"/>
            <a:ext cx="5867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171360"/>
            <a:ext cx="838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ef5f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AD17-33C1-4FB5-92AF-CEB79F326B91}" type="slidenum">
              <a:rPr b="1" lang="ru-RU" sz="1400" spc="-1" strike="noStrike">
                <a:solidFill>
                  <a:srgbClr val="def5f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143000"/>
            <a:ext cx="91440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00240"/>
            <a:ext cx="1295280" cy="74304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200240"/>
            <a:ext cx="7772400" cy="7430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10B6-E0B2-4C47-82E1-989384DBABF2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314360"/>
            <a:ext cx="12952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1A69-6607-4EB4-B7BD-83C72BCBC2D9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DC2D-036D-40AB-BC49-B35341E8BA7E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7C5B-4ED5-4E43-AFAA-41192F78CF0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8D08-A114-4056-AEDC-CBE5EC4FFDDD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D649-1062-4B63-A8A1-95774511CD7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5D6F-F376-4AC4-9716-84545ACB29C7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4686120"/>
            <a:ext cx="5335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5E59-BA62-4D96-BD23-E3EF44C70B96}" type="slidenum">
              <a:rPr b="1" lang="ru-RU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34290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3497400"/>
            <a:ext cx="1463400" cy="5349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3490920"/>
            <a:ext cx="7589880" cy="5349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4686480"/>
            <a:ext cx="26668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f5f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08CE-4120-41C3-9B21-4AFB2A803F4D}" type="datetime">
              <a:rPr b="0" lang="ru-RU" sz="1400" spc="-1" strike="noStrike">
                <a:solidFill>
                  <a:srgbClr val="def5fa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3499920"/>
            <a:ext cx="1447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D122-9A14-4427-9B55-E0DB45D81DEB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4686480"/>
            <a:ext cx="45720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3640" y="410760"/>
            <a:ext cx="8515080" cy="397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ДОПОЛНИТЕЛЬНОГО ОБРАЗОВАНИЯ РЕСПУБЛИКИ КРЫМ «ДВОРЕЦ ДЕТСКОГО И ЮНОШЕСКОГО ТВОРЧЕСТВА»  Г. СИМФЕРОПОЛЬ</a:t>
            </a:r>
            <a:br>
              <a:rPr sz="1100"/>
            </a:br>
            <a:br>
              <a:rPr sz="1100"/>
            </a:br>
            <a:br>
              <a:rPr sz="2500"/>
            </a:br>
            <a:r>
              <a:rPr b="1" lang="ru-RU" sz="2000" spc="-1" strike="noStrike">
                <a:solidFill>
                  <a:srgbClr val="f3a276"/>
                </a:solidFill>
                <a:latin typeface="Times New Roman"/>
                <a:ea typeface="Times New Roman"/>
              </a:rPr>
              <a:t>ДЕЯТЕЛЬНОСТЬ НАСТАВНИКА ПО СОПРОВОЖДЕНИЮ КОЛЛЕГ В КОНКУРСАХ ПРОФЕССИОНАЛЬНОГО ПЕДАГОГИЧЕСКОГО МАСТЕРСТВА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16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БАКЛИЦКАЯ МАРИЯ ВАЛЕРЬЕВНА</a:t>
            </a:r>
            <a:br>
              <a:rPr sz="1600"/>
            </a:br>
            <a:r>
              <a:rPr b="1" lang="ru-RU" sz="16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ПЕДАГОГ ДОПОЛНИТЕ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ПЕРВОЙ КВАЛИФИКАЦИОННОЙ КАТЕГОРИИ,</a:t>
            </a:r>
            <a:br>
              <a:rPr sz="1600"/>
            </a:br>
            <a:r>
              <a:rPr b="1" lang="ru-RU" sz="16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АСПИРАНТ КИПУ  ИМ. ФЕВЗИ ЯКУБОВА</a:t>
            </a:r>
            <a:br>
              <a:rPr sz="2200"/>
            </a:br>
            <a:br>
              <a:rPr sz="2200"/>
            </a:br>
            <a:endParaRPr b="0" lang="en-US" sz="16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340000" y="4443120"/>
            <a:ext cx="68040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9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5" name="Picture 5" descr="https://tatelprof.ru/images/10.2022/Prof_19_12_2022_01.jpg"/>
          <p:cNvPicPr/>
          <p:nvPr/>
        </p:nvPicPr>
        <p:blipFill>
          <a:blip r:embed="rId1"/>
          <a:stretch/>
        </p:blipFill>
        <p:spPr>
          <a:xfrm>
            <a:off x="5724360" y="1828800"/>
            <a:ext cx="2880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64646"/>
                </a:solidFill>
                <a:latin typeface="Calibri"/>
              </a:rPr>
              <a:t>Итог любой подготовки это ПОБЕДА!</a:t>
            </a:r>
            <a:endParaRPr b="0" lang="en-US" sz="3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932360" y="1236240"/>
            <a:ext cx="3960720" cy="999000"/>
          </a:xfrm>
          <a:prstGeom prst="rect">
            <a:avLst/>
          </a:prstGeom>
          <a:solidFill>
            <a:srgbClr val="da1f28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82880" bIns="9144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ажно!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обеда – это всегда итог качественной командной работы, в которой учитываются интересы каждого участ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" descr="C:\Users\User\Downloads\1686044411693.jpg"/>
          <p:cNvPicPr/>
          <p:nvPr/>
        </p:nvPicPr>
        <p:blipFill>
          <a:blip r:embed="rId1"/>
          <a:stretch/>
        </p:blipFill>
        <p:spPr>
          <a:xfrm>
            <a:off x="179280" y="141912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User\Downloads\1686044411715.jpg"/>
          <p:cNvPicPr/>
          <p:nvPr/>
        </p:nvPicPr>
        <p:blipFill>
          <a:blip r:embed="rId2"/>
          <a:stretch/>
        </p:blipFill>
        <p:spPr>
          <a:xfrm>
            <a:off x="4643280" y="2290680"/>
            <a:ext cx="38037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0" descr="https://sun6-20.userapi.com/s/v1/ig2/Q2AS-X-bQyVmDfKIkAtdG8hrlXFx3NY4jDqasQPp1Vi2xciR1ZOpGIuWJsUtbB7xgJg5N2cMaO-7TvWXzSDb5_3c.jpg?size=2008x2011&amp;quality=95&amp;crop=444,0,2008,2011&amp;ava=1"/>
          <p:cNvPicPr/>
          <p:nvPr/>
        </p:nvPicPr>
        <p:blipFill>
          <a:blip r:embed="rId1"/>
          <a:stretch/>
        </p:blipFill>
        <p:spPr>
          <a:xfrm>
            <a:off x="2987640" y="2098800"/>
            <a:ext cx="3040200" cy="30448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современном мире одним из важнейших факторов успеха в достижении поставленных целей в любой сфере деятельности является командный подход.</a:t>
            </a:r>
            <a:endParaRPr b="0" lang="en-US" sz="2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09480" y="1352520"/>
            <a:ext cx="381816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се члены команды объединены общей деятельностью и общей целью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лены команды находятся во взаимосвязи — результат совместной работы оказывается качественно иным по сравнению с итоговым результатом индивидуальной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844520" y="135252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е члены команды осознают себя как единое целое, обособленное от окружающей среды и обладающее внутренней структур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еятельность команды соотносится с окружающим обществом, смысл деятельности команды выходит за рамки самой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лгоритм работы</a:t>
            </a:r>
            <a:br>
              <a:rPr sz="2400"/>
            </a:br>
            <a:r>
              <a:rPr b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ри реализации проекта «Подготовка к конкурсу профессионального мастерства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1199880"/>
            <a:ext cx="4970520" cy="35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ть условия для качественной подготовки участников к конкурсу профессионального мастерства педагогов дополнительного образования «Сердце отдаю детя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опыт работы, профессиональные качества, творческие способности педагогов, определить конкурсанта, достойного представить учреждение на конкурсе профессионального мастерств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научно – методического сопровождения конкурсанта на всех этапах конкурс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ой мотивационной среды, психологической атмосферы для конкурсан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2" descr="https://vr-vyksa.ru/media/images/serdtse-otdaiu-detiam.max-1200x800.jpg"/>
          <p:cNvPicPr/>
          <p:nvPr/>
        </p:nvPicPr>
        <p:blipFill>
          <a:blip r:embed="rId1"/>
          <a:stretch/>
        </p:blipFill>
        <p:spPr>
          <a:xfrm>
            <a:off x="5435640" y="1924200"/>
            <a:ext cx="3551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483840"/>
            <a:ext cx="8353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ждый из членов творческой группы отвечал за определенную работу.</a:t>
            </a:r>
            <a:br>
              <a:rPr sz="3800"/>
            </a:br>
            <a:endParaRPr b="0" lang="en-US" sz="1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04440"/>
            <a:ext cx="7562880" cy="419400"/>
          </a:xfrm>
          <a:prstGeom prst="rect">
            <a:avLst/>
          </a:prstGeom>
          <a:solidFill>
            <a:srgbClr val="da1f28"/>
          </a:solidFill>
          <a:ln cap="sq" w="50760">
            <a:solidFill>
              <a:srgbClr val="da1f28"/>
            </a:solidFill>
            <a:miter/>
          </a:ln>
        </p:spPr>
        <p:txBody>
          <a:bodyPr lIns="137160" rIns="137160" tIns="182880" bIns="91440" anchor="t">
            <a:normAutofit fontScale="5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спределение обязанностей в коман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95280" y="2066760"/>
          <a:ext cx="8064360" cy="2808360"/>
        </p:xfrm>
        <a:graphic>
          <a:graphicData uri="http://schemas.openxmlformats.org/drawingml/2006/table">
            <a:tbl>
              <a:tblPr/>
              <a:tblGrid>
                <a:gridCol w="3906720"/>
                <a:gridCol w="4157640"/>
              </a:tblGrid>
              <a:tr h="1717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бщую подготовку к конкурс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по методической рабо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подготовку документов к заочному этапу: анкета, описание опыта, характеристика, видеорол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по методической рабо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здание сюжетов видеорол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методисты, педагог – организатор, звукооперат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здание видеофильма и техническое оснащ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заведующий отделом, звукооперат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зработку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заместитель директора, методис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подготовку защиты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метод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зработку и подготовку само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заведующий отделом, методис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4360" y="484200"/>
            <a:ext cx="7562880" cy="417600"/>
          </a:xfrm>
          <a:prstGeom prst="rect">
            <a:avLst/>
          </a:prstGeom>
          <a:solidFill>
            <a:srgbClr val="da1f28"/>
          </a:solidFill>
          <a:ln cap="sq" w="50760">
            <a:solidFill>
              <a:srgbClr val="da1f28"/>
            </a:solidFill>
            <a:miter/>
          </a:ln>
        </p:spPr>
        <p:txBody>
          <a:bodyPr lIns="137160" rIns="137160" tIns="182880" bIns="91440" anchor="t">
            <a:normAutofit fontScale="4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 подготовки к конкурс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24000" y="1419120"/>
          <a:ext cx="8712000" cy="3724560"/>
        </p:xfrm>
        <a:graphic>
          <a:graphicData uri="http://schemas.openxmlformats.org/drawingml/2006/table">
            <a:tbl>
              <a:tblPr/>
              <a:tblGrid>
                <a:gridCol w="1639800"/>
                <a:gridCol w="3986280"/>
                <a:gridCol w="3085920"/>
              </a:tblGrid>
              <a:tr h="2066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 конкурс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компетенций конкурса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9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ительный эта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программы действий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явление  из педагогического опыта наиболее ценных компонентов  с точки зрения инновационности, целесообразности, технологичност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вижение педагогических целей и задач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т интересов детей при определении задач и отборе содержания деятельност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бор способов достижения целей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 системы приемов стимулирования обучающихся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 интеграции с иным педагогическим опытом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едрение современных педагогических  технологий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нозирование результата деятельности, возможные отклонения и нежелательные явл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ение концептуальными и теоретическими основами педагогической деятельности, ориентацией в современных подходах к решению педагогических проблем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собственной педагогической философи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ение методикой разработки авторских материалов (программы, технологии);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находить в теории обучения и воспитания идеи, выводы, закономерност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ение навыками работы с персональным компьютером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ние основных компьютерных программ (Word,  PowerPoint и др.) и умение пользоваться ими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484200"/>
            <a:ext cx="7562880" cy="417600"/>
          </a:xfrm>
          <a:prstGeom prst="rect">
            <a:avLst/>
          </a:prstGeom>
          <a:solidFill>
            <a:srgbClr val="da1f28"/>
          </a:solidFill>
          <a:ln cap="sq" w="50760">
            <a:solidFill>
              <a:srgbClr val="da1f28"/>
            </a:solidFill>
            <a:miter/>
          </a:ln>
        </p:spPr>
        <p:txBody>
          <a:bodyPr lIns="137160" rIns="137160" tIns="182880" bIns="91440" anchor="t">
            <a:normAutofit fontScale="4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 подготовки к конкурс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1276200"/>
          <a:ext cx="9144000" cy="3867480"/>
        </p:xfrm>
        <a:graphic>
          <a:graphicData uri="http://schemas.openxmlformats.org/drawingml/2006/table">
            <a:tbl>
              <a:tblPr/>
              <a:tblGrid>
                <a:gridCol w="1720800"/>
                <a:gridCol w="4183200"/>
                <a:gridCol w="3240000"/>
              </a:tblGrid>
              <a:tr h="38674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 реализации идеи и представление  идеи педагогическому сообществу (Конкур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аботка  навыков публичного выступл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способности конструировать прямую и обратную связь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аботка приемов удержания внимания аудитор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ботка умений выбирать стратегию, тактику и технику взаимодействия с учащимис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системы создания ситуаций успеха для учащихс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аботка умений показать роль и значение изучаемого материала в реализации личных плано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аботка овладения приемами разрешения педагогических ситуаций;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ботка умений создавать на мероприятии комфортный микроклимат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эффективно распределить время на урок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ладение навыками саморегуляции и управления своим эмоциональным состояни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ть требования к выступлению, владеть логикой выступл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вести  вербальный и невербальный обмен информацие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прогнозировать вопросы и замечания аудитории, подготовив предполагаемые ответы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по необходимости перестраивать план и ход занят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выражать мысль с помощью графиков, схем, диаграмм, рисунков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евременно диагностировать характер и уровень усвоения представляемого материал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организовывать совместную с детьми деятельность для достижения определенных значимых целе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еть различными методами оценивания и уметь перейти от педагогического оценивания к с/оценк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обоснованно применять современные достижения в области методики обучения в своей педагогической практ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4360" y="484200"/>
            <a:ext cx="7562880" cy="417600"/>
          </a:xfrm>
          <a:prstGeom prst="rect">
            <a:avLst/>
          </a:prstGeom>
          <a:solidFill>
            <a:srgbClr val="da1f28"/>
          </a:solidFill>
          <a:ln cap="sq" w="50760">
            <a:solidFill>
              <a:srgbClr val="da1f28"/>
            </a:solidFill>
            <a:miter/>
          </a:ln>
        </p:spPr>
        <p:txBody>
          <a:bodyPr lIns="137160" rIns="137160" tIns="182880" bIns="91440" anchor="t">
            <a:normAutofit fontScale="4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 подготовки к конкурс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50920" y="1625760"/>
          <a:ext cx="8712000" cy="3251160"/>
        </p:xfrm>
        <a:graphic>
          <a:graphicData uri="http://schemas.openxmlformats.org/drawingml/2006/table">
            <a:tbl>
              <a:tblPr/>
              <a:tblGrid>
                <a:gridCol w="1639800"/>
                <a:gridCol w="3986280"/>
                <a:gridCol w="3085920"/>
              </a:tblGrid>
              <a:tr h="325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 общественной экспертизы идеи, анализ результатов(Итоги конкур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едение результат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ическая оценка результатов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спективы дальнейшего развития педаго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товность к самоизменению на основе диагностики и самодиагности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товность к проявлению личной инициативы и дальнейшему профессиональному рос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547280" y="3363840"/>
            <a:ext cx="7596360" cy="17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подготовки были использованы различные форматы взаимодействия членов команды: индивидуальные и групповые консультации, психологические консультации, совещания, методические учебы, репетиции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557360" y="-360"/>
            <a:ext cx="7586640" cy="3419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https://pic.rutubelist.ru/video/b5/18/b5184c813a90351bd651ae2c227afee5.png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https://leader-id.storage.yandexcloud.net/upload/785542/653c67d3-e6a9-4bfd-afd3-9566640a3351.jpg"/>
          <p:cNvPicPr/>
          <p:nvPr/>
        </p:nvPicPr>
        <p:blipFill>
          <a:blip r:embed="rId1"/>
          <a:stretch/>
        </p:blipFill>
        <p:spPr>
          <a:xfrm>
            <a:off x="0" y="1636560"/>
            <a:ext cx="4913280" cy="28069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64646"/>
                </a:solidFill>
                <a:latin typeface="Calibri"/>
              </a:rPr>
              <a:t>Полезные советы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067280" y="1347480"/>
            <a:ext cx="5076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офессионально-личностных интересов (мотивация) педагогов в подготовке конкурсанта осуществлялся через средства стимулирования (престиж учреждения, трансляция передового педагогического опыта в рамках округа и района, премия из фонда надбавок и допла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6T09:07:08Z</dcterms:created>
  <dc:creator/>
  <dc:description/>
  <dc:language>en-US</dc:language>
  <cp:lastModifiedBy/>
  <dcterms:modified xsi:type="dcterms:W3CDTF">2023-06-06T10:04:1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9</vt:r8>
  </property>
  <property fmtid="{D5CDD505-2E9C-101B-9397-08002B2CF9AE}" pid="3" name="_Version">
    <vt:lpwstr>12.0.4518</vt:lpwstr>
  </property>
</Properties>
</file>