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ef5fa"/>
                </a:solidFill>
                <a:latin typeface="Calibri"/>
              </a:rPr>
              <a:t>Click to move the slide</a:t>
            </a:r>
            <a:endParaRPr b="0" lang="en-US" sz="42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83CD-9569-46B0-81BF-CA955C492D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5972-C7D5-4345-8273-1D98186B92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5C33-33B6-4D54-B84B-D45D820DB2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8CF4-01E4-4568-B912-1385F0B2FD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3D5B-F485-4AD9-A4B4-0D2DBEB06A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8E72-B527-4B77-962D-C4D16F3301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1D84-AFD2-4780-B799-E91FF20273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8BE8-6C3F-45E5-B713-0C8F630915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51DF-951C-4323-AE84-C15AFED3A7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F115-9FE1-4DB0-9BA9-02F1BE3A87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3CB4-C59F-404A-9B9F-A26698AC8E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96B-A27F-4F51-BF74-D5B0C5F3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55F-747B-4453-87BC-DF14EBB9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B1CF-919C-41AC-9274-335DA5F8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082-66FB-4ACF-AAF0-33CDF3B0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5E3E-0586-4225-A1E0-9923A43B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C408-0863-41EF-B99E-7CDA2178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C01F-13A8-416A-8471-F18E8F28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F850-A32B-4CF2-B117-B5BEF869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161F-EC3D-411D-A5EE-27C48CE5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7958-B4BF-45FE-9611-BBC13D62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5611-F901-4D43-BBFD-00BEB967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48A-1B4E-4BF4-A9B1-47DB096F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EEB2-05E9-46E1-BB90-C35DDCEE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0FB9-AD2D-4AFB-BE78-3BB0A78A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8C75-2D4E-4151-B1AB-628D82F1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A71B-872C-483D-A6D1-525EC377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81B7-335D-4B6D-AADC-3B412C33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21625-F017-4601-9F9E-C573771E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F1892-01B9-4703-82CE-CF030C1D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B24A7-55B0-4234-B74D-E5159855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90A62-8851-47DC-802E-20A41C53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1E356-AEAA-4BE8-8A93-E2F0C513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A44-D7E8-42D9-8742-A706C6A3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C6DDA-FA9E-4C0A-8D6E-A8B9ABF4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1F887-91BF-440C-9928-A13F1317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5D0DC-4AD5-4D42-9A0E-7A23DE8B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FFCF0F-6C2A-4E29-A1AF-2337F040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91FC7-165C-4754-A833-A1821AA0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F95B7-930E-4339-A7A6-C59FF6C0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2B296-3800-4560-B989-6DA997E4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75B58D-1550-463F-B47C-CCF8B19A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2AE635-3A08-4A81-9F92-90A74C77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49F0A1-8131-4345-98C7-4B57C5C7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975-D37D-407E-8935-0A5B8E09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745837-596E-4079-B013-E141185B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CD1699-4CCA-40A8-B3AF-75D0882B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45CE6-DEF7-47AB-8F08-498F3FF9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A12FC8-2DC6-438F-A763-28E64B6C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6AE750-AE32-480B-BD12-63A33DEE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37DC5D-BF7C-4BA3-BAF6-7260B1DF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866C5A-90B4-4F10-8150-E7C12099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90AAE-748D-4285-BA8F-F378072F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588265-B50E-41AB-8381-8DFD0BE0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FD314E-C84C-4DDE-8782-CA42334D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50A-D906-4D6A-AC01-261A15E2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F202A-1177-48A7-8E4B-ECB09885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0BBB0-509D-48FE-BED9-69A7EB08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0BDEDB-FDBD-4C0E-99AF-CAB4D313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EABCFD-7C56-4BCD-9D60-217D4410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22C4E-2729-426B-8E63-B65244E4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E5DF5-C2C1-4622-881D-42DF6663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54B3F-B87E-431B-89A3-A67CF93D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746350-2661-4B65-8D75-3E6A8669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225216-6573-4606-8952-7CBCA822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78F57-941C-42D8-8C58-C86AB9FF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117A-0A0A-43B7-A339-88672210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C51C7-3E13-4F39-887E-FE061A6C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633B1-89A5-419E-B05F-B7BF7771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2414C-B608-4DE5-8D25-21B5405C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72219-599F-4B90-9B35-7D712F82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E911D-657A-4F8D-B30F-F1E4CF53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58E5B-94EA-4154-A75F-8BE5A4C2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C1BE4-7E89-4D53-BF1C-837F8A13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64A78-74EE-4ACE-8C46-16442B2C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28711-3AC2-4188-B8A2-3FBD8055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B9D63-1BAF-4194-81D8-02C97310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A08-9437-4887-BB11-CC936946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CE919-F8C2-4360-812A-E62A2A6E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A89B9-A9AC-40D0-B91A-2492CEFF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C2423-B827-46A8-9901-267325FD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B42D9E-AC9E-4464-8CE9-C148583B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CFC1AD-BB16-4EAD-AA55-A65A3C2D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FB6E3B-1010-41AE-9AEC-3BE85E17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6A08AE-9A6C-48DB-B963-BF4ED3A0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6F461-B9F0-44F4-86E6-C7D09B9B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117360"/>
            <a:ext cx="81536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4CD828-7296-4351-8370-2FCD36BD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B7BFCA-CDB7-4CDC-A3E5-35DB5A23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0729-CA20-4C2C-ADBD-AF8BC2FE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2742E5-9BA5-4FD6-9048-F99B5F15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29E07D-9993-426A-A8D6-FA4CE028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1BD9F-7377-4147-A267-D3E33B25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04560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FC703D-94FE-40A4-99AD-36221BD3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35216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045600"/>
            <a:ext cx="26251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9ADC13-DC53-42C5-93B5-44322F1D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352160"/>
            <a:ext cx="397872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045600"/>
            <a:ext cx="815328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0259-5910-4AD5-99C4-F7561A59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8A1A-7B0D-499E-B23A-1FF7299A70D4}" type="datetime">
              <a:rPr b="0" lang="ru-RU" sz="1400" spc="-1" strike="noStrike">
                <a:solidFill>
                  <a:srgbClr val="464646"/>
                </a:solidFill>
                <a:latin typeface="Calibri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09480" y="4686480"/>
            <a:ext cx="54216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1095480"/>
            <a:ext cx="9144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28600"/>
            <a:ext cx="533520" cy="171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90400" y="1128600"/>
            <a:ext cx="8553600" cy="1717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0" y="1123560"/>
            <a:ext cx="5335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F4B3-3300-46FF-9FFB-B311AAC2025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4478400"/>
            <a:ext cx="91440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4540320"/>
            <a:ext cx="2249280" cy="5349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4533840"/>
            <a:ext cx="6784920" cy="5335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4551480"/>
            <a:ext cx="205740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9EDE-DE43-4AD2-862B-C0FC063033AB}" type="datetime">
              <a:rPr b="0" lang="ru-RU" sz="20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177840"/>
            <a:ext cx="5867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171360"/>
            <a:ext cx="8380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def5fa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A5A1-E4FA-443E-B0DF-93A54DACCC06}" type="slidenum">
              <a:rPr b="1" lang="ru-RU" sz="1400" spc="-1" strike="noStrike">
                <a:solidFill>
                  <a:srgbClr val="def5fa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143000"/>
            <a:ext cx="914400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00240"/>
            <a:ext cx="1295280" cy="74304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200240"/>
            <a:ext cx="7772400" cy="7430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1A67-1800-4980-92FA-C5997A6A04A2}" type="datetime">
              <a:rPr b="0" lang="ru-RU" sz="1400" spc="-1" strike="noStrike">
                <a:solidFill>
                  <a:srgbClr val="464646"/>
                </a:solidFill>
                <a:latin typeface="Calibri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314360"/>
            <a:ext cx="129528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7EEE-83FC-4A89-B91A-DF7A7DCEE183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4686480"/>
            <a:ext cx="54216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095480"/>
            <a:ext cx="9144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128600"/>
            <a:ext cx="533520" cy="171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128600"/>
            <a:ext cx="8553600" cy="1717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0D5D-2B71-4A49-885F-A3A51C4B953D}" type="datetime">
              <a:rPr b="0" lang="ru-RU" sz="1400" spc="-1" strike="noStrike">
                <a:solidFill>
                  <a:srgbClr val="464646"/>
                </a:solidFill>
                <a:latin typeface="Calibri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123560"/>
            <a:ext cx="5335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810A-D255-4F1C-820E-EFC911EC5DB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4686480"/>
            <a:ext cx="54216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095480"/>
            <a:ext cx="9144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128600"/>
            <a:ext cx="533520" cy="171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128600"/>
            <a:ext cx="8553600" cy="1717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484B-F58C-4F2C-A412-A9318FE19C0C}" type="datetime">
              <a:rPr b="0" lang="ru-RU" sz="1400" spc="-1" strike="noStrike">
                <a:solidFill>
                  <a:srgbClr val="464646"/>
                </a:solidFill>
                <a:latin typeface="Calibri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123560"/>
            <a:ext cx="5335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B13A-394E-4A80-BCD7-3A7C4C818CD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4686480"/>
            <a:ext cx="54216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830D-49A6-46A6-B0D5-BE1EB3DDBD19}" type="datetime">
              <a:rPr b="0" lang="ru-RU" sz="1400" spc="-1" strike="noStrike">
                <a:solidFill>
                  <a:srgbClr val="464646"/>
                </a:solidFill>
                <a:latin typeface="Calibri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4686480"/>
            <a:ext cx="54216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4686120"/>
            <a:ext cx="53352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D26D-684A-46A2-AA68-1A39E55958FF}" type="slidenum">
              <a:rPr b="1" lang="ru-RU" sz="1400" spc="-1" strike="noStrike">
                <a:solidFill>
                  <a:srgbClr val="46464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3429000"/>
            <a:ext cx="91440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3497400"/>
            <a:ext cx="1463400" cy="53496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3490920"/>
            <a:ext cx="7589880" cy="5349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514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12720" y="1352160"/>
            <a:ext cx="81532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550080" indent="-23436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786240" indent="-19656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179360" indent="-19656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572480" indent="-19656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572480" indent="-196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572480" indent="-196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4686480"/>
            <a:ext cx="26668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f5f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C30A-D242-4563-891C-0B826FD8C886}" type="datetime">
              <a:rPr b="0" lang="ru-RU" sz="1400" spc="-1" strike="noStrike">
                <a:solidFill>
                  <a:srgbClr val="def5fa"/>
                </a:solidFill>
                <a:latin typeface="Calibri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3499920"/>
            <a:ext cx="1447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AEBC-6E87-4124-A2A6-6494FB456288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4686480"/>
            <a:ext cx="45720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3640" y="410760"/>
            <a:ext cx="8515080" cy="397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def5fa"/>
                </a:solidFill>
                <a:latin typeface="Times New Roman"/>
                <a:ea typeface="Times New Roman"/>
              </a:rPr>
              <a:t>ГОСУДАРСТВЕННОЕ БЮДЖЕТНОЕ ОБРАЗОВАТЕЛЬНОЕ УЧРЕЖДЕНИЕ ДОПОЛНИТЕЛЬНОГО ОБРАЗОВАНИЯ РЕСПУБЛИКИ КРЫМ «ДВОРЕЦ ДЕТСКОГО И ЮНОШЕСКОГО ТВОРЧЕСТВА»  Г. СИМФЕРОПОЛЬ</a:t>
            </a:r>
            <a:br>
              <a:rPr sz="1100"/>
            </a:br>
            <a:br>
              <a:rPr sz="1100"/>
            </a:br>
            <a:br>
              <a:rPr sz="2500"/>
            </a:br>
            <a:r>
              <a:rPr b="1" lang="ru-RU" sz="2000" spc="-1" strike="noStrike">
                <a:solidFill>
                  <a:srgbClr val="f3a276"/>
                </a:solidFill>
                <a:latin typeface="Times New Roman"/>
                <a:ea typeface="Times New Roman"/>
              </a:rPr>
              <a:t>ДЕЯТЕЛЬНОСТЬ НАСТАВНИКА ПО СОПРОВОЖДЕНИЮ КОЛЛЕГ В КОНКУРСАХ ПРОФЕССИОНАЛЬНОГО ПЕДАГОГИЧЕСКОГО МАСТЕРСТВА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1600" spc="-1" strike="noStrike">
                <a:solidFill>
                  <a:srgbClr val="def5fa"/>
                </a:solidFill>
                <a:latin typeface="Times New Roman"/>
                <a:ea typeface="Times New Roman"/>
              </a:rPr>
              <a:t>БАКЛИЦКАЯ МАРИЯ ВАЛЕРЬЕВНА</a:t>
            </a:r>
            <a:br>
              <a:rPr sz="1600"/>
            </a:br>
            <a:r>
              <a:rPr b="1" lang="ru-RU" sz="1600" spc="-1" strike="noStrike">
                <a:solidFill>
                  <a:srgbClr val="def5fa"/>
                </a:solidFill>
                <a:latin typeface="Times New Roman"/>
                <a:ea typeface="Times New Roman"/>
              </a:rPr>
              <a:t>ПЕДАГОГ ДОПОЛНИТЕЛЬНОГО ОБРАЗОВАНИЯ </a:t>
            </a:r>
            <a:br>
              <a:rPr sz="1600"/>
            </a:br>
            <a:r>
              <a:rPr b="1" lang="ru-RU" sz="1600" spc="-1" strike="noStrike">
                <a:solidFill>
                  <a:srgbClr val="def5fa"/>
                </a:solidFill>
                <a:latin typeface="Times New Roman"/>
                <a:ea typeface="Times New Roman"/>
              </a:rPr>
              <a:t>ПЕРВОЙ КВАЛИФИКАЦИОННОЙ КАТЕГОРИИ,</a:t>
            </a:r>
            <a:br>
              <a:rPr sz="1600"/>
            </a:br>
            <a:r>
              <a:rPr b="1" lang="ru-RU" sz="1600" spc="-1" strike="noStrike">
                <a:solidFill>
                  <a:srgbClr val="def5fa"/>
                </a:solidFill>
                <a:latin typeface="Times New Roman"/>
                <a:ea typeface="Times New Roman"/>
              </a:rPr>
              <a:t>АСПИРАНТ КИПУ  ИМ. ФЕВЗИ ЯКУБОВА</a:t>
            </a:r>
            <a:br>
              <a:rPr sz="2200"/>
            </a:br>
            <a:br>
              <a:rPr sz="2200"/>
            </a:br>
            <a:endParaRPr b="0" lang="en-US" sz="16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2340000" y="4443120"/>
            <a:ext cx="68040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9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15" name="Picture 5" descr="https://tatelprof.ru/images/10.2022/Prof_19_12_2022_01.jpg"/>
          <p:cNvPicPr/>
          <p:nvPr/>
        </p:nvPicPr>
        <p:blipFill>
          <a:blip r:embed="rId1"/>
          <a:stretch/>
        </p:blipFill>
        <p:spPr>
          <a:xfrm>
            <a:off x="5724360" y="1828800"/>
            <a:ext cx="2880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464646"/>
                </a:solidFill>
                <a:latin typeface="Calibri"/>
              </a:rPr>
              <a:t>Итог любой подготовки это ПОБЕДА!</a:t>
            </a:r>
            <a:endParaRPr b="0" lang="en-US" sz="38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932360" y="1236240"/>
            <a:ext cx="3960720" cy="999000"/>
          </a:xfrm>
          <a:prstGeom prst="rect">
            <a:avLst/>
          </a:prstGeom>
          <a:solidFill>
            <a:srgbClr val="da1f28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182880" bIns="9144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ажно!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обеда – это всегда итог качественной командной работы, в которой учитываются интересы каждого участ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" descr="C:\Users\User\Downloads\1686044411693.jpg"/>
          <p:cNvPicPr/>
          <p:nvPr/>
        </p:nvPicPr>
        <p:blipFill>
          <a:blip r:embed="rId1"/>
          <a:stretch/>
        </p:blipFill>
        <p:spPr>
          <a:xfrm>
            <a:off x="179280" y="141912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User\Downloads\1686044411715.jpg"/>
          <p:cNvPicPr/>
          <p:nvPr/>
        </p:nvPicPr>
        <p:blipFill>
          <a:blip r:embed="rId2"/>
          <a:stretch/>
        </p:blipFill>
        <p:spPr>
          <a:xfrm>
            <a:off x="4643280" y="2290680"/>
            <a:ext cx="380376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10" descr="https://sun6-20.userapi.com/s/v1/ig2/Q2AS-X-bQyVmDfKIkAtdG8hrlXFx3NY4jDqasQPp1Vi2xciR1ZOpGIuWJsUtbB7xgJg5N2cMaO-7TvWXzSDb5_3c.jpg?size=2008x2011&amp;quality=95&amp;crop=444,0,2008,2011&amp;ava=1"/>
          <p:cNvPicPr/>
          <p:nvPr/>
        </p:nvPicPr>
        <p:blipFill>
          <a:blip r:embed="rId1"/>
          <a:stretch/>
        </p:blipFill>
        <p:spPr>
          <a:xfrm>
            <a:off x="2987640" y="2098800"/>
            <a:ext cx="3040200" cy="304488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07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 современном мире одним из важнейших факторов успеха в достижении поставленных целей в любой сфере деятельности является командный подход.</a:t>
            </a:r>
            <a:endParaRPr b="0" lang="en-US" sz="2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09480" y="1352520"/>
            <a:ext cx="381816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се члены команды объединены общей деятельностью и общей целью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лены команды находятся во взаимосвязи — результат совместной работы оказывается качественно иным по сравнению с итоговым результатом индивидуальной рабо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844520" y="135252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е члены команды осознают себя как единое целое, обособленное от окружающей среды и обладающее внутренней структуро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еятельность команды соотносится с окружающим обществом, смысл деятельности команды выходит за рамки самой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Алгоритм работы</a:t>
            </a:r>
            <a:br>
              <a:rPr sz="2400"/>
            </a:br>
            <a:r>
              <a:rPr b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ри реализации проекта «Подготовка к конкурсу профессионального мастерства</a:t>
            </a:r>
            <a:endParaRPr b="0" lang="en-US" sz="2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09120" y="1199880"/>
            <a:ext cx="4970520" cy="35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ть условия для качественной подготовки участников к конкурсу профессионального мастерства педагогов дополнительного образования «Сердце отдаю детям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в опыт работы, профессиональные качества, творческие способности педагогов, определить конкурсанта, достойного представить учреждение на конкурсе профессионального мастерств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научно – методического сопровождения конкурсанта на всех этапах конкурс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лагоприятной мотивационной среды, психологической атмосферы для конкурсан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2" descr="https://vr-vyksa.ru/media/images/serdtse-otdaiu-detiam.max-1200x800.jpg"/>
          <p:cNvPicPr/>
          <p:nvPr/>
        </p:nvPicPr>
        <p:blipFill>
          <a:blip r:embed="rId1"/>
          <a:stretch/>
        </p:blipFill>
        <p:spPr>
          <a:xfrm>
            <a:off x="5435640" y="1924200"/>
            <a:ext cx="35510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483840"/>
            <a:ext cx="8353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аждый из членов творческой группы отвечал за определенную работу.</a:t>
            </a:r>
            <a:br>
              <a:rPr sz="3800"/>
            </a:br>
            <a:endParaRPr b="0" lang="en-US" sz="18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504440"/>
            <a:ext cx="7562880" cy="419400"/>
          </a:xfrm>
          <a:prstGeom prst="rect">
            <a:avLst/>
          </a:prstGeom>
          <a:solidFill>
            <a:srgbClr val="da1f28"/>
          </a:solidFill>
          <a:ln cap="sq" w="50760">
            <a:solidFill>
              <a:srgbClr val="da1f28"/>
            </a:solidFill>
            <a:miter/>
          </a:ln>
        </p:spPr>
        <p:txBody>
          <a:bodyPr lIns="137160" rIns="137160" tIns="182880" bIns="91440" anchor="t">
            <a:normAutofit fontScale="59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аспределение обязанностей в коман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95280" y="2066760"/>
          <a:ext cx="8064360" cy="2808360"/>
        </p:xfrm>
        <a:graphic>
          <a:graphicData uri="http://schemas.openxmlformats.org/drawingml/2006/table">
            <a:tbl>
              <a:tblPr/>
              <a:tblGrid>
                <a:gridCol w="3906720"/>
                <a:gridCol w="4157640"/>
              </a:tblGrid>
              <a:tr h="17172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общую подготовку к конкурс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 по методической рабо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подготовку документов к заочному этапу: анкета, описание опыта, характеристика, видеорол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 по методической рабо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оздание сюжетов видеорол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дополнительного образования, методисты, педагог – организатор, звукооперато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оздание видеофильма и техническое оснащ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дополнительного образования, заведующий отделом, звукооперато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разработку заня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дополнительного образования, заместитель директора, методист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подготовку защиты програм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дополнительного образования, метод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разработку и подготовку самопрезент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дополнительного образования, заведующий отделом, методис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684360" y="484200"/>
            <a:ext cx="7562880" cy="417600"/>
          </a:xfrm>
          <a:prstGeom prst="rect">
            <a:avLst/>
          </a:prstGeom>
          <a:solidFill>
            <a:srgbClr val="da1f28"/>
          </a:solidFill>
          <a:ln cap="sq" w="50760">
            <a:solidFill>
              <a:srgbClr val="da1f28"/>
            </a:solidFill>
            <a:miter/>
          </a:ln>
        </p:spPr>
        <p:txBody>
          <a:bodyPr lIns="137160" rIns="137160" tIns="182880" bIns="91440" anchor="t">
            <a:normAutofit fontScale="49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горитм  подготовки к конкурс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24000" y="1419120"/>
          <a:ext cx="8712000" cy="3724560"/>
        </p:xfrm>
        <a:graphic>
          <a:graphicData uri="http://schemas.openxmlformats.org/drawingml/2006/table">
            <a:tbl>
              <a:tblPr/>
              <a:tblGrid>
                <a:gridCol w="1639800"/>
                <a:gridCol w="3986280"/>
                <a:gridCol w="3085920"/>
              </a:tblGrid>
              <a:tr h="20664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ап конкурс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рабо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ирование компетенций конкурсан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9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готовительный эта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ка программы действий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явление  из педагогического опыта наиболее ценных компонентов  с точки зрения инновационности, целесообразности, технологичност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движение педагогических целей и задач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т интересов детей при определении задач и отборе содержания деятельност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бор способов достижения целей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ование системы приемов стимулирования обучающихся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ование интеграции с иным педагогическим опытом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недрение современных педагогических  технологий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гнозирование результата деятельности, возможные отклонения и нежелательные явле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адение концептуальными и теоретическими основами педагогической деятельности, ориентацией в современных подходах к решению педагогических проблем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ичие собственной педагогической философи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адение методикой разработки авторских материалов (программы, технологии);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е находить в теории обучения и воспитания идеи, выводы, закономерност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адение навыками работы с персональным компьютером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ние основных компьютерных программ (Word,  PowerPoint и др.) и умение пользоваться ими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484200"/>
            <a:ext cx="7562880" cy="417600"/>
          </a:xfrm>
          <a:prstGeom prst="rect">
            <a:avLst/>
          </a:prstGeom>
          <a:solidFill>
            <a:srgbClr val="da1f28"/>
          </a:solidFill>
          <a:ln cap="sq" w="50760">
            <a:solidFill>
              <a:srgbClr val="da1f28"/>
            </a:solidFill>
            <a:miter/>
          </a:ln>
        </p:spPr>
        <p:txBody>
          <a:bodyPr lIns="137160" rIns="137160" tIns="182880" bIns="91440" anchor="t">
            <a:normAutofit fontScale="49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горитм  подготовки к конкурс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1276200"/>
          <a:ext cx="9144000" cy="3867480"/>
        </p:xfrm>
        <a:graphic>
          <a:graphicData uri="http://schemas.openxmlformats.org/drawingml/2006/table">
            <a:tbl>
              <a:tblPr/>
              <a:tblGrid>
                <a:gridCol w="1720800"/>
                <a:gridCol w="4183200"/>
                <a:gridCol w="3240000"/>
              </a:tblGrid>
              <a:tr h="386748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ап реализации идеи и представление  идеи педагогическому сообществу (Конкурс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работка  навыков публичного выступле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ршенствование способности конструировать прямую и обратную связь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работка приемов удержания внимания аудитории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работка умений выбирать стратегию, тактику и технику взаимодействия с учащимис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ршенствование системы создания ситуаций успеха для учащихс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работка умений показать роль и значение изучаемого материала в реализации личных планов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работка овладения приемами разрешения педагогических ситуаций;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работка умений создавать на мероприятии комфортный микроклимат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е эффективно распределить время на уроке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владение навыками саморегуляции и управления своим эмоциональным состояние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ть требования к выступлению, владеть логикой выступле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ть вести  вербальный и невербальный обмен информацией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ть прогнозировать вопросы и замечания аудитории, подготовив предполагаемые ответы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ть по необходимости перестраивать план и ход занят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ть выражать мысль с помощью графиков, схем, диаграмм, рисунков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оевременно диагностировать характер и уровень усвоения представляемого материала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ть организовывать совместную с детьми деятельность для достижения определенных значимых целей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адеть различными методами оценивания и уметь перейти от педагогического оценивания к с/оценке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ть обоснованно применять современные достижения в области методики обучения в своей педагогической практи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684360" y="484200"/>
            <a:ext cx="7562880" cy="417600"/>
          </a:xfrm>
          <a:prstGeom prst="rect">
            <a:avLst/>
          </a:prstGeom>
          <a:solidFill>
            <a:srgbClr val="da1f28"/>
          </a:solidFill>
          <a:ln cap="sq" w="50760">
            <a:solidFill>
              <a:srgbClr val="da1f28"/>
            </a:solidFill>
            <a:miter/>
          </a:ln>
        </p:spPr>
        <p:txBody>
          <a:bodyPr lIns="137160" rIns="137160" tIns="182880" bIns="91440" anchor="t">
            <a:normAutofit fontScale="49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горитм  подготовки к конкурс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50920" y="1625760"/>
          <a:ext cx="8712000" cy="3251160"/>
        </p:xfrm>
        <a:graphic>
          <a:graphicData uri="http://schemas.openxmlformats.org/drawingml/2006/table">
            <a:tbl>
              <a:tblPr/>
              <a:tblGrid>
                <a:gridCol w="1639800"/>
                <a:gridCol w="3986280"/>
                <a:gridCol w="3085920"/>
              </a:tblGrid>
              <a:tr h="325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ап общественной экспертизы идеи, анализ результатов(Итоги конкурс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ведение результат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ическая оценка результатов деятель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спективы дальнейшего развития педагог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товность к самоизменению на основе диагностики и самодиагностик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lfae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товность к проявлению личной инициативы и дальнейшему профессиональному рос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547280" y="3363840"/>
            <a:ext cx="7596360" cy="17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цессе подготовки были использованы различные форматы взаимодействия членов команды: индивидуальные и групповые консультации, психологические консультации, совещания, методические учебы, репетиции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557360" y="-360"/>
            <a:ext cx="7586640" cy="3419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https://pic.rutubelist.ru/video/b5/18/b5184c813a90351bd651ae2c227afee5.png"/>
          <p:cNvPicPr/>
          <p:nvPr/>
        </p:nvPicPr>
        <p:blipFill>
          <a:blip r:embed="rId2"/>
          <a:stretch/>
        </p:blipFill>
        <p:spPr>
          <a:xfrm>
            <a:off x="1547640" y="0"/>
            <a:ext cx="759636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6" descr="https://leader-id.storage.yandexcloud.net/upload/785542/653c67d3-e6a9-4bfd-afd3-9566640a3351.jpg"/>
          <p:cNvPicPr/>
          <p:nvPr/>
        </p:nvPicPr>
        <p:blipFill>
          <a:blip r:embed="rId1"/>
          <a:stretch/>
        </p:blipFill>
        <p:spPr>
          <a:xfrm>
            <a:off x="0" y="1636560"/>
            <a:ext cx="4913280" cy="28069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117360"/>
            <a:ext cx="815364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64646"/>
                </a:solidFill>
                <a:latin typeface="Calibri"/>
              </a:rPr>
              <a:t>Полезные советы</a:t>
            </a:r>
            <a:endParaRPr b="0" lang="en-US" sz="4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067280" y="1347480"/>
            <a:ext cx="50767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офессионально-личностных интересов (мотивация) педагогов в подготовке конкурсанта осуществлялся через средства стимулирования (престиж учреждения, трансляция передового педагогического опыта в рамках округа и района, премия из фонда надбавок и допла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06T09:07:08Z</dcterms:created>
  <dc:creator/>
  <dc:description/>
  <dc:language>en-US</dc:language>
  <cp:lastModifiedBy/>
  <dcterms:modified xsi:type="dcterms:W3CDTF">2023-06-06T10:04:1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9</vt:r8>
  </property>
  <property fmtid="{D5CDD505-2E9C-101B-9397-08002B2CF9AE}" pid="3" name="_Version">
    <vt:lpwstr>12.0.4518</vt:lpwstr>
  </property>
</Properties>
</file>