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2BF0F-5D8B-4274-98EF-F5BF1D15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5EEC2-8B05-41EB-BCF7-BDA0AC29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D37FA-D915-497E-AC37-398EAAEB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F0003-7E7E-4645-BE0B-87329175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9E7B-3AD2-498B-8395-839B9E22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59EA-408F-4168-96AD-B14E6D3F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6C05-EB4C-442E-A624-E39FAE21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DA39-C239-4A03-9BA1-FC7D8688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159D-15B3-4054-BAA5-08853686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A47F-B3EE-4D09-938F-0E99731E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C87A-9E8A-4BAD-A9E6-D24432E8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7D9E4-9DE4-4EED-A96B-A538CFB2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2AF3-7BAB-4FFC-B326-CA6A7724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35C0-C326-4C7C-BBC0-3805CEAB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3C16-D032-4697-A4CC-87120330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09A4-E178-407D-A0B8-0C0CE11C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F5B8-F251-4AF7-80F9-2B03FEE6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509BA-0F05-42F2-946A-C0729EB1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CA1A7-316B-4D70-8C22-CE95ADE3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82E33-5C5F-40B6-BC74-1ACEBE8E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94408-08FB-4A6C-804A-9C149C71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0B8AC-630A-4A2D-8A41-F12A3314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76984-BC20-490E-AD46-B070A360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ED88C-8CC2-4995-8001-F742E12D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60D0-13AD-4E8F-BA03-249E781D35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1C49-8A6C-4059-8E62-8CC5E4A8BD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22860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Разбери дорожную ситуаци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53452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23888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086680" cy="54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0960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28640" y="800280"/>
            <a:ext cx="7686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847800"/>
            <a:ext cx="76197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0592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6T15:03:48Z</dcterms:created>
  <dc:creator>Сергей</dc:creator>
  <dc:description/>
  <dc:language>en-US</dc:language>
  <cp:lastModifiedBy>Admin</cp:lastModifiedBy>
  <dcterms:modified xsi:type="dcterms:W3CDTF">2024-03-24T16:50:4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