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B826-A594-4C3C-9F44-D8B6124E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2350-D75D-4467-821B-41F120E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A3DE-B32D-4440-BF86-2451C577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7462-C95C-41AD-9D86-70E3B3C1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2D9-7E77-4CBA-84AD-DE47973C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A3A-DA2A-40C4-AFAE-92F2F37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93D-FF59-4928-A2A2-DC48580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5CC-B4B6-4726-BFDD-FFE21DA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4F50-B9E0-4811-A4D3-2769FDB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0194-22E5-4A85-BE28-2D97696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49E-491B-4B70-9940-124AD92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39F5-4D36-49A5-AE04-11D97D00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BE4-662D-488E-8B41-3D6B92F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76C-8468-465C-9F78-997F4FD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FD9-2B18-404E-81A3-6314C68F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5B41-5150-4F76-B028-0DDB9A5A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5BF-3F2B-4F8E-921F-45C5B4AD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9AE2-8D07-4025-A66A-C46645C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A5FF-73F7-459B-AEA5-C24AB4F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4BEA-2F41-4549-AE5C-D8C1BDE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930E-C72C-4F52-AB0A-36C79AC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E03A-336F-497F-A5C1-C3CF112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E6E9-FB8C-4E7B-B3B2-8A36E68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759A-58F6-4E64-BD3B-E28A95E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5D1-9D65-41FF-86B1-BE54D4681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B214-C1C7-4E00-AC42-A6506AB17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2860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Разбери дорожную ситу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534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0866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96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8640" y="800280"/>
            <a:ext cx="768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6T15:03:48Z</dcterms:created>
  <dc:creator>Сергей</dc:creator>
  <dc:description/>
  <dc:language>en-US</dc:language>
  <cp:lastModifiedBy>Admin</cp:lastModifiedBy>
  <dcterms:modified xsi:type="dcterms:W3CDTF">2024-03-24T16:50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