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41.png" ContentType="image/png"/>
  <Override PartName="/ppt/media/image7.png" ContentType="image/png"/>
  <Override PartName="/ppt/media/image37.png" ContentType="image/png"/>
  <Override PartName="/ppt/media/image11.jpeg" ContentType="image/jpeg"/>
  <Override PartName="/ppt/media/image9.jpeg" ContentType="image/jpeg"/>
  <Override PartName="/ppt/media/image40.png" ContentType="image/pn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31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3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63AF56B9-5ADE-4040-A77D-4F02FEBFA138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2" descr="nn,b,b,b,n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c7cd2"/>
                </a:solidFill>
                <a:latin typeface="Arial"/>
              </a:rPr>
              <a:t>Что узнали.</a:t>
            </a:r>
            <a:br>
              <a:rPr sz="7200"/>
            </a:br>
            <a:r>
              <a:rPr b="1" lang="ru-RU" sz="7200" spc="-1" strike="noStrike">
                <a:solidFill>
                  <a:srgbClr val="0c7cd2"/>
                </a:solidFill>
                <a:latin typeface="Arial"/>
              </a:rPr>
              <a:t>Чему научились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124000" y="5229360"/>
            <a:ext cx="68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а 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шкова Ольг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 Алапаев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6"/>
          <p:cNvSpPr/>
          <p:nvPr/>
        </p:nvSpPr>
        <p:spPr>
          <a:xfrm>
            <a:off x="179280" y="5373720"/>
            <a:ext cx="3024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924360" y="4221000"/>
            <a:ext cx="338436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¾ вода</a:t>
            </a:r>
            <a:br>
              <a:rPr sz="4400"/>
            </a:b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¼ су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Documents and Settings\Администратор1\Local Settings\Temporary Internet Files\Content.IE5\R6SLRN2O\MC900431532[1].png"/>
          <p:cNvPicPr/>
          <p:nvPr/>
        </p:nvPicPr>
        <p:blipFill>
          <a:blip r:embed="rId1"/>
          <a:stretch/>
        </p:blipFill>
        <p:spPr>
          <a:xfrm>
            <a:off x="322200" y="1125360"/>
            <a:ext cx="403380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1050840" y="285840"/>
            <a:ext cx="24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Зем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7"/>
          <p:cNvSpPr/>
          <p:nvPr/>
        </p:nvSpPr>
        <p:spPr>
          <a:xfrm>
            <a:off x="4859280" y="692280"/>
            <a:ext cx="3816360" cy="3816360"/>
          </a:xfrm>
          <a:custGeom>
            <a:avLst/>
            <a:gdLst>
              <a:gd name="textAreaLeft" fmla="*/ 558720 w 3816360"/>
              <a:gd name="textAreaRight" fmla="*/ 3257640 w 381636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4176467" h="4176467">
                <a:moveTo>
                  <a:pt x="0" y="2088234"/>
                </a:moveTo>
                <a:lnTo>
                  <a:pt x="0" y="2088234"/>
                </a:lnTo>
                <a:cubicBezTo>
                  <a:pt x="1" y="934934"/>
                  <a:pt x="934934" y="1"/>
                  <a:pt x="2088234" y="2"/>
                </a:cubicBezTo>
                <a:cubicBezTo>
                  <a:pt x="2088235" y="2"/>
                  <a:pt x="2088236" y="2"/>
                  <a:pt x="2088237" y="2"/>
                </a:cubicBezTo>
                <a:cubicBezTo>
                  <a:pt x="3241537" y="3"/>
                  <a:pt x="4176470" y="934936"/>
                  <a:pt x="4176470" y="2088236"/>
                </a:cubicBezTo>
                <a:cubicBezTo>
                  <a:pt x="4176470" y="2088237"/>
                  <a:pt x="4176469" y="2088238"/>
                  <a:pt x="4176469" y="2088239"/>
                </a:cubicBezTo>
                <a:lnTo>
                  <a:pt x="4176470" y="2088240"/>
                </a:lnTo>
                <a:cubicBezTo>
                  <a:pt x="4176470" y="3241539"/>
                  <a:pt x="3241535" y="4176474"/>
                  <a:pt x="2088236" y="4176474"/>
                </a:cubicBezTo>
                <a:cubicBezTo>
                  <a:pt x="2088235" y="4176474"/>
                  <a:pt x="2088235" y="4176473"/>
                  <a:pt x="2088235" y="4176473"/>
                </a:cubicBezTo>
                <a:cubicBezTo>
                  <a:pt x="934935" y="4176473"/>
                  <a:pt x="2" y="3241539"/>
                  <a:pt x="2" y="2088240"/>
                </a:cubicBezTo>
                <a:cubicBezTo>
                  <a:pt x="1" y="2088239"/>
                  <a:pt x="2" y="2088238"/>
                  <a:pt x="2" y="2088238"/>
                </a:cubicBezTo>
                <a:lnTo>
                  <a:pt x="0" y="2088234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ирог 10"/>
          <p:cNvSpPr/>
          <p:nvPr/>
        </p:nvSpPr>
        <p:spPr>
          <a:xfrm>
            <a:off x="4859280" y="692280"/>
            <a:ext cx="3924360" cy="3600360"/>
          </a:xfrm>
          <a:prstGeom prst="pie">
            <a:avLst/>
          </a:prstGeom>
          <a:solidFill>
            <a:srgbClr val="9966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4920" y="260280"/>
            <a:ext cx="58323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5  х   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25  х 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0160 :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600   :  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54  х  806 – 855969 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659280" y="1599840"/>
            <a:ext cx="202716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7cd2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0c7cd2"/>
                </a:solidFill>
                <a:latin typeface="Arial"/>
              </a:rPr>
              <a:t>Озеро Байк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йкал по праву считается одним из самых удивительных озёр нашей планеты. Его гигантская котловина имеет в длину 636 км и в ширину 80 км. Общая длина берегов Байкала составляет  2500 км. Нет ему равных среди озёр и по глубине- 1620 м. Объём воды в озере больше в 95 раз, чем в Азовском море. В тихую погоду на глубине почти 40 м видно каменистое дно. В Байкал впадают 336 рек, а вытекает только 1 река – Анг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языке якутов «Байкал» означает «богатое море». И действительно, в нём обнаружено около 1000 видов растений, более 1600 видов рыб и животных. Единственное млекопитающее озера- нерпа- имеет вес до 100 кг при длине тела 1м 50 см. ( По материалам «Я познаю мир.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5280" y="189000"/>
            <a:ext cx="793116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20 м –глубина оз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500 м – общая длина бер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6 рек – впадает в озеро Бай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5 раз – во столько раз больше воды, чем в Азовском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река вытекает – Ангара или млекопитающее - нер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= 636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= 80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у равна площадь котловины озера Байка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   50880 кв.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404280"/>
            <a:ext cx="8964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моторные лодки одновременно  вышли в противоположных направлениях от речной пристани. Одна моторная лодка была в пути 7 часов и шла со скоростью 12 км/ч. Другая была в пути на 4 часа меньше и шла со скоростью 45 км/ч. На какое расстояние они удалились друг от др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56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12 х 7 = 84 (км)- расстояние 1 моторной л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7 – 4 = 3 (ч)- время второй л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 45х 3 = 135(км)- расстояние 2 моторной л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84 + 135 = 219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пк\Desktop\карта реки.JPG"/>
          <p:cNvPicPr/>
          <p:nvPr/>
        </p:nvPicPr>
        <p:blipFill>
          <a:blip r:embed="rId1"/>
          <a:stretch/>
        </p:blipFill>
        <p:spPr>
          <a:xfrm>
            <a:off x="-60480" y="0"/>
            <a:ext cx="919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пк\Desktop\река нейва1.jpg"/>
          <p:cNvPicPr/>
          <p:nvPr/>
        </p:nvPicPr>
        <p:blipFill>
          <a:blip r:embed="rId1"/>
          <a:stretch/>
        </p:blipFill>
        <p:spPr>
          <a:xfrm>
            <a:off x="0" y="0"/>
            <a:ext cx="60390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пк\Desktop\река нейва.jpg"/>
          <p:cNvPicPr/>
          <p:nvPr/>
        </p:nvPicPr>
        <p:blipFill>
          <a:blip r:embed="rId2"/>
          <a:stretch/>
        </p:blipFill>
        <p:spPr>
          <a:xfrm>
            <a:off x="3924360" y="3198960"/>
            <a:ext cx="521964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179280" y="189000"/>
            <a:ext cx="8785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1717b5"/>
                    </a:gs>
                    <a:gs pos="100000">
                      <a:srgbClr val="090981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65000"/>
                    </a:srgbClr>
                  </a:outerShdw>
                </a:effectLst>
                <a:latin typeface="Impact"/>
              </a:rPr>
              <a:t>Физкультминутк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1717b5"/>
                  </a:gs>
                  <a:gs pos="100000">
                    <a:srgbClr val="090981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6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58760" y="1268280"/>
            <a:ext cx="8985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e4649"/>
                </a:solidFill>
                <a:latin typeface="Times New Roman"/>
              </a:rPr>
              <a:t>Льётся чистая водиц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e4649"/>
                </a:solidFill>
                <a:latin typeface="Times New Roman"/>
              </a:rPr>
              <a:t>Мы умеем сами мыть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e4649"/>
                </a:solidFill>
                <a:latin typeface="Times New Roman"/>
              </a:rPr>
              <a:t>Порошок зубной берё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e4649"/>
                </a:solidFill>
                <a:latin typeface="Times New Roman"/>
              </a:rPr>
              <a:t>Крепко щёткой зубы трё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e4649"/>
                </a:solidFill>
                <a:latin typeface="Times New Roman"/>
              </a:rPr>
              <a:t>Моем шею, моем уш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e4649"/>
                </a:solidFill>
                <a:latin typeface="Times New Roman"/>
              </a:rPr>
              <a:t>После вытремся посуш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020000" y="692280"/>
            <a:ext cx="1928880" cy="26193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539640" y="549360"/>
            <a:ext cx="67690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79 км   -    река   Ангара   2428 км   -   река     Ур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824 км   -  река   Ам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530 км   -   река  Волг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650 км   -   река     Обь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248 км   -   река   Ирты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294 км   -    река    Л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540 км  -    река   Енис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c7cd2"/>
                </a:solidFill>
                <a:latin typeface="Arial"/>
              </a:rPr>
              <a:t>Где нет воды, там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c7cd2"/>
                </a:solidFill>
                <a:latin typeface="Arial"/>
              </a:rPr>
              <a:t>и блоха не живё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c7c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181440" y="-603720"/>
            <a:ext cx="8867880" cy="67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235cb1"/>
                </a:solidFill>
                <a:latin typeface="Arial"/>
              </a:rPr>
              <a:t>589 + х  = 3567 :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35c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1187280" y="620640"/>
            <a:ext cx="69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89 + х  = 3567 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116000" y="1214280"/>
            <a:ext cx="802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89 + х = 11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= 1189- 5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= 600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club.foto.ru/gallery/images/photo/2012/06/17/1995430.jpg"/>
          <p:cNvPicPr/>
          <p:nvPr/>
        </p:nvPicPr>
        <p:blipFill>
          <a:blip r:embed="rId1"/>
          <a:stretch/>
        </p:blipFill>
        <p:spPr>
          <a:xfrm rot="1117800">
            <a:off x="5415120" y="490680"/>
            <a:ext cx="3450960" cy="2305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deswal.ru/foods/1600-1200/00000105.jpg"/>
          <p:cNvPicPr/>
          <p:nvPr/>
        </p:nvPicPr>
        <p:blipFill>
          <a:blip r:embed="rId2"/>
          <a:stretch/>
        </p:blipFill>
        <p:spPr>
          <a:xfrm rot="1048800">
            <a:off x="5756040" y="4113000"/>
            <a:ext cx="3109680" cy="2331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ttp://stat17.privet.ru/lr/092cb1b7d014867ef1ee0071041707e2"/>
          <p:cNvPicPr/>
          <p:nvPr/>
        </p:nvPicPr>
        <p:blipFill>
          <a:blip r:embed="rId3"/>
          <a:stretch/>
        </p:blipFill>
        <p:spPr>
          <a:xfrm rot="20611200">
            <a:off x="539640" y="4149720"/>
            <a:ext cx="3214800" cy="2158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http://www.lovely0smile.com/2010/mix/04/Children-088.jpg"/>
          <p:cNvPicPr/>
          <p:nvPr/>
        </p:nvPicPr>
        <p:blipFill>
          <a:blip r:embed="rId4"/>
          <a:srcRect l="4910" t="6084" r="3326" b="14821"/>
          <a:stretch/>
        </p:blipFill>
        <p:spPr>
          <a:xfrm>
            <a:off x="2627280" y="2276640"/>
            <a:ext cx="4032360" cy="2496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http://www.citysmile.org/uploads/posts/2012-02/CitySmile.ORG_0119.jpg"/>
          <p:cNvPicPr/>
          <p:nvPr/>
        </p:nvPicPr>
        <p:blipFill>
          <a:blip r:embed="rId5"/>
          <a:stretch/>
        </p:blipFill>
        <p:spPr>
          <a:xfrm rot="20490600">
            <a:off x="395280" y="549000"/>
            <a:ext cx="3571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76320"/>
            <a:ext cx="807552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03280" y="0"/>
            <a:ext cx="59403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на нос сели кляк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тогда вам первы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имет грязь с лица и ру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чего не может м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готовить, не сти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чего, мы скажем пря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уми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лился дождик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 росли колосья хл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плыли кораб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ть нельзя нам без … во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http://2.bp.blogspot.com/_98Mq3LiTyrY/S1GRtaKYQmI/AAAAAAAAJWU/AmY1dl9PeIo/s400/lodka_nostalgin_ru.jpg"/>
          <p:cNvPicPr/>
          <p:nvPr/>
        </p:nvPicPr>
        <p:blipFill>
          <a:blip r:embed="rId1"/>
          <a:srcRect l="11254" t="0" r="0" b="0"/>
          <a:stretch/>
        </p:blipFill>
        <p:spPr>
          <a:xfrm rot="255600">
            <a:off x="3057120" y="4782960"/>
            <a:ext cx="2770200" cy="19749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104" name="Picture 6" descr="http://2parents4kids.ru/wp-content/uploads/2010/08/plyazh.jpg"/>
          <p:cNvPicPr/>
          <p:nvPr/>
        </p:nvPicPr>
        <p:blipFill>
          <a:blip r:embed="rId2"/>
          <a:srcRect l="15927" t="0" r="0" b="0"/>
          <a:stretch/>
        </p:blipFill>
        <p:spPr>
          <a:xfrm rot="21180000">
            <a:off x="5850000" y="3879360"/>
            <a:ext cx="3332160" cy="26323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105" name="Picture 10" descr="http://www.silvers.net.ua/products_pictures/title.jpg"/>
          <p:cNvPicPr/>
          <p:nvPr/>
        </p:nvPicPr>
        <p:blipFill>
          <a:blip r:embed="rId3"/>
          <a:stretch/>
        </p:blipFill>
        <p:spPr>
          <a:xfrm rot="249600">
            <a:off x="4808160" y="144000"/>
            <a:ext cx="4067280" cy="27241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106" name="Picture 2" descr="http://www.visitnorway.com/ImageVault/Images/id_897/conversionFormat_13/scope_0/ImageVaultHandler.aspx"/>
          <p:cNvPicPr/>
          <p:nvPr/>
        </p:nvPicPr>
        <p:blipFill>
          <a:blip r:embed="rId4"/>
          <a:srcRect l="0" t="0" r="28336" b="0"/>
          <a:stretch/>
        </p:blipFill>
        <p:spPr>
          <a:xfrm rot="21162600">
            <a:off x="2631960" y="2295360"/>
            <a:ext cx="3665520" cy="230508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107" name="Picture 2" descr="http://ljplus.ru/img3/e/x/extel2/070423_house.jpg"/>
          <p:cNvPicPr/>
          <p:nvPr/>
        </p:nvPicPr>
        <p:blipFill>
          <a:blip r:embed="rId5"/>
          <a:srcRect l="1773" t="0" r="0" b="12817"/>
          <a:stretch/>
        </p:blipFill>
        <p:spPr>
          <a:xfrm>
            <a:off x="285840" y="285840"/>
            <a:ext cx="3959280" cy="2428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08" name="Picture 2" descr="http://copypast.ru/foto3/0796/cat-serj.jpg"/>
          <p:cNvPicPr/>
          <p:nvPr/>
        </p:nvPicPr>
        <p:blipFill>
          <a:blip r:embed="rId6"/>
          <a:stretch/>
        </p:blipFill>
        <p:spPr>
          <a:xfrm>
            <a:off x="395280" y="3213000"/>
            <a:ext cx="2392200" cy="331164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photorack.net/photos/77/med_1133494446-775.jpg"/>
          <p:cNvPicPr/>
          <p:nvPr/>
        </p:nvPicPr>
        <p:blipFill>
          <a:blip r:embed="rId1"/>
          <a:stretch/>
        </p:blipFill>
        <p:spPr>
          <a:xfrm>
            <a:off x="324000" y="476280"/>
            <a:ext cx="3836880" cy="28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www.zastavki.com/pictures/640x480/2012/Animals_Under_water__002045_29.jpg"/>
          <p:cNvPicPr/>
          <p:nvPr/>
        </p:nvPicPr>
        <p:blipFill>
          <a:blip r:embed="rId2"/>
          <a:stretch/>
        </p:blipFill>
        <p:spPr>
          <a:xfrm>
            <a:off x="4500720" y="3068640"/>
            <a:ext cx="4416120" cy="331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www.pug.ir/Portals/0/CrossArticlePictures/139106/Image52987-3.jpg"/>
          <p:cNvPicPr/>
          <p:nvPr/>
        </p:nvPicPr>
        <p:blipFill>
          <a:blip r:embed="rId3"/>
          <a:stretch/>
        </p:blipFill>
        <p:spPr>
          <a:xfrm>
            <a:off x="179280" y="3357720"/>
            <a:ext cx="4318200" cy="309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http://stat18.privet.ru/lr/0a1c9651645d7a40976abeeb4cfcd5c1"/>
          <p:cNvPicPr/>
          <p:nvPr/>
        </p:nvPicPr>
        <p:blipFill>
          <a:blip r:embed="rId4"/>
          <a:stretch/>
        </p:blipFill>
        <p:spPr>
          <a:xfrm>
            <a:off x="3995640" y="0"/>
            <a:ext cx="432144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4000" y="1341000"/>
            <a:ext cx="8362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 протяжении всей истории люди боролись с водой и за воду. Ч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да – глобальная проблема человечества. Поэтому, отмечая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ды,  мы должны помнить об этом и беречь наши водные ресур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РЕГИТЕ ВОД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4" descr="image0001.jpg"/>
          <p:cNvPicPr/>
          <p:nvPr/>
        </p:nvPicPr>
        <p:blipFill>
          <a:blip r:embed="rId1"/>
          <a:stretch/>
        </p:blipFill>
        <p:spPr>
          <a:xfrm>
            <a:off x="5651640" y="4130640"/>
            <a:ext cx="3644640" cy="2727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РЕГИТЕ ВОД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 rot="10800000">
            <a:off x="395280" y="4534920"/>
            <a:ext cx="46080" cy="45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-1080" bIns="-1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пк\Pictures\Рисунок1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Администратор1\Local Settings\Temporary Internet Files\Content.IE5\BRUJ8C3F\MP900433092[1].jpg"/>
          <p:cNvPicPr/>
          <p:nvPr/>
        </p:nvPicPr>
        <p:blipFill>
          <a:blip r:embed="rId1"/>
          <a:srcRect l="9269" t="4152" r="15765" b="8650"/>
          <a:stretch/>
        </p:blipFill>
        <p:spPr>
          <a:xfrm>
            <a:off x="1285920" y="235080"/>
            <a:ext cx="6715080" cy="6337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Администратор1\Local Settings\Temporary Internet Files\Content.IE5\4RJXVV91\MC900437637[1].png"/>
          <p:cNvPicPr/>
          <p:nvPr/>
        </p:nvPicPr>
        <p:blipFill>
          <a:blip r:embed="rId2"/>
          <a:stretch/>
        </p:blipFill>
        <p:spPr>
          <a:xfrm>
            <a:off x="7143840" y="35712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www.arthursclipart.org/justforkids/animals/shark.gif"/>
          <p:cNvPicPr/>
          <p:nvPr/>
        </p:nvPicPr>
        <p:blipFill>
          <a:blip r:embed="rId3"/>
          <a:stretch/>
        </p:blipFill>
        <p:spPr>
          <a:xfrm>
            <a:off x="7308720" y="5643720"/>
            <a:ext cx="1595520" cy="1011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www.arthursclipart.org/justforkids/animals/octopus.gif"/>
          <p:cNvPicPr/>
          <p:nvPr/>
        </p:nvPicPr>
        <p:blipFill>
          <a:blip r:embed="rId4"/>
          <a:stretch/>
        </p:blipFill>
        <p:spPr>
          <a:xfrm>
            <a:off x="7635960" y="3286080"/>
            <a:ext cx="1508040" cy="102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ttp://www.arthursclipart.org/justforkids/animals/killerwhale.gif"/>
          <p:cNvPicPr/>
          <p:nvPr/>
        </p:nvPicPr>
        <p:blipFill>
          <a:blip r:embed="rId5"/>
          <a:stretch/>
        </p:blipFill>
        <p:spPr>
          <a:xfrm>
            <a:off x="1785960" y="0"/>
            <a:ext cx="1222200" cy="1238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http://www.arthursclipart.org/justforkids/animals/lion.gif"/>
          <p:cNvPicPr/>
          <p:nvPr/>
        </p:nvPicPr>
        <p:blipFill>
          <a:blip r:embed="rId6"/>
          <a:stretch/>
        </p:blipFill>
        <p:spPr>
          <a:xfrm>
            <a:off x="1187280" y="5313240"/>
            <a:ext cx="1436760" cy="1544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http://www.arthursclipart.org/justforkids/animals/walrus.gif"/>
          <p:cNvPicPr/>
          <p:nvPr/>
        </p:nvPicPr>
        <p:blipFill>
          <a:blip r:embed="rId7">
            <a:lum bright="-20000"/>
          </a:blip>
          <a:stretch/>
        </p:blipFill>
        <p:spPr>
          <a:xfrm>
            <a:off x="0" y="5241960"/>
            <a:ext cx="1187280" cy="93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http://www.arthursclipart.org/justforkids/animals/penguin.gif"/>
          <p:cNvPicPr/>
          <p:nvPr/>
        </p:nvPicPr>
        <p:blipFill>
          <a:blip r:embed="rId8"/>
          <a:stretch/>
        </p:blipFill>
        <p:spPr>
          <a:xfrm>
            <a:off x="8064360" y="2000160"/>
            <a:ext cx="1079640" cy="997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http://www.arthursclipart.org/justforkids/animals/pelican.gif"/>
          <p:cNvPicPr/>
          <p:nvPr/>
        </p:nvPicPr>
        <p:blipFill>
          <a:blip r:embed="rId9"/>
          <a:stretch/>
        </p:blipFill>
        <p:spPr>
          <a:xfrm>
            <a:off x="5929200" y="0"/>
            <a:ext cx="1579680" cy="1177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http://www.arthursclipart.org/justforkids/animals/frog.gif"/>
          <p:cNvPicPr/>
          <p:nvPr/>
        </p:nvPicPr>
        <p:blipFill>
          <a:blip r:embed="rId10"/>
          <a:stretch/>
        </p:blipFill>
        <p:spPr>
          <a:xfrm>
            <a:off x="395280" y="404640"/>
            <a:ext cx="863640" cy="1149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http://www.arthursclipart.org/justforkids/animals/rabbit.gif"/>
          <p:cNvPicPr/>
          <p:nvPr/>
        </p:nvPicPr>
        <p:blipFill>
          <a:blip r:embed="rId11"/>
          <a:stretch/>
        </p:blipFill>
        <p:spPr>
          <a:xfrm>
            <a:off x="324000" y="3716280"/>
            <a:ext cx="1079280" cy="1609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http://www.arthursclipart.org/justforkids/animals/duck.gif"/>
          <p:cNvPicPr/>
          <p:nvPr/>
        </p:nvPicPr>
        <p:blipFill>
          <a:blip r:embed="rId12"/>
          <a:stretch/>
        </p:blipFill>
        <p:spPr>
          <a:xfrm>
            <a:off x="0" y="2428920"/>
            <a:ext cx="85716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http://www.arthursclipart.org/justforkids/animals/bat.gif"/>
          <p:cNvPicPr/>
          <p:nvPr/>
        </p:nvPicPr>
        <p:blipFill>
          <a:blip r:embed="rId13"/>
          <a:stretch/>
        </p:blipFill>
        <p:spPr>
          <a:xfrm>
            <a:off x="7391520" y="4357800"/>
            <a:ext cx="1752480" cy="1247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8" descr="http://www.arthursclipart.org/justforkids/animals/bird.gif"/>
          <p:cNvPicPr/>
          <p:nvPr/>
        </p:nvPicPr>
        <p:blipFill>
          <a:blip r:embed="rId14"/>
          <a:stretch/>
        </p:blipFill>
        <p:spPr>
          <a:xfrm>
            <a:off x="539640" y="1628640"/>
            <a:ext cx="1271520" cy="9097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6"/>
          <p:cNvSpPr/>
          <p:nvPr/>
        </p:nvSpPr>
        <p:spPr>
          <a:xfrm>
            <a:off x="4859280" y="6519960"/>
            <a:ext cx="255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2 марта-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Всемирный день водных ресурсов (Всемирный день вод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755640" y="2421000"/>
            <a:ext cx="7704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тот день был созд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1993 год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енеральной Ассамблеей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971640" y="476280"/>
            <a:ext cx="7561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территории России праздник "Всемирный день воды" отмечается с 1995 го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го девизом является: «Вода - это жизнь». Он призван подчеркнуть величайшее значение воды в нашей жизн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826920" y="333360"/>
            <a:ext cx="83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лавная задача празд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468360" y="134136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поминание  вс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ителям Земли об огромной важности воды   для   поддержания  жиз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  нашей    планет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Ковалевская НИ\ВОДА фото\detail_pic.jpg"/>
          <p:cNvPicPr/>
          <p:nvPr/>
        </p:nvPicPr>
        <p:blipFill>
          <a:blip r:embed="rId1"/>
          <a:stretch/>
        </p:blipFill>
        <p:spPr>
          <a:xfrm>
            <a:off x="6267600" y="2567160"/>
            <a:ext cx="2700360" cy="4022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48320"/>
            <a:ext cx="807552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1 мин из крана вытекает 110 капель воды. Сколько капель воды вытечет за 10 мину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сутки из крана при такой же скорости  вытекает 15 л воды. А сколько литров воды вытечет за 30сут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сутки человеку необходимо 2л воды. Сколько необходимо человеку воды на 4 недел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184680"/>
            <a:ext cx="77868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259920"/>
            <a:ext cx="835344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блюд до 10 суток может не пить воду, но потом за 10 минут выпивает 10 вёдер воды. Сколько вёдер воды он выпивает за 1 мину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Корни пшеницы и ржи в поисках воды 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уходят вглубь земли до 2 метров, а у верблюжьей колюч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10 раз глубже.  На какую глубину уходят  корни верблюжьей колюч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верблюд2"/>
          <p:cNvPicPr/>
          <p:nvPr/>
        </p:nvPicPr>
        <p:blipFill>
          <a:blip r:embed="rId1"/>
          <a:stretch/>
        </p:blipFill>
        <p:spPr>
          <a:xfrm>
            <a:off x="5915160" y="4437000"/>
            <a:ext cx="32288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148320"/>
            <a:ext cx="77868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ну в сутки требуется 90 л воды, а человеку 2 л. Во сколько раз слон выпивает больш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реки Невы в г.Санкт-Петербурге- 74 км, длина реки Нейвы, протекающей в Свердловской области через г.  Ала- паевск- 294 км. На сколько км река Нейва длиннее реки Нев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2500000 рек , а озёр на 200000 больше. Сколько в России озё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оверим 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105228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  1100 капель         5)   56 л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  450 л                    6)   в 45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)  1 ведро                7)   на 220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)   20 м                     8)   2700000 озё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ancesco Marino / FreeDigitalPhotos.net</dc:description>
  <dc:language>en-US</dc:language>
  <cp:lastModifiedBy>Пользователь Windows</cp:lastModifiedBy>
  <dcterms:modified xsi:type="dcterms:W3CDTF">2024-03-24T16:54:00Z</dcterms:modified>
  <cp:revision>70</cp:revision>
  <dc:subject/>
  <dc:title>Blue Water Flow</dc:title>
</cp:coreProperties>
</file>