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3.gif" ContentType="image/gif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8D6-8D84-45CA-9B82-6D289547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CAEC-9B0E-4B03-905B-6F50EBAE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04AF-3B87-41EC-B366-BA763D40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9D2-3B19-4AE1-B7DA-48FD7337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948C-881B-4620-B1D8-5054E6FF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1463-E13D-439D-A505-6D9B9BC8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902C-0BB0-4AE7-B201-DFA98D4E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6B82-308A-41CB-B0BB-85574ED5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0CC-A5BF-40F0-9125-0FBD823A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91B0-9E62-4021-B461-9EE998A8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500-231E-4D21-BE94-7826DFD8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2732-6FC9-4D51-A18A-6A15AD29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e3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DBDB-177F-48B9-A922-887D9C0EA0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Georgia"/>
              </a:rPr>
              <a:t>Агрессивный ребен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psyho15-2"/>
          <p:cNvPicPr/>
          <p:nvPr/>
        </p:nvPicPr>
        <p:blipFill>
          <a:blip r:embed="rId1"/>
          <a:stretch/>
        </p:blipFill>
        <p:spPr>
          <a:xfrm>
            <a:off x="324000" y="3284640"/>
            <a:ext cx="3066840" cy="3313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agr_1"/>
          <p:cNvPicPr/>
          <p:nvPr/>
        </p:nvPicPr>
        <p:blipFill>
          <a:blip r:embed="rId2"/>
          <a:stretch/>
        </p:blipFill>
        <p:spPr>
          <a:xfrm>
            <a:off x="6516720" y="2276640"/>
            <a:ext cx="2265480" cy="2304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82e88d2fa058c003c2b448b993248a41"/>
          <p:cNvPicPr/>
          <p:nvPr/>
        </p:nvPicPr>
        <p:blipFill>
          <a:blip r:embed="rId3"/>
          <a:stretch/>
        </p:blipFill>
        <p:spPr>
          <a:xfrm>
            <a:off x="108000" y="115920"/>
            <a:ext cx="15336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Безразличие или враждебность со стороны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raka2"/>
          <p:cNvPicPr/>
          <p:nvPr/>
        </p:nvPicPr>
        <p:blipFill>
          <a:blip r:embed="rId1"/>
          <a:stretch/>
        </p:blipFill>
        <p:spPr>
          <a:xfrm>
            <a:off x="2124000" y="1341360"/>
            <a:ext cx="521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Разрушение эмоциональных связей в сем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55640" y="1341000"/>
            <a:ext cx="4537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упруги сосуществуют в постоянных ссорах. Жизнь в такой семье становится для ребенка настоящим испытанием, особенно, если родители используют его как аргумент в споре между собой. Ребенок либо живет в постоянном напряжении, страдая от нестабильности в доме и конфликта между двумя самыми близкими ему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1227818146_author_photo"/>
          <p:cNvPicPr/>
          <p:nvPr/>
        </p:nvPicPr>
        <p:blipFill>
          <a:blip r:embed="rId1"/>
          <a:stretch/>
        </p:blipFill>
        <p:spPr>
          <a:xfrm>
            <a:off x="324000" y="1197000"/>
            <a:ext cx="40543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Неуважение к личности реб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87640" y="981000"/>
            <a:ext cx="4105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грессивные реакции могут быть вызваны некорректной и нетактичной критикой, оскорбительными и унизительными замеч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gnev1"/>
          <p:cNvPicPr/>
          <p:nvPr/>
        </p:nvPicPr>
        <p:blipFill>
          <a:blip r:embed="rId1"/>
          <a:stretch/>
        </p:blipFill>
        <p:spPr>
          <a:xfrm>
            <a:off x="611280" y="907920"/>
            <a:ext cx="4432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Чрезмерный контроль или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отсутствие 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824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давляемый гнев, как джинн из бутылки, в какой-то момент обязательно вырвется наружу. И его последствия, с точки зрения стороннего наблюдателя, будут тем страшнее и неадекватнее, чем дольше он коп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1222143912_00996_250x250"/>
          <p:cNvPicPr/>
          <p:nvPr/>
        </p:nvPicPr>
        <p:blipFill>
          <a:blip r:embed="rId1"/>
          <a:stretch/>
        </p:blipFill>
        <p:spPr>
          <a:xfrm>
            <a:off x="5003640" y="1700280"/>
            <a:ext cx="3888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Жестокий характер матери или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10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одители стремятся во всем управлять своим ребенком, подавляя его волю, не допуская никакого проявления его личной инициативы и не предоставляя ему возможности быть собой. Они вызывают у ребенка не столько любовь, сколько ст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41934889_bit"/>
          <p:cNvPicPr/>
          <p:nvPr/>
        </p:nvPicPr>
        <p:blipFill>
          <a:blip r:embed="rId1"/>
          <a:stretch/>
        </p:blipFill>
        <p:spPr>
          <a:xfrm>
            <a:off x="4572000" y="981000"/>
            <a:ext cx="41068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Запрет на физическую актив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00720" y="981000"/>
            <a:ext cx="43192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ребенок целый день не имел возможности открыто проявлять свои эмоции, как положительные, так и отрицательные, не мог физически разрядиться, то его агрессия будет обусловлена накопившимся переизбытком энергии, которая, как известно, не имеет свойства исчезать бесслед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3"/>
          <p:cNvPicPr/>
          <p:nvPr/>
        </p:nvPicPr>
        <p:blipFill>
          <a:blip r:embed="rId1"/>
          <a:stretch/>
        </p:blipFill>
        <p:spPr>
          <a:xfrm>
            <a:off x="179280" y="1557360"/>
            <a:ext cx="4680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Отказ в праве на личную своб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2920" y="981000"/>
            <a:ext cx="4249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ногие родители совершенно ошибочно полагают, что у ребенка не может быть от них секретов, забывая о том, что им самим такое вмешательство вряд ли понравилось бы. Ребенку необходима свобода, чтобы он научился самостоятельно принимать свои решения и отвечать за н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et_agress"/>
          <p:cNvPicPr/>
          <p:nvPr/>
        </p:nvPicPr>
        <p:blipFill>
          <a:blip r:embed="rId1"/>
          <a:stretch/>
        </p:blipFill>
        <p:spPr>
          <a:xfrm>
            <a:off x="684360" y="1341360"/>
            <a:ext cx="3821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Georgia"/>
              </a:rPr>
              <a:t>Личные прич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Georgia"/>
              </a:rPr>
              <a:t>Подсознательное ожидание оп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аще всего мать ребенка во время беременности не чувствовала достаточной защищенности, чрезвычайно тревожилась и беспокоилась за себя и за своего будущего ребенка. Все эти ощущения передавались ребенку, и он родился, не имея базовой уверенности в безопасности мира. Потому он все время подсознательно ждет нападения, видит во всем потенциальную опасность и старается защититься от нее, как может и как умеет. Такой ребенок способен ответить агрессией на неожиданное прикосновение, даже самое ласковое и исходящее от родного ему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Неуверенность в собственной без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гда родители заняты собой или выяснением собственных отношений, а ребенок предоставлен самому себе, у него может возникнуть неуверенность в собственной безопасности. Он начинает видеть опасность даже там, где ее нет, становится недоверчивым и подозрительным. Семья и дом не дают ему необходимой степени защиты и гарантии стабильности. А результатом становится проявляемая к месту и не к месту агрессивность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Личный отрицательный 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large_233"/>
          <p:cNvPicPr/>
          <p:nvPr/>
        </p:nvPicPr>
        <p:blipFill>
          <a:blip r:embed="rId1"/>
          <a:stretch/>
        </p:blipFill>
        <p:spPr>
          <a:xfrm>
            <a:off x="1763640" y="981000"/>
            <a:ext cx="5543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грессия – форма поведения, противоречащего нормам и правилам сосуществования людей в обществе, причиняющего физический вред людям или вызывающего у них отрицательные переживания, состояние напряжённости, страха, подавленност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518472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Эмоциональная нестаби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4680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 7 лет многие дети подвержены колебаниям эмоций, которые взрослые часто называют капризами. Настроение малыша может меняться под влиянием усталости или плохого самочувствия. В этом случае ребенок переносит свою агрессивность не на "обидчика", а на все, что под руку подверн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800_76e66dff5331839e229906e477b7afa1"/>
          <p:cNvPicPr/>
          <p:nvPr/>
        </p:nvPicPr>
        <p:blipFill>
          <a:blip r:embed="rId1"/>
          <a:stretch/>
        </p:blipFill>
        <p:spPr>
          <a:xfrm>
            <a:off x="4932360" y="907920"/>
            <a:ext cx="377352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Недовольство со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4608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зывается не объективными причинами, а отсутствием эмоционального поощрения от родителей, которое приводит к тому, что дети не научаются любви к себе. Если ребенок не любит себя, считает себя недостойным любви, то он не любит и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60956"/>
          <p:cNvPicPr/>
          <p:nvPr/>
        </p:nvPicPr>
        <p:blipFill>
          <a:blip r:embed="rId1"/>
          <a:stretch/>
        </p:blipFill>
        <p:spPr>
          <a:xfrm>
            <a:off x="4643280" y="981000"/>
            <a:ext cx="4321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Повышенная раздражи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3889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акие личностные особенности, как повышенная раздражительность, устойчивая тенденция обижаться даже на нейтральные, казалось бы, высказывания и действия других людей, также могут являться провокаторами проявления агрессивно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untitled"/>
          <p:cNvPicPr/>
          <p:nvPr/>
        </p:nvPicPr>
        <p:blipFill>
          <a:blip r:embed="rId1"/>
          <a:stretch/>
        </p:blipFill>
        <p:spPr>
          <a:xfrm>
            <a:off x="4356000" y="1125360"/>
            <a:ext cx="43084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Чувство в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16000" y="1052640"/>
            <a:ext cx="4103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ни испытывают чувство вины и чувство стыда по отношению к тем, с кем поступили нехорошо или кому причинили вред. Поскольку оба эти чувства довольно неприятны и не приносят радости, они и у взрослых нередко перенаправляются в адрес тех, к кому они испытывают эти чувств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7_htm4"/>
          <p:cNvPicPr/>
          <p:nvPr/>
        </p:nvPicPr>
        <p:blipFill>
          <a:blip r:embed="rId1"/>
          <a:stretch/>
        </p:blipFill>
        <p:spPr>
          <a:xfrm>
            <a:off x="108000" y="1557360"/>
            <a:ext cx="45720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Georgia"/>
              </a:rPr>
              <a:t>Ситуативные прич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Плохое самочувствие, переутом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Чаще всего дети ведут себя агрессивно в те дни, когда они не выспались, плохо себя чувствуют или обиделись на что-то или кого-т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zlobny_maloy"/>
          <p:cNvPicPr/>
          <p:nvPr/>
        </p:nvPicPr>
        <p:blipFill>
          <a:blip r:embed="rId1"/>
          <a:stretch/>
        </p:blipFill>
        <p:spPr>
          <a:xfrm>
            <a:off x="2771640" y="3573360"/>
            <a:ext cx="37450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Влияние продуктов 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39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казана взаимосвязь между повышением тревожности, нервозности и агрессивности и употреблением шоколада. За рубежом проводятся исследования, изучающие взаимосвязь между употреблением чипсов, гамбургеров, сладкой газированной воды и повышенной агрессивностью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j0295241"/>
          <p:cNvPicPr/>
          <p:nvPr/>
        </p:nvPicPr>
        <p:blipFill>
          <a:blip r:embed="rId1"/>
          <a:stretch/>
        </p:blipFill>
        <p:spPr>
          <a:xfrm>
            <a:off x="7451640" y="3284640"/>
            <a:ext cx="1022400" cy="1511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Картинка 11 из 76252"/>
          <p:cNvPicPr/>
          <p:nvPr/>
        </p:nvPicPr>
        <p:blipFill>
          <a:blip r:embed="rId2"/>
          <a:stretch/>
        </p:blipFill>
        <p:spPr>
          <a:xfrm>
            <a:off x="4572000" y="3213000"/>
            <a:ext cx="2455920" cy="2401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Картинка 6 из 7492"/>
          <p:cNvPicPr/>
          <p:nvPr/>
        </p:nvPicPr>
        <p:blipFill>
          <a:blip r:embed="rId3"/>
          <a:stretch/>
        </p:blipFill>
        <p:spPr>
          <a:xfrm>
            <a:off x="7236000" y="907920"/>
            <a:ext cx="1644480" cy="219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Картинка 6 из 5392"/>
          <p:cNvPicPr/>
          <p:nvPr/>
        </p:nvPicPr>
        <p:blipFill>
          <a:blip r:embed="rId4"/>
          <a:stretch/>
        </p:blipFill>
        <p:spPr>
          <a:xfrm>
            <a:off x="6588000" y="5013360"/>
            <a:ext cx="2322720" cy="1595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Картинка 9 из 9357"/>
          <p:cNvPicPr/>
          <p:nvPr/>
        </p:nvPicPr>
        <p:blipFill>
          <a:blip r:embed="rId5"/>
          <a:stretch/>
        </p:blipFill>
        <p:spPr>
          <a:xfrm>
            <a:off x="4716360" y="907920"/>
            <a:ext cx="221148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Georgia"/>
              </a:rPr>
              <a:t>Влияние шума, вибрации, тесноты, температуры во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ы становимся особенно раздражительны и возбудимы именно в ж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снота - еще один могучий провокатор нашей агрессивности. На ребенка теснота действует не менее сильно, чем на нас, взросл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 детей, живущих рядом с оживленными автострадами, проживающих в домах, находящихся над туннелями метрополитена или в непосредственной близости от железнодорожных путей, уровень агрессивности, согласно проведенным исследованиям, как правило, повыш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Georgia"/>
              </a:rPr>
              <a:t>Тип темперамента и особенности харак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енее всего склонны к акти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грессии меланхолики и флег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ангвиник по природе своей не агрессивен и чаще всего предпочитает решать проблемные и даже конфликтные ситуации мир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тественной склонностью к активной агрессии обладают холерики вследствие их крайней неуравновешенности как нервной, так и эмоциональной. Холерики чрезмерно раздражительны, вспыльчивы, их очень легко вывести из терп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a4deb12bac5"/>
          <p:cNvPicPr/>
          <p:nvPr/>
        </p:nvPicPr>
        <p:blipFill>
          <a:blip r:embed="rId1"/>
          <a:stretch/>
        </p:blipFill>
        <p:spPr>
          <a:xfrm>
            <a:off x="7308720" y="620640"/>
            <a:ext cx="14605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Georgia"/>
              </a:rPr>
              <a:t>Социально-биологические прич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176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льчики чаще проявляют активную агрессию, чем дев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вышенная агрессивность может быть обусловлена также биологическими, половыми, психологическими и социальными причи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аще проявляется в дошкольном и подростковом возрас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hurt1"/>
          <p:cNvPicPr/>
          <p:nvPr/>
        </p:nvPicPr>
        <p:blipFill>
          <a:blip r:embed="rId1"/>
          <a:stretch/>
        </p:blipFill>
        <p:spPr>
          <a:xfrm>
            <a:off x="4356000" y="1989000"/>
            <a:ext cx="460872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8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овое соотношение агре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28480" y="971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девочек в большей мере про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бальная агрессия (словесна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вство в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альчиков такие виды агресс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вство в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бальная агрес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ая агрессия (прям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2809800" y="4543560"/>
            <a:ext cx="365616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Физическая агр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Использование физической силы против другого л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0905-19"/>
          <p:cNvPicPr/>
          <p:nvPr/>
        </p:nvPicPr>
        <p:blipFill>
          <a:blip r:embed="rId1"/>
          <a:stretch/>
        </p:blipFill>
        <p:spPr>
          <a:xfrm>
            <a:off x="1692360" y="2276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Georgia"/>
              </a:rPr>
              <a:t>Симптомы неблагополуч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Эмоционально-оценочные:</a:t>
            </a:r>
            <a:r>
              <a:rPr b="0" lang="ru-RU" sz="2400" spc="-1" strike="noStrike">
                <a:solidFill>
                  <a:srgbClr val="333399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 понимают чувств и переживаний других люд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 могут разобраться в собственных чувствах и переживаниях, затрудняются их назва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резмерно подозрительны, все время ожидают физического и морального зла, удара, оскорбления от любого человека, сверстника или взрослог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щущают себя отверженными, одинокими во враждебном мире; эгоцентрич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ладают крайностью самооценки (либо «я лучше всех», либо «я хуже всех»), неадекватно оценивают свое повед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 всех своих ошибках и неприятностях обвиняют окружающих, а собственные агрессивные действия считают правомерными, вынужденными или защит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Поведен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496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егко теряют контроль над соб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являют физическую агрессию (драчливы) и вербальную (угрозы, грубость, брань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емонстрируют вспышки ярости (кричат, визжат, топают ногами, катаются по полу, хлопают дверьми, швыряют и ломают предметы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дражительны, вспыльчивы, гневливы, упрямы, завистливы, обидчивы, подозрительны, мстительн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личаются «оппозиционной» манерой поведения, направленной против того или иного авторитета (учителя, ученика-лидера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меренно создают конфликтные ситуации, провоцируют ссо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Физическ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традают головными болями, мускульным напряжени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тличаются угрюмым, тоскливым настроени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Georgia"/>
              </a:rPr>
              <a:t>Рекомендации по общению с агрессивным ребен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d6009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60093"/>
                </a:solidFill>
                <a:latin typeface="Georgia"/>
              </a:rPr>
              <a:t>Спокойное отношение в случае незначительной агре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лное игнорирование реакций ребенка - весьма мощный способ  прекращения нежелательного поведе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ражение понимания чувств ребенка ("Конечно, тебе обидно..."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ключение внимания, предложение какого-либо задания ("Помоги мне, пожалуйста, достать посуду с верхней полки, ты ведь выше меня"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зитивное обозначение поведения ("Ты злишься потому, что ты устал"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60093"/>
                </a:solidFill>
                <a:latin typeface="Georgia"/>
              </a:rPr>
              <a:t>2. Акцентирование внимания на поступках (поведении), а не на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статация факта ("ты ведешь себя агрессивно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статирующий вопрос ("ты злишься?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крытие мотивов агрессивного поведения ("Ты хочешь меня обидеть?", "Ты хочешь продемонстрировать силу?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наружение своих собственных чувств по отношению к нежелательному поведению ("Мне не нравится, когда со мной говорят в таком тоне", "Я сержусь, когда на меня кто-то громко кричит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пелляция к правилам ("Мы же с тобой договаривались!"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Georgia"/>
              </a:rPr>
              <a:t>3. Контроль над собственными негативными эмоц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гда взрослый человек управляет своими отрицательными эмоциями, то он не подкрепляет агрессивное поведение ребенка, сохраняет с ним хорошие отношения и демонстрирует, как нужно взаимодействовать с агрессивным челове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28_01_00"/>
          <p:cNvPicPr/>
          <p:nvPr/>
        </p:nvPicPr>
        <p:blipFill>
          <a:blip r:embed="rId1"/>
          <a:stretch/>
        </p:blipFill>
        <p:spPr>
          <a:xfrm>
            <a:off x="108000" y="4221000"/>
            <a:ext cx="165564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8000" y="404640"/>
            <a:ext cx="8856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Georgia"/>
              </a:rPr>
              <a:t>4. Снижение напряжения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повышать голос, не менять тон на угрожающ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демонстрировать власть ("Будет так, как я скажу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крич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принимать агрессивные позы и жесты: сжатые челюсти, перекрещенные или сцепленные руки, разговор "сквозь зубы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использовать сарказм, насмешки, высмеивание и передразни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использовать негативную оценку личности ребенка, его близких или друз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использовать физическую сил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втягивать в конфликт посторонних люд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настаивать на своей право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читать нотации, проповед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делать обобщения типа: "Вы все одинаковые", "Ты, как всегда...", "Ты никогда не...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сравнивать ребенка с другими детьми - не в его пользу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2000"/>
            </a:br>
            <a:br>
              <a:rPr sz="800"/>
            </a:br>
            <a:r>
              <a:rPr b="1" i="1" lang="ru-RU" sz="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Georgia"/>
              </a:rPr>
              <a:t>5. Обсуждение проступ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нализировать поведение в момент проявления агрессии не нужно, этим стоит заниматься только после того, как ситуация разрешится и все успокоятс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discipline"/>
          <p:cNvPicPr/>
          <p:nvPr/>
        </p:nvPicPr>
        <p:blipFill>
          <a:blip r:embed="rId1"/>
          <a:stretch/>
        </p:blipFill>
        <p:spPr>
          <a:xfrm>
            <a:off x="2411280" y="2997360"/>
            <a:ext cx="4608720" cy="35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Georgia"/>
              </a:rPr>
              <a:t>6. Сохранение положительной репутации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ублично минимизировать вину ребенка ("Ты не важно себя чувствуешь", "Ты не хотел его обидеть"), но в беседе с глазу на глаз показать исти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е требовать полного подчинения, позволить ребенку выполнить ваше требование по-свое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едложить ребенку компромисс, договор с взаимными уступ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Georgia"/>
              </a:rPr>
              <a:t>7. Демонстрация модели неагрессивного 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ауза, дающая возможность ребенку успокоить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нушение спокойствия невербальными средств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яснение ситуации с помощью наводящих вопро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спользование юм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изнание чувств ребенк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Косвенная агр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ействия, как окольными путями направленные на другое лицо (сплетни, злобные шутки), так и ни на кого не направленные взрывы ярости (крик, топанье ногами, битье кулаками по столу, хлопанье дверьми и др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gr_05"/>
          <p:cNvPicPr/>
          <p:nvPr/>
        </p:nvPicPr>
        <p:blipFill>
          <a:blip r:embed="rId1"/>
          <a:stretch/>
        </p:blipFill>
        <p:spPr>
          <a:xfrm>
            <a:off x="3132000" y="4005360"/>
            <a:ext cx="345780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Georgia"/>
              </a:rPr>
              <a:t>8. Предупреждение агрессивных действий детей</a:t>
            </a:r>
            <a:r>
              <a:rPr b="0" lang="ru-RU" sz="2400" spc="-1" strike="noStrike">
                <a:solidFill>
                  <a:srgbClr val="d60093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икогда не следует поощрять ребенка за проявленную агресс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необходимых случаях такого ребенка успокаивает временная изоляция с кратким разъяснением прич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конфликт возникает среди детей, то стоит его временно оставить среди них: пусть почувствует, что такое проявить агрессивность без явной причины на н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ребенок готов к нанесению удара (укусу и т.д.), то лучше быстро остановить его и резко предупредить его “Нельзя!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зредка стоит дать ребенку почувствовать и испытать подобное действие со стороны близких с последующим разъясн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60093"/>
                </a:solidFill>
                <a:latin typeface="Georgia"/>
              </a:rPr>
              <a:t>9. Обращение с ребенком после агрессивного по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ыскать адекватную форму наказания после четкого объяснения его проступ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кать выход по переориентации его энергии по социально правильному русл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ледует помнить: частые наказания неэффективны, а безнаказанность еще больше порт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думать новые при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ереключения ребенка на новые в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ношений (игра, самообслуживание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1243943104_1220798897_pe-127-0603"/>
          <p:cNvPicPr/>
          <p:nvPr/>
        </p:nvPicPr>
        <p:blipFill>
          <a:blip r:embed="rId1"/>
          <a:stretch/>
        </p:blipFill>
        <p:spPr>
          <a:xfrm>
            <a:off x="7308720" y="3068640"/>
            <a:ext cx="16542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60093"/>
                </a:solidFill>
                <a:latin typeface="Georgia"/>
              </a:rPr>
              <a:t>10. Обучение ребенка техникам и способам управления собственным гневом. Развитие контроля над деструктивными эмоц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мкать и рвать бума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ить подушку или боксерскую груш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опать ног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писать на бумаге все слова, которые хочется сказать, скомкать и выбросить бума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тирать пластилин в картонку или бума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читать до деся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амое конструктивное - спортивные игры, б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да хорошо снимает агресс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Вербальная агр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569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ыражение негативных чувств как через форму (крик, визг, ссора), так и через содержание словесных ответов (угрозы, проклятия, ругань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Картинка 22 из 9512"/>
          <p:cNvPicPr/>
          <p:nvPr/>
        </p:nvPicPr>
        <p:blipFill>
          <a:blip r:embed="rId1"/>
          <a:stretch/>
        </p:blipFill>
        <p:spPr>
          <a:xfrm>
            <a:off x="2124000" y="2997360"/>
            <a:ext cx="50770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Типы человеческой агре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Доброкачестве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иологически адаптивная агрессивность – это реакция на угрозу витальным интересам индивида. Возникает спонтанно как реакция на угрозу; а следствие ее – устранение либо самой угрозы, либо ее прич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Злокачестве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лавные ее проявления – жестокое истязание или убийство – не имеют никакой иной цели, кроме получения удовольств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Картинка 126 из 11137"/>
          <p:cNvPicPr/>
          <p:nvPr/>
        </p:nvPicPr>
        <p:blipFill>
          <a:blip r:embed="rId1"/>
          <a:stretch/>
        </p:blipFill>
        <p:spPr>
          <a:xfrm>
            <a:off x="2124000" y="2924280"/>
            <a:ext cx="5077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Псевдоагр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ействие, в результате которого может быть нанесен ущерб, но которым не предшествовали злые намерения (случайный выстрел с ранением человека, самоутверждение, игровая псевдоагрессия во время игр, тренингов и др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Оборонительная агре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 ситуации, когда возникает угроза жизни, здоровью, свободе или собственности проявляется так называемая оборонительная агресс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а 7 из 597"/>
          <p:cNvPicPr/>
          <p:nvPr/>
        </p:nvPicPr>
        <p:blipFill>
          <a:blip r:embed="rId1"/>
          <a:stretch/>
        </p:blipFill>
        <p:spPr>
          <a:xfrm>
            <a:off x="2627280" y="3048120"/>
            <a:ext cx="3876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1T04:49:18Z</dcterms:created>
  <dc:creator>Майоровы</dc:creator>
  <dc:description/>
  <dc:language>en-US</dc:language>
  <cp:lastModifiedBy>Пользователь</cp:lastModifiedBy>
  <dcterms:modified xsi:type="dcterms:W3CDTF">2024-03-24T17:08:29Z</dcterms:modified>
  <cp:revision>13</cp:revision>
  <dc:subject/>
  <dc:title>Агрессивный ребенок</dc:title>
</cp:coreProperties>
</file>