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3F1-5452-450C-B471-0A537F2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F7A-239D-4753-95BB-6E7D5390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FBA-6265-49F2-B4D0-B442BC1D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4D9-C4EE-422D-98A6-5421BCE0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D50-6E83-4F68-B5A6-60EB2F24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207-5B09-44C5-971F-7B5A239F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EB3-9DCD-4529-A825-BE841BA4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F81-41C9-4C7A-A9B2-BD81A03C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058-8C62-4923-9B76-F8A2B322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6D4-6642-43B4-AC7C-8C44175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D5E-34A2-446C-BD7F-ACED87F7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0A9-8A8D-4AE7-ABDB-A2032751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e3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8C64-188C-4890-AAA6-ACA1A9242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Georgia"/>
              </a:rPr>
              <a:t>Агрессивный реб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syho15-2"/>
          <p:cNvPicPr/>
          <p:nvPr/>
        </p:nvPicPr>
        <p:blipFill>
          <a:blip r:embed="rId1"/>
          <a:stretch/>
        </p:blipFill>
        <p:spPr>
          <a:xfrm>
            <a:off x="324000" y="3284640"/>
            <a:ext cx="3066840" cy="33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gr_1"/>
          <p:cNvPicPr/>
          <p:nvPr/>
        </p:nvPicPr>
        <p:blipFill>
          <a:blip r:embed="rId2"/>
          <a:stretch/>
        </p:blipFill>
        <p:spPr>
          <a:xfrm>
            <a:off x="6516720" y="2276640"/>
            <a:ext cx="2265480" cy="230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82e88d2fa058c003c2b448b993248a41"/>
          <p:cNvPicPr/>
          <p:nvPr/>
        </p:nvPicPr>
        <p:blipFill>
          <a:blip r:embed="rId3"/>
          <a:stretch/>
        </p:blipFill>
        <p:spPr>
          <a:xfrm>
            <a:off x="108000" y="115920"/>
            <a:ext cx="1533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Безразличие или враждебность со стороны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raka2"/>
          <p:cNvPicPr/>
          <p:nvPr/>
        </p:nvPicPr>
        <p:blipFill>
          <a:blip r:embed="rId1"/>
          <a:stretch/>
        </p:blipFill>
        <p:spPr>
          <a:xfrm>
            <a:off x="2124000" y="1341360"/>
            <a:ext cx="52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Разрушение эмоциональных связей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55640" y="134100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пруги сосуществуют в постоянных ссорах. Жизнь в такой семье становится для ребенка настоящим испытанием, особенно, если родители используют его как аргумент в споре между собой. Ребенок либо живет в постоянном напряжении, страдая от нестабильности в доме и конфликта между двумя самыми близкими ему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227818146_author_photo"/>
          <p:cNvPicPr/>
          <p:nvPr/>
        </p:nvPicPr>
        <p:blipFill>
          <a:blip r:embed="rId1"/>
          <a:stretch/>
        </p:blipFill>
        <p:spPr>
          <a:xfrm>
            <a:off x="324000" y="1197000"/>
            <a:ext cx="4054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Неуважение к личности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8764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грессивные реакции могут быть вызваны некорректной и нетактичной критикой, оскорбительными и унизительными замеч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gnev1"/>
          <p:cNvPicPr/>
          <p:nvPr/>
        </p:nvPicPr>
        <p:blipFill>
          <a:blip r:embed="rId1"/>
          <a:stretch/>
        </p:blipFill>
        <p:spPr>
          <a:xfrm>
            <a:off x="611280" y="907920"/>
            <a:ext cx="443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Чрезмерный контроль или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отсутствие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82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давляемый гнев, как джинн из бутылки, в какой-то момент обязательно вырвется наружу. И его последствия, с точки зрения стороннего наблюдателя, будут тем страшнее и неадекватнее, чем дольше он коп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222143912_00996_250x250"/>
          <p:cNvPicPr/>
          <p:nvPr/>
        </p:nvPicPr>
        <p:blipFill>
          <a:blip r:embed="rId1"/>
          <a:stretch/>
        </p:blipFill>
        <p:spPr>
          <a:xfrm>
            <a:off x="5003640" y="170028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Жестокий характер матери ил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10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одители стремятся во всем управлять своим ребенком, подавляя его волю, не допуская никакого проявления его личной инициативы и не предоставляя ему возможности быть собой. Они вызывают у ребенка не столько любовь, сколько ст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41934889_bit"/>
          <p:cNvPicPr/>
          <p:nvPr/>
        </p:nvPicPr>
        <p:blipFill>
          <a:blip r:embed="rId1"/>
          <a:stretch/>
        </p:blipFill>
        <p:spPr>
          <a:xfrm>
            <a:off x="4572000" y="981000"/>
            <a:ext cx="4106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Запрет на физическую а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0720" y="981000"/>
            <a:ext cx="4319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ребенок целый день не имел возможности открыто проявлять свои эмоции, как положительные, так и отрицательные, не мог физически разрядиться, то его агрессия будет обусловлена накопившимся переизбытком энергии, которая, как известно, не имеет свойства исчезать бессле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4680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Отказ в праве на личную своб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9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ногие родители совершенно ошибочно полагают, что у ребенка не может быть от них секретов, забывая о том, что им самим такое вмешательство вряд ли понравилось бы. Ребенку необходима свобода, чтобы он научился самостоятельно принимать свои решения и отвечать за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et_agress"/>
          <p:cNvPicPr/>
          <p:nvPr/>
        </p:nvPicPr>
        <p:blipFill>
          <a:blip r:embed="rId1"/>
          <a:stretch/>
        </p:blipFill>
        <p:spPr>
          <a:xfrm>
            <a:off x="684360" y="1341360"/>
            <a:ext cx="3821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Georgia"/>
              </a:rPr>
              <a:t>Личные 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eorgia"/>
              </a:rPr>
              <a:t>Подсознательное ожидание 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аще всего мать ребенка во время беременности не чувствовала достаточной защищенности, чрезвычайно тревожилась и беспокоилась за себя и за своего будущего ребенка. Все эти ощущения передавались ребенку, и он родился, не имея базовой уверенности в безопасности мира. Потому он все время подсознательно ждет нападения, видит во всем потенциальную опасность и старается защититься от нее, как может и как умеет. Такой ребенок способен ответить агрессией на неожиданное прикосновение, даже самое ласковое и исходящее от родного ему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Неуверенность в собственной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гда родители заняты собой или выяснением собственных отношений, а ребенок предоставлен самому себе, у него может возникнуть неуверенность в собственной безопасности. Он начинает видеть опасность даже там, где ее нет, становится недоверчивым и подозрительным. Семья и дом не дают ему необходимой степени защиты и гарантии стабильности. А результатом становится проявляемая к месту и не к месту агрессивнос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Личный отрицательны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large_233"/>
          <p:cNvPicPr/>
          <p:nvPr/>
        </p:nvPicPr>
        <p:blipFill>
          <a:blip r:embed="rId1"/>
          <a:stretch/>
        </p:blipFill>
        <p:spPr>
          <a:xfrm>
            <a:off x="1763640" y="98100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– форма поведения, противоречащего нормам и правилам сосуществования людей в обществе, причиняющего физический вред людям или вызывающего у них отрицательные переживания, состояние напряжённости, страха, подавленност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184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Эмоциональная нестаби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4680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 7 лет многие дети подвержены колебаниям эмоций, которые взрослые часто называют капризами. Настроение малыша может меняться под влиянием усталости или плохого самочувствия. В этом случае ребенок переносит свою агрессивность не на "обидчика", а на все, что под руку подверн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800_76e66dff5331839e229906e477b7afa1"/>
          <p:cNvPicPr/>
          <p:nvPr/>
        </p:nvPicPr>
        <p:blipFill>
          <a:blip r:embed="rId1"/>
          <a:stretch/>
        </p:blipFill>
        <p:spPr>
          <a:xfrm>
            <a:off x="4932360" y="907920"/>
            <a:ext cx="37735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Недовольство с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4608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зывается не объективными причинами, а отсутствием эмоционального поощрения от родителей, которое приводит к тому, что дети не научаются любви к себе. Если ребенок не любит себя, считает себя недостойным любви, то он не любит и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60956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Повышенная раздражи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889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е личностные особенности, как повышенная раздражительность, устойчивая тенденция обижаться даже на нейтральные, казалось бы, высказывания и действия других людей, также могут являться провокаторами проявления агрессив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ntitled"/>
          <p:cNvPicPr/>
          <p:nvPr/>
        </p:nvPicPr>
        <p:blipFill>
          <a:blip r:embed="rId1"/>
          <a:stretch/>
        </p:blipFill>
        <p:spPr>
          <a:xfrm>
            <a:off x="4356000" y="1125360"/>
            <a:ext cx="4308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Чувство в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0" y="1052640"/>
            <a:ext cx="4103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ни испытывают чувство вины и чувство стыда по отношению к тем, с кем поступили нехорошо или кому причинили вред. Поскольку оба эти чувства довольно неприятны и не приносят радости, они и у взрослых нередко перенаправляются в адрес тех, к кому они испытывают эти чув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_htm4"/>
          <p:cNvPicPr/>
          <p:nvPr/>
        </p:nvPicPr>
        <p:blipFill>
          <a:blip r:embed="rId1"/>
          <a:stretch/>
        </p:blipFill>
        <p:spPr>
          <a:xfrm>
            <a:off x="108000" y="1557360"/>
            <a:ext cx="45720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Ситуативны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лохое самочувствие, переуто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аще всего дети ведут себя агрессивно в те дни, когда они не выспались, плохо себя чувствуют или обиделись на что-то или кого-т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zlobny_maloy"/>
          <p:cNvPicPr/>
          <p:nvPr/>
        </p:nvPicPr>
        <p:blipFill>
          <a:blip r:embed="rId1"/>
          <a:stretch/>
        </p:blipFill>
        <p:spPr>
          <a:xfrm>
            <a:off x="2771640" y="3573360"/>
            <a:ext cx="3745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Влияние продуктов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зана взаимосвязь между повышением тревожности, нервозности и агрессивности и употреблением шоколада. За рубежом проводятся исследования, изучающие взаимосвязь между употреблением чипсов, гамбургеров, сладкой газированной воды и повышенной агрессивность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j0295241"/>
          <p:cNvPicPr/>
          <p:nvPr/>
        </p:nvPicPr>
        <p:blipFill>
          <a:blip r:embed="rId1"/>
          <a:stretch/>
        </p:blipFill>
        <p:spPr>
          <a:xfrm>
            <a:off x="7451640" y="3284640"/>
            <a:ext cx="102240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Картинка 11 из 76252"/>
          <p:cNvPicPr/>
          <p:nvPr/>
        </p:nvPicPr>
        <p:blipFill>
          <a:blip r:embed="rId2"/>
          <a:stretch/>
        </p:blipFill>
        <p:spPr>
          <a:xfrm>
            <a:off x="4572000" y="3213000"/>
            <a:ext cx="2455920" cy="240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а 6 из 7492"/>
          <p:cNvPicPr/>
          <p:nvPr/>
        </p:nvPicPr>
        <p:blipFill>
          <a:blip r:embed="rId3"/>
          <a:stretch/>
        </p:blipFill>
        <p:spPr>
          <a:xfrm>
            <a:off x="7236000" y="907920"/>
            <a:ext cx="1644480" cy="21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артинка 6 из 5392"/>
          <p:cNvPicPr/>
          <p:nvPr/>
        </p:nvPicPr>
        <p:blipFill>
          <a:blip r:embed="rId4"/>
          <a:stretch/>
        </p:blipFill>
        <p:spPr>
          <a:xfrm>
            <a:off x="6588000" y="5013360"/>
            <a:ext cx="2322720" cy="1595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Картинка 9 из 9357"/>
          <p:cNvPicPr/>
          <p:nvPr/>
        </p:nvPicPr>
        <p:blipFill>
          <a:blip r:embed="rId5"/>
          <a:stretch/>
        </p:blipFill>
        <p:spPr>
          <a:xfrm>
            <a:off x="4716360" y="907920"/>
            <a:ext cx="22114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eorgia"/>
              </a:rPr>
              <a:t>Влияние шума, вибрации, тесноты, температуры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ы становимся особенно раздражительны и возбудимы именно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снота - еще один могучий провокатор нашей агрессивности. На ребенка теснота действует не менее сильно, чем на нас,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детей, живущих рядом с оживленными автострадами, проживающих в домах, находящихся над туннелями метрополитена или в непосредственной близости от железнодорожных путей, уровень агрессивности, согласно проведенным исследованиям, как правило, повыш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eorgia"/>
              </a:rPr>
              <a:t>Тип темперамента и особенности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нее всего склонны к акти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грессии меланхолики и флег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нгвиник по природе своей не агрессивен и чаще всего предпочитает решать проблемные и даже конфликтные ситуации ми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тественной склонностью к активной агрессии обладают холерики вследствие их крайней неуравновешенности как нервной, так и эмоциональной. Холерики чрезмерно раздражительны, вспыльчивы, их очень легко вывести из терп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a4deb12bac5"/>
          <p:cNvPicPr/>
          <p:nvPr/>
        </p:nvPicPr>
        <p:blipFill>
          <a:blip r:embed="rId1"/>
          <a:stretch/>
        </p:blipFill>
        <p:spPr>
          <a:xfrm>
            <a:off x="7308720" y="620640"/>
            <a:ext cx="1460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Социально-биологически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76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льчики чаще проявляют активную агрессию, чем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ышенная агрессивность может быть обусловлена также биологическими, половыми, психологическими и социальными прич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аще проявляется в дошкольном и подростковом возрас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urt1"/>
          <p:cNvPicPr/>
          <p:nvPr/>
        </p:nvPicPr>
        <p:blipFill>
          <a:blip r:embed="rId1"/>
          <a:stretch/>
        </p:blipFill>
        <p:spPr>
          <a:xfrm>
            <a:off x="4356000" y="1989000"/>
            <a:ext cx="46087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е соотношение а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8480" y="971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вочек в большей мере про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бальная агрессия (словес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о в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альчиков такие виды агре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о в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бальная агре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агрессия (прям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809800" y="4543560"/>
            <a:ext cx="365616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Физическ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спользование физической силы против другого 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905-19"/>
          <p:cNvPicPr/>
          <p:nvPr/>
        </p:nvPicPr>
        <p:blipFill>
          <a:blip r:embed="rId1"/>
          <a:stretch/>
        </p:blipFill>
        <p:spPr>
          <a:xfrm>
            <a:off x="1692360" y="2276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Georgia"/>
              </a:rPr>
              <a:t>Симптомы неблагополу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Эмоционально-оценочные:</a:t>
            </a: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онимают чувств и переживаний других люд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могут разобраться в собственных чувствах и переживаниях, затрудняются их назв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резмерно подозрительны, все время ожидают физического и морального зла, удара, оскорбления от любого человека, сверстника или взросл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щущают себя отверженными, одинокими во враждебном мире; эгоцентрич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ладают крайностью самооценки (либо «я лучше всех», либо «я хуже всех»), неадекватно оценивают свое пове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сех своих ошибках и неприятностях обвиняют окружающих, а собственные агрессивные действия считают правомерными, вынужденными или защит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Поведен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гко теряют контроль над соб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яют физическую агрессию (драчливы) и вербальную (угрозы, грубость, бран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емонстрируют вспышки ярости (кричат, визжат, топают ногами, катаются по полу, хлопают дверьми, швыряют и ломают предмет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ражительны, вспыльчивы, гневливы, упрямы, завистливы, обидчивы, подозрительны, мститель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личаются «оппозиционной» манерой поведения, направленной против того или иного авторитета (учителя, ученика-лидер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меренно создают конфликтные ситуации, провоцируют сс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Физ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радают головными болями, мускульным напряж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тличаются угрюмым, тоскливым настро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Georgia"/>
              </a:rPr>
              <a:t>Рекомендации по общению с агрессивным ребен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Спокойное отношение в случае незначительной а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ное игнорирование реакций ребенка - весьма мощный способ  прекращения нежелатель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ражение понимания чувств ребенка ("Конечно, тебе обидно...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ключение внимания, предложение какого-либо задания ("Помоги мне, пожалуйста, достать посуду с верхней полки, ты ведь выше меня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зитивное обозначение поведения ("Ты злишься потому, что ты устал"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2. Акцентирование внимания на поступках (поведении), а не на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статация факта ("ты ведешь себя агрессивно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статирующий вопрос ("ты злишься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крытие мотивов агрессивного поведения ("Ты хочешь меня обидеть?", "Ты хочешь продемонстрировать силу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наружение своих собственных чувств по отношению к нежелательному поведению ("Мне не нравится, когда со мной говорят в таком тоне", "Я сержусь, когда на меня кто-то громко кричит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пелляция к правилам ("Мы же с тобой договаривались!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3. Контроль над собственными негативными эмо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гда взрослый человек управляет своими отрицательными эмоциями, то он не подкрепляет агрессивное поведение ребенка, сохраняет с ним хорошие отношения и демонстрирует, как нужно взаимодействовать с агрессивным челове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8_01_00"/>
          <p:cNvPicPr/>
          <p:nvPr/>
        </p:nvPicPr>
        <p:blipFill>
          <a:blip r:embed="rId1"/>
          <a:stretch/>
        </p:blipFill>
        <p:spPr>
          <a:xfrm>
            <a:off x="108000" y="4221000"/>
            <a:ext cx="1655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Georgia"/>
              </a:rPr>
              <a:t>4. Снижение напряжения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повышать голос, не менять тон на угрожающ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демонстрировать власть ("Будет так, как я скажу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кри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принимать агрессивные позы и жесты: сжатые челюсти, перекрещенные или сцепленные руки, разговор "сквозь зубы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использовать сарказм, насмешки, высмеивание и передразни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использовать негативную оценку личности ребенка, его близких или друз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использовать физическую си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втягивать в конфликт посторонних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настаивать на своей прав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читать нотации, проповед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делать обобщения типа: "Вы все одинаковые", "Ты, как всегда...", "Ты никогда не...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сравнивать ребенка с другими детьми - не в его пользу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000"/>
            </a:br>
            <a:br>
              <a:rPr sz="800"/>
            </a:br>
            <a:r>
              <a:rPr b="1" i="1" lang="ru-RU" sz="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5. Обсуждение просту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ализировать поведение в момент проявления агрессии не нужно, этим стоит заниматься только после того, как ситуация разрешится и все успокоятс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discipline"/>
          <p:cNvPicPr/>
          <p:nvPr/>
        </p:nvPicPr>
        <p:blipFill>
          <a:blip r:embed="rId1"/>
          <a:stretch/>
        </p:blipFill>
        <p:spPr>
          <a:xfrm>
            <a:off x="2411280" y="2997360"/>
            <a:ext cx="46087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6. Сохранение положительной репутаци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ублично минимизировать вину ребенка ("Ты не важно себя чувствуешь", "Ты не хотел его обидеть"), но в беседе с глазу на глаз показать ист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требовать полного подчинения, позволить ребенку выполнить ваше требование по-св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дложить ребенку компромисс, договор с взаимными уступ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7. Демонстрация модели неагрессив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ауза, дающая возможность ребенку успоко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нушение спокойствия невербаль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яснение ситуации с помощью наводящих вопро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спользование юм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знание чувств ребен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Косвен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йствия, как окольными путями направленные на другое лицо (сплетни, злобные шутки), так и ни на кого не направленные взрывы ярости (крик, топанье ногами, битье кулаками по столу, хлопанье дверьми и др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gr_05"/>
          <p:cNvPicPr/>
          <p:nvPr/>
        </p:nvPicPr>
        <p:blipFill>
          <a:blip r:embed="rId1"/>
          <a:stretch/>
        </p:blipFill>
        <p:spPr>
          <a:xfrm>
            <a:off x="3132000" y="4005360"/>
            <a:ext cx="34578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Georgia"/>
              </a:rPr>
              <a:t>8. Предупреждение агрессивных действий детей</a:t>
            </a:r>
            <a:r>
              <a:rPr b="0" lang="ru-RU" sz="2400" spc="-1" strike="noStrike">
                <a:solidFill>
                  <a:srgbClr val="d6009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икогда не следует поощрять ребенка за проявленную агресс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еобходимых случаях такого ребенка успокаивает временная изоляция с кратким разъяснением прич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конфликт возникает среди детей, то стоит его временно оставить среди них: пусть почувствует, что такое проявить агрессивность без явной причины на 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ребенок готов к нанесению удара (укусу и т.д.), то лучше быстро остановить его и резко предупредить его “Нельзя!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редка стоит дать ребенку почувствовать и испытать подобное действие со стороны близких с последующим разъясн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9. Обращение с ребенком после агрессивного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ыскать адекватную форму наказания после четкого объяснения его проступ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кать выход по переориентации его энергии по социально правильному рус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едует помнить: частые наказания неэффективны, а безнаказанность еще больше пор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думать новые при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ключения ребенка на новые в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ношений (игра, самообслуживание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243943104_1220798897_pe-127-0603"/>
          <p:cNvPicPr/>
          <p:nvPr/>
        </p:nvPicPr>
        <p:blipFill>
          <a:blip r:embed="rId1"/>
          <a:stretch/>
        </p:blipFill>
        <p:spPr>
          <a:xfrm>
            <a:off x="7308720" y="3068640"/>
            <a:ext cx="1654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10. Обучение ребенка техникам и способам управления собственным гневом. Развитие контроля над деструктивными эмо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мкать и рва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ть подушку или боксерскую гру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пать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исать на бумаге все слова, которые хочется сказать, скомкать и выброси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тирать пластилин в картонку или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читать до дес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е конструктивное - спортивные игры, б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а хорошо снимает агр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Верба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жение негативных чувств как через форму (крик, визг, ссора), так и через содержание словесных ответов (угрозы, проклятия, ругань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22 из 9512"/>
          <p:cNvPicPr/>
          <p:nvPr/>
        </p:nvPicPr>
        <p:blipFill>
          <a:blip r:embed="rId1"/>
          <a:stretch/>
        </p:blipFill>
        <p:spPr>
          <a:xfrm>
            <a:off x="2124000" y="2997360"/>
            <a:ext cx="50770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Типы человеческой а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Добр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иологически адаптивная агрессивность – это реакция на угрозу витальным интересам индивида. Возникает спонтанно как реакция на угрозу; а следствие ее – устранение либо самой угрозы, либо ее пр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Зл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авные ее проявления – жестокое истязание или убийство – не имеют никакой иной цели, кроме получения удовольств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126 из 11137"/>
          <p:cNvPicPr/>
          <p:nvPr/>
        </p:nvPicPr>
        <p:blipFill>
          <a:blip r:embed="rId1"/>
          <a:stretch/>
        </p:blipFill>
        <p:spPr>
          <a:xfrm>
            <a:off x="2124000" y="2924280"/>
            <a:ext cx="507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Псевдо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йствие, в результате которого может быть нанесен ущерб, но которым не предшествовали злые намерения (случайный выстрел с ранением человека, самоутверждение, игровая псевдоагрессия во время игр, тренингов и др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Обороните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итуации, когда возникает угроза жизни, здоровью, свободе или собственности проявляется так называемая оборонительная агресс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7 из 597"/>
          <p:cNvPicPr/>
          <p:nvPr/>
        </p:nvPicPr>
        <p:blipFill>
          <a:blip r:embed="rId1"/>
          <a:stretch/>
        </p:blipFill>
        <p:spPr>
          <a:xfrm>
            <a:off x="2627280" y="3048120"/>
            <a:ext cx="387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4:49:18Z</dcterms:created>
  <dc:creator>Майоровы</dc:creator>
  <dc:description/>
  <dc:language>en-US</dc:language>
  <cp:lastModifiedBy>Пользователь</cp:lastModifiedBy>
  <dcterms:modified xsi:type="dcterms:W3CDTF">2024-03-24T17:08:29Z</dcterms:modified>
  <cp:revision>13</cp:revision>
  <dc:subject/>
  <dc:title>Агрессивный ребенок</dc:title>
</cp:coreProperties>
</file>