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8.gif" ContentType="image/gif"/>
  <Override PartName="/ppt/media/image26.gif" ContentType="image/gif"/>
  <Override PartName="/ppt/media/image19.png" ContentType="image/png"/>
  <Override PartName="/ppt/media/image20.png" ContentType="image/png"/>
  <Override PartName="/ppt/media/image23.png" ContentType="image/png"/>
  <Override PartName="/ppt/media/image30.gif" ContentType="image/gif"/>
  <Override PartName="/ppt/media/image18.gif" ContentType="image/gif"/>
  <Override PartName="/ppt/media/image17.gif" ContentType="image/gif"/>
  <Override PartName="/ppt/media/image21.png" ContentType="image/png"/>
  <Override PartName="/ppt/media/image16.gif" ContentType="image/gif"/>
  <Override PartName="/ppt/media/image6.jpeg" ContentType="image/jpeg"/>
  <Override PartName="/ppt/media/image24.jpeg" ContentType="image/jpeg"/>
  <Override PartName="/ppt/media/image12.gif" ContentType="image/gif"/>
  <Override PartName="/ppt/media/image29.gif" ContentType="image/gif"/>
  <Override PartName="/ppt/media/image31.gif" ContentType="image/gif"/>
  <Override PartName="/ppt/media/image7.gif" ContentType="image/gif"/>
  <Override PartName="/ppt/media/image37.gif" ContentType="image/gif"/>
  <Override PartName="/ppt/media/image13.gif" ContentType="image/gif"/>
  <Override PartName="/ppt/media/image11.png" ContentType="image/png"/>
  <Override PartName="/ppt/media/image9.png" ContentType="image/png"/>
  <Override PartName="/ppt/media/image39.png" ContentType="image/png"/>
  <Override PartName="/ppt/media/image35.gif" ContentType="image/gif"/>
  <Override PartName="/ppt/media/image36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32.gif" ContentType="image/gif"/>
  <Override PartName="/ppt/media/image25.png" ContentType="image/png"/>
  <Override PartName="/ppt/media/image10.png" ContentType="image/png"/>
  <Override PartName="/ppt/media/image1.jpeg" ContentType="image/jpeg"/>
  <Override PartName="/ppt/media/image27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C1D3-94B8-4F76-8DF4-A8404F00A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D86A-E221-4A53-BE34-E22D43AB8F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9E5-D986-482B-857E-82287F10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2DA-846D-4240-B230-6D41EB38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4175F-CC90-4028-A189-6D6FA2E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3BCD5-94B6-4429-9DF2-EFEA7E14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F205D-8AB8-4913-BE40-FB2E1FB3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E0E08-18DD-4A76-AF63-D626F01C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39C83-A73B-4EEE-B7A0-605E069B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EDF6C-3FAC-46C7-8492-67CFC0D9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6FE3B-399B-4F9D-8786-676E3F05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3B055-0036-4D37-9421-8C31BD45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F5233-95C5-494E-9761-920A5C5F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0198F-6A7C-4824-9BBA-768CE98E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632-4750-4D48-B039-E1D7F0F8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4DFA8-DFDF-4776-A343-E400D42C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513BA-6DDD-4AB3-8097-8091EF3D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5E9D1-4D68-43DD-9004-D944274F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D6954-9D9A-4A41-B3DA-9FBEADF5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40AD9-565C-4290-9911-CC91C7D8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AE14A-74CD-4362-847F-E28A476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45101-39FA-43A6-AB58-2B60CCE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D04C0-C3D5-411B-AFEB-209AC7D1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2F617-C93B-4D2B-960A-C520CB5F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CBA37-0718-49AE-8D17-DC8A9057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EB1-21A1-4E2B-B488-47C8A2B5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AA8CC-69AC-45CB-9595-B46ACC60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40EE9-3E14-4F40-83F2-F5A5F6E8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9C8F1-28D7-4689-A288-D5F412B9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1F14B-1DE0-475A-A377-F6318EA7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E5306-808D-4E45-B03D-396B4894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3552D-D4B4-4127-A072-D8D7B590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7CD54-68AF-4956-A90B-9249771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355C5-3FEB-4CA2-AA01-AAD3D221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E5102-8CDF-4EAC-897D-CFD9456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985BF-CF82-465B-A809-0D020D5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F631-E468-4150-B370-79910791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E2888-54AC-4E18-B855-5BE911B8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8C122-13C0-41DF-9FCC-7066579D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2132E-E11E-472F-A1C2-C6FE785F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82B2F-0EF2-4CAD-AF0C-C9BF5F5D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A7623-FCC4-42CC-BE76-0A761BC8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5DA10-D3A1-470D-9C73-B647A475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5766E-B888-48ED-B0D9-7D07C2EE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B3696-7D8C-4CBF-BD92-B7DF9B3A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DCECD-F047-4623-87D8-E5B8D230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19968-B84B-4C86-B7F6-72ADEAC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77C9-8064-4880-8A0E-A941B614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F3E35-5B3E-4918-828A-339BDFBF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22EC6-87EB-432A-9442-4F727891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137C2-7B7E-4C56-BB82-635B85AB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0E81E-EF8E-4B79-BAAC-304D04E3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785A7-F212-42E1-9E21-5D87AD8C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CFC5B-544C-47C8-9ED8-E784B6C6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5733C-AAC9-44BE-A20C-001A8590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83082-8C69-4D18-9E1F-7E292682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04372-A0F1-478A-9AFB-74D2B676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C2FBF-7A25-49C5-8594-A9966043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5BB3-79CC-444B-9F61-2D8FEA8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DD837-C572-4946-8E72-D390C9B9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280C9-819B-47CF-88EA-BB1E62B1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12FF7-9CB5-4ED6-8D94-C3D4CD17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1E603-78D6-4E59-9BFC-23A072B1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4F526-5F06-41F0-BCBF-B1E1180A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75450-35BA-4BE9-B17E-2FBD23ED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E7786-49B7-49E7-85FB-C5E794FC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B2507-D623-4107-811A-A972822A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BAE81-DE72-43B2-AACA-427DA856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29597-3167-4628-A8A4-C8D17244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1C2F-F2FC-4031-84BB-71FC93F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669B3-956D-492B-91DA-C21D5679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AD394-6BB3-4FEE-B749-E97A14A0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67FCB-1468-4E62-9B13-2B4B6599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92A34-A5AB-4443-9E6A-D6CC7FD8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9A4CE-8ADA-4C82-8DFA-2661F0AB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34FC4-5AB9-439B-8390-7181C8A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EB46B-2075-4FDA-AF94-79B44CE1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BDDF2-D250-4DAA-B90C-C5F55C95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AC21E-8579-4CB3-9C0C-C0409722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6408-6272-47BE-A506-403573FC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3236-EE5D-439F-8804-B542C0BE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E94F-A65E-4D5F-A451-0A90179F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5C0-065E-4A1E-94D9-8087E865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F48B-64B9-4DD9-A27C-6DC2CB7B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AFF1-1181-4EB6-9B05-D80BE27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B9EF-4400-4E38-A75C-98BF78A9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1F02-D6B2-457E-AB0F-BEDA87ED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292A-9F0A-4DDE-BA75-941553F5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D26A-19D0-451F-A6E7-6402A5C0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E352-E759-404F-8876-A066959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89B7-1616-4DA4-9FB2-FF634ABB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FFC4-0A4B-4847-B818-2B9B6C46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9E4C2-97D5-45A7-B204-36F13B72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696-52C0-4254-BAA3-325506E2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A5D3A-8266-456D-B0CF-B896157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F11B-D9FA-4F29-90C8-3CE6545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C509-13C2-4DAE-AA65-D61E5F4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F0E8-B806-402B-90B3-4ED512B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9826-B623-4E68-A0F9-0701EB96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15C3-706D-4F52-BA7B-CA46ECD0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C36C-A535-458C-BF60-95B45B75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D17AF-A0D5-4C29-94FD-B12CE0B8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C529A-496B-43E6-89B5-89004F00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CE27-8E70-4989-8EF4-7D9B58C3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E85-0EC2-407E-8F8D-E099C66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19F6-8E53-4300-A697-4D75C573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A156-9F54-48CC-ACFE-1FE38A2D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E299-19EE-4C76-BE88-1703B8A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DC5EA-344B-47A2-951C-CA085334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E4D1C-A6D0-4174-B377-1CD42BAD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DF3FF-C8CA-42CB-A2C7-FBED015B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26E9-4639-4B8B-95BA-902AC8F5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F609-F253-46E8-864B-BCA14DF6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2E2B1-F81B-4D37-AD7C-B8B7FCE8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296D7-4A0D-4088-9D1F-A885F2E5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A43-6C18-4765-85C3-86B8D484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330A6-5F79-49EE-804B-427AEC17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4158B-6EAF-4654-99A4-FA7A32B7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50E4B-9D0D-4A47-980A-09C790C4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0F3F0-7632-4C38-A5E8-F7734B62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AB97-22BD-4C5F-A899-AD1D7F3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21F7C-A7A0-49C0-BD10-5EC7DF2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D14F-9864-4BFA-8EAD-6EC4CDAE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9F8A-C554-4DDF-9986-6FD4450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287B-19BF-4C80-8A7E-2F5BFAE4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E2B9-4941-48A0-A2EB-41023C5D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BB6-5831-4F6B-A154-5CC523BE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C404-478F-4E0A-8FC4-7E94303A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FC144-94CF-4943-86C0-F4A5C7B3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CCCDF-BC96-4116-8D1F-9C97B555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2798-A34F-4397-B987-19FD9B01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F7D04-5BB5-4325-962E-6A767991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6EA52-44ED-4983-B6F9-01A7938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45B93-FADE-4882-93AA-6DAC660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26BFB-1F3E-4B4B-A513-DB63BE51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2A8AA-D623-4BAE-B906-B8555F0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C207-C306-4619-859E-EA17FB45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D40-56E6-43F1-8801-F01C1E67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3293B-D3F3-4D41-A9E4-0F500E9B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0C163-0D91-4475-B123-5B271A45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0409-9D21-4887-9D9C-3FA63C35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2CDED-B705-460F-B74C-BD7C56BE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ECBA5-E1A1-4B2B-81E4-8A965872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5E874-157C-4025-B5AB-5095871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C818A-EF49-4F7D-B700-F0C865E5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4856C-EB9B-425B-9228-A54E1850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7793E-7F5C-42DC-B33D-5D247C9F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DA7E9-3BB9-4686-B672-2A7F5C5A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5AE-0164-4F45-B1F2-AEF5772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9BC0-D7F1-47FE-BF47-BA0FABA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18E71-B695-4394-89FC-E2AD755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E255-227B-4429-9A6F-91D6F03C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8747F-F47E-4DAF-9D5A-661301C1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FAE99-0DE2-4C47-8655-FBC5F2C7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BB656-3A9E-4043-9F26-A315408D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94BA5-2B60-4D78-BC3B-61A5FED7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48A67-B5FF-488A-9C9F-596D4C1A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02767-DD6F-4A4D-9334-6DE16518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8E1B4-2AEA-46B0-853E-D97CB17C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77B-06DC-41FD-A871-F988EDB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E6121-ED84-4D44-BF89-E32327E6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61E27-7BCF-4805-AD4A-49E990E5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774CD-8437-4F0F-B703-04E3A7F2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8B211-DFB6-4273-A7B8-3F2F1109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1E0CF-4237-48D1-87DE-731C958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9967-29C5-497D-9757-8CB3FD99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77FD3-0AF0-4367-A685-95CA01E7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F36D4-D85A-4B72-80E2-4E6C0925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AC0FE-02FC-4B51-86D7-AAA5B5E4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192C0-5DDA-4774-8AED-ED1FF3DF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AABC-5EB3-4AA0-A78B-1C9AFD6E2B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9D12-126A-41B1-B45B-43E11635CE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35FC-4263-4432-B61E-6F75E90AAC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6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8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9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21A6-B049-4956-8646-957C1D6FC4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6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3EEA-6863-4568-962C-7F964E5F16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5C7B-EDC2-4047-8A71-D6A9A32DF0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98F7-7B1B-4E2E-9B90-84B6903FB75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D469-AC33-4510-9E72-F125B7D48E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7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150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52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64BF-6BA5-472F-85D3-22A254B032D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45FF-20B6-4FA6-889E-497B0C0AA7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47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B1D3-412D-46D0-8C5E-4915C59891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46BA-4C0E-44AA-BDA8-5031E40DB5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5957-3E55-4E7F-B911-13D2A741D2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1404-C25D-4C67-B210-971467A5DD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7.gi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image" Target="../media/image31.gif"/><Relationship Id="rId12" Type="http://schemas.openxmlformats.org/officeDocument/2006/relationships/image" Target="../media/image32.gi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2.gif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image" Target="../media/image32.gi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2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34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image" Target="../media/image32.gif"/><Relationship Id="rId11" Type="http://schemas.openxmlformats.org/officeDocument/2006/relationships/image" Target="../media/image35.gif"/><Relationship Id="rId12" Type="http://schemas.openxmlformats.org/officeDocument/2006/relationships/image" Target="../media/image12.gif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09_200825"/>
          <p:cNvPicPr/>
          <p:nvPr/>
        </p:nvPicPr>
        <p:blipFill>
          <a:blip r:embed="rId1"/>
          <a:stretch/>
        </p:blipFill>
        <p:spPr>
          <a:xfrm>
            <a:off x="111240" y="184320"/>
            <a:ext cx="8785080" cy="659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119"/>
          <p:cNvPicPr/>
          <p:nvPr/>
        </p:nvPicPr>
        <p:blipFill>
          <a:blip r:embed="rId2"/>
          <a:stretch/>
        </p:blipFill>
        <p:spPr>
          <a:xfrm>
            <a:off x="247680" y="200160"/>
            <a:ext cx="1028520" cy="1528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119"/>
          <p:cNvPicPr/>
          <p:nvPr/>
        </p:nvPicPr>
        <p:blipFill>
          <a:blip r:embed="rId3"/>
          <a:stretch/>
        </p:blipFill>
        <p:spPr>
          <a:xfrm>
            <a:off x="6443640" y="1484280"/>
            <a:ext cx="1441440" cy="15289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119"/>
          <p:cNvPicPr/>
          <p:nvPr/>
        </p:nvPicPr>
        <p:blipFill>
          <a:blip r:embed="rId4"/>
          <a:stretch/>
        </p:blipFill>
        <p:spPr>
          <a:xfrm>
            <a:off x="1403280" y="4437000"/>
            <a:ext cx="1028880" cy="15289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119"/>
          <p:cNvPicPr/>
          <p:nvPr/>
        </p:nvPicPr>
        <p:blipFill>
          <a:blip r:embed="rId5"/>
          <a:stretch/>
        </p:blipFill>
        <p:spPr>
          <a:xfrm>
            <a:off x="7308720" y="2421000"/>
            <a:ext cx="1747800" cy="15285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119"/>
          <p:cNvPicPr/>
          <p:nvPr/>
        </p:nvPicPr>
        <p:blipFill>
          <a:blip r:embed="rId6"/>
          <a:stretch/>
        </p:blipFill>
        <p:spPr>
          <a:xfrm>
            <a:off x="7740720" y="4149720"/>
            <a:ext cx="1028520" cy="15289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4" descr="119"/>
          <p:cNvPicPr/>
          <p:nvPr/>
        </p:nvPicPr>
        <p:blipFill>
          <a:blip r:embed="rId7"/>
          <a:stretch/>
        </p:blipFill>
        <p:spPr>
          <a:xfrm>
            <a:off x="6372360" y="2997360"/>
            <a:ext cx="1028520" cy="15285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49b"/>
          <p:cNvPicPr/>
          <p:nvPr/>
        </p:nvPicPr>
        <p:blipFill>
          <a:blip r:embed="rId8"/>
          <a:stretch/>
        </p:blipFill>
        <p:spPr>
          <a:xfrm>
            <a:off x="0" y="2997360"/>
            <a:ext cx="8924760" cy="38606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8" descr="Русский космонавт"/>
          <p:cNvPicPr/>
          <p:nvPr/>
        </p:nvPicPr>
        <p:blipFill>
          <a:blip r:embed="rId9"/>
          <a:stretch/>
        </p:blipFill>
        <p:spPr>
          <a:xfrm>
            <a:off x="4716360" y="1833480"/>
            <a:ext cx="1943280" cy="2678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9" descr="Ракета 4"/>
          <p:cNvPicPr/>
          <p:nvPr/>
        </p:nvPicPr>
        <p:blipFill>
          <a:blip r:embed="rId10"/>
          <a:stretch/>
        </p:blipFill>
        <p:spPr>
          <a:xfrm>
            <a:off x="1382760" y="1020600"/>
            <a:ext cx="3079800" cy="2775240"/>
          </a:xfrm>
          <a:prstGeom prst="rect">
            <a:avLst/>
          </a:prstGeom>
          <a:ln w="0">
            <a:noFill/>
          </a:ln>
        </p:spPr>
      </p:pic>
      <p:pic>
        <p:nvPicPr>
          <p:cNvPr id="673" name="Прямоугольник 2" descr=""/>
          <p:cNvPicPr/>
          <p:nvPr/>
        </p:nvPicPr>
        <p:blipFill>
          <a:blip r:embed="rId11"/>
          <a:stretch/>
        </p:blipFill>
        <p:spPr>
          <a:xfrm>
            <a:off x="-19080" y="19080"/>
            <a:ext cx="9066240" cy="1359000"/>
          </a:xfrm>
          <a:prstGeom prst="rect">
            <a:avLst/>
          </a:prstGeom>
          <a:ln w="0">
            <a:noFill/>
          </a:ln>
        </p:spPr>
      </p:pic>
      <p:sp>
        <p:nvSpPr>
          <p:cNvPr id="674" name="TextBox 3"/>
          <p:cNvSpPr/>
          <p:nvPr/>
        </p:nvSpPr>
        <p:spPr>
          <a:xfrm>
            <a:off x="42120" y="3760920"/>
            <a:ext cx="4819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станем мы тихонечк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разу успокоим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а хорошую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Мы сейчас настроим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1" descr="D:\old\Мои документы\Мои рисунки\Анимация\выпуск1\звездочки\zvezdochki-9.gif"/>
          <p:cNvPicPr/>
          <p:nvPr/>
        </p:nvPicPr>
        <p:blipFill>
          <a:blip r:embed="rId12"/>
          <a:stretch/>
        </p:blipFill>
        <p:spPr>
          <a:xfrm flipH="1" rot="10800000">
            <a:off x="0" y="626256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" descr="D:\old\Мои документы\Мои рисунки\Анимация\выпуск1\звездочки\zvezdochki-9.gif"/>
          <p:cNvPicPr/>
          <p:nvPr/>
        </p:nvPicPr>
        <p:blipFill>
          <a:blip r:embed="rId13"/>
          <a:stretch/>
        </p:blipFill>
        <p:spPr>
          <a:xfrm flipH="1" rot="10800000">
            <a:off x="-54000" y="-6192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2" descr="119"/>
          <p:cNvPicPr/>
          <p:nvPr/>
        </p:nvPicPr>
        <p:blipFill>
          <a:blip r:embed="rId14"/>
          <a:stretch/>
        </p:blipFill>
        <p:spPr>
          <a:xfrm>
            <a:off x="7524720" y="1468440"/>
            <a:ext cx="17478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D:\old\Мои документы\Мои рисунки\Анимация\выпуск1\Фон\backgrounds_00038.gif"/>
          <p:cNvPicPr/>
          <p:nvPr/>
        </p:nvPicPr>
        <p:blipFill>
          <a:blip r:embed="rId1"/>
          <a:stretch/>
        </p:blipFill>
        <p:spPr>
          <a:xfrm>
            <a:off x="15840" y="-9684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767" name="WordArt 4"/>
          <p:cNvSpPr txBox="1"/>
          <p:nvPr/>
        </p:nvSpPr>
        <p:spPr>
          <a:xfrm>
            <a:off x="3510000" y="1697040"/>
            <a:ext cx="279072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21de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</a:t>
            </a:r>
            <a:endParaRPr b="1" lang="en-US" sz="4400" spc="1" strike="noStrike">
              <a:ln w="0">
                <a:noFill/>
              </a:ln>
              <a:solidFill>
                <a:srgbClr val="021de8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8" name="WordArt 3"/>
          <p:cNvSpPr txBox="1"/>
          <p:nvPr/>
        </p:nvSpPr>
        <p:spPr>
          <a:xfrm>
            <a:off x="2824200" y="2435400"/>
            <a:ext cx="34956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9" name="TextBox 1"/>
          <p:cNvSpPr/>
          <p:nvPr/>
        </p:nvSpPr>
        <p:spPr>
          <a:xfrm>
            <a:off x="2824200" y="479736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Прямоугольник 8"/>
          <p:cNvSpPr/>
          <p:nvPr/>
        </p:nvSpPr>
        <p:spPr>
          <a:xfrm>
            <a:off x="2559240" y="4680"/>
            <a:ext cx="453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ешай-ка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7" descr="black43"/>
          <p:cNvPicPr/>
          <p:nvPr/>
        </p:nvPicPr>
        <p:blipFill>
          <a:blip r:embed="rId3"/>
          <a:stretch/>
        </p:blipFill>
        <p:spPr>
          <a:xfrm>
            <a:off x="0" y="331632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8" descr="black43"/>
          <p:cNvPicPr/>
          <p:nvPr/>
        </p:nvPicPr>
        <p:blipFill>
          <a:blip r:embed="rId4"/>
          <a:stretch/>
        </p:blipFill>
        <p:spPr>
          <a:xfrm>
            <a:off x="4503600" y="3290760"/>
            <a:ext cx="4788000" cy="3557880"/>
          </a:xfrm>
          <a:prstGeom prst="rect">
            <a:avLst/>
          </a:prstGeom>
          <a:ln w="0">
            <a:noFill/>
          </a:ln>
        </p:spPr>
      </p:pic>
      <p:sp>
        <p:nvSpPr>
          <p:cNvPr id="775" name="AutoShape 10"/>
          <p:cNvSpPr/>
          <p:nvPr/>
        </p:nvSpPr>
        <p:spPr>
          <a:xfrm rot="19146000">
            <a:off x="6964200" y="4603320"/>
            <a:ext cx="1735200" cy="2157480"/>
          </a:xfrm>
          <a:custGeom>
            <a:avLst/>
            <a:gdLst>
              <a:gd name="textAreaLeft" fmla="*/ 726480 w 1735200"/>
              <a:gd name="textAreaRight" fmla="*/ 1008720 w 1735200"/>
              <a:gd name="textAreaTop" fmla="*/ 903600 h 2157480"/>
              <a:gd name="textAreaBottom" fmla="*/ 125388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AutoShape 9"/>
          <p:cNvSpPr/>
          <p:nvPr/>
        </p:nvSpPr>
        <p:spPr>
          <a:xfrm>
            <a:off x="225360" y="5521320"/>
            <a:ext cx="1106640" cy="1173240"/>
          </a:xfrm>
          <a:custGeom>
            <a:avLst/>
            <a:gdLst>
              <a:gd name="textAreaLeft" fmla="*/ 463320 w 1106640"/>
              <a:gd name="textAreaRight" fmla="*/ 643320 w 1106640"/>
              <a:gd name="textAreaTop" fmla="*/ 491400 h 1173240"/>
              <a:gd name="textAreaBottom" fmla="*/ 68184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AutoShape 11"/>
          <p:cNvSpPr/>
          <p:nvPr/>
        </p:nvSpPr>
        <p:spPr>
          <a:xfrm rot="19871400">
            <a:off x="7107120" y="1349280"/>
            <a:ext cx="922320" cy="757440"/>
          </a:xfrm>
          <a:custGeom>
            <a:avLst/>
            <a:gdLst/>
            <a:ahLst/>
            <a:rect l="l" t="t" r="r" b="b"/>
            <a:pathLst>
              <a:path w="922337" h="757238">
                <a:moveTo>
                  <a:pt x="1" y="289238"/>
                </a:moveTo>
                <a:lnTo>
                  <a:pt x="352303" y="289240"/>
                </a:lnTo>
                <a:lnTo>
                  <a:pt x="461169" y="0"/>
                </a:lnTo>
                <a:lnTo>
                  <a:pt x="570034" y="289240"/>
                </a:lnTo>
                <a:lnTo>
                  <a:pt x="922336" y="289238"/>
                </a:lnTo>
                <a:lnTo>
                  <a:pt x="637316" y="467997"/>
                </a:lnTo>
                <a:lnTo>
                  <a:pt x="746186" y="757236"/>
                </a:lnTo>
                <a:lnTo>
                  <a:pt x="461169" y="578474"/>
                </a:lnTo>
                <a:lnTo>
                  <a:pt x="176151" y="757236"/>
                </a:lnTo>
                <a:lnTo>
                  <a:pt x="285021" y="467997"/>
                </a:lnTo>
                <a:lnTo>
                  <a:pt x="1" y="28923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780" name="AutoShape 15"/>
          <p:cNvSpPr/>
          <p:nvPr/>
        </p:nvSpPr>
        <p:spPr>
          <a:xfrm>
            <a:off x="1042920" y="5013360"/>
            <a:ext cx="576360" cy="647640"/>
          </a:xfrm>
          <a:custGeom>
            <a:avLst/>
            <a:gdLst/>
            <a:ahLst/>
            <a:rect l="l" t="t" r="r" b="b"/>
            <a:pathLst>
              <a:path w="576262" h="647700">
                <a:moveTo>
                  <a:pt x="1" y="247399"/>
                </a:moveTo>
                <a:lnTo>
                  <a:pt x="220114" y="247400"/>
                </a:lnTo>
                <a:lnTo>
                  <a:pt x="288131" y="0"/>
                </a:lnTo>
                <a:lnTo>
                  <a:pt x="356148" y="247400"/>
                </a:lnTo>
                <a:lnTo>
                  <a:pt x="576261" y="247399"/>
                </a:lnTo>
                <a:lnTo>
                  <a:pt x="398185" y="400299"/>
                </a:lnTo>
                <a:lnTo>
                  <a:pt x="466205" y="647698"/>
                </a:lnTo>
                <a:lnTo>
                  <a:pt x="288131" y="494795"/>
                </a:lnTo>
                <a:lnTo>
                  <a:pt x="110057" y="647698"/>
                </a:lnTo>
                <a:lnTo>
                  <a:pt x="178077" y="400299"/>
                </a:lnTo>
                <a:lnTo>
                  <a:pt x="1" y="24739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7"/>
          <p:cNvSpPr/>
          <p:nvPr/>
        </p:nvSpPr>
        <p:spPr>
          <a:xfrm>
            <a:off x="3592440" y="541440"/>
            <a:ext cx="611280" cy="539640"/>
          </a:xfrm>
          <a:custGeom>
            <a:avLst/>
            <a:gdLst/>
            <a:ahLst/>
            <a:rect l="l" t="t" r="r" b="b"/>
            <a:pathLst>
              <a:path w="611187" h="539750">
                <a:moveTo>
                  <a:pt x="1" y="206166"/>
                </a:moveTo>
                <a:lnTo>
                  <a:pt x="233454" y="206167"/>
                </a:lnTo>
                <a:lnTo>
                  <a:pt x="305594" y="0"/>
                </a:lnTo>
                <a:lnTo>
                  <a:pt x="377733" y="206167"/>
                </a:lnTo>
                <a:lnTo>
                  <a:pt x="611186" y="206166"/>
                </a:lnTo>
                <a:lnTo>
                  <a:pt x="422318" y="333582"/>
                </a:lnTo>
                <a:lnTo>
                  <a:pt x="494460" y="539749"/>
                </a:lnTo>
                <a:lnTo>
                  <a:pt x="305594" y="412329"/>
                </a:lnTo>
                <a:lnTo>
                  <a:pt x="116727" y="539749"/>
                </a:lnTo>
                <a:lnTo>
                  <a:pt x="188869" y="333582"/>
                </a:lnTo>
                <a:lnTo>
                  <a:pt x="1" y="206166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8"/>
          <p:cNvSpPr/>
          <p:nvPr/>
        </p:nvSpPr>
        <p:spPr>
          <a:xfrm flipV="1" rot="19975800">
            <a:off x="7621560" y="288000"/>
            <a:ext cx="625680" cy="774720"/>
          </a:xfrm>
          <a:custGeom>
            <a:avLst/>
            <a:gdLst/>
            <a:ahLst/>
            <a:rect l="l" t="t" r="r" b="b"/>
            <a:pathLst>
              <a:path w="625475" h="774700">
                <a:moveTo>
                  <a:pt x="1" y="295908"/>
                </a:moveTo>
                <a:lnTo>
                  <a:pt x="238912" y="295910"/>
                </a:lnTo>
                <a:lnTo>
                  <a:pt x="312738" y="0"/>
                </a:lnTo>
                <a:lnTo>
                  <a:pt x="386563" y="295910"/>
                </a:lnTo>
                <a:lnTo>
                  <a:pt x="625474" y="295908"/>
                </a:lnTo>
                <a:lnTo>
                  <a:pt x="432190" y="478789"/>
                </a:lnTo>
                <a:lnTo>
                  <a:pt x="506019" y="774698"/>
                </a:lnTo>
                <a:lnTo>
                  <a:pt x="312738" y="591814"/>
                </a:lnTo>
                <a:lnTo>
                  <a:pt x="119456" y="774698"/>
                </a:lnTo>
                <a:lnTo>
                  <a:pt x="193285" y="478789"/>
                </a:lnTo>
                <a:lnTo>
                  <a:pt x="1" y="295908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9"/>
          <p:cNvSpPr/>
          <p:nvPr/>
        </p:nvSpPr>
        <p:spPr>
          <a:xfrm rot="19975200">
            <a:off x="627120" y="787320"/>
            <a:ext cx="1046160" cy="627120"/>
          </a:xfrm>
          <a:custGeom>
            <a:avLst/>
            <a:gdLst/>
            <a:ahLst/>
            <a:rect l="l" t="t" r="r" b="b"/>
            <a:pathLst>
              <a:path w="1046162" h="627063">
                <a:moveTo>
                  <a:pt x="1" y="239516"/>
                </a:moveTo>
                <a:lnTo>
                  <a:pt x="399601" y="239518"/>
                </a:lnTo>
                <a:lnTo>
                  <a:pt x="523081" y="0"/>
                </a:lnTo>
                <a:lnTo>
                  <a:pt x="646561" y="239518"/>
                </a:lnTo>
                <a:lnTo>
                  <a:pt x="1046161" y="239516"/>
                </a:lnTo>
                <a:lnTo>
                  <a:pt x="722877" y="387545"/>
                </a:lnTo>
                <a:lnTo>
                  <a:pt x="846362" y="627061"/>
                </a:lnTo>
                <a:lnTo>
                  <a:pt x="523081" y="479030"/>
                </a:lnTo>
                <a:lnTo>
                  <a:pt x="199800" y="627061"/>
                </a:lnTo>
                <a:lnTo>
                  <a:pt x="323285" y="387545"/>
                </a:lnTo>
                <a:lnTo>
                  <a:pt x="1" y="23951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AutoShape 20"/>
          <p:cNvSpPr/>
          <p:nvPr/>
        </p:nvSpPr>
        <p:spPr>
          <a:xfrm rot="19975200">
            <a:off x="1924200" y="5389200"/>
            <a:ext cx="1062000" cy="1114560"/>
          </a:xfrm>
          <a:custGeom>
            <a:avLst/>
            <a:gdLst/>
            <a:ahLst/>
            <a:rect l="l" t="t" r="r" b="b"/>
            <a:pathLst>
              <a:path w="1062038" h="1114425">
                <a:moveTo>
                  <a:pt x="1" y="425671"/>
                </a:moveTo>
                <a:lnTo>
                  <a:pt x="405665" y="425674"/>
                </a:lnTo>
                <a:lnTo>
                  <a:pt x="531019" y="0"/>
                </a:lnTo>
                <a:lnTo>
                  <a:pt x="656373" y="425674"/>
                </a:lnTo>
                <a:lnTo>
                  <a:pt x="1062037" y="425671"/>
                </a:lnTo>
                <a:lnTo>
                  <a:pt x="733847" y="688750"/>
                </a:lnTo>
                <a:lnTo>
                  <a:pt x="859206" y="1114422"/>
                </a:lnTo>
                <a:lnTo>
                  <a:pt x="531019" y="851339"/>
                </a:lnTo>
                <a:lnTo>
                  <a:pt x="202832" y="1114422"/>
                </a:lnTo>
                <a:lnTo>
                  <a:pt x="328191" y="688750"/>
                </a:lnTo>
                <a:lnTo>
                  <a:pt x="1" y="425671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Picture 21" descr="earth"/>
          <p:cNvPicPr/>
          <p:nvPr/>
        </p:nvPicPr>
        <p:blipFill>
          <a:blip r:embed="rId7"/>
          <a:stretch/>
        </p:blipFill>
        <p:spPr>
          <a:xfrm>
            <a:off x="6012000" y="3865680"/>
            <a:ext cx="2935080" cy="293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2" descr="42"/>
          <p:cNvPicPr/>
          <p:nvPr/>
        </p:nvPicPr>
        <p:blipFill>
          <a:blip r:embed="rId8"/>
          <a:stretch/>
        </p:blipFill>
        <p:spPr>
          <a:xfrm>
            <a:off x="3502080" y="4221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3" descr="mars"/>
          <p:cNvPicPr/>
          <p:nvPr/>
        </p:nvPicPr>
        <p:blipFill>
          <a:blip r:embed="rId9"/>
          <a:stretch/>
        </p:blipFill>
        <p:spPr>
          <a:xfrm>
            <a:off x="1757520" y="12952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4" descr="112"/>
          <p:cNvPicPr/>
          <p:nvPr/>
        </p:nvPicPr>
        <p:blipFill>
          <a:blip r:embed="rId10"/>
          <a:stretch/>
        </p:blipFill>
        <p:spPr>
          <a:xfrm>
            <a:off x="6192720" y="7081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3" descr="56r2"/>
          <p:cNvPicPr/>
          <p:nvPr/>
        </p:nvPicPr>
        <p:blipFill>
          <a:blip r:embed="rId12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9" descr="Ракета 4"/>
          <p:cNvPicPr/>
          <p:nvPr/>
        </p:nvPicPr>
        <p:blipFill>
          <a:blip r:embed="rId13"/>
          <a:stretch/>
        </p:blipFill>
        <p:spPr>
          <a:xfrm rot="4138800">
            <a:off x="3017520" y="230040"/>
            <a:ext cx="3079800" cy="2774880"/>
          </a:xfrm>
          <a:prstGeom prst="rect">
            <a:avLst/>
          </a:prstGeom>
          <a:ln w="0">
            <a:noFill/>
          </a:ln>
        </p:spPr>
      </p:pic>
      <p:sp>
        <p:nvSpPr>
          <p:cNvPr id="792" name="TextBox 1"/>
          <p:cNvSpPr/>
          <p:nvPr/>
        </p:nvSpPr>
        <p:spPr>
          <a:xfrm>
            <a:off x="-6480" y="2502000"/>
            <a:ext cx="912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полёта возвратились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на Землю приземлились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74" dur="3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3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9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300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3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0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3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4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462" dur="30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1500"/>
                            </p:stCondLst>
                            <p:childTnLst>
                              <p:par>
                                <p:cTn id="4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7" dur="2000" fill="hold"/>
                                        <p:tgtEl>
                                          <p:spTgt spid="7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4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4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Прямоугольник 3"/>
          <p:cNvSpPr/>
          <p:nvPr/>
        </p:nvSpPr>
        <p:spPr>
          <a:xfrm>
            <a:off x="2268360" y="1100160"/>
            <a:ext cx="502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узнал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удивился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6877080" y="3962520"/>
            <a:ext cx="1925640" cy="26938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3" descr=""/>
          <p:cNvPicPr/>
          <p:nvPr/>
        </p:nvPicPr>
        <p:blipFill>
          <a:blip r:embed="rId2"/>
          <a:stretch/>
        </p:blipFill>
        <p:spPr>
          <a:xfrm rot="21417000">
            <a:off x="-17280" y="2458800"/>
            <a:ext cx="2381400" cy="42098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4" descr=""/>
          <p:cNvPicPr/>
          <p:nvPr/>
        </p:nvPicPr>
        <p:blipFill>
          <a:blip r:embed="rId3"/>
          <a:stretch/>
        </p:blipFill>
        <p:spPr>
          <a:xfrm>
            <a:off x="3919680" y="4979880"/>
            <a:ext cx="1353960" cy="175752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" descr="D:\old\Мои документы\Мои рисунки\Анимация\выпуск1\звездочки\zvezdochki-9.gif"/>
          <p:cNvPicPr/>
          <p:nvPr/>
        </p:nvPicPr>
        <p:blipFill>
          <a:blip r:embed="rId4"/>
          <a:stretch/>
        </p:blipFill>
        <p:spPr>
          <a:xfrm flipH="1" rot="10800000">
            <a:off x="0" y="626256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" descr="D:\old\Мои документы\Мои рисунки\Анимация\выпуск1\звездочки\zvezdochki-9.gif"/>
          <p:cNvPicPr/>
          <p:nvPr/>
        </p:nvPicPr>
        <p:blipFill>
          <a:blip r:embed="rId5"/>
          <a:stretch/>
        </p:blipFill>
        <p:spPr>
          <a:xfrm flipH="1" rot="10800000">
            <a:off x="-127080" y="50400"/>
            <a:ext cx="914400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79" name="Рисунок 3" descr="1254227919_black0000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"/>
          <p:cNvPicPr/>
          <p:nvPr/>
        </p:nvPicPr>
        <p:blipFill>
          <a:blip r:embed="rId2"/>
          <a:stretch/>
        </p:blipFill>
        <p:spPr>
          <a:xfrm rot="227400">
            <a:off x="6537240" y="2441160"/>
            <a:ext cx="2381400" cy="42102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4" descr=""/>
          <p:cNvPicPr/>
          <p:nvPr/>
        </p:nvPicPr>
        <p:blipFill>
          <a:blip r:embed="rId3"/>
          <a:stretch/>
        </p:blipFill>
        <p:spPr>
          <a:xfrm rot="20883000">
            <a:off x="166680" y="4846320"/>
            <a:ext cx="1354320" cy="17571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0" descr="D:\old\Мои документы\Мои рисунки\Анимация\выпуск1\звездочки\zvezdochki-42.gif"/>
          <p:cNvPicPr/>
          <p:nvPr/>
        </p:nvPicPr>
        <p:blipFill>
          <a:blip r:embed="rId4"/>
          <a:stretch/>
        </p:blipFill>
        <p:spPr>
          <a:xfrm>
            <a:off x="6000840" y="342900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3" descr="D:\old\Мои документы\Мои рисунки\Анимация\выпуск1\звездочки\zvezdochki-56.gif"/>
          <p:cNvPicPr/>
          <p:nvPr/>
        </p:nvPicPr>
        <p:blipFill>
          <a:blip r:embed="rId5"/>
          <a:stretch/>
        </p:blipFill>
        <p:spPr>
          <a:xfrm>
            <a:off x="6838920" y="1413000"/>
            <a:ext cx="2305080" cy="1090440"/>
          </a:xfrm>
          <a:prstGeom prst="rect">
            <a:avLst/>
          </a:prstGeom>
          <a:ln w="0">
            <a:noFill/>
          </a:ln>
        </p:spPr>
      </p:pic>
      <p:sp>
        <p:nvSpPr>
          <p:cNvPr id="684" name="TextBox 1"/>
          <p:cNvSpPr/>
          <p:nvPr/>
        </p:nvSpPr>
        <p:spPr>
          <a:xfrm>
            <a:off x="1506600" y="476280"/>
            <a:ext cx="5297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Цамба-дамба, гребешок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Жаб зелененьких мешок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Кроли-троли-пампуроли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Без горчицы и без соли.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Поколдую, пошепчу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Посолю да поперчу!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Я подую, поколдую,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Сделай все, что захочу!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Сделай так, чтоб сразу мне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Очутиться ну Луне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4" descr="D:\old\Мои документы\Мои рисунки\Анимация\выпуск1\звездочки\zvezdochki-39.gif"/>
          <p:cNvPicPr/>
          <p:nvPr/>
        </p:nvPicPr>
        <p:blipFill>
          <a:blip r:embed="rId6"/>
          <a:stretch/>
        </p:blipFill>
        <p:spPr>
          <a:xfrm rot="10416000">
            <a:off x="6787440" y="189720"/>
            <a:ext cx="2143080" cy="14763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D:\old\Мои документы\Мои рисунки\Анимация\выпуск1\звездочки\zvezdochki-39.gif"/>
          <p:cNvPicPr/>
          <p:nvPr/>
        </p:nvPicPr>
        <p:blipFill>
          <a:blip r:embed="rId7"/>
          <a:stretch/>
        </p:blipFill>
        <p:spPr>
          <a:xfrm flipH="1" rot="10416000">
            <a:off x="331560" y="122400"/>
            <a:ext cx="1023840" cy="1476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D:\old\Мои документы\Мои рисунки\Анимация\выпуск1\звездочки\zvezdochki-56.gif"/>
          <p:cNvPicPr/>
          <p:nvPr/>
        </p:nvPicPr>
        <p:blipFill>
          <a:blip r:embed="rId8"/>
          <a:stretch/>
        </p:blipFill>
        <p:spPr>
          <a:xfrm>
            <a:off x="1442880" y="5624640"/>
            <a:ext cx="1800360" cy="10904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" descr="D:\old\Мои документы\Мои рисунки\Анимация\выпуск1\звездочки\zvezdochki-56.gif"/>
          <p:cNvPicPr/>
          <p:nvPr/>
        </p:nvPicPr>
        <p:blipFill>
          <a:blip r:embed="rId9"/>
          <a:stretch/>
        </p:blipFill>
        <p:spPr>
          <a:xfrm>
            <a:off x="468360" y="2382840"/>
            <a:ext cx="1527120" cy="10904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D:\old\Мои документы\Мои рисунки\Анимация\выпуск1\звездочки\zvezdochki-39.gif"/>
          <p:cNvPicPr/>
          <p:nvPr/>
        </p:nvPicPr>
        <p:blipFill>
          <a:blip r:embed="rId10"/>
          <a:stretch/>
        </p:blipFill>
        <p:spPr>
          <a:xfrm rot="10416000">
            <a:off x="6474600" y="2451960"/>
            <a:ext cx="2143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Заголовок 1" descr=""/>
          <p:cNvPicPr/>
          <p:nvPr/>
        </p:nvPicPr>
        <p:blipFill>
          <a:blip r:embed="rId1"/>
          <a:stretch/>
        </p:blipFill>
        <p:spPr>
          <a:xfrm>
            <a:off x="441360" y="4284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691" name="Прямоугольник 4"/>
          <p:cNvSpPr/>
          <p:nvPr/>
        </p:nvSpPr>
        <p:spPr>
          <a:xfrm>
            <a:off x="4229280" y="1133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 1960 году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Юрий Гагарин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 начал готовиться к полету в космос. Работал упорно, самозабвенно, с полной отдачей си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Прямоугольник 5"/>
          <p:cNvSpPr/>
          <p:nvPr/>
        </p:nvSpPr>
        <p:spPr>
          <a:xfrm>
            <a:off x="214200" y="507204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2 апреля 1961 года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в момент старта, прозвучало его знаменитое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«Поехали»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7" descr="52"/>
          <p:cNvPicPr/>
          <p:nvPr/>
        </p:nvPicPr>
        <p:blipFill>
          <a:blip r:embed="rId2"/>
          <a:stretch/>
        </p:blipFill>
        <p:spPr>
          <a:xfrm>
            <a:off x="4430880" y="3068640"/>
            <a:ext cx="4370400" cy="3505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1" descr="000416"/>
          <p:cNvPicPr/>
          <p:nvPr/>
        </p:nvPicPr>
        <p:blipFill>
          <a:blip r:embed="rId3"/>
          <a:stretch/>
        </p:blipFill>
        <p:spPr>
          <a:xfrm>
            <a:off x="596880" y="1225440"/>
            <a:ext cx="310356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4" descr="D:\old\Мои документы\Мои рисунки\Анимация\выпуск1\звездочки\zvezdochki-43.gif"/>
          <p:cNvPicPr/>
          <p:nvPr/>
        </p:nvPicPr>
        <p:blipFill>
          <a:blip r:embed="rId1"/>
          <a:stretch/>
        </p:blipFill>
        <p:spPr>
          <a:xfrm>
            <a:off x="38160" y="6070680"/>
            <a:ext cx="685800" cy="635040"/>
          </a:xfrm>
          <a:prstGeom prst="rect">
            <a:avLst/>
          </a:prstGeom>
          <a:ln w="0">
            <a:noFill/>
          </a:ln>
        </p:spPr>
      </p:pic>
      <p:sp>
        <p:nvSpPr>
          <p:cNvPr id="696" name="Заголовок 1"/>
          <p:cNvSpPr/>
          <p:nvPr/>
        </p:nvSpPr>
        <p:spPr>
          <a:xfrm>
            <a:off x="34920" y="13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b0f0"/>
                </a:solidFill>
                <a:latin typeface="Cambria"/>
              </a:rPr>
              <a:t>Логические концовк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Box 8"/>
          <p:cNvSpPr/>
          <p:nvPr/>
        </p:nvSpPr>
        <p:spPr>
          <a:xfrm>
            <a:off x="816120" y="138276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1. Если стол выше стула, то стул 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9"/>
          <p:cNvSpPr/>
          <p:nvPr/>
        </p:nvSpPr>
        <p:spPr>
          <a:xfrm>
            <a:off x="816120" y="234936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2. Если двое больше одного, то один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10"/>
          <p:cNvSpPr/>
          <p:nvPr/>
        </p:nvSpPr>
        <p:spPr>
          <a:xfrm>
            <a:off x="781200" y="3141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3. Если Саша вышел из дома раньше Сережи, то Сереж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11"/>
          <p:cNvSpPr/>
          <p:nvPr/>
        </p:nvSpPr>
        <p:spPr>
          <a:xfrm>
            <a:off x="762120" y="45813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4. Если река глубже ручейка, то ручеек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12"/>
          <p:cNvSpPr/>
          <p:nvPr/>
        </p:nvSpPr>
        <p:spPr>
          <a:xfrm>
            <a:off x="739800" y="5473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5. Если сестра младше брата, то брат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8" descr="митмитьи"/>
          <p:cNvPicPr/>
          <p:nvPr/>
        </p:nvPicPr>
        <p:blipFill>
          <a:blip r:embed="rId2"/>
          <a:stretch/>
        </p:blipFill>
        <p:spPr>
          <a:xfrm>
            <a:off x="7802640" y="79200"/>
            <a:ext cx="12016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6" descr="119"/>
          <p:cNvPicPr/>
          <p:nvPr/>
        </p:nvPicPr>
        <p:blipFill>
          <a:blip r:embed="rId1"/>
          <a:stretch/>
        </p:blipFill>
        <p:spPr>
          <a:xfrm>
            <a:off x="7451640" y="476280"/>
            <a:ext cx="1389240" cy="15285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119"/>
          <p:cNvPicPr/>
          <p:nvPr/>
        </p:nvPicPr>
        <p:blipFill>
          <a:blip r:embed="rId2"/>
          <a:stretch/>
        </p:blipFill>
        <p:spPr>
          <a:xfrm>
            <a:off x="324000" y="692280"/>
            <a:ext cx="1460520" cy="15285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" descr="119"/>
          <p:cNvPicPr/>
          <p:nvPr/>
        </p:nvPicPr>
        <p:blipFill>
          <a:blip r:embed="rId3"/>
          <a:stretch/>
        </p:blipFill>
        <p:spPr>
          <a:xfrm>
            <a:off x="7164360" y="3284640"/>
            <a:ext cx="1676520" cy="1528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9" descr="119"/>
          <p:cNvPicPr/>
          <p:nvPr/>
        </p:nvPicPr>
        <p:blipFill>
          <a:blip r:embed="rId4"/>
          <a:stretch/>
        </p:blipFill>
        <p:spPr>
          <a:xfrm>
            <a:off x="3492360" y="836640"/>
            <a:ext cx="1028880" cy="1528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0" descr="119"/>
          <p:cNvPicPr/>
          <p:nvPr/>
        </p:nvPicPr>
        <p:blipFill>
          <a:blip r:embed="rId5"/>
          <a:stretch/>
        </p:blipFill>
        <p:spPr>
          <a:xfrm>
            <a:off x="324000" y="3500280"/>
            <a:ext cx="1388880" cy="1528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" descr="D:\old\Мои документы\Мои рисунки\Анимация\выпуск1\звездочки\zvezdochki-9.gif"/>
          <p:cNvPicPr/>
          <p:nvPr/>
        </p:nvPicPr>
        <p:blipFill>
          <a:blip r:embed="rId6"/>
          <a:stretch/>
        </p:blipFill>
        <p:spPr>
          <a:xfrm flipH="1" rot="10800000">
            <a:off x="0" y="626256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" descr="dd404d22da000ea0efbed1c5df5b818f"/>
          <p:cNvPicPr/>
          <p:nvPr/>
        </p:nvPicPr>
        <p:blipFill>
          <a:blip r:embed="rId7"/>
          <a:stretch/>
        </p:blipFill>
        <p:spPr>
          <a:xfrm>
            <a:off x="2340000" y="174600"/>
            <a:ext cx="38876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2"/>
          <p:cNvSpPr/>
          <p:nvPr/>
        </p:nvSpPr>
        <p:spPr>
          <a:xfrm>
            <a:off x="2853360" y="86040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,  5,  4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7" descr=""/>
          <p:cNvPicPr/>
          <p:nvPr/>
        </p:nvPicPr>
        <p:blipFill>
          <a:blip r:embed="rId1"/>
          <a:stretch/>
        </p:blipFill>
        <p:spPr>
          <a:xfrm>
            <a:off x="0" y="2741760"/>
            <a:ext cx="5718240" cy="40957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"/>
          <p:cNvPicPr/>
          <p:nvPr/>
        </p:nvPicPr>
        <p:blipFill>
          <a:blip r:embed="rId2"/>
          <a:srcRect l="20748" t="0" r="0" b="0"/>
          <a:stretch/>
        </p:blipFill>
        <p:spPr>
          <a:xfrm>
            <a:off x="4452840" y="2741760"/>
            <a:ext cx="4532400" cy="40957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" descr="D:\old\Мои документы\Мои рисунки\Анимация\выпуск1\звездочки\zvezdochki-9.gif"/>
          <p:cNvPicPr/>
          <p:nvPr/>
        </p:nvPicPr>
        <p:blipFill>
          <a:blip r:embed="rId3"/>
          <a:stretch/>
        </p:blipFill>
        <p:spPr>
          <a:xfrm flipH="1" rot="10800000">
            <a:off x="147600" y="2520"/>
            <a:ext cx="914400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black43"/>
          <p:cNvPicPr/>
          <p:nvPr/>
        </p:nvPicPr>
        <p:blipFill>
          <a:blip r:embed="rId3"/>
          <a:stretch/>
        </p:blipFill>
        <p:spPr>
          <a:xfrm>
            <a:off x="0" y="331632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black43"/>
          <p:cNvPicPr/>
          <p:nvPr/>
        </p:nvPicPr>
        <p:blipFill>
          <a:blip r:embed="rId4"/>
          <a:stretch/>
        </p:blipFill>
        <p:spPr>
          <a:xfrm>
            <a:off x="4338720" y="3300480"/>
            <a:ext cx="4787640" cy="3557520"/>
          </a:xfrm>
          <a:prstGeom prst="rect">
            <a:avLst/>
          </a:prstGeom>
          <a:ln w="0">
            <a:noFill/>
          </a:ln>
        </p:spPr>
      </p:pic>
      <p:sp>
        <p:nvSpPr>
          <p:cNvPr id="718" name="AutoShape 10"/>
          <p:cNvSpPr/>
          <p:nvPr/>
        </p:nvSpPr>
        <p:spPr>
          <a:xfrm rot="19146000">
            <a:off x="6964200" y="4603320"/>
            <a:ext cx="1735200" cy="2157480"/>
          </a:xfrm>
          <a:custGeom>
            <a:avLst/>
            <a:gdLst>
              <a:gd name="textAreaLeft" fmla="*/ 726480 w 1735200"/>
              <a:gd name="textAreaRight" fmla="*/ 1008720 w 1735200"/>
              <a:gd name="textAreaTop" fmla="*/ 903600 h 2157480"/>
              <a:gd name="textAreaBottom" fmla="*/ 125388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9"/>
          <p:cNvSpPr/>
          <p:nvPr/>
        </p:nvSpPr>
        <p:spPr>
          <a:xfrm>
            <a:off x="225360" y="5521320"/>
            <a:ext cx="1106640" cy="1173240"/>
          </a:xfrm>
          <a:custGeom>
            <a:avLst/>
            <a:gdLst>
              <a:gd name="textAreaLeft" fmla="*/ 463320 w 1106640"/>
              <a:gd name="textAreaRight" fmla="*/ 643320 w 1106640"/>
              <a:gd name="textAreaTop" fmla="*/ 491400 h 1173240"/>
              <a:gd name="textAreaBottom" fmla="*/ 68184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a2b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11"/>
          <p:cNvSpPr/>
          <p:nvPr/>
        </p:nvSpPr>
        <p:spPr>
          <a:xfrm rot="19871400">
            <a:off x="7107120" y="1349280"/>
            <a:ext cx="922320" cy="757440"/>
          </a:xfrm>
          <a:custGeom>
            <a:avLst/>
            <a:gdLst/>
            <a:ahLst/>
            <a:rect l="l" t="t" r="r" b="b"/>
            <a:pathLst>
              <a:path w="922337" h="757238">
                <a:moveTo>
                  <a:pt x="1" y="289238"/>
                </a:moveTo>
                <a:lnTo>
                  <a:pt x="352303" y="289240"/>
                </a:lnTo>
                <a:lnTo>
                  <a:pt x="461169" y="0"/>
                </a:lnTo>
                <a:lnTo>
                  <a:pt x="570034" y="289240"/>
                </a:lnTo>
                <a:lnTo>
                  <a:pt x="922336" y="289238"/>
                </a:lnTo>
                <a:lnTo>
                  <a:pt x="637316" y="467997"/>
                </a:lnTo>
                <a:lnTo>
                  <a:pt x="746186" y="757236"/>
                </a:lnTo>
                <a:lnTo>
                  <a:pt x="461169" y="578474"/>
                </a:lnTo>
                <a:lnTo>
                  <a:pt x="176151" y="757236"/>
                </a:lnTo>
                <a:lnTo>
                  <a:pt x="285021" y="467997"/>
                </a:lnTo>
                <a:lnTo>
                  <a:pt x="1" y="28923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15"/>
          <p:cNvSpPr/>
          <p:nvPr/>
        </p:nvSpPr>
        <p:spPr>
          <a:xfrm>
            <a:off x="1042920" y="5013360"/>
            <a:ext cx="576360" cy="647640"/>
          </a:xfrm>
          <a:custGeom>
            <a:avLst/>
            <a:gdLst/>
            <a:ahLst/>
            <a:rect l="l" t="t" r="r" b="b"/>
            <a:pathLst>
              <a:path w="576262" h="647700">
                <a:moveTo>
                  <a:pt x="1" y="247399"/>
                </a:moveTo>
                <a:lnTo>
                  <a:pt x="220114" y="247400"/>
                </a:lnTo>
                <a:lnTo>
                  <a:pt x="288131" y="0"/>
                </a:lnTo>
                <a:lnTo>
                  <a:pt x="356148" y="247400"/>
                </a:lnTo>
                <a:lnTo>
                  <a:pt x="576261" y="247399"/>
                </a:lnTo>
                <a:lnTo>
                  <a:pt x="398185" y="400299"/>
                </a:lnTo>
                <a:lnTo>
                  <a:pt x="466205" y="647698"/>
                </a:lnTo>
                <a:lnTo>
                  <a:pt x="288131" y="494795"/>
                </a:lnTo>
                <a:lnTo>
                  <a:pt x="110057" y="647698"/>
                </a:lnTo>
                <a:lnTo>
                  <a:pt x="178077" y="400299"/>
                </a:lnTo>
                <a:lnTo>
                  <a:pt x="1" y="24739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AutoShape 17"/>
          <p:cNvSpPr/>
          <p:nvPr/>
        </p:nvSpPr>
        <p:spPr>
          <a:xfrm>
            <a:off x="3592440" y="541440"/>
            <a:ext cx="611280" cy="539640"/>
          </a:xfrm>
          <a:custGeom>
            <a:avLst/>
            <a:gdLst/>
            <a:ahLst/>
            <a:rect l="l" t="t" r="r" b="b"/>
            <a:pathLst>
              <a:path w="611187" h="539750">
                <a:moveTo>
                  <a:pt x="1" y="206166"/>
                </a:moveTo>
                <a:lnTo>
                  <a:pt x="233454" y="206167"/>
                </a:lnTo>
                <a:lnTo>
                  <a:pt x="305594" y="0"/>
                </a:lnTo>
                <a:lnTo>
                  <a:pt x="377733" y="206167"/>
                </a:lnTo>
                <a:lnTo>
                  <a:pt x="611186" y="206166"/>
                </a:lnTo>
                <a:lnTo>
                  <a:pt x="422318" y="333582"/>
                </a:lnTo>
                <a:lnTo>
                  <a:pt x="494460" y="539749"/>
                </a:lnTo>
                <a:lnTo>
                  <a:pt x="305594" y="412329"/>
                </a:lnTo>
                <a:lnTo>
                  <a:pt x="116727" y="539749"/>
                </a:lnTo>
                <a:lnTo>
                  <a:pt x="188869" y="333582"/>
                </a:lnTo>
                <a:lnTo>
                  <a:pt x="1" y="206166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18"/>
          <p:cNvSpPr/>
          <p:nvPr/>
        </p:nvSpPr>
        <p:spPr>
          <a:xfrm flipV="1" rot="19975800">
            <a:off x="7621560" y="288000"/>
            <a:ext cx="625680" cy="774720"/>
          </a:xfrm>
          <a:custGeom>
            <a:avLst/>
            <a:gdLst/>
            <a:ahLst/>
            <a:rect l="l" t="t" r="r" b="b"/>
            <a:pathLst>
              <a:path w="625475" h="774700">
                <a:moveTo>
                  <a:pt x="1" y="295908"/>
                </a:moveTo>
                <a:lnTo>
                  <a:pt x="238912" y="295910"/>
                </a:lnTo>
                <a:lnTo>
                  <a:pt x="312738" y="0"/>
                </a:lnTo>
                <a:lnTo>
                  <a:pt x="386563" y="295910"/>
                </a:lnTo>
                <a:lnTo>
                  <a:pt x="625474" y="295908"/>
                </a:lnTo>
                <a:lnTo>
                  <a:pt x="432190" y="478789"/>
                </a:lnTo>
                <a:lnTo>
                  <a:pt x="506019" y="774698"/>
                </a:lnTo>
                <a:lnTo>
                  <a:pt x="312738" y="591814"/>
                </a:lnTo>
                <a:lnTo>
                  <a:pt x="119456" y="774698"/>
                </a:lnTo>
                <a:lnTo>
                  <a:pt x="193285" y="478789"/>
                </a:lnTo>
                <a:lnTo>
                  <a:pt x="1" y="295908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9"/>
          <p:cNvSpPr/>
          <p:nvPr/>
        </p:nvSpPr>
        <p:spPr>
          <a:xfrm rot="19975200">
            <a:off x="627120" y="787320"/>
            <a:ext cx="1046160" cy="627120"/>
          </a:xfrm>
          <a:custGeom>
            <a:avLst/>
            <a:gdLst/>
            <a:ahLst/>
            <a:rect l="l" t="t" r="r" b="b"/>
            <a:pathLst>
              <a:path w="1046162" h="627063">
                <a:moveTo>
                  <a:pt x="1" y="239516"/>
                </a:moveTo>
                <a:lnTo>
                  <a:pt x="399601" y="239518"/>
                </a:lnTo>
                <a:lnTo>
                  <a:pt x="523081" y="0"/>
                </a:lnTo>
                <a:lnTo>
                  <a:pt x="646561" y="239518"/>
                </a:lnTo>
                <a:lnTo>
                  <a:pt x="1046161" y="239516"/>
                </a:lnTo>
                <a:lnTo>
                  <a:pt x="722877" y="387545"/>
                </a:lnTo>
                <a:lnTo>
                  <a:pt x="846362" y="627061"/>
                </a:lnTo>
                <a:lnTo>
                  <a:pt x="523081" y="479030"/>
                </a:lnTo>
                <a:lnTo>
                  <a:pt x="199800" y="627061"/>
                </a:lnTo>
                <a:lnTo>
                  <a:pt x="323285" y="387545"/>
                </a:lnTo>
                <a:lnTo>
                  <a:pt x="1" y="23951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0"/>
          <p:cNvSpPr/>
          <p:nvPr/>
        </p:nvSpPr>
        <p:spPr>
          <a:xfrm rot="19975200">
            <a:off x="1924200" y="5389200"/>
            <a:ext cx="1062000" cy="1114560"/>
          </a:xfrm>
          <a:custGeom>
            <a:avLst/>
            <a:gdLst/>
            <a:ahLst/>
            <a:rect l="l" t="t" r="r" b="b"/>
            <a:pathLst>
              <a:path w="1062038" h="1114425">
                <a:moveTo>
                  <a:pt x="1" y="425671"/>
                </a:moveTo>
                <a:lnTo>
                  <a:pt x="405665" y="425674"/>
                </a:lnTo>
                <a:lnTo>
                  <a:pt x="531019" y="0"/>
                </a:lnTo>
                <a:lnTo>
                  <a:pt x="656373" y="425674"/>
                </a:lnTo>
                <a:lnTo>
                  <a:pt x="1062037" y="425671"/>
                </a:lnTo>
                <a:lnTo>
                  <a:pt x="733847" y="688750"/>
                </a:lnTo>
                <a:lnTo>
                  <a:pt x="859206" y="1114422"/>
                </a:lnTo>
                <a:lnTo>
                  <a:pt x="531019" y="851339"/>
                </a:lnTo>
                <a:lnTo>
                  <a:pt x="202832" y="1114422"/>
                </a:lnTo>
                <a:lnTo>
                  <a:pt x="328191" y="688750"/>
                </a:lnTo>
                <a:lnTo>
                  <a:pt x="1" y="425671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21" descr="earth"/>
          <p:cNvPicPr/>
          <p:nvPr/>
        </p:nvPicPr>
        <p:blipFill>
          <a:blip r:embed="rId5"/>
          <a:stretch/>
        </p:blipFill>
        <p:spPr>
          <a:xfrm>
            <a:off x="4338720" y="50227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22" descr="42"/>
          <p:cNvPicPr/>
          <p:nvPr/>
        </p:nvPicPr>
        <p:blipFill>
          <a:blip r:embed="rId6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3" descr="mars"/>
          <p:cNvPicPr/>
          <p:nvPr/>
        </p:nvPicPr>
        <p:blipFill>
          <a:blip r:embed="rId7"/>
          <a:stretch/>
        </p:blipFill>
        <p:spPr>
          <a:xfrm>
            <a:off x="1757520" y="12952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4" descr="112"/>
          <p:cNvPicPr/>
          <p:nvPr/>
        </p:nvPicPr>
        <p:blipFill>
          <a:blip r:embed="rId8"/>
          <a:stretch/>
        </p:blipFill>
        <p:spPr>
          <a:xfrm>
            <a:off x="6192720" y="666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5" descr="upiter"/>
          <p:cNvPicPr/>
          <p:nvPr/>
        </p:nvPicPr>
        <p:blipFill>
          <a:blip r:embed="rId9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3" descr="56r2"/>
          <p:cNvPicPr/>
          <p:nvPr/>
        </p:nvPicPr>
        <p:blipFill>
          <a:blip r:embed="rId10"/>
          <a:stretch/>
        </p:blipFill>
        <p:spPr>
          <a:xfrm>
            <a:off x="225360" y="17136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9" descr="Ракета 4"/>
          <p:cNvPicPr/>
          <p:nvPr/>
        </p:nvPicPr>
        <p:blipFill>
          <a:blip r:embed="rId11"/>
          <a:stretch/>
        </p:blipFill>
        <p:spPr>
          <a:xfrm rot="630600">
            <a:off x="3017880" y="-10800"/>
            <a:ext cx="3078000" cy="2774880"/>
          </a:xfrm>
          <a:prstGeom prst="rect">
            <a:avLst/>
          </a:prstGeom>
          <a:ln w="0">
            <a:noFill/>
          </a:ln>
        </p:spPr>
      </p:pic>
      <p:sp>
        <p:nvSpPr>
          <p:cNvPr id="733" name="TextBox 1"/>
          <p:cNvSpPr/>
          <p:nvPr/>
        </p:nvSpPr>
        <p:spPr>
          <a:xfrm>
            <a:off x="-6480" y="2246400"/>
            <a:ext cx="912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ы летим, летим, летим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далёкие планет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корей попасть хоти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1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3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49" dur="3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7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11280" y="-38448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считай-ка!»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0" y="314136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7 – 6 =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1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58 + 2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6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60 + 9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9 – 40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9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27 + 3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82 – 2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6 + 3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3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78 – 8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0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91 -70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9 + 30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92 - 90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65 + 4 =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1"/>
          <a:srcRect l="7792" t="15180" r="42951" b="27557"/>
          <a:stretch/>
        </p:blipFill>
        <p:spPr>
          <a:xfrm>
            <a:off x="2987640" y="981000"/>
            <a:ext cx="2736720" cy="20671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" descr="D:\old\Мои документы\Мои рисунки\Анимация\выпуск1\звездочки\zvezdochki-9.gif"/>
          <p:cNvPicPr/>
          <p:nvPr/>
        </p:nvPicPr>
        <p:blipFill>
          <a:blip r:embed="rId2"/>
          <a:stretch/>
        </p:blipFill>
        <p:spPr>
          <a:xfrm flipH="1" rot="10800000">
            <a:off x="0" y="626256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2" descr="119"/>
          <p:cNvPicPr/>
          <p:nvPr/>
        </p:nvPicPr>
        <p:blipFill>
          <a:blip r:embed="rId3"/>
          <a:stretch/>
        </p:blipFill>
        <p:spPr>
          <a:xfrm>
            <a:off x="6649920" y="966960"/>
            <a:ext cx="1747800" cy="15285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2" descr="119"/>
          <p:cNvPicPr/>
          <p:nvPr/>
        </p:nvPicPr>
        <p:blipFill>
          <a:blip r:embed="rId4"/>
          <a:stretch/>
        </p:blipFill>
        <p:spPr>
          <a:xfrm>
            <a:off x="393840" y="1781280"/>
            <a:ext cx="1747800" cy="1528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2" descr="119"/>
          <p:cNvPicPr/>
          <p:nvPr/>
        </p:nvPicPr>
        <p:blipFill>
          <a:blip r:embed="rId5"/>
          <a:stretch/>
        </p:blipFill>
        <p:spPr>
          <a:xfrm>
            <a:off x="7539120" y="252360"/>
            <a:ext cx="1747800" cy="15289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2" descr="119"/>
          <p:cNvPicPr/>
          <p:nvPr/>
        </p:nvPicPr>
        <p:blipFill>
          <a:blip r:embed="rId6"/>
          <a:stretch/>
        </p:blipFill>
        <p:spPr>
          <a:xfrm>
            <a:off x="7412040" y="1963800"/>
            <a:ext cx="1749600" cy="15285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" descr=""/>
          <p:cNvPicPr/>
          <p:nvPr/>
        </p:nvPicPr>
        <p:blipFill>
          <a:blip r:embed="rId7"/>
          <a:stretch/>
        </p:blipFill>
        <p:spPr>
          <a:xfrm>
            <a:off x="1747800" y="1249200"/>
            <a:ext cx="1749600" cy="1530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2" descr="119"/>
          <p:cNvPicPr/>
          <p:nvPr/>
        </p:nvPicPr>
        <p:blipFill>
          <a:blip r:embed="rId8"/>
          <a:stretch/>
        </p:blipFill>
        <p:spPr>
          <a:xfrm>
            <a:off x="684360" y="485640"/>
            <a:ext cx="17478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black43"/>
          <p:cNvPicPr/>
          <p:nvPr/>
        </p:nvPicPr>
        <p:blipFill>
          <a:blip r:embed="rId3"/>
          <a:stretch/>
        </p:blipFill>
        <p:spPr>
          <a:xfrm>
            <a:off x="0" y="331632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8" descr="black43"/>
          <p:cNvPicPr/>
          <p:nvPr/>
        </p:nvPicPr>
        <p:blipFill>
          <a:blip r:embed="rId4"/>
          <a:stretch/>
        </p:blipFill>
        <p:spPr>
          <a:xfrm>
            <a:off x="4338720" y="3300480"/>
            <a:ext cx="4787640" cy="355752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10"/>
          <p:cNvSpPr/>
          <p:nvPr/>
        </p:nvSpPr>
        <p:spPr>
          <a:xfrm rot="19146000">
            <a:off x="6964200" y="4603320"/>
            <a:ext cx="1735200" cy="2157480"/>
          </a:xfrm>
          <a:custGeom>
            <a:avLst/>
            <a:gdLst>
              <a:gd name="textAreaLeft" fmla="*/ 726480 w 1735200"/>
              <a:gd name="textAreaRight" fmla="*/ 1008720 w 1735200"/>
              <a:gd name="textAreaTop" fmla="*/ 903600 h 2157480"/>
              <a:gd name="textAreaBottom" fmla="*/ 125388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AutoShape 9"/>
          <p:cNvSpPr/>
          <p:nvPr/>
        </p:nvSpPr>
        <p:spPr>
          <a:xfrm>
            <a:off x="225360" y="5521320"/>
            <a:ext cx="1106640" cy="1173240"/>
          </a:xfrm>
          <a:custGeom>
            <a:avLst/>
            <a:gdLst>
              <a:gd name="textAreaLeft" fmla="*/ 463320 w 1106640"/>
              <a:gd name="textAreaRight" fmla="*/ 643320 w 1106640"/>
              <a:gd name="textAreaTop" fmla="*/ 491400 h 1173240"/>
              <a:gd name="textAreaBottom" fmla="*/ 68184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11"/>
          <p:cNvSpPr/>
          <p:nvPr/>
        </p:nvSpPr>
        <p:spPr>
          <a:xfrm rot="19871400">
            <a:off x="7107120" y="1349280"/>
            <a:ext cx="922320" cy="757440"/>
          </a:xfrm>
          <a:custGeom>
            <a:avLst/>
            <a:gdLst/>
            <a:ahLst/>
            <a:rect l="l" t="t" r="r" b="b"/>
            <a:pathLst>
              <a:path w="922337" h="757238">
                <a:moveTo>
                  <a:pt x="1" y="289238"/>
                </a:moveTo>
                <a:lnTo>
                  <a:pt x="352303" y="289240"/>
                </a:lnTo>
                <a:lnTo>
                  <a:pt x="461169" y="0"/>
                </a:lnTo>
                <a:lnTo>
                  <a:pt x="570034" y="289240"/>
                </a:lnTo>
                <a:lnTo>
                  <a:pt x="922336" y="289238"/>
                </a:lnTo>
                <a:lnTo>
                  <a:pt x="637316" y="467997"/>
                </a:lnTo>
                <a:lnTo>
                  <a:pt x="746186" y="757236"/>
                </a:lnTo>
                <a:lnTo>
                  <a:pt x="461169" y="578474"/>
                </a:lnTo>
                <a:lnTo>
                  <a:pt x="176151" y="757236"/>
                </a:lnTo>
                <a:lnTo>
                  <a:pt x="285021" y="467997"/>
                </a:lnTo>
                <a:lnTo>
                  <a:pt x="1" y="28923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AutoShape 15"/>
          <p:cNvSpPr/>
          <p:nvPr/>
        </p:nvSpPr>
        <p:spPr>
          <a:xfrm>
            <a:off x="1042920" y="5013360"/>
            <a:ext cx="576360" cy="647640"/>
          </a:xfrm>
          <a:custGeom>
            <a:avLst/>
            <a:gdLst/>
            <a:ahLst/>
            <a:rect l="l" t="t" r="r" b="b"/>
            <a:pathLst>
              <a:path w="576262" h="647700">
                <a:moveTo>
                  <a:pt x="1" y="247399"/>
                </a:moveTo>
                <a:lnTo>
                  <a:pt x="220114" y="247400"/>
                </a:lnTo>
                <a:lnTo>
                  <a:pt x="288131" y="0"/>
                </a:lnTo>
                <a:lnTo>
                  <a:pt x="356148" y="247400"/>
                </a:lnTo>
                <a:lnTo>
                  <a:pt x="576261" y="247399"/>
                </a:lnTo>
                <a:lnTo>
                  <a:pt x="398185" y="400299"/>
                </a:lnTo>
                <a:lnTo>
                  <a:pt x="466205" y="647698"/>
                </a:lnTo>
                <a:lnTo>
                  <a:pt x="288131" y="494795"/>
                </a:lnTo>
                <a:lnTo>
                  <a:pt x="110057" y="647698"/>
                </a:lnTo>
                <a:lnTo>
                  <a:pt x="178077" y="400299"/>
                </a:lnTo>
                <a:lnTo>
                  <a:pt x="1" y="24739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AutoShape 17"/>
          <p:cNvSpPr/>
          <p:nvPr/>
        </p:nvSpPr>
        <p:spPr>
          <a:xfrm>
            <a:off x="425520" y="44280"/>
            <a:ext cx="611280" cy="540000"/>
          </a:xfrm>
          <a:custGeom>
            <a:avLst/>
            <a:gdLst/>
            <a:ahLst/>
            <a:rect l="l" t="t" r="r" b="b"/>
            <a:pathLst>
              <a:path w="611188" h="539750">
                <a:moveTo>
                  <a:pt x="1" y="206166"/>
                </a:moveTo>
                <a:lnTo>
                  <a:pt x="233454" y="206167"/>
                </a:lnTo>
                <a:lnTo>
                  <a:pt x="305594" y="0"/>
                </a:lnTo>
                <a:lnTo>
                  <a:pt x="377734" y="206167"/>
                </a:lnTo>
                <a:lnTo>
                  <a:pt x="611187" y="206166"/>
                </a:lnTo>
                <a:lnTo>
                  <a:pt x="422318" y="333582"/>
                </a:lnTo>
                <a:lnTo>
                  <a:pt x="494461" y="539749"/>
                </a:lnTo>
                <a:lnTo>
                  <a:pt x="305594" y="412329"/>
                </a:lnTo>
                <a:lnTo>
                  <a:pt x="116727" y="539749"/>
                </a:lnTo>
                <a:lnTo>
                  <a:pt x="188870" y="333582"/>
                </a:lnTo>
                <a:lnTo>
                  <a:pt x="1" y="206166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AutoShape 18"/>
          <p:cNvSpPr/>
          <p:nvPr/>
        </p:nvSpPr>
        <p:spPr>
          <a:xfrm flipV="1" rot="19975800">
            <a:off x="7621560" y="288000"/>
            <a:ext cx="625680" cy="774720"/>
          </a:xfrm>
          <a:custGeom>
            <a:avLst/>
            <a:gdLst/>
            <a:ahLst/>
            <a:rect l="l" t="t" r="r" b="b"/>
            <a:pathLst>
              <a:path w="625475" h="774700">
                <a:moveTo>
                  <a:pt x="1" y="295908"/>
                </a:moveTo>
                <a:lnTo>
                  <a:pt x="238912" y="295910"/>
                </a:lnTo>
                <a:lnTo>
                  <a:pt x="312738" y="0"/>
                </a:lnTo>
                <a:lnTo>
                  <a:pt x="386563" y="295910"/>
                </a:lnTo>
                <a:lnTo>
                  <a:pt x="625474" y="295908"/>
                </a:lnTo>
                <a:lnTo>
                  <a:pt x="432190" y="478789"/>
                </a:lnTo>
                <a:lnTo>
                  <a:pt x="506019" y="774698"/>
                </a:lnTo>
                <a:lnTo>
                  <a:pt x="312738" y="591814"/>
                </a:lnTo>
                <a:lnTo>
                  <a:pt x="119456" y="774698"/>
                </a:lnTo>
                <a:lnTo>
                  <a:pt x="193285" y="478789"/>
                </a:lnTo>
                <a:lnTo>
                  <a:pt x="1" y="295908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AutoShape 19"/>
          <p:cNvSpPr/>
          <p:nvPr/>
        </p:nvSpPr>
        <p:spPr>
          <a:xfrm rot="19975200">
            <a:off x="627120" y="787320"/>
            <a:ext cx="1046160" cy="627120"/>
          </a:xfrm>
          <a:custGeom>
            <a:avLst/>
            <a:gdLst/>
            <a:ahLst/>
            <a:rect l="l" t="t" r="r" b="b"/>
            <a:pathLst>
              <a:path w="1046162" h="627063">
                <a:moveTo>
                  <a:pt x="1" y="239516"/>
                </a:moveTo>
                <a:lnTo>
                  <a:pt x="399601" y="239518"/>
                </a:lnTo>
                <a:lnTo>
                  <a:pt x="523081" y="0"/>
                </a:lnTo>
                <a:lnTo>
                  <a:pt x="646561" y="239518"/>
                </a:lnTo>
                <a:lnTo>
                  <a:pt x="1046161" y="239516"/>
                </a:lnTo>
                <a:lnTo>
                  <a:pt x="722877" y="387545"/>
                </a:lnTo>
                <a:lnTo>
                  <a:pt x="846362" y="627061"/>
                </a:lnTo>
                <a:lnTo>
                  <a:pt x="523081" y="479030"/>
                </a:lnTo>
                <a:lnTo>
                  <a:pt x="199800" y="627061"/>
                </a:lnTo>
                <a:lnTo>
                  <a:pt x="323285" y="387545"/>
                </a:lnTo>
                <a:lnTo>
                  <a:pt x="1" y="23951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AutoShape 20"/>
          <p:cNvSpPr/>
          <p:nvPr/>
        </p:nvSpPr>
        <p:spPr>
          <a:xfrm rot="19975200">
            <a:off x="1924200" y="5389200"/>
            <a:ext cx="1062000" cy="1114560"/>
          </a:xfrm>
          <a:custGeom>
            <a:avLst/>
            <a:gdLst/>
            <a:ahLst/>
            <a:rect l="l" t="t" r="r" b="b"/>
            <a:pathLst>
              <a:path w="1062038" h="1114425">
                <a:moveTo>
                  <a:pt x="1" y="425671"/>
                </a:moveTo>
                <a:lnTo>
                  <a:pt x="405665" y="425674"/>
                </a:lnTo>
                <a:lnTo>
                  <a:pt x="531019" y="0"/>
                </a:lnTo>
                <a:lnTo>
                  <a:pt x="656373" y="425674"/>
                </a:lnTo>
                <a:lnTo>
                  <a:pt x="1062037" y="425671"/>
                </a:lnTo>
                <a:lnTo>
                  <a:pt x="733847" y="688750"/>
                </a:lnTo>
                <a:lnTo>
                  <a:pt x="859206" y="1114422"/>
                </a:lnTo>
                <a:lnTo>
                  <a:pt x="531019" y="851339"/>
                </a:lnTo>
                <a:lnTo>
                  <a:pt x="202832" y="1114422"/>
                </a:lnTo>
                <a:lnTo>
                  <a:pt x="328191" y="688750"/>
                </a:lnTo>
                <a:lnTo>
                  <a:pt x="1" y="425671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Picture 21" descr="earth"/>
          <p:cNvPicPr/>
          <p:nvPr/>
        </p:nvPicPr>
        <p:blipFill>
          <a:blip r:embed="rId5"/>
          <a:stretch/>
        </p:blipFill>
        <p:spPr>
          <a:xfrm>
            <a:off x="4338720" y="4905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2" descr="42"/>
          <p:cNvPicPr/>
          <p:nvPr/>
        </p:nvPicPr>
        <p:blipFill>
          <a:blip r:embed="rId6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23" descr="mars"/>
          <p:cNvPicPr/>
          <p:nvPr/>
        </p:nvPicPr>
        <p:blipFill>
          <a:blip r:embed="rId7"/>
          <a:stretch/>
        </p:blipFill>
        <p:spPr>
          <a:xfrm>
            <a:off x="1757520" y="12952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4" descr="112"/>
          <p:cNvPicPr/>
          <p:nvPr/>
        </p:nvPicPr>
        <p:blipFill>
          <a:blip r:embed="rId8"/>
          <a:stretch/>
        </p:blipFill>
        <p:spPr>
          <a:xfrm>
            <a:off x="6192720" y="666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25" descr="upiter"/>
          <p:cNvPicPr/>
          <p:nvPr/>
        </p:nvPicPr>
        <p:blipFill>
          <a:blip r:embed="rId9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33" descr="56r2"/>
          <p:cNvPicPr/>
          <p:nvPr/>
        </p:nvPicPr>
        <p:blipFill>
          <a:blip r:embed="rId10"/>
          <a:stretch/>
        </p:blipFill>
        <p:spPr>
          <a:xfrm>
            <a:off x="189000" y="3090960"/>
            <a:ext cx="1371600" cy="495360"/>
          </a:xfrm>
          <a:prstGeom prst="rect">
            <a:avLst/>
          </a:prstGeom>
          <a:ln w="0">
            <a:noFill/>
          </a:ln>
        </p:spPr>
      </p:pic>
      <p:sp>
        <p:nvSpPr>
          <p:cNvPr id="762" name="TextBox 1"/>
          <p:cNvSpPr/>
          <p:nvPr/>
        </p:nvSpPr>
        <p:spPr>
          <a:xfrm>
            <a:off x="117360" y="79200"/>
            <a:ext cx="912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не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Спортивна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7" descr="http://www.nivagold.ru/raznoe1/tansy/PhotoAlbum1/Photo%20015.gif"/>
          <p:cNvPicPr/>
          <p:nvPr/>
        </p:nvPicPr>
        <p:blipFill>
          <a:blip r:embed="rId11"/>
          <a:stretch/>
        </p:blipFill>
        <p:spPr>
          <a:xfrm>
            <a:off x="1962000" y="2079720"/>
            <a:ext cx="5168880" cy="31906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" descr="D:\old\Мои документы\Мои рисунки\Анимация\выпуск1\звездочки\zvezdochki-9.gif"/>
          <p:cNvPicPr/>
          <p:nvPr/>
        </p:nvPicPr>
        <p:blipFill>
          <a:blip r:embed="rId12"/>
          <a:stretch/>
        </p:blipFill>
        <p:spPr>
          <a:xfrm flipH="1" rot="10800000">
            <a:off x="146160" y="6242040"/>
            <a:ext cx="9144000" cy="595440"/>
          </a:xfrm>
          <a:prstGeom prst="rect">
            <a:avLst/>
          </a:prstGeom>
          <a:ln w="0">
            <a:noFill/>
          </a:ln>
        </p:spPr>
      </p:pic>
      <p:pic>
        <p:nvPicPr>
          <p:cNvPr id="765" name="Кузнечик.mp3" descr=""/>
          <p:cNvPicPr/>
          <p:nvPr/>
        </p:nvPicPr>
        <p:blipFill>
          <a:blip r:embed="rId13"/>
          <a:stretch/>
        </p:blipFill>
        <p:spPr>
          <a:xfrm>
            <a:off x="2211480" y="483552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9" dur="3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4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30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07" dur="3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3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7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3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37061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9:05:30Z</dcterms:created>
  <dc:creator>SamLab.ws</dc:creator>
  <dc:description/>
  <dc:language>en-US</dc:language>
  <cp:lastModifiedBy>Татьяна</cp:lastModifiedBy>
  <dcterms:modified xsi:type="dcterms:W3CDTF">2024-03-24T17:25:00Z</dcterms:modified>
  <cp:revision>29</cp:revision>
  <dc:subject/>
  <dc:title>Слайд 1</dc:title>
</cp:coreProperties>
</file>