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8.gif" ContentType="image/gif"/>
  <Override PartName="/ppt/media/image26.gif" ContentType="image/gif"/>
  <Override PartName="/ppt/media/image19.png" ContentType="image/png"/>
  <Override PartName="/ppt/media/image20.png" ContentType="image/png"/>
  <Override PartName="/ppt/media/image23.png" ContentType="image/png"/>
  <Override PartName="/ppt/media/image30.gif" ContentType="image/gif"/>
  <Override PartName="/ppt/media/image18.gif" ContentType="image/gif"/>
  <Override PartName="/ppt/media/image17.gif" ContentType="image/gif"/>
  <Override PartName="/ppt/media/image21.png" ContentType="image/png"/>
  <Override PartName="/ppt/media/image16.gif" ContentType="image/gif"/>
  <Override PartName="/ppt/media/image6.jpeg" ContentType="image/jpeg"/>
  <Override PartName="/ppt/media/image24.jpeg" ContentType="image/jpeg"/>
  <Override PartName="/ppt/media/image12.gif" ContentType="image/gif"/>
  <Override PartName="/ppt/media/image29.gif" ContentType="image/gif"/>
  <Override PartName="/ppt/media/image31.gif" ContentType="image/gif"/>
  <Override PartName="/ppt/media/image7.gif" ContentType="image/gif"/>
  <Override PartName="/ppt/media/image37.gif" ContentType="image/gif"/>
  <Override PartName="/ppt/media/image13.gif" ContentType="image/gif"/>
  <Override PartName="/ppt/media/image11.png" ContentType="image/png"/>
  <Override PartName="/ppt/media/image9.png" ContentType="image/png"/>
  <Override PartName="/ppt/media/image39.png" ContentType="image/png"/>
  <Override PartName="/ppt/media/image35.gif" ContentType="image/gif"/>
  <Override PartName="/ppt/media/image36.png" ContentType="image/png"/>
  <Override PartName="/ppt/media/image38.png" ContentType="image/png"/>
  <Override PartName="/ppt/media/image8.jpeg" ContentType="image/jpeg"/>
  <Override PartName="/ppt/media/image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.png" ContentType="image/png"/>
  <Override PartName="/ppt/media/image15.png" ContentType="image/png"/>
  <Override PartName="/ppt/media/image22.gif" ContentType="image/gif"/>
  <Override PartName="/ppt/media/image32.gif" ContentType="image/gif"/>
  <Override PartName="/ppt/media/image25.png" ContentType="image/png"/>
  <Override PartName="/ppt/media/image10.png" ContentType="image/png"/>
  <Override PartName="/ppt/media/image1.jpeg" ContentType="image/jpeg"/>
  <Override PartName="/ppt/media/image27.gif" ContentType="image/gi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85E9-79D1-437C-AAD4-00C3F2B76F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D3F9-F09A-4D7F-B817-88CD9C667C5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106D-A52C-482C-B024-C6ED425D9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2036-4C5F-48BB-8262-F95217AE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8D6F67-4632-4AB6-9BA4-E845EA7D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6F8D9-309A-4B17-A93B-A227B979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1511D-C787-42BA-A8AE-5AED6BA2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02382-393F-44C6-BC72-637FF3BD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21822-2FA6-4884-83E3-341BC685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113BE-83A0-4719-B7D0-B69A3550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F140AC-0264-4F2A-8998-742B134E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AF728-E9C9-4C96-BC8C-C38E56410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7667C-6456-467E-B2A0-31691A9A2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6C105-7311-467F-9AD4-0F6B6B7C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61A3-0D94-4761-AEA1-5664280FC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1B5FA-EB80-43CE-81C0-CD3B1322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7C453C-C8E8-4186-ABC0-BD2583C0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77E2A-7C21-4D1C-94C1-84B74222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166181-B6D9-4E1B-9CBC-DF2D2F8A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D6E12D-B785-4819-9A24-9F980757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FD22BB-B2CC-44CA-A9C7-3B2A5C89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ECD2A-ACD9-4BCE-BFBD-5731292E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3FCEAE-9C0D-4AA9-B70E-252CFEBE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61A91E-7E1B-4573-8388-DCF7836C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38C71-0C89-4FA3-A146-4F9FB9F68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B5B5-9929-4291-BA06-E4F3C9C78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20F6F-663D-4B25-8943-21D15873E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4F12E-23AF-45FF-97DC-070E5A5C5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C8194-3F72-4FB7-AA41-1E76209D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888C3-BAA9-4E7A-AB0D-4BBD8FF1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0D88B-C7D4-484C-8DCF-57FCD8D3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7F157-B1F0-4E4C-8347-3295AE14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24F3F-3D94-4AEA-BCF9-6CD5CB03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4A03A-CC30-402D-92BD-F6CAA3FB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DB7AC-2C6D-47C6-9E6E-13653F75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53A33-B977-4B31-B5EF-23CA11C2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8433-357A-4DBD-94DA-1B87F024A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1CFF0-80B8-4545-B393-EB197417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303C2-011F-4902-BF63-50F1AA8F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9D3A9-0C92-4DC8-B509-2727CEC17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A7FA3B-FA80-4124-B758-132E1F81F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B7B9C1-6F33-4F4B-B48E-2F48BDC2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B20579-8A89-44A0-B86D-E8ED8255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B60019-4AA1-4F09-9A30-22F253CD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CA9554-1D84-476F-97BD-44CF75EB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2701CE-8A08-403F-836A-ABE9EF8B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9542AB-73D4-4C94-A9B4-F884A286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4A5B-7014-4C4C-A0B0-CC9129F2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3CB917-7332-4E21-ADFD-7CDDD3CC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C9F827-4F64-47C9-93AD-80445619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1363B1-6CA9-49D1-9FA5-79903BFE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67A695-E00A-4BE7-9FFD-FAD95F1EA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61DAAD-B69A-40F6-BA48-429A20457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19FF13-AE03-4B58-BEA3-78084AB94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5B1CCF-0D08-4E2E-B3C8-F35C0D3E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8D1C55-6FB9-426F-B666-6748CE98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2A2B34-6D84-4545-8055-CE44827F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25121A-3937-489D-82B1-935FF8D5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3326-C8B4-478A-9F5C-99DA03DD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19A2C9-468D-4F04-9F19-428CF4D1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4CFC71-2F45-4061-9645-501BB7FA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8D44FF-ACF4-403E-AAC5-65D29DE7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5378E0-6B11-4E9B-AEFE-9A4D264F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ECEB11-CD7E-4467-9087-DC4A3443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173C0B-5EB4-457C-9531-645ED2363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0C7AB7-FA4A-40E9-A4F8-59433F2F8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895209-D657-4715-82D5-2E4E5C318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725AA5-5F84-4DA8-840B-344049AD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1A8136-4A96-4F04-81E0-F55F336A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B5FA-7119-4C18-A5E2-268000ED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C73A7F-3BAA-48E4-A7F6-070678BE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442EE6-2155-480D-B83D-8DA8C931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A4D4EE-479C-4629-A48A-F37E4AD2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C88ED7-17B9-4A2B-B6FB-D8154C3E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53C93C-8B8F-4EDC-BD14-3C9EFC60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00480E-C547-4D8F-9E25-97BBDAFF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296D08-A547-458A-8024-AD158C66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FFDB73-C981-4928-B2A9-A1777EC3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20FF4B-646E-4779-8F2C-33025FFCF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7A41-6B33-4A92-824F-2B41F1FF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1815-B705-40DD-97D2-898BD802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A32B-1BB8-466E-A303-F9A9FE63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083D-80A5-45E4-9146-9BC0B9C5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73AD-1ABE-4DD9-9DCC-7E4998A6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AAB3-74AA-42EA-A08A-FBEE2A43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293E-32CB-4FE4-A45D-98EBFB96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1D19-2308-4E96-8FDA-EAE79DAC2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6BB8-76EF-489E-B213-02D2D7242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B81B1-C34D-4A9B-928B-8AA4E2FD2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B02D4-327C-4BB1-8E59-8ECE24E5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E7206-A87C-4B72-9785-1921B4DB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EB55F-0DED-4FE4-B767-F2DD651C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EDAA7-C2A0-4D58-B807-91776A56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E211-37B6-4922-9CC5-8C388371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EC8DC-23B6-4147-A5D8-694ACDC1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8F6E2-5FF7-4171-9446-754ECFB1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98B0B-DD95-4C7D-985F-4B86565E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8CADD-0543-46A7-9E40-BCDBF4AB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C7566-FD0A-4CBB-B135-7CCCC75D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138E8-91DA-4BE0-80E5-4695149E2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EE2AF-5633-4B30-AB90-3502A20E3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37F96-3440-44BA-B5F0-2A0EF1754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80264-E0E0-42C0-A520-16CCDE1D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83D36-1EAF-4447-8C51-F909606B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BE88-944E-440C-8728-0B7CCA57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047FE-B0D0-4AD0-BEF1-B8CBA553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93D1C-A3E5-4056-A663-D0A6E801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B72D1-63F7-4395-BBC6-AB620AAE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60B0E-2469-4064-AF56-AF4DA41F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E5030-F47D-4E00-9EE9-CC6FF58E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9C73C-7375-47F3-B5CE-8318D10B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87CD2-5FD4-4DAE-A5A5-3030D4E4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90A74-6B0E-4A9A-9D09-8DE5B9604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CB48D-DC48-4FD2-A91F-D49F3016D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E384E-F491-4163-8D2B-925BE85E0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EB38-E546-467D-8CE0-863F2B53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03196-0FB3-4707-A1FA-1BD12598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C82B1-271A-4A6B-93D0-A68BE318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634C4-A87C-4307-B539-A36E6B0D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7EBA7-EB36-48F2-A55B-C722BC99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45E32-680B-42D3-987E-32969A14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9B7F7-2EAA-4D75-9538-EE544F9C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4B4E9-1B53-46A5-B256-615D0DDE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6F750-0AF2-46F7-8B4A-0F001C65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1594D-9CA2-469A-9F9D-1DEA0966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6DAFC-9B6C-4DB6-A9BB-823639956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43C1-E32D-4A27-A9E2-836E2F65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17C40-B499-41A0-BB96-ECE22C324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F54ED-4FF7-41E7-8BB2-81A200944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035D4-A21B-4CEB-B927-EEE3E54D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1A215-3C3A-48D3-A369-E29810B5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0145B-EB60-4E6D-8BA4-C90267DA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F175A-9A1B-406A-AA5B-25CDC3A1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8091B-E084-4FEC-AF81-14CB6AB3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D17E6-9519-41AF-939F-D2D4BE5B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B5049-E21E-475E-9C0C-B8784B9F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7994E-00F0-43F1-9BAC-B98ED020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8F7B-6467-40A3-9B82-B4B00187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E94D0-C1E9-4898-AB03-AC07E1D3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6D40B-5044-41EC-AE9F-059AAA04F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B9FBA-01E5-4D91-8C8D-6AA586C38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E0325-05AD-4F3F-913D-8BF605F55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30676-A81A-4C3B-A0B9-819E5EF2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81D17-7984-4BEF-B48B-E20884EF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2FF2A-153E-49E9-8FFA-E9F0DA7A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C3FE8-9BAA-4DEE-BAF9-83D11703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1E595-7BA7-47DF-853A-6E5F0283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32126-7A88-4D7B-9B3D-E4F636B6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F26E-41EF-4A61-A4B6-3993B34C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A7C55-B4D4-469E-A6EF-2D8022D1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B03ED-CC00-403F-9CB7-FB8ACACB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2DF10-1023-4E42-9A24-8F2E0BAF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1508D-1039-4A64-B18E-5AAA31BE2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77DC6-A207-464B-8572-AD29EF10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07EC3-4B94-4221-B43D-C7DFC474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EBBA3-53A2-4B0C-8C5A-0D0A04EB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8560B-339D-4379-B4B8-B788647F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9E79C-44CE-4A58-977B-4B6EED43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DB653-333D-465C-9C12-64A623E6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A823-B86E-4103-9EEC-288E669F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9291C-9440-4492-B088-678FA98F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211E2-A79B-469F-A651-BD0C50E3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63D2B-50AE-4488-9221-E8333D47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1C36A-05D2-4D65-ACC3-019FD2CE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A88A7-F678-4E80-833E-3E17FDD1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ABB46-4A0A-441A-AB3B-6FC23B22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E6A19-74B3-471B-8E16-C755AF7C9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DA3D5B-D18A-435E-8272-6E8C90142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6DF88-404F-46EA-A5AD-39636337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F5C46-2795-4F91-8A6E-D250375B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3FC8-DEC9-438F-9B29-B479A826BAD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2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3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D9B8-C395-4CE7-B9C6-86F268F2ACF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8CBC-5C75-4BC4-97C9-62215908D79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5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16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18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19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771E-3D9A-4660-A85B-C788699EB01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6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6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7252-AFC7-4CEA-92DC-1958FE289B8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1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1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F7C8-2445-40E1-A6FF-DCE4DF549BD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9220-816E-4D77-8D3E-FBD23CC80991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7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F05C-7F9F-4019-AA7A-6838608548F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47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Полилиния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9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150" name="Полилиния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52" name="Прямая соединительная линия 19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D6FB-6FF1-4F14-A4DF-95E5A7FA43D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97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99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99E5-289A-42B7-8084-37555D96DFF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44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46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47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19CD-E108-4E03-B5E1-8B8361DC0A2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9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9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FF09-515D-4D35-B9AE-7CA20A939A7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2E0F-5AA4-46EF-8349-2A04DF9CA36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0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8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8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1164-4118-44B2-867E-8062BF5E510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image" Target="../media/image7.gif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image" Target="../media/image27.gif"/><Relationship Id="rId8" Type="http://schemas.openxmlformats.org/officeDocument/2006/relationships/image" Target="../media/image28.gif"/><Relationship Id="rId9" Type="http://schemas.openxmlformats.org/officeDocument/2006/relationships/image" Target="../media/image29.gif"/><Relationship Id="rId10" Type="http://schemas.openxmlformats.org/officeDocument/2006/relationships/image" Target="../media/image30.gif"/><Relationship Id="rId11" Type="http://schemas.openxmlformats.org/officeDocument/2006/relationships/image" Target="../media/image31.gif"/><Relationship Id="rId12" Type="http://schemas.openxmlformats.org/officeDocument/2006/relationships/image" Target="../media/image32.gif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image" Target="../media/image18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12.gif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image" Target="../media/image28.gif"/><Relationship Id="rId7" Type="http://schemas.openxmlformats.org/officeDocument/2006/relationships/image" Target="../media/image29.gif"/><Relationship Id="rId8" Type="http://schemas.openxmlformats.org/officeDocument/2006/relationships/image" Target="../media/image30.gif"/><Relationship Id="rId9" Type="http://schemas.openxmlformats.org/officeDocument/2006/relationships/image" Target="../media/image31.gif"/><Relationship Id="rId10" Type="http://schemas.openxmlformats.org/officeDocument/2006/relationships/image" Target="../media/image32.gif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2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34.png"/><Relationship Id="rId8" Type="http://schemas.openxmlformats.org/officeDocument/2006/relationships/image" Target="../media/image7.gif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image" Target="../media/image28.gif"/><Relationship Id="rId7" Type="http://schemas.openxmlformats.org/officeDocument/2006/relationships/image" Target="../media/image29.gif"/><Relationship Id="rId8" Type="http://schemas.openxmlformats.org/officeDocument/2006/relationships/image" Target="../media/image30.gif"/><Relationship Id="rId9" Type="http://schemas.openxmlformats.org/officeDocument/2006/relationships/image" Target="../media/image31.gif"/><Relationship Id="rId10" Type="http://schemas.openxmlformats.org/officeDocument/2006/relationships/image" Target="../media/image32.gif"/><Relationship Id="rId11" Type="http://schemas.openxmlformats.org/officeDocument/2006/relationships/image" Target="../media/image35.gif"/><Relationship Id="rId12" Type="http://schemas.openxmlformats.org/officeDocument/2006/relationships/image" Target="../media/image12.gif"/><Relationship Id="rId13" Type="http://schemas.openxmlformats.org/officeDocument/2006/relationships/image" Target="../media/image36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09_200825"/>
          <p:cNvPicPr/>
          <p:nvPr/>
        </p:nvPicPr>
        <p:blipFill>
          <a:blip r:embed="rId1"/>
          <a:stretch/>
        </p:blipFill>
        <p:spPr>
          <a:xfrm>
            <a:off x="111240" y="184320"/>
            <a:ext cx="8785080" cy="659736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5" descr="119"/>
          <p:cNvPicPr/>
          <p:nvPr/>
        </p:nvPicPr>
        <p:blipFill>
          <a:blip r:embed="rId2"/>
          <a:stretch/>
        </p:blipFill>
        <p:spPr>
          <a:xfrm>
            <a:off x="247680" y="200160"/>
            <a:ext cx="1028520" cy="152856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7" descr="119"/>
          <p:cNvPicPr/>
          <p:nvPr/>
        </p:nvPicPr>
        <p:blipFill>
          <a:blip r:embed="rId3"/>
          <a:stretch/>
        </p:blipFill>
        <p:spPr>
          <a:xfrm>
            <a:off x="6443640" y="1484280"/>
            <a:ext cx="1441440" cy="152892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8" descr="119"/>
          <p:cNvPicPr/>
          <p:nvPr/>
        </p:nvPicPr>
        <p:blipFill>
          <a:blip r:embed="rId4"/>
          <a:stretch/>
        </p:blipFill>
        <p:spPr>
          <a:xfrm>
            <a:off x="1403280" y="4437000"/>
            <a:ext cx="1028880" cy="152892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2" descr="119"/>
          <p:cNvPicPr/>
          <p:nvPr/>
        </p:nvPicPr>
        <p:blipFill>
          <a:blip r:embed="rId5"/>
          <a:stretch/>
        </p:blipFill>
        <p:spPr>
          <a:xfrm>
            <a:off x="7308720" y="2421000"/>
            <a:ext cx="1747800" cy="15285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3" descr="119"/>
          <p:cNvPicPr/>
          <p:nvPr/>
        </p:nvPicPr>
        <p:blipFill>
          <a:blip r:embed="rId6"/>
          <a:stretch/>
        </p:blipFill>
        <p:spPr>
          <a:xfrm>
            <a:off x="7740720" y="4149720"/>
            <a:ext cx="1028520" cy="152892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14" descr="119"/>
          <p:cNvPicPr/>
          <p:nvPr/>
        </p:nvPicPr>
        <p:blipFill>
          <a:blip r:embed="rId7"/>
          <a:stretch/>
        </p:blipFill>
        <p:spPr>
          <a:xfrm>
            <a:off x="6372360" y="2997360"/>
            <a:ext cx="1028520" cy="152856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16" descr="49b"/>
          <p:cNvPicPr/>
          <p:nvPr/>
        </p:nvPicPr>
        <p:blipFill>
          <a:blip r:embed="rId8"/>
          <a:stretch/>
        </p:blipFill>
        <p:spPr>
          <a:xfrm>
            <a:off x="0" y="2997360"/>
            <a:ext cx="8924760" cy="386064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8" descr="Русский космонавт"/>
          <p:cNvPicPr/>
          <p:nvPr/>
        </p:nvPicPr>
        <p:blipFill>
          <a:blip r:embed="rId9"/>
          <a:stretch/>
        </p:blipFill>
        <p:spPr>
          <a:xfrm>
            <a:off x="4716360" y="1833480"/>
            <a:ext cx="1943280" cy="267804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9" descr="Ракета 4"/>
          <p:cNvPicPr/>
          <p:nvPr/>
        </p:nvPicPr>
        <p:blipFill>
          <a:blip r:embed="rId10"/>
          <a:stretch/>
        </p:blipFill>
        <p:spPr>
          <a:xfrm>
            <a:off x="1382760" y="1020600"/>
            <a:ext cx="3079800" cy="2775240"/>
          </a:xfrm>
          <a:prstGeom prst="rect">
            <a:avLst/>
          </a:prstGeom>
          <a:ln w="0">
            <a:noFill/>
          </a:ln>
        </p:spPr>
      </p:pic>
      <p:pic>
        <p:nvPicPr>
          <p:cNvPr id="673" name="Прямоугольник 2" descr=""/>
          <p:cNvPicPr/>
          <p:nvPr/>
        </p:nvPicPr>
        <p:blipFill>
          <a:blip r:embed="rId11"/>
          <a:stretch/>
        </p:blipFill>
        <p:spPr>
          <a:xfrm>
            <a:off x="-19080" y="19080"/>
            <a:ext cx="9066240" cy="1359000"/>
          </a:xfrm>
          <a:prstGeom prst="rect">
            <a:avLst/>
          </a:prstGeom>
          <a:ln w="0">
            <a:noFill/>
          </a:ln>
        </p:spPr>
      </p:pic>
      <p:sp>
        <p:nvSpPr>
          <p:cNvPr id="674" name="TextBox 3"/>
          <p:cNvSpPr/>
          <p:nvPr/>
        </p:nvSpPr>
        <p:spPr>
          <a:xfrm>
            <a:off x="42120" y="3760920"/>
            <a:ext cx="48196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Встанем мы тихонечко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Сразу успокоим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На хорошую работ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Мы сейчас настроим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5" name="Picture 1" descr="D:\old\Мои документы\Мои рисунки\Анимация\выпуск1\звездочки\zvezdochki-9.gif"/>
          <p:cNvPicPr/>
          <p:nvPr/>
        </p:nvPicPr>
        <p:blipFill>
          <a:blip r:embed="rId12"/>
          <a:stretch/>
        </p:blipFill>
        <p:spPr>
          <a:xfrm flipH="1" rot="10800000">
            <a:off x="0" y="6262560"/>
            <a:ext cx="9144000" cy="5954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1" descr="D:\old\Мои документы\Мои рисунки\Анимация\выпуск1\звездочки\zvezdochki-9.gif"/>
          <p:cNvPicPr/>
          <p:nvPr/>
        </p:nvPicPr>
        <p:blipFill>
          <a:blip r:embed="rId13"/>
          <a:stretch/>
        </p:blipFill>
        <p:spPr>
          <a:xfrm flipH="1" rot="10800000">
            <a:off x="-54000" y="-61920"/>
            <a:ext cx="9144000" cy="59544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12" descr="119"/>
          <p:cNvPicPr/>
          <p:nvPr/>
        </p:nvPicPr>
        <p:blipFill>
          <a:blip r:embed="rId14"/>
          <a:stretch/>
        </p:blipFill>
        <p:spPr>
          <a:xfrm>
            <a:off x="7524720" y="1468440"/>
            <a:ext cx="174780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Picture 2" descr="D:\old\Мои документы\Мои рисунки\Анимация\выпуск1\Фон\backgrounds_00038.gif"/>
          <p:cNvPicPr/>
          <p:nvPr/>
        </p:nvPicPr>
        <p:blipFill>
          <a:blip r:embed="rId1"/>
          <a:stretch/>
        </p:blipFill>
        <p:spPr>
          <a:xfrm>
            <a:off x="15840" y="-9684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767" name="WordArt 4"/>
          <p:cNvSpPr txBox="1"/>
          <p:nvPr/>
        </p:nvSpPr>
        <p:spPr>
          <a:xfrm>
            <a:off x="3510000" y="1697040"/>
            <a:ext cx="2790720" cy="13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021de8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а</a:t>
            </a:r>
            <a:endParaRPr b="1" lang="en-US" sz="4400" spc="1" strike="noStrike">
              <a:ln w="0">
                <a:noFill/>
              </a:ln>
              <a:solidFill>
                <a:srgbClr val="021de8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8" name="WordArt 3"/>
          <p:cNvSpPr txBox="1"/>
          <p:nvPr/>
        </p:nvSpPr>
        <p:spPr>
          <a:xfrm>
            <a:off x="2824200" y="2435400"/>
            <a:ext cx="349560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а</a:t>
            </a:r>
            <a:endParaRPr b="1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9" name="TextBox 1"/>
          <p:cNvSpPr/>
          <p:nvPr/>
        </p:nvSpPr>
        <p:spPr>
          <a:xfrm>
            <a:off x="2824200" y="4797360"/>
            <a:ext cx="61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Прямоугольник 8"/>
          <p:cNvSpPr/>
          <p:nvPr/>
        </p:nvSpPr>
        <p:spPr>
          <a:xfrm>
            <a:off x="2559240" y="4680"/>
            <a:ext cx="453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Решай-ка!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Picture 5" descr="black43"/>
          <p:cNvPicPr/>
          <p:nvPr/>
        </p:nvPicPr>
        <p:blipFill>
          <a:blip r:embed="rId1"/>
          <a:stretch/>
        </p:blipFill>
        <p:spPr>
          <a:xfrm>
            <a:off x="0" y="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6" descr="black43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55752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7" descr="black43"/>
          <p:cNvPicPr/>
          <p:nvPr/>
        </p:nvPicPr>
        <p:blipFill>
          <a:blip r:embed="rId3"/>
          <a:stretch/>
        </p:blipFill>
        <p:spPr>
          <a:xfrm>
            <a:off x="0" y="331632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8" descr="black43"/>
          <p:cNvPicPr/>
          <p:nvPr/>
        </p:nvPicPr>
        <p:blipFill>
          <a:blip r:embed="rId4"/>
          <a:stretch/>
        </p:blipFill>
        <p:spPr>
          <a:xfrm>
            <a:off x="4503600" y="3290760"/>
            <a:ext cx="4788000" cy="3557880"/>
          </a:xfrm>
          <a:prstGeom prst="rect">
            <a:avLst/>
          </a:prstGeom>
          <a:ln w="0">
            <a:noFill/>
          </a:ln>
        </p:spPr>
      </p:pic>
      <p:sp>
        <p:nvSpPr>
          <p:cNvPr id="775" name="AutoShape 10"/>
          <p:cNvSpPr/>
          <p:nvPr/>
        </p:nvSpPr>
        <p:spPr>
          <a:xfrm rot="19146000">
            <a:off x="6964200" y="4603320"/>
            <a:ext cx="1735200" cy="2157480"/>
          </a:xfrm>
          <a:custGeom>
            <a:avLst/>
            <a:gdLst>
              <a:gd name="textAreaLeft" fmla="*/ 726480 w 1735200"/>
              <a:gd name="textAreaRight" fmla="*/ 1008720 w 1735200"/>
              <a:gd name="textAreaTop" fmla="*/ 903600 h 2157480"/>
              <a:gd name="textAreaBottom" fmla="*/ 1253880 h 2157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AutoShape 9"/>
          <p:cNvSpPr/>
          <p:nvPr/>
        </p:nvSpPr>
        <p:spPr>
          <a:xfrm>
            <a:off x="225360" y="5521320"/>
            <a:ext cx="1106640" cy="1173240"/>
          </a:xfrm>
          <a:custGeom>
            <a:avLst/>
            <a:gdLst>
              <a:gd name="textAreaLeft" fmla="*/ 463320 w 1106640"/>
              <a:gd name="textAreaRight" fmla="*/ 643320 w 1106640"/>
              <a:gd name="textAreaTop" fmla="*/ 491400 h 1173240"/>
              <a:gd name="textAreaBottom" fmla="*/ 681840 h 1173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AutoShape 11"/>
          <p:cNvSpPr/>
          <p:nvPr/>
        </p:nvSpPr>
        <p:spPr>
          <a:xfrm rot="19871400">
            <a:off x="7107120" y="1349280"/>
            <a:ext cx="922320" cy="757440"/>
          </a:xfrm>
          <a:custGeom>
            <a:avLst/>
            <a:gdLst/>
            <a:ahLst/>
            <a:rect l="l" t="t" r="r" b="b"/>
            <a:pathLst>
              <a:path w="922337" h="757238">
                <a:moveTo>
                  <a:pt x="1" y="289238"/>
                </a:moveTo>
                <a:lnTo>
                  <a:pt x="352303" y="289240"/>
                </a:lnTo>
                <a:lnTo>
                  <a:pt x="461169" y="0"/>
                </a:lnTo>
                <a:lnTo>
                  <a:pt x="570034" y="289240"/>
                </a:lnTo>
                <a:lnTo>
                  <a:pt x="922336" y="289238"/>
                </a:lnTo>
                <a:lnTo>
                  <a:pt x="637316" y="467997"/>
                </a:lnTo>
                <a:lnTo>
                  <a:pt x="746186" y="757236"/>
                </a:lnTo>
                <a:lnTo>
                  <a:pt x="461169" y="578474"/>
                </a:lnTo>
                <a:lnTo>
                  <a:pt x="176151" y="757236"/>
                </a:lnTo>
                <a:lnTo>
                  <a:pt x="285021" y="467997"/>
                </a:lnTo>
                <a:lnTo>
                  <a:pt x="1" y="289238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8" name="Picture 3" descr="05_moon_meteorit_alh-81005"/>
          <p:cNvPicPr/>
          <p:nvPr/>
        </p:nvPicPr>
        <p:blipFill>
          <a:blip r:embed="rId5"/>
          <a:stretch/>
        </p:blipFill>
        <p:spPr>
          <a:xfrm>
            <a:off x="-1620720" y="0"/>
            <a:ext cx="1404720" cy="103824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13" descr="05_moon_meteorit_alh-81005"/>
          <p:cNvPicPr/>
          <p:nvPr/>
        </p:nvPicPr>
        <p:blipFill>
          <a:blip r:embed="rId6"/>
          <a:stretch/>
        </p:blipFill>
        <p:spPr>
          <a:xfrm>
            <a:off x="9325080" y="0"/>
            <a:ext cx="1404720" cy="907920"/>
          </a:xfrm>
          <a:prstGeom prst="rect">
            <a:avLst/>
          </a:prstGeom>
          <a:ln w="0">
            <a:noFill/>
          </a:ln>
        </p:spPr>
      </p:pic>
      <p:sp>
        <p:nvSpPr>
          <p:cNvPr id="780" name="AutoShape 15"/>
          <p:cNvSpPr/>
          <p:nvPr/>
        </p:nvSpPr>
        <p:spPr>
          <a:xfrm>
            <a:off x="1042920" y="5013360"/>
            <a:ext cx="576360" cy="647640"/>
          </a:xfrm>
          <a:custGeom>
            <a:avLst/>
            <a:gdLst/>
            <a:ahLst/>
            <a:rect l="l" t="t" r="r" b="b"/>
            <a:pathLst>
              <a:path w="576262" h="647700">
                <a:moveTo>
                  <a:pt x="1" y="247399"/>
                </a:moveTo>
                <a:lnTo>
                  <a:pt x="220114" y="247400"/>
                </a:lnTo>
                <a:lnTo>
                  <a:pt x="288131" y="0"/>
                </a:lnTo>
                <a:lnTo>
                  <a:pt x="356148" y="247400"/>
                </a:lnTo>
                <a:lnTo>
                  <a:pt x="576261" y="247399"/>
                </a:lnTo>
                <a:lnTo>
                  <a:pt x="398185" y="400299"/>
                </a:lnTo>
                <a:lnTo>
                  <a:pt x="466205" y="647698"/>
                </a:lnTo>
                <a:lnTo>
                  <a:pt x="288131" y="494795"/>
                </a:lnTo>
                <a:lnTo>
                  <a:pt x="110057" y="647698"/>
                </a:lnTo>
                <a:lnTo>
                  <a:pt x="178077" y="400299"/>
                </a:lnTo>
                <a:lnTo>
                  <a:pt x="1" y="247399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AutoShape 17"/>
          <p:cNvSpPr/>
          <p:nvPr/>
        </p:nvSpPr>
        <p:spPr>
          <a:xfrm>
            <a:off x="3592440" y="541440"/>
            <a:ext cx="611280" cy="539640"/>
          </a:xfrm>
          <a:custGeom>
            <a:avLst/>
            <a:gdLst/>
            <a:ahLst/>
            <a:rect l="l" t="t" r="r" b="b"/>
            <a:pathLst>
              <a:path w="611187" h="539750">
                <a:moveTo>
                  <a:pt x="1" y="206166"/>
                </a:moveTo>
                <a:lnTo>
                  <a:pt x="233454" y="206167"/>
                </a:lnTo>
                <a:lnTo>
                  <a:pt x="305594" y="0"/>
                </a:lnTo>
                <a:lnTo>
                  <a:pt x="377733" y="206167"/>
                </a:lnTo>
                <a:lnTo>
                  <a:pt x="611186" y="206166"/>
                </a:lnTo>
                <a:lnTo>
                  <a:pt x="422318" y="333582"/>
                </a:lnTo>
                <a:lnTo>
                  <a:pt x="494460" y="539749"/>
                </a:lnTo>
                <a:lnTo>
                  <a:pt x="305594" y="412329"/>
                </a:lnTo>
                <a:lnTo>
                  <a:pt x="116727" y="539749"/>
                </a:lnTo>
                <a:lnTo>
                  <a:pt x="188869" y="333582"/>
                </a:lnTo>
                <a:lnTo>
                  <a:pt x="1" y="206166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AutoShape 18"/>
          <p:cNvSpPr/>
          <p:nvPr/>
        </p:nvSpPr>
        <p:spPr>
          <a:xfrm flipV="1" rot="19975800">
            <a:off x="7621560" y="288000"/>
            <a:ext cx="625680" cy="774720"/>
          </a:xfrm>
          <a:custGeom>
            <a:avLst/>
            <a:gdLst/>
            <a:ahLst/>
            <a:rect l="l" t="t" r="r" b="b"/>
            <a:pathLst>
              <a:path w="625475" h="774700">
                <a:moveTo>
                  <a:pt x="1" y="295908"/>
                </a:moveTo>
                <a:lnTo>
                  <a:pt x="238912" y="295910"/>
                </a:lnTo>
                <a:lnTo>
                  <a:pt x="312738" y="0"/>
                </a:lnTo>
                <a:lnTo>
                  <a:pt x="386563" y="295910"/>
                </a:lnTo>
                <a:lnTo>
                  <a:pt x="625474" y="295908"/>
                </a:lnTo>
                <a:lnTo>
                  <a:pt x="432190" y="478789"/>
                </a:lnTo>
                <a:lnTo>
                  <a:pt x="506019" y="774698"/>
                </a:lnTo>
                <a:lnTo>
                  <a:pt x="312738" y="591814"/>
                </a:lnTo>
                <a:lnTo>
                  <a:pt x="119456" y="774698"/>
                </a:lnTo>
                <a:lnTo>
                  <a:pt x="193285" y="478789"/>
                </a:lnTo>
                <a:lnTo>
                  <a:pt x="1" y="295908"/>
                </a:lnTo>
                <a:close/>
              </a:path>
            </a:pathLst>
          </a:custGeom>
          <a:gradFill rotWithShape="0">
            <a:gsLst>
              <a:gs pos="0">
                <a:srgbClr val="ff0066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AutoShape 19"/>
          <p:cNvSpPr/>
          <p:nvPr/>
        </p:nvSpPr>
        <p:spPr>
          <a:xfrm rot="19975200">
            <a:off x="627120" y="787320"/>
            <a:ext cx="1046160" cy="627120"/>
          </a:xfrm>
          <a:custGeom>
            <a:avLst/>
            <a:gdLst/>
            <a:ahLst/>
            <a:rect l="l" t="t" r="r" b="b"/>
            <a:pathLst>
              <a:path w="1046162" h="627063">
                <a:moveTo>
                  <a:pt x="1" y="239516"/>
                </a:moveTo>
                <a:lnTo>
                  <a:pt x="399601" y="239518"/>
                </a:lnTo>
                <a:lnTo>
                  <a:pt x="523081" y="0"/>
                </a:lnTo>
                <a:lnTo>
                  <a:pt x="646561" y="239518"/>
                </a:lnTo>
                <a:lnTo>
                  <a:pt x="1046161" y="239516"/>
                </a:lnTo>
                <a:lnTo>
                  <a:pt x="722877" y="387545"/>
                </a:lnTo>
                <a:lnTo>
                  <a:pt x="846362" y="627061"/>
                </a:lnTo>
                <a:lnTo>
                  <a:pt x="523081" y="479030"/>
                </a:lnTo>
                <a:lnTo>
                  <a:pt x="199800" y="627061"/>
                </a:lnTo>
                <a:lnTo>
                  <a:pt x="323285" y="387545"/>
                </a:lnTo>
                <a:lnTo>
                  <a:pt x="1" y="239516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AutoShape 20"/>
          <p:cNvSpPr/>
          <p:nvPr/>
        </p:nvSpPr>
        <p:spPr>
          <a:xfrm rot="19975200">
            <a:off x="1924200" y="5389200"/>
            <a:ext cx="1062000" cy="1114560"/>
          </a:xfrm>
          <a:custGeom>
            <a:avLst/>
            <a:gdLst/>
            <a:ahLst/>
            <a:rect l="l" t="t" r="r" b="b"/>
            <a:pathLst>
              <a:path w="1062038" h="1114425">
                <a:moveTo>
                  <a:pt x="1" y="425671"/>
                </a:moveTo>
                <a:lnTo>
                  <a:pt x="405665" y="425674"/>
                </a:lnTo>
                <a:lnTo>
                  <a:pt x="531019" y="0"/>
                </a:lnTo>
                <a:lnTo>
                  <a:pt x="656373" y="425674"/>
                </a:lnTo>
                <a:lnTo>
                  <a:pt x="1062037" y="425671"/>
                </a:lnTo>
                <a:lnTo>
                  <a:pt x="733847" y="688750"/>
                </a:lnTo>
                <a:lnTo>
                  <a:pt x="859206" y="1114422"/>
                </a:lnTo>
                <a:lnTo>
                  <a:pt x="531019" y="851339"/>
                </a:lnTo>
                <a:lnTo>
                  <a:pt x="202832" y="1114422"/>
                </a:lnTo>
                <a:lnTo>
                  <a:pt x="328191" y="688750"/>
                </a:lnTo>
                <a:lnTo>
                  <a:pt x="1" y="425671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5" name="Picture 21" descr="earth"/>
          <p:cNvPicPr/>
          <p:nvPr/>
        </p:nvPicPr>
        <p:blipFill>
          <a:blip r:embed="rId7"/>
          <a:stretch/>
        </p:blipFill>
        <p:spPr>
          <a:xfrm>
            <a:off x="6012000" y="3865680"/>
            <a:ext cx="2935080" cy="293364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22" descr="42"/>
          <p:cNvPicPr/>
          <p:nvPr/>
        </p:nvPicPr>
        <p:blipFill>
          <a:blip r:embed="rId8"/>
          <a:stretch/>
        </p:blipFill>
        <p:spPr>
          <a:xfrm>
            <a:off x="3502080" y="422100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23" descr="mars"/>
          <p:cNvPicPr/>
          <p:nvPr/>
        </p:nvPicPr>
        <p:blipFill>
          <a:blip r:embed="rId9"/>
          <a:stretch/>
        </p:blipFill>
        <p:spPr>
          <a:xfrm>
            <a:off x="1757520" y="1295280"/>
            <a:ext cx="863280" cy="86364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24" descr="112"/>
          <p:cNvPicPr/>
          <p:nvPr/>
        </p:nvPicPr>
        <p:blipFill>
          <a:blip r:embed="rId10"/>
          <a:stretch/>
        </p:blipFill>
        <p:spPr>
          <a:xfrm>
            <a:off x="6192720" y="70812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25" descr="upiter"/>
          <p:cNvPicPr/>
          <p:nvPr/>
        </p:nvPicPr>
        <p:blipFill>
          <a:blip r:embed="rId11"/>
          <a:stretch/>
        </p:blipFill>
        <p:spPr>
          <a:xfrm>
            <a:off x="2124000" y="708120"/>
            <a:ext cx="935280" cy="49824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33" descr="56r2"/>
          <p:cNvPicPr/>
          <p:nvPr/>
        </p:nvPicPr>
        <p:blipFill>
          <a:blip r:embed="rId12"/>
          <a:stretch/>
        </p:blipFill>
        <p:spPr>
          <a:xfrm>
            <a:off x="-1371600" y="0"/>
            <a:ext cx="1371600" cy="49536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9" descr="Ракета 4"/>
          <p:cNvPicPr/>
          <p:nvPr/>
        </p:nvPicPr>
        <p:blipFill>
          <a:blip r:embed="rId13"/>
          <a:stretch/>
        </p:blipFill>
        <p:spPr>
          <a:xfrm rot="4138800">
            <a:off x="3017520" y="230040"/>
            <a:ext cx="3079800" cy="2774880"/>
          </a:xfrm>
          <a:prstGeom prst="rect">
            <a:avLst/>
          </a:prstGeom>
          <a:ln w="0">
            <a:noFill/>
          </a:ln>
        </p:spPr>
      </p:pic>
      <p:sp>
        <p:nvSpPr>
          <p:cNvPr id="792" name="TextBox 1"/>
          <p:cNvSpPr/>
          <p:nvPr/>
        </p:nvSpPr>
        <p:spPr>
          <a:xfrm>
            <a:off x="-6480" y="2502000"/>
            <a:ext cx="912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 полёта возвратились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на Землю приземлились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3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3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3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3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74" dur="3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7" dur="3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2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1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399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0" dur="3000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3000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4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5" dur="300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300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409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0" dur="30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30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4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4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4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4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4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4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4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1991 C 0.02951 0.0875 -0.01042 0.2169 -0.09566 0.26829 C -0.1809 0.32084 -0.28021 0.27384 -0.31649 0.16667 C -0.35295 0.05926 -0.31319 -0.06944 -0.2276 -0.12106 C -0.14236 -0.17245 -0.0434 -0.12731 -0.00677 -0.01991 Z">
                                      <p:cBhvr>
                                        <p:cTn id="462" dur="3000" fill="hold"/>
                                        <p:tgtEl>
                                          <p:spTgt spid="7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485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495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500"/>
                            </p:stCondLst>
                            <p:childTnLst>
                              <p:par>
                                <p:cTn id="4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51500"/>
                            </p:stCondLst>
                            <p:childTnLst>
                              <p:par>
                                <p:cTn id="47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7" dur="2000" fill="hold"/>
                                        <p:tgtEl>
                                          <p:spTgt spid="7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3500"/>
                            </p:stCondLst>
                            <p:childTnLst>
                              <p:par>
                                <p:cTn id="4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4500"/>
                            </p:stCondLst>
                            <p:childTnLst>
                              <p:par>
                                <p:cTn id="4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0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5500"/>
                            </p:stCondLst>
                            <p:childTnLst>
                              <p:par>
                                <p:cTn id="4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Прямоугольник 3"/>
          <p:cNvSpPr/>
          <p:nvPr/>
        </p:nvSpPr>
        <p:spPr>
          <a:xfrm>
            <a:off x="2268360" y="1100160"/>
            <a:ext cx="5021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Я узнал…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Я научился…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Я удивился…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4" name="Picture 2" descr=""/>
          <p:cNvPicPr/>
          <p:nvPr/>
        </p:nvPicPr>
        <p:blipFill>
          <a:blip r:embed="rId1"/>
          <a:stretch/>
        </p:blipFill>
        <p:spPr>
          <a:xfrm>
            <a:off x="6877080" y="3962520"/>
            <a:ext cx="1925640" cy="269388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3" descr=""/>
          <p:cNvPicPr/>
          <p:nvPr/>
        </p:nvPicPr>
        <p:blipFill>
          <a:blip r:embed="rId2"/>
          <a:stretch/>
        </p:blipFill>
        <p:spPr>
          <a:xfrm rot="21417000">
            <a:off x="-17280" y="2458800"/>
            <a:ext cx="2381400" cy="420984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14" descr=""/>
          <p:cNvPicPr/>
          <p:nvPr/>
        </p:nvPicPr>
        <p:blipFill>
          <a:blip r:embed="rId3"/>
          <a:stretch/>
        </p:blipFill>
        <p:spPr>
          <a:xfrm>
            <a:off x="3919680" y="4979880"/>
            <a:ext cx="1353960" cy="175752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1" descr="D:\old\Мои документы\Мои рисунки\Анимация\выпуск1\звездочки\zvezdochki-9.gif"/>
          <p:cNvPicPr/>
          <p:nvPr/>
        </p:nvPicPr>
        <p:blipFill>
          <a:blip r:embed="rId4"/>
          <a:stretch/>
        </p:blipFill>
        <p:spPr>
          <a:xfrm flipH="1" rot="10800000">
            <a:off x="0" y="6262560"/>
            <a:ext cx="9144000" cy="59544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1" descr="D:\old\Мои документы\Мои рисунки\Анимация\выпуск1\звездочки\zvezdochki-9.gif"/>
          <p:cNvPicPr/>
          <p:nvPr/>
        </p:nvPicPr>
        <p:blipFill>
          <a:blip r:embed="rId5"/>
          <a:stretch/>
        </p:blipFill>
        <p:spPr>
          <a:xfrm flipH="1" rot="10800000">
            <a:off x="-127080" y="50400"/>
            <a:ext cx="914400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679" name="Рисунок 3" descr="1254227919_black0000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3" descr=""/>
          <p:cNvPicPr/>
          <p:nvPr/>
        </p:nvPicPr>
        <p:blipFill>
          <a:blip r:embed="rId2"/>
          <a:stretch/>
        </p:blipFill>
        <p:spPr>
          <a:xfrm rot="227400">
            <a:off x="6537240" y="2441160"/>
            <a:ext cx="2381400" cy="421020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4" descr=""/>
          <p:cNvPicPr/>
          <p:nvPr/>
        </p:nvPicPr>
        <p:blipFill>
          <a:blip r:embed="rId3"/>
          <a:stretch/>
        </p:blipFill>
        <p:spPr>
          <a:xfrm rot="20883000">
            <a:off x="166680" y="4846320"/>
            <a:ext cx="1354320" cy="175716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10" descr="D:\old\Мои документы\Мои рисунки\Анимация\выпуск1\звездочки\zvezdochki-42.gif"/>
          <p:cNvPicPr/>
          <p:nvPr/>
        </p:nvPicPr>
        <p:blipFill>
          <a:blip r:embed="rId4"/>
          <a:stretch/>
        </p:blipFill>
        <p:spPr>
          <a:xfrm>
            <a:off x="6000840" y="3429000"/>
            <a:ext cx="799920" cy="79056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3" descr="D:\old\Мои документы\Мои рисунки\Анимация\выпуск1\звездочки\zvezdochki-56.gif"/>
          <p:cNvPicPr/>
          <p:nvPr/>
        </p:nvPicPr>
        <p:blipFill>
          <a:blip r:embed="rId5"/>
          <a:stretch/>
        </p:blipFill>
        <p:spPr>
          <a:xfrm>
            <a:off x="6838920" y="1413000"/>
            <a:ext cx="2305080" cy="1090440"/>
          </a:xfrm>
          <a:prstGeom prst="rect">
            <a:avLst/>
          </a:prstGeom>
          <a:ln w="0">
            <a:noFill/>
          </a:ln>
        </p:spPr>
      </p:pic>
      <p:sp>
        <p:nvSpPr>
          <p:cNvPr id="684" name="TextBox 1"/>
          <p:cNvSpPr/>
          <p:nvPr/>
        </p:nvSpPr>
        <p:spPr>
          <a:xfrm>
            <a:off x="1506600" y="476280"/>
            <a:ext cx="52974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Цамба-дамба, гребешок,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Жаб зелененьких мешок,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Кроли-троли-пампуроли,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Без горчицы и без соли.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Поколдую, пошепчу,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Посолю да поперчу!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Я подую, поколдую,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Сделай все, что захочу!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Сделай так, чтоб сразу мне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Очутиться ну Луне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5" name="Picture 4" descr="D:\old\Мои документы\Мои рисунки\Анимация\выпуск1\звездочки\zvezdochki-39.gif"/>
          <p:cNvPicPr/>
          <p:nvPr/>
        </p:nvPicPr>
        <p:blipFill>
          <a:blip r:embed="rId6"/>
          <a:stretch/>
        </p:blipFill>
        <p:spPr>
          <a:xfrm rot="10416000">
            <a:off x="6787440" y="189720"/>
            <a:ext cx="2143080" cy="147636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4" descr="D:\old\Мои документы\Мои рисунки\Анимация\выпуск1\звездочки\zvezdochki-39.gif"/>
          <p:cNvPicPr/>
          <p:nvPr/>
        </p:nvPicPr>
        <p:blipFill>
          <a:blip r:embed="rId7"/>
          <a:stretch/>
        </p:blipFill>
        <p:spPr>
          <a:xfrm flipH="1" rot="10416000">
            <a:off x="331560" y="122400"/>
            <a:ext cx="1023840" cy="147600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3" descr="D:\old\Мои документы\Мои рисунки\Анимация\выпуск1\звездочки\zvezdochki-56.gif"/>
          <p:cNvPicPr/>
          <p:nvPr/>
        </p:nvPicPr>
        <p:blipFill>
          <a:blip r:embed="rId8"/>
          <a:stretch/>
        </p:blipFill>
        <p:spPr>
          <a:xfrm>
            <a:off x="1442880" y="5624640"/>
            <a:ext cx="1800360" cy="109044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3" descr="D:\old\Мои документы\Мои рисунки\Анимация\выпуск1\звездочки\zvezdochki-56.gif"/>
          <p:cNvPicPr/>
          <p:nvPr/>
        </p:nvPicPr>
        <p:blipFill>
          <a:blip r:embed="rId9"/>
          <a:stretch/>
        </p:blipFill>
        <p:spPr>
          <a:xfrm>
            <a:off x="468360" y="2382840"/>
            <a:ext cx="1527120" cy="109044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4" descr="D:\old\Мои документы\Мои рисунки\Анимация\выпуск1\звездочки\zvezdochki-39.gif"/>
          <p:cNvPicPr/>
          <p:nvPr/>
        </p:nvPicPr>
        <p:blipFill>
          <a:blip r:embed="rId10"/>
          <a:stretch/>
        </p:blipFill>
        <p:spPr>
          <a:xfrm rot="10416000">
            <a:off x="6474600" y="2451960"/>
            <a:ext cx="214308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Заголовок 1" descr=""/>
          <p:cNvPicPr/>
          <p:nvPr/>
        </p:nvPicPr>
        <p:blipFill>
          <a:blip r:embed="rId1"/>
          <a:stretch/>
        </p:blipFill>
        <p:spPr>
          <a:xfrm>
            <a:off x="441360" y="42840"/>
            <a:ext cx="8242200" cy="1152720"/>
          </a:xfrm>
          <a:prstGeom prst="rect">
            <a:avLst/>
          </a:prstGeom>
          <a:ln w="0">
            <a:noFill/>
          </a:ln>
        </p:spPr>
      </p:pic>
      <p:sp>
        <p:nvSpPr>
          <p:cNvPr id="691" name="Прямоугольник 4"/>
          <p:cNvSpPr/>
          <p:nvPr/>
        </p:nvSpPr>
        <p:spPr>
          <a:xfrm>
            <a:off x="4229280" y="113364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 1960 году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Юрий Гагарин</a:t>
            </a: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 начал готовиться к полету в космос. Работал упорно, самозабвенно, с полной отдачей си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Прямоугольник 5"/>
          <p:cNvSpPr/>
          <p:nvPr/>
        </p:nvSpPr>
        <p:spPr>
          <a:xfrm>
            <a:off x="214200" y="5072040"/>
            <a:ext cx="4000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2 апреля 1961 года </a:t>
            </a: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в момент старта, прозвучало его знаменитое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«Поехали»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3" name="Picture 7" descr="52"/>
          <p:cNvPicPr/>
          <p:nvPr/>
        </p:nvPicPr>
        <p:blipFill>
          <a:blip r:embed="rId2"/>
          <a:stretch/>
        </p:blipFill>
        <p:spPr>
          <a:xfrm>
            <a:off x="4430880" y="3068640"/>
            <a:ext cx="4370400" cy="350532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11" descr="000416"/>
          <p:cNvPicPr/>
          <p:nvPr/>
        </p:nvPicPr>
        <p:blipFill>
          <a:blip r:embed="rId3"/>
          <a:stretch/>
        </p:blipFill>
        <p:spPr>
          <a:xfrm>
            <a:off x="596880" y="1225440"/>
            <a:ext cx="3103560" cy="36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4" descr="D:\old\Мои документы\Мои рисунки\Анимация\выпуск1\звездочки\zvezdochki-43.gif"/>
          <p:cNvPicPr/>
          <p:nvPr/>
        </p:nvPicPr>
        <p:blipFill>
          <a:blip r:embed="rId1"/>
          <a:stretch/>
        </p:blipFill>
        <p:spPr>
          <a:xfrm>
            <a:off x="38160" y="6070680"/>
            <a:ext cx="685800" cy="635040"/>
          </a:xfrm>
          <a:prstGeom prst="rect">
            <a:avLst/>
          </a:prstGeom>
          <a:ln w="0">
            <a:noFill/>
          </a:ln>
        </p:spPr>
      </p:pic>
      <p:sp>
        <p:nvSpPr>
          <p:cNvPr id="696" name="Заголовок 1"/>
          <p:cNvSpPr/>
          <p:nvPr/>
        </p:nvSpPr>
        <p:spPr>
          <a:xfrm>
            <a:off x="34920" y="139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b0f0"/>
                </a:solidFill>
                <a:latin typeface="Cambria"/>
              </a:rPr>
              <a:t>Логические концовки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Box 8"/>
          <p:cNvSpPr/>
          <p:nvPr/>
        </p:nvSpPr>
        <p:spPr>
          <a:xfrm>
            <a:off x="816120" y="138276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mbria"/>
              </a:rPr>
              <a:t>1. Если стол выше стула, то стул </a:t>
            </a:r>
            <a:r>
              <a:rPr b="0" lang="ru-RU" sz="1800" spc="-1" strike="noStrike">
                <a:solidFill>
                  <a:srgbClr val="ffff00"/>
                </a:solidFill>
                <a:latin typeface="Cambria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Box 9"/>
          <p:cNvSpPr/>
          <p:nvPr/>
        </p:nvSpPr>
        <p:spPr>
          <a:xfrm>
            <a:off x="816120" y="234936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mbria"/>
              </a:rPr>
              <a:t>2. Если двое больше одного, то один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Box 10"/>
          <p:cNvSpPr/>
          <p:nvPr/>
        </p:nvSpPr>
        <p:spPr>
          <a:xfrm>
            <a:off x="781200" y="314172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mbria"/>
              </a:rPr>
              <a:t>3. Если Саша вышел из дома раньше Сережи, то Сережа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TextBox 11"/>
          <p:cNvSpPr/>
          <p:nvPr/>
        </p:nvSpPr>
        <p:spPr>
          <a:xfrm>
            <a:off x="762120" y="458136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mbria"/>
              </a:rPr>
              <a:t>4. Если река глубже ручейка, то ручеек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Box 12"/>
          <p:cNvSpPr/>
          <p:nvPr/>
        </p:nvSpPr>
        <p:spPr>
          <a:xfrm>
            <a:off x="739800" y="54738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mbria"/>
              </a:rPr>
              <a:t>5. Если сестра младше брата, то брат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2" name="Picture 8" descr="митмитьи"/>
          <p:cNvPicPr/>
          <p:nvPr/>
        </p:nvPicPr>
        <p:blipFill>
          <a:blip r:embed="rId2"/>
          <a:stretch/>
        </p:blipFill>
        <p:spPr>
          <a:xfrm>
            <a:off x="7802640" y="79200"/>
            <a:ext cx="12016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Picture 6" descr="119"/>
          <p:cNvPicPr/>
          <p:nvPr/>
        </p:nvPicPr>
        <p:blipFill>
          <a:blip r:embed="rId1"/>
          <a:stretch/>
        </p:blipFill>
        <p:spPr>
          <a:xfrm>
            <a:off x="7451640" y="476280"/>
            <a:ext cx="1389240" cy="152856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7" descr="119"/>
          <p:cNvPicPr/>
          <p:nvPr/>
        </p:nvPicPr>
        <p:blipFill>
          <a:blip r:embed="rId2"/>
          <a:stretch/>
        </p:blipFill>
        <p:spPr>
          <a:xfrm>
            <a:off x="324000" y="692280"/>
            <a:ext cx="1460520" cy="152856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8" descr="119"/>
          <p:cNvPicPr/>
          <p:nvPr/>
        </p:nvPicPr>
        <p:blipFill>
          <a:blip r:embed="rId3"/>
          <a:stretch/>
        </p:blipFill>
        <p:spPr>
          <a:xfrm>
            <a:off x="7164360" y="3284640"/>
            <a:ext cx="1676520" cy="152856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9" descr="119"/>
          <p:cNvPicPr/>
          <p:nvPr/>
        </p:nvPicPr>
        <p:blipFill>
          <a:blip r:embed="rId4"/>
          <a:stretch/>
        </p:blipFill>
        <p:spPr>
          <a:xfrm>
            <a:off x="3492360" y="836640"/>
            <a:ext cx="1028880" cy="152856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10" descr="119"/>
          <p:cNvPicPr/>
          <p:nvPr/>
        </p:nvPicPr>
        <p:blipFill>
          <a:blip r:embed="rId5"/>
          <a:stretch/>
        </p:blipFill>
        <p:spPr>
          <a:xfrm>
            <a:off x="324000" y="3500280"/>
            <a:ext cx="1388880" cy="152892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1" descr="D:\old\Мои документы\Мои рисунки\Анимация\выпуск1\звездочки\zvezdochki-9.gif"/>
          <p:cNvPicPr/>
          <p:nvPr/>
        </p:nvPicPr>
        <p:blipFill>
          <a:blip r:embed="rId6"/>
          <a:stretch/>
        </p:blipFill>
        <p:spPr>
          <a:xfrm flipH="1" rot="10800000">
            <a:off x="0" y="6262560"/>
            <a:ext cx="9144000" cy="59544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2" descr="dd404d22da000ea0efbed1c5df5b818f"/>
          <p:cNvPicPr/>
          <p:nvPr/>
        </p:nvPicPr>
        <p:blipFill>
          <a:blip r:embed="rId7"/>
          <a:stretch/>
        </p:blipFill>
        <p:spPr>
          <a:xfrm>
            <a:off x="2340000" y="174600"/>
            <a:ext cx="388764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Box 2"/>
          <p:cNvSpPr/>
          <p:nvPr/>
        </p:nvSpPr>
        <p:spPr>
          <a:xfrm>
            <a:off x="2853360" y="860400"/>
            <a:ext cx="383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,  5,  45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1" name="Picture 7" descr=""/>
          <p:cNvPicPr/>
          <p:nvPr/>
        </p:nvPicPr>
        <p:blipFill>
          <a:blip r:embed="rId1"/>
          <a:stretch/>
        </p:blipFill>
        <p:spPr>
          <a:xfrm>
            <a:off x="0" y="2741760"/>
            <a:ext cx="5718240" cy="409572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7" descr=""/>
          <p:cNvPicPr/>
          <p:nvPr/>
        </p:nvPicPr>
        <p:blipFill>
          <a:blip r:embed="rId2"/>
          <a:srcRect l="20748" t="0" r="0" b="0"/>
          <a:stretch/>
        </p:blipFill>
        <p:spPr>
          <a:xfrm>
            <a:off x="4452840" y="2741760"/>
            <a:ext cx="4532400" cy="409572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1" descr="D:\old\Мои документы\Мои рисунки\Анимация\выпуск1\звездочки\zvezdochki-9.gif"/>
          <p:cNvPicPr/>
          <p:nvPr/>
        </p:nvPicPr>
        <p:blipFill>
          <a:blip r:embed="rId3"/>
          <a:stretch/>
        </p:blipFill>
        <p:spPr>
          <a:xfrm flipH="1" rot="10800000">
            <a:off x="147600" y="2520"/>
            <a:ext cx="9144000" cy="59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5" descr="black43"/>
          <p:cNvPicPr/>
          <p:nvPr/>
        </p:nvPicPr>
        <p:blipFill>
          <a:blip r:embed="rId1"/>
          <a:stretch/>
        </p:blipFill>
        <p:spPr>
          <a:xfrm>
            <a:off x="0" y="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6" descr="black43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55752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7" descr="black43"/>
          <p:cNvPicPr/>
          <p:nvPr/>
        </p:nvPicPr>
        <p:blipFill>
          <a:blip r:embed="rId3"/>
          <a:stretch/>
        </p:blipFill>
        <p:spPr>
          <a:xfrm>
            <a:off x="0" y="331632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8" descr="black43"/>
          <p:cNvPicPr/>
          <p:nvPr/>
        </p:nvPicPr>
        <p:blipFill>
          <a:blip r:embed="rId4"/>
          <a:stretch/>
        </p:blipFill>
        <p:spPr>
          <a:xfrm>
            <a:off x="4338720" y="3300480"/>
            <a:ext cx="4787640" cy="3557520"/>
          </a:xfrm>
          <a:prstGeom prst="rect">
            <a:avLst/>
          </a:prstGeom>
          <a:ln w="0">
            <a:noFill/>
          </a:ln>
        </p:spPr>
      </p:pic>
      <p:sp>
        <p:nvSpPr>
          <p:cNvPr id="718" name="AutoShape 10"/>
          <p:cNvSpPr/>
          <p:nvPr/>
        </p:nvSpPr>
        <p:spPr>
          <a:xfrm rot="19146000">
            <a:off x="6964200" y="4603320"/>
            <a:ext cx="1735200" cy="2157480"/>
          </a:xfrm>
          <a:custGeom>
            <a:avLst/>
            <a:gdLst>
              <a:gd name="textAreaLeft" fmla="*/ 726480 w 1735200"/>
              <a:gd name="textAreaRight" fmla="*/ 1008720 w 1735200"/>
              <a:gd name="textAreaTop" fmla="*/ 903600 h 2157480"/>
              <a:gd name="textAreaBottom" fmla="*/ 1253880 h 2157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AutoShape 9"/>
          <p:cNvSpPr/>
          <p:nvPr/>
        </p:nvSpPr>
        <p:spPr>
          <a:xfrm>
            <a:off x="225360" y="5521320"/>
            <a:ext cx="1106640" cy="1173240"/>
          </a:xfrm>
          <a:custGeom>
            <a:avLst/>
            <a:gdLst>
              <a:gd name="textAreaLeft" fmla="*/ 463320 w 1106640"/>
              <a:gd name="textAreaRight" fmla="*/ 643320 w 1106640"/>
              <a:gd name="textAreaTop" fmla="*/ 491400 h 1173240"/>
              <a:gd name="textAreaBottom" fmla="*/ 681840 h 1173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2da2b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AutoShape 11"/>
          <p:cNvSpPr/>
          <p:nvPr/>
        </p:nvSpPr>
        <p:spPr>
          <a:xfrm rot="19871400">
            <a:off x="7107120" y="1349280"/>
            <a:ext cx="922320" cy="757440"/>
          </a:xfrm>
          <a:custGeom>
            <a:avLst/>
            <a:gdLst/>
            <a:ahLst/>
            <a:rect l="l" t="t" r="r" b="b"/>
            <a:pathLst>
              <a:path w="922337" h="757238">
                <a:moveTo>
                  <a:pt x="1" y="289238"/>
                </a:moveTo>
                <a:lnTo>
                  <a:pt x="352303" y="289240"/>
                </a:lnTo>
                <a:lnTo>
                  <a:pt x="461169" y="0"/>
                </a:lnTo>
                <a:lnTo>
                  <a:pt x="570034" y="289240"/>
                </a:lnTo>
                <a:lnTo>
                  <a:pt x="922336" y="289238"/>
                </a:lnTo>
                <a:lnTo>
                  <a:pt x="637316" y="467997"/>
                </a:lnTo>
                <a:lnTo>
                  <a:pt x="746186" y="757236"/>
                </a:lnTo>
                <a:lnTo>
                  <a:pt x="461169" y="578474"/>
                </a:lnTo>
                <a:lnTo>
                  <a:pt x="176151" y="757236"/>
                </a:lnTo>
                <a:lnTo>
                  <a:pt x="285021" y="467997"/>
                </a:lnTo>
                <a:lnTo>
                  <a:pt x="1" y="28923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AutoShape 15"/>
          <p:cNvSpPr/>
          <p:nvPr/>
        </p:nvSpPr>
        <p:spPr>
          <a:xfrm>
            <a:off x="1042920" y="5013360"/>
            <a:ext cx="576360" cy="647640"/>
          </a:xfrm>
          <a:custGeom>
            <a:avLst/>
            <a:gdLst/>
            <a:ahLst/>
            <a:rect l="l" t="t" r="r" b="b"/>
            <a:pathLst>
              <a:path w="576262" h="647700">
                <a:moveTo>
                  <a:pt x="1" y="247399"/>
                </a:moveTo>
                <a:lnTo>
                  <a:pt x="220114" y="247400"/>
                </a:lnTo>
                <a:lnTo>
                  <a:pt x="288131" y="0"/>
                </a:lnTo>
                <a:lnTo>
                  <a:pt x="356148" y="247400"/>
                </a:lnTo>
                <a:lnTo>
                  <a:pt x="576261" y="247399"/>
                </a:lnTo>
                <a:lnTo>
                  <a:pt x="398185" y="400299"/>
                </a:lnTo>
                <a:lnTo>
                  <a:pt x="466205" y="647698"/>
                </a:lnTo>
                <a:lnTo>
                  <a:pt x="288131" y="494795"/>
                </a:lnTo>
                <a:lnTo>
                  <a:pt x="110057" y="647698"/>
                </a:lnTo>
                <a:lnTo>
                  <a:pt x="178077" y="400299"/>
                </a:lnTo>
                <a:lnTo>
                  <a:pt x="1" y="247399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AutoShape 17"/>
          <p:cNvSpPr/>
          <p:nvPr/>
        </p:nvSpPr>
        <p:spPr>
          <a:xfrm>
            <a:off x="3592440" y="541440"/>
            <a:ext cx="611280" cy="539640"/>
          </a:xfrm>
          <a:custGeom>
            <a:avLst/>
            <a:gdLst/>
            <a:ahLst/>
            <a:rect l="l" t="t" r="r" b="b"/>
            <a:pathLst>
              <a:path w="611187" h="539750">
                <a:moveTo>
                  <a:pt x="1" y="206166"/>
                </a:moveTo>
                <a:lnTo>
                  <a:pt x="233454" y="206167"/>
                </a:lnTo>
                <a:lnTo>
                  <a:pt x="305594" y="0"/>
                </a:lnTo>
                <a:lnTo>
                  <a:pt x="377733" y="206167"/>
                </a:lnTo>
                <a:lnTo>
                  <a:pt x="611186" y="206166"/>
                </a:lnTo>
                <a:lnTo>
                  <a:pt x="422318" y="333582"/>
                </a:lnTo>
                <a:lnTo>
                  <a:pt x="494460" y="539749"/>
                </a:lnTo>
                <a:lnTo>
                  <a:pt x="305594" y="412329"/>
                </a:lnTo>
                <a:lnTo>
                  <a:pt x="116727" y="539749"/>
                </a:lnTo>
                <a:lnTo>
                  <a:pt x="188869" y="333582"/>
                </a:lnTo>
                <a:lnTo>
                  <a:pt x="1" y="206166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AutoShape 18"/>
          <p:cNvSpPr/>
          <p:nvPr/>
        </p:nvSpPr>
        <p:spPr>
          <a:xfrm flipV="1" rot="19975800">
            <a:off x="7621560" y="288000"/>
            <a:ext cx="625680" cy="774720"/>
          </a:xfrm>
          <a:custGeom>
            <a:avLst/>
            <a:gdLst/>
            <a:ahLst/>
            <a:rect l="l" t="t" r="r" b="b"/>
            <a:pathLst>
              <a:path w="625475" h="774700">
                <a:moveTo>
                  <a:pt x="1" y="295908"/>
                </a:moveTo>
                <a:lnTo>
                  <a:pt x="238912" y="295910"/>
                </a:lnTo>
                <a:lnTo>
                  <a:pt x="312738" y="0"/>
                </a:lnTo>
                <a:lnTo>
                  <a:pt x="386563" y="295910"/>
                </a:lnTo>
                <a:lnTo>
                  <a:pt x="625474" y="295908"/>
                </a:lnTo>
                <a:lnTo>
                  <a:pt x="432190" y="478789"/>
                </a:lnTo>
                <a:lnTo>
                  <a:pt x="506019" y="774698"/>
                </a:lnTo>
                <a:lnTo>
                  <a:pt x="312738" y="591814"/>
                </a:lnTo>
                <a:lnTo>
                  <a:pt x="119456" y="774698"/>
                </a:lnTo>
                <a:lnTo>
                  <a:pt x="193285" y="478789"/>
                </a:lnTo>
                <a:lnTo>
                  <a:pt x="1" y="295908"/>
                </a:lnTo>
                <a:close/>
              </a:path>
            </a:pathLst>
          </a:custGeom>
          <a:gradFill rotWithShape="0">
            <a:gsLst>
              <a:gs pos="0">
                <a:srgbClr val="ff0066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AutoShape 19"/>
          <p:cNvSpPr/>
          <p:nvPr/>
        </p:nvSpPr>
        <p:spPr>
          <a:xfrm rot="19975200">
            <a:off x="627120" y="787320"/>
            <a:ext cx="1046160" cy="627120"/>
          </a:xfrm>
          <a:custGeom>
            <a:avLst/>
            <a:gdLst/>
            <a:ahLst/>
            <a:rect l="l" t="t" r="r" b="b"/>
            <a:pathLst>
              <a:path w="1046162" h="627063">
                <a:moveTo>
                  <a:pt x="1" y="239516"/>
                </a:moveTo>
                <a:lnTo>
                  <a:pt x="399601" y="239518"/>
                </a:lnTo>
                <a:lnTo>
                  <a:pt x="523081" y="0"/>
                </a:lnTo>
                <a:lnTo>
                  <a:pt x="646561" y="239518"/>
                </a:lnTo>
                <a:lnTo>
                  <a:pt x="1046161" y="239516"/>
                </a:lnTo>
                <a:lnTo>
                  <a:pt x="722877" y="387545"/>
                </a:lnTo>
                <a:lnTo>
                  <a:pt x="846362" y="627061"/>
                </a:lnTo>
                <a:lnTo>
                  <a:pt x="523081" y="479030"/>
                </a:lnTo>
                <a:lnTo>
                  <a:pt x="199800" y="627061"/>
                </a:lnTo>
                <a:lnTo>
                  <a:pt x="323285" y="387545"/>
                </a:lnTo>
                <a:lnTo>
                  <a:pt x="1" y="239516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AutoShape 20"/>
          <p:cNvSpPr/>
          <p:nvPr/>
        </p:nvSpPr>
        <p:spPr>
          <a:xfrm rot="19975200">
            <a:off x="1924200" y="5389200"/>
            <a:ext cx="1062000" cy="1114560"/>
          </a:xfrm>
          <a:custGeom>
            <a:avLst/>
            <a:gdLst/>
            <a:ahLst/>
            <a:rect l="l" t="t" r="r" b="b"/>
            <a:pathLst>
              <a:path w="1062038" h="1114425">
                <a:moveTo>
                  <a:pt x="1" y="425671"/>
                </a:moveTo>
                <a:lnTo>
                  <a:pt x="405665" y="425674"/>
                </a:lnTo>
                <a:lnTo>
                  <a:pt x="531019" y="0"/>
                </a:lnTo>
                <a:lnTo>
                  <a:pt x="656373" y="425674"/>
                </a:lnTo>
                <a:lnTo>
                  <a:pt x="1062037" y="425671"/>
                </a:lnTo>
                <a:lnTo>
                  <a:pt x="733847" y="688750"/>
                </a:lnTo>
                <a:lnTo>
                  <a:pt x="859206" y="1114422"/>
                </a:lnTo>
                <a:lnTo>
                  <a:pt x="531019" y="851339"/>
                </a:lnTo>
                <a:lnTo>
                  <a:pt x="202832" y="1114422"/>
                </a:lnTo>
                <a:lnTo>
                  <a:pt x="328191" y="688750"/>
                </a:lnTo>
                <a:lnTo>
                  <a:pt x="1" y="425671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6" name="Picture 21" descr="earth"/>
          <p:cNvPicPr/>
          <p:nvPr/>
        </p:nvPicPr>
        <p:blipFill>
          <a:blip r:embed="rId5"/>
          <a:stretch/>
        </p:blipFill>
        <p:spPr>
          <a:xfrm>
            <a:off x="4338720" y="502272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22" descr="42"/>
          <p:cNvPicPr/>
          <p:nvPr/>
        </p:nvPicPr>
        <p:blipFill>
          <a:blip r:embed="rId6"/>
          <a:stretch/>
        </p:blipFill>
        <p:spPr>
          <a:xfrm>
            <a:off x="4788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23" descr="mars"/>
          <p:cNvPicPr/>
          <p:nvPr/>
        </p:nvPicPr>
        <p:blipFill>
          <a:blip r:embed="rId7"/>
          <a:stretch/>
        </p:blipFill>
        <p:spPr>
          <a:xfrm>
            <a:off x="1757520" y="1295280"/>
            <a:ext cx="863280" cy="86364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4" descr="112"/>
          <p:cNvPicPr/>
          <p:nvPr/>
        </p:nvPicPr>
        <p:blipFill>
          <a:blip r:embed="rId8"/>
          <a:stretch/>
        </p:blipFill>
        <p:spPr>
          <a:xfrm>
            <a:off x="6192720" y="66672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25" descr="upiter"/>
          <p:cNvPicPr/>
          <p:nvPr/>
        </p:nvPicPr>
        <p:blipFill>
          <a:blip r:embed="rId9"/>
          <a:stretch/>
        </p:blipFill>
        <p:spPr>
          <a:xfrm>
            <a:off x="2124000" y="708120"/>
            <a:ext cx="935280" cy="49824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33" descr="56r2"/>
          <p:cNvPicPr/>
          <p:nvPr/>
        </p:nvPicPr>
        <p:blipFill>
          <a:blip r:embed="rId10"/>
          <a:stretch/>
        </p:blipFill>
        <p:spPr>
          <a:xfrm>
            <a:off x="225360" y="171360"/>
            <a:ext cx="1371600" cy="49536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9" descr="Ракета 4"/>
          <p:cNvPicPr/>
          <p:nvPr/>
        </p:nvPicPr>
        <p:blipFill>
          <a:blip r:embed="rId11"/>
          <a:stretch/>
        </p:blipFill>
        <p:spPr>
          <a:xfrm rot="630600">
            <a:off x="3017880" y="-10800"/>
            <a:ext cx="3078000" cy="2774880"/>
          </a:xfrm>
          <a:prstGeom prst="rect">
            <a:avLst/>
          </a:prstGeom>
          <a:ln w="0">
            <a:noFill/>
          </a:ln>
        </p:spPr>
      </p:pic>
      <p:sp>
        <p:nvSpPr>
          <p:cNvPr id="733" name="TextBox 1"/>
          <p:cNvSpPr/>
          <p:nvPr/>
        </p:nvSpPr>
        <p:spPr>
          <a:xfrm>
            <a:off x="-6480" y="2246400"/>
            <a:ext cx="912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ы летим, летим, летим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 далёкие планет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скорей попасть хотим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1" dur="3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3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88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96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3000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1991 C 0.02951 0.0875 -0.01042 0.2169 -0.09566 0.26829 C -0.1809 0.32084 -0.28021 0.27384 -0.31649 0.16667 C -0.35295 0.05926 -0.31319 -0.06944 -0.2276 -0.12106 C -0.14236 -0.17245 -0.0434 -0.12731 -0.00677 -0.01991 Z">
                                      <p:cBhvr>
                                        <p:cTn id="149" dur="3000" fill="hold"/>
                                        <p:tgtEl>
                                          <p:spTgt spid="7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16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4" dur="2000" fill="hold"/>
                                        <p:tgtEl>
                                          <p:spTgt spid="7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7500"/>
                            </p:stCondLst>
                            <p:childTnLst>
                              <p:par>
                                <p:cTn id="1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48500"/>
                            </p:stCondLst>
                            <p:childTnLst>
                              <p:par>
                                <p:cTn id="1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9500"/>
                            </p:stCondLst>
                            <p:childTnLst>
                              <p:par>
                                <p:cTn id="1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11280" y="-38448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считай-ка!»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0" y="3141360"/>
            <a:ext cx="91440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7 – 6 = 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91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58 + 2 =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6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60 + 9 =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9 – 40 =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9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27 + 3 =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4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82 – 2 =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6 + 3 =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3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78 – 8 =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0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91 -70 =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9 + 30 =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9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92 - 90 =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65 + 4 =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6" name="Picture 2" descr=""/>
          <p:cNvPicPr/>
          <p:nvPr/>
        </p:nvPicPr>
        <p:blipFill>
          <a:blip r:embed="rId1"/>
          <a:srcRect l="7792" t="15180" r="42951" b="27557"/>
          <a:stretch/>
        </p:blipFill>
        <p:spPr>
          <a:xfrm>
            <a:off x="2987640" y="981000"/>
            <a:ext cx="2736720" cy="206712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1" descr="D:\old\Мои документы\Мои рисунки\Анимация\выпуск1\звездочки\zvezdochki-9.gif"/>
          <p:cNvPicPr/>
          <p:nvPr/>
        </p:nvPicPr>
        <p:blipFill>
          <a:blip r:embed="rId2"/>
          <a:stretch/>
        </p:blipFill>
        <p:spPr>
          <a:xfrm flipH="1" rot="10800000">
            <a:off x="0" y="6262560"/>
            <a:ext cx="9144000" cy="59544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12" descr="119"/>
          <p:cNvPicPr/>
          <p:nvPr/>
        </p:nvPicPr>
        <p:blipFill>
          <a:blip r:embed="rId3"/>
          <a:stretch/>
        </p:blipFill>
        <p:spPr>
          <a:xfrm>
            <a:off x="6649920" y="966960"/>
            <a:ext cx="1747800" cy="152856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2" descr="119"/>
          <p:cNvPicPr/>
          <p:nvPr/>
        </p:nvPicPr>
        <p:blipFill>
          <a:blip r:embed="rId4"/>
          <a:stretch/>
        </p:blipFill>
        <p:spPr>
          <a:xfrm>
            <a:off x="393840" y="1781280"/>
            <a:ext cx="1747800" cy="152856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12" descr="119"/>
          <p:cNvPicPr/>
          <p:nvPr/>
        </p:nvPicPr>
        <p:blipFill>
          <a:blip r:embed="rId5"/>
          <a:stretch/>
        </p:blipFill>
        <p:spPr>
          <a:xfrm>
            <a:off x="7539120" y="252360"/>
            <a:ext cx="1747800" cy="152892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12" descr="119"/>
          <p:cNvPicPr/>
          <p:nvPr/>
        </p:nvPicPr>
        <p:blipFill>
          <a:blip r:embed="rId6"/>
          <a:stretch/>
        </p:blipFill>
        <p:spPr>
          <a:xfrm>
            <a:off x="7412040" y="1963800"/>
            <a:ext cx="1749600" cy="15285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2" descr=""/>
          <p:cNvPicPr/>
          <p:nvPr/>
        </p:nvPicPr>
        <p:blipFill>
          <a:blip r:embed="rId7"/>
          <a:stretch/>
        </p:blipFill>
        <p:spPr>
          <a:xfrm>
            <a:off x="1747800" y="1249200"/>
            <a:ext cx="1749600" cy="153036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12" descr="119"/>
          <p:cNvPicPr/>
          <p:nvPr/>
        </p:nvPicPr>
        <p:blipFill>
          <a:blip r:embed="rId8"/>
          <a:stretch/>
        </p:blipFill>
        <p:spPr>
          <a:xfrm>
            <a:off x="684360" y="485640"/>
            <a:ext cx="174780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5" descr="black43"/>
          <p:cNvPicPr/>
          <p:nvPr/>
        </p:nvPicPr>
        <p:blipFill>
          <a:blip r:embed="rId1"/>
          <a:stretch/>
        </p:blipFill>
        <p:spPr>
          <a:xfrm>
            <a:off x="0" y="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6" descr="black43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55752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7" descr="black43"/>
          <p:cNvPicPr/>
          <p:nvPr/>
        </p:nvPicPr>
        <p:blipFill>
          <a:blip r:embed="rId3"/>
          <a:stretch/>
        </p:blipFill>
        <p:spPr>
          <a:xfrm>
            <a:off x="0" y="331632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8" descr="black43"/>
          <p:cNvPicPr/>
          <p:nvPr/>
        </p:nvPicPr>
        <p:blipFill>
          <a:blip r:embed="rId4"/>
          <a:stretch/>
        </p:blipFill>
        <p:spPr>
          <a:xfrm>
            <a:off x="4338720" y="3300480"/>
            <a:ext cx="4787640" cy="3557520"/>
          </a:xfrm>
          <a:prstGeom prst="rect">
            <a:avLst/>
          </a:prstGeom>
          <a:ln w="0">
            <a:noFill/>
          </a:ln>
        </p:spPr>
      </p:pic>
      <p:sp>
        <p:nvSpPr>
          <p:cNvPr id="748" name="AutoShape 10"/>
          <p:cNvSpPr/>
          <p:nvPr/>
        </p:nvSpPr>
        <p:spPr>
          <a:xfrm rot="19146000">
            <a:off x="6964200" y="4603320"/>
            <a:ext cx="1735200" cy="2157480"/>
          </a:xfrm>
          <a:custGeom>
            <a:avLst/>
            <a:gdLst>
              <a:gd name="textAreaLeft" fmla="*/ 726480 w 1735200"/>
              <a:gd name="textAreaRight" fmla="*/ 1008720 w 1735200"/>
              <a:gd name="textAreaTop" fmla="*/ 903600 h 2157480"/>
              <a:gd name="textAreaBottom" fmla="*/ 1253880 h 2157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AutoShape 9"/>
          <p:cNvSpPr/>
          <p:nvPr/>
        </p:nvSpPr>
        <p:spPr>
          <a:xfrm>
            <a:off x="225360" y="5521320"/>
            <a:ext cx="1106640" cy="1173240"/>
          </a:xfrm>
          <a:custGeom>
            <a:avLst/>
            <a:gdLst>
              <a:gd name="textAreaLeft" fmla="*/ 463320 w 1106640"/>
              <a:gd name="textAreaRight" fmla="*/ 643320 w 1106640"/>
              <a:gd name="textAreaTop" fmla="*/ 491400 h 1173240"/>
              <a:gd name="textAreaBottom" fmla="*/ 681840 h 1173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AutoShape 11"/>
          <p:cNvSpPr/>
          <p:nvPr/>
        </p:nvSpPr>
        <p:spPr>
          <a:xfrm rot="19871400">
            <a:off x="7107120" y="1349280"/>
            <a:ext cx="922320" cy="757440"/>
          </a:xfrm>
          <a:custGeom>
            <a:avLst/>
            <a:gdLst/>
            <a:ahLst/>
            <a:rect l="l" t="t" r="r" b="b"/>
            <a:pathLst>
              <a:path w="922337" h="757238">
                <a:moveTo>
                  <a:pt x="1" y="289238"/>
                </a:moveTo>
                <a:lnTo>
                  <a:pt x="352303" y="289240"/>
                </a:lnTo>
                <a:lnTo>
                  <a:pt x="461169" y="0"/>
                </a:lnTo>
                <a:lnTo>
                  <a:pt x="570034" y="289240"/>
                </a:lnTo>
                <a:lnTo>
                  <a:pt x="922336" y="289238"/>
                </a:lnTo>
                <a:lnTo>
                  <a:pt x="637316" y="467997"/>
                </a:lnTo>
                <a:lnTo>
                  <a:pt x="746186" y="757236"/>
                </a:lnTo>
                <a:lnTo>
                  <a:pt x="461169" y="578474"/>
                </a:lnTo>
                <a:lnTo>
                  <a:pt x="176151" y="757236"/>
                </a:lnTo>
                <a:lnTo>
                  <a:pt x="285021" y="467997"/>
                </a:lnTo>
                <a:lnTo>
                  <a:pt x="1" y="289238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AutoShape 15"/>
          <p:cNvSpPr/>
          <p:nvPr/>
        </p:nvSpPr>
        <p:spPr>
          <a:xfrm>
            <a:off x="1042920" y="5013360"/>
            <a:ext cx="576360" cy="647640"/>
          </a:xfrm>
          <a:custGeom>
            <a:avLst/>
            <a:gdLst/>
            <a:ahLst/>
            <a:rect l="l" t="t" r="r" b="b"/>
            <a:pathLst>
              <a:path w="576262" h="647700">
                <a:moveTo>
                  <a:pt x="1" y="247399"/>
                </a:moveTo>
                <a:lnTo>
                  <a:pt x="220114" y="247400"/>
                </a:lnTo>
                <a:lnTo>
                  <a:pt x="288131" y="0"/>
                </a:lnTo>
                <a:lnTo>
                  <a:pt x="356148" y="247400"/>
                </a:lnTo>
                <a:lnTo>
                  <a:pt x="576261" y="247399"/>
                </a:lnTo>
                <a:lnTo>
                  <a:pt x="398185" y="400299"/>
                </a:lnTo>
                <a:lnTo>
                  <a:pt x="466205" y="647698"/>
                </a:lnTo>
                <a:lnTo>
                  <a:pt x="288131" y="494795"/>
                </a:lnTo>
                <a:lnTo>
                  <a:pt x="110057" y="647698"/>
                </a:lnTo>
                <a:lnTo>
                  <a:pt x="178077" y="400299"/>
                </a:lnTo>
                <a:lnTo>
                  <a:pt x="1" y="247399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AutoShape 17"/>
          <p:cNvSpPr/>
          <p:nvPr/>
        </p:nvSpPr>
        <p:spPr>
          <a:xfrm>
            <a:off x="425520" y="44280"/>
            <a:ext cx="611280" cy="540000"/>
          </a:xfrm>
          <a:custGeom>
            <a:avLst/>
            <a:gdLst/>
            <a:ahLst/>
            <a:rect l="l" t="t" r="r" b="b"/>
            <a:pathLst>
              <a:path w="611188" h="539750">
                <a:moveTo>
                  <a:pt x="1" y="206166"/>
                </a:moveTo>
                <a:lnTo>
                  <a:pt x="233454" y="206167"/>
                </a:lnTo>
                <a:lnTo>
                  <a:pt x="305594" y="0"/>
                </a:lnTo>
                <a:lnTo>
                  <a:pt x="377734" y="206167"/>
                </a:lnTo>
                <a:lnTo>
                  <a:pt x="611187" y="206166"/>
                </a:lnTo>
                <a:lnTo>
                  <a:pt x="422318" y="333582"/>
                </a:lnTo>
                <a:lnTo>
                  <a:pt x="494461" y="539749"/>
                </a:lnTo>
                <a:lnTo>
                  <a:pt x="305594" y="412329"/>
                </a:lnTo>
                <a:lnTo>
                  <a:pt x="116727" y="539749"/>
                </a:lnTo>
                <a:lnTo>
                  <a:pt x="188870" y="333582"/>
                </a:lnTo>
                <a:lnTo>
                  <a:pt x="1" y="206166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AutoShape 18"/>
          <p:cNvSpPr/>
          <p:nvPr/>
        </p:nvSpPr>
        <p:spPr>
          <a:xfrm flipV="1" rot="19975800">
            <a:off x="7621560" y="288000"/>
            <a:ext cx="625680" cy="774720"/>
          </a:xfrm>
          <a:custGeom>
            <a:avLst/>
            <a:gdLst/>
            <a:ahLst/>
            <a:rect l="l" t="t" r="r" b="b"/>
            <a:pathLst>
              <a:path w="625475" h="774700">
                <a:moveTo>
                  <a:pt x="1" y="295908"/>
                </a:moveTo>
                <a:lnTo>
                  <a:pt x="238912" y="295910"/>
                </a:lnTo>
                <a:lnTo>
                  <a:pt x="312738" y="0"/>
                </a:lnTo>
                <a:lnTo>
                  <a:pt x="386563" y="295910"/>
                </a:lnTo>
                <a:lnTo>
                  <a:pt x="625474" y="295908"/>
                </a:lnTo>
                <a:lnTo>
                  <a:pt x="432190" y="478789"/>
                </a:lnTo>
                <a:lnTo>
                  <a:pt x="506019" y="774698"/>
                </a:lnTo>
                <a:lnTo>
                  <a:pt x="312738" y="591814"/>
                </a:lnTo>
                <a:lnTo>
                  <a:pt x="119456" y="774698"/>
                </a:lnTo>
                <a:lnTo>
                  <a:pt x="193285" y="478789"/>
                </a:lnTo>
                <a:lnTo>
                  <a:pt x="1" y="295908"/>
                </a:lnTo>
                <a:close/>
              </a:path>
            </a:pathLst>
          </a:custGeom>
          <a:gradFill rotWithShape="0">
            <a:gsLst>
              <a:gs pos="0">
                <a:srgbClr val="ff0066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AutoShape 19"/>
          <p:cNvSpPr/>
          <p:nvPr/>
        </p:nvSpPr>
        <p:spPr>
          <a:xfrm rot="19975200">
            <a:off x="627120" y="787320"/>
            <a:ext cx="1046160" cy="627120"/>
          </a:xfrm>
          <a:custGeom>
            <a:avLst/>
            <a:gdLst/>
            <a:ahLst/>
            <a:rect l="l" t="t" r="r" b="b"/>
            <a:pathLst>
              <a:path w="1046162" h="627063">
                <a:moveTo>
                  <a:pt x="1" y="239516"/>
                </a:moveTo>
                <a:lnTo>
                  <a:pt x="399601" y="239518"/>
                </a:lnTo>
                <a:lnTo>
                  <a:pt x="523081" y="0"/>
                </a:lnTo>
                <a:lnTo>
                  <a:pt x="646561" y="239518"/>
                </a:lnTo>
                <a:lnTo>
                  <a:pt x="1046161" y="239516"/>
                </a:lnTo>
                <a:lnTo>
                  <a:pt x="722877" y="387545"/>
                </a:lnTo>
                <a:lnTo>
                  <a:pt x="846362" y="627061"/>
                </a:lnTo>
                <a:lnTo>
                  <a:pt x="523081" y="479030"/>
                </a:lnTo>
                <a:lnTo>
                  <a:pt x="199800" y="627061"/>
                </a:lnTo>
                <a:lnTo>
                  <a:pt x="323285" y="387545"/>
                </a:lnTo>
                <a:lnTo>
                  <a:pt x="1" y="239516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AutoShape 20"/>
          <p:cNvSpPr/>
          <p:nvPr/>
        </p:nvSpPr>
        <p:spPr>
          <a:xfrm rot="19975200">
            <a:off x="1924200" y="5389200"/>
            <a:ext cx="1062000" cy="1114560"/>
          </a:xfrm>
          <a:custGeom>
            <a:avLst/>
            <a:gdLst/>
            <a:ahLst/>
            <a:rect l="l" t="t" r="r" b="b"/>
            <a:pathLst>
              <a:path w="1062038" h="1114425">
                <a:moveTo>
                  <a:pt x="1" y="425671"/>
                </a:moveTo>
                <a:lnTo>
                  <a:pt x="405665" y="425674"/>
                </a:lnTo>
                <a:lnTo>
                  <a:pt x="531019" y="0"/>
                </a:lnTo>
                <a:lnTo>
                  <a:pt x="656373" y="425674"/>
                </a:lnTo>
                <a:lnTo>
                  <a:pt x="1062037" y="425671"/>
                </a:lnTo>
                <a:lnTo>
                  <a:pt x="733847" y="688750"/>
                </a:lnTo>
                <a:lnTo>
                  <a:pt x="859206" y="1114422"/>
                </a:lnTo>
                <a:lnTo>
                  <a:pt x="531019" y="851339"/>
                </a:lnTo>
                <a:lnTo>
                  <a:pt x="202832" y="1114422"/>
                </a:lnTo>
                <a:lnTo>
                  <a:pt x="328191" y="688750"/>
                </a:lnTo>
                <a:lnTo>
                  <a:pt x="1" y="425671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6" name="Picture 21" descr="earth"/>
          <p:cNvPicPr/>
          <p:nvPr/>
        </p:nvPicPr>
        <p:blipFill>
          <a:blip r:embed="rId5"/>
          <a:stretch/>
        </p:blipFill>
        <p:spPr>
          <a:xfrm>
            <a:off x="4338720" y="490536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2" descr="42"/>
          <p:cNvPicPr/>
          <p:nvPr/>
        </p:nvPicPr>
        <p:blipFill>
          <a:blip r:embed="rId6"/>
          <a:stretch/>
        </p:blipFill>
        <p:spPr>
          <a:xfrm>
            <a:off x="4788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23" descr="mars"/>
          <p:cNvPicPr/>
          <p:nvPr/>
        </p:nvPicPr>
        <p:blipFill>
          <a:blip r:embed="rId7"/>
          <a:stretch/>
        </p:blipFill>
        <p:spPr>
          <a:xfrm>
            <a:off x="1757520" y="1295280"/>
            <a:ext cx="863280" cy="86364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24" descr="112"/>
          <p:cNvPicPr/>
          <p:nvPr/>
        </p:nvPicPr>
        <p:blipFill>
          <a:blip r:embed="rId8"/>
          <a:stretch/>
        </p:blipFill>
        <p:spPr>
          <a:xfrm>
            <a:off x="6192720" y="66672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25" descr="upiter"/>
          <p:cNvPicPr/>
          <p:nvPr/>
        </p:nvPicPr>
        <p:blipFill>
          <a:blip r:embed="rId9"/>
          <a:stretch/>
        </p:blipFill>
        <p:spPr>
          <a:xfrm>
            <a:off x="2124000" y="708120"/>
            <a:ext cx="935280" cy="49824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33" descr="56r2"/>
          <p:cNvPicPr/>
          <p:nvPr/>
        </p:nvPicPr>
        <p:blipFill>
          <a:blip r:embed="rId10"/>
          <a:stretch/>
        </p:blipFill>
        <p:spPr>
          <a:xfrm>
            <a:off x="189000" y="3090960"/>
            <a:ext cx="1371600" cy="495360"/>
          </a:xfrm>
          <a:prstGeom prst="rect">
            <a:avLst/>
          </a:prstGeom>
          <a:ln w="0">
            <a:noFill/>
          </a:ln>
        </p:spPr>
      </p:pic>
      <p:sp>
        <p:nvSpPr>
          <p:cNvPr id="762" name="TextBox 1"/>
          <p:cNvSpPr/>
          <p:nvPr/>
        </p:nvSpPr>
        <p:spPr>
          <a:xfrm>
            <a:off x="117360" y="79200"/>
            <a:ext cx="912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ланет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Спортивная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3" name="Picture 7" descr="http://www.nivagold.ru/raznoe1/tansy/PhotoAlbum1/Photo%20015.gif"/>
          <p:cNvPicPr/>
          <p:nvPr/>
        </p:nvPicPr>
        <p:blipFill>
          <a:blip r:embed="rId11"/>
          <a:stretch/>
        </p:blipFill>
        <p:spPr>
          <a:xfrm>
            <a:off x="1962000" y="2079720"/>
            <a:ext cx="5168880" cy="319068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1" descr="D:\old\Мои документы\Мои рисунки\Анимация\выпуск1\звездочки\zvezdochki-9.gif"/>
          <p:cNvPicPr/>
          <p:nvPr/>
        </p:nvPicPr>
        <p:blipFill>
          <a:blip r:embed="rId12"/>
          <a:stretch/>
        </p:blipFill>
        <p:spPr>
          <a:xfrm flipH="1" rot="10800000">
            <a:off x="146160" y="6242040"/>
            <a:ext cx="9144000" cy="595440"/>
          </a:xfrm>
          <a:prstGeom prst="rect">
            <a:avLst/>
          </a:prstGeom>
          <a:ln w="0">
            <a:noFill/>
          </a:ln>
        </p:spPr>
      </p:pic>
      <p:pic>
        <p:nvPicPr>
          <p:cNvPr id="765" name="Кузнечик.mp3" descr=""/>
          <p:cNvPicPr/>
          <p:nvPr/>
        </p:nvPicPr>
        <p:blipFill>
          <a:blip r:embed="rId13"/>
          <a:stretch/>
        </p:blipFill>
        <p:spPr>
          <a:xfrm>
            <a:off x="2211480" y="483552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3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29" dur="3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2" dur="3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46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254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5" dur="3000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3000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2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2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1991 C 0.02951 0.0875 -0.01042 0.2169 -0.09566 0.26829 C -0.1809 0.32084 -0.28021 0.27384 -0.31649 0.16667 C -0.35295 0.05926 -0.31319 -0.06944 -0.2276 -0.12106 C -0.14236 -0.17245 -0.0434 -0.12731 -0.00677 -0.01991 Z">
                                      <p:cBhvr>
                                        <p:cTn id="307" dur="3000" fill="hold"/>
                                        <p:tgtEl>
                                          <p:spTgt spid="7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32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2" dur="2000" fill="hold"/>
                                        <p:tgtEl>
                                          <p:spTgt spid="7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47500"/>
                            </p:stCondLst>
                            <p:childTnLst>
                              <p:par>
                                <p:cTn id="3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5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48500"/>
                            </p:stCondLst>
                            <p:childTnLst>
                              <p:par>
                                <p:cTn id="3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2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49500"/>
                            </p:stCondLst>
                            <p:childTnLst>
                              <p:par>
                                <p:cTn id="3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765"/>
                    </p:tgtEl>
                  </p:cond>
                </p:stCondLst>
                <p:childTnLst>
                  <p:par>
                    <p:cTn id="342" nodeType="clickEffect" fill="hold">
                      <p:stCondLst>
                        <p:cond evt="onClick">
                          <p:tgtEl>
                            <p:spTgt spid="765"/>
                          </p:tgtEl>
                        </p:cond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5" dur="37061" fill="hold"/>
                                        <p:tgtEl>
                                          <p:spTgt spid="7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8T19:05:30Z</dcterms:created>
  <dc:creator>SamLab.ws</dc:creator>
  <dc:description/>
  <dc:language>en-US</dc:language>
  <cp:lastModifiedBy>Татьяна</cp:lastModifiedBy>
  <dcterms:modified xsi:type="dcterms:W3CDTF">2024-03-24T17:25:00Z</dcterms:modified>
  <cp:revision>29</cp:revision>
  <dc:subject/>
  <dc:title>Слайд 1</dc:title>
</cp:coreProperties>
</file>