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100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54200"/>
            <a:ext cx="5024520" cy="376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91D9-A9DE-4378-9DE6-488D3C9EA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6714-D685-494F-BB6F-5FE6C3BBF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 ЗАНЯТИЙ ИЗ ТРЕНИНГА ПО КОНСТРУКТИВНОМУ ОБЩЕНИЮ, РЕКЛАМА ПРОФИЛАКТИЧЕСК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AF7-E09D-4DBB-863F-67301992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3A5-F133-4F7E-A560-299F91AD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60C-16FA-40EA-B075-1A71C6E8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478-546E-4B79-9E7B-B36A67D0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A5D2D-294A-46A6-91F8-024D2349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B16C6-3086-4485-9B43-5C7E943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1358C-08B1-4232-A637-354369DE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AAF47-54E5-4B8F-ADCA-4AEB3DCA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9BAD7-F56D-4306-B840-6DF2478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BF39A-BFE0-4CBC-B719-4CDCEE16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3DB65-4BF5-4DD9-9C84-64E8B5A7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E0D-31EC-4B47-9466-13742BB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3F689-7D16-4237-BCFB-61B5DFF4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AC0C0-D053-4091-BFF8-9B51278E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EF737-B24A-4F82-9A45-A8A7F22F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33350-995F-4CDA-9D17-06923F3C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5A23C-0093-4BE5-925A-53A60D47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396-657F-48F6-A6CC-F1558639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582-15FF-474F-A4F5-BA356A13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C87-9146-4B93-8724-FDB63022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90F-BD3A-43D8-824C-3740FF4D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3B8-0E14-45E4-BEA8-A9721D21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6F9-843B-4A2D-B89B-75972CF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A38-2B88-484C-AB2F-034D169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B0B3-CBBA-4BA4-9E30-FCCB4E524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210-7BF4-4413-AB28-F5CEDD2A0D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4320" y="1557000"/>
            <a:ext cx="7143480" cy="4103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БОУ СОШ №93</a:t>
            </a: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«Причины формирования и профилактика деструктивного  поведение обучающихся»</a:t>
            </a:r>
            <a:br>
              <a:rPr sz="3200"/>
            </a:br>
            <a:br>
              <a:rPr sz="4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дагог-психолог  Билан Я.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8524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ормы деструктивного прояв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785520"/>
            <a:ext cx="8771040" cy="60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социальное, антисоциальное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ддиктивное (зависимое)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утодеструктивное, аутоагрессивное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Экстрем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Терроризм;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Фана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Радикал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атан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веденческие расстройства вследствие употребления психоактивных вещест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по отношению к себе: зацепинг, паркур, шрамирование и др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143680" y="2394000"/>
            <a:ext cx="33350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Формы деструктивного прояв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856800"/>
            <a:ext cx="86612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тисоциальное повед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, противоречащее правовым нормам и угрожающее социальному порядку и благополучию окружающи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илие над более младшими и слабыми               сверстниками, буллинг, животны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ровство и краж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лкое хулиган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ндал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ча чужого имуще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рговля наркоти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ормы деструктивного проявления: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642960"/>
            <a:ext cx="8412120" cy="59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социальное поведени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лонение от выполнения морально-нравственных норм, принятых в обществе, угрожающее благополучию межличностных отнош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беги из до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стематические пропуски в школ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грессивное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ж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могатель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спорядочные половые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енные надписи и рисунки                непристойного характ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нормативная лекс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852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ормы деструктивного проявления:</a:t>
            </a:r>
            <a:br>
              <a:rPr sz="40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утодеструктивное поведение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, отклоняющееся от медицинских и психологических норм, угрожающее целостности и развитию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е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ксиком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ком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крытие ве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оголиз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ици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4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горитм действий психолого-педагогического сопровож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999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Групповое изучение класса или обучающихся, требующие повышенного вним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Диагностика индивидуальная, групповая (наблюдение, опрос, тесты, соц.исследования, мониторинги и т.д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Работа с  «группой особого внима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Просветительская (индивидуальная, групповая) работа с детьми, педагогами и родител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Рекоменд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Психолого-педагогическое сопровождение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17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Рекомендации педагога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1440" y="620280"/>
            <a:ext cx="9144000" cy="59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 шага снижения агрессии у подрост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ш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Гармонизация эмоциональной сферы подростка (организация различных мероприятий, где подросток получит положительный опыт). Например, такие мероприятия, как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брика звез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ута сла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ка знаком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тавка достиж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 А также организация психологических игр, которые способствуют отреагированию отрицательных эмо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ш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Реабилита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ростка. Организация различных игр, клубов, обсужд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ий ш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ереориентация поведения. В основном, на этом этапе начинают работу в тренинговых группах по снятию агресс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тренинга хорошо использовать театральные игры, эмоциональные этюды, игры-путешествия, игры с куклами, игры с глиной (соленым тестом или пластилином)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нинги по снятию агрессии должны решать следующие 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ть атмосферу взаимного признания, безопасности и поддерж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 уникальности, таким образом, стимулируя толерант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 развитие навыков уверенного пове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чь найти свою позицию в общении на основе анализа агрессивных установок в отношении люд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вертый ш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Работа с родителями: решение эмоциональных, личностных проблем, потом переориентация родительского пове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Тихонько в душу загляну…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Всё передвину, переставлю!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А  может, всё, как есть, оставлю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Лишь пыль сотру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Цветы поставлю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окна настежь распахну…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550080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3716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«Отыщи всему начало, и ты многое поймешь…»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                            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                                                Козьма Прутков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s://cloudstatic.eva.ru/eva/220000-230000/220612/channel/war-at-home-e1483947254830_14259337299946688.jpg?H"/>
          <p:cNvPicPr/>
          <p:nvPr/>
        </p:nvPicPr>
        <p:blipFill>
          <a:blip r:embed="rId1"/>
          <a:stretch/>
        </p:blipFill>
        <p:spPr>
          <a:xfrm>
            <a:off x="2571840" y="4500720"/>
            <a:ext cx="3692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еструктивное (разрушающее) поведение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ие или вербальные проявления деятельности индивида, направленные на разрушение чего-либ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ет две основные форм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евиантное повед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лоняющееся) 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поступков или отдельные поступки, противоречащие принятым в обществе правовым или нравственным нормам (уголовно ненаказуем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елинквентное повед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елинквент -правонарушитель)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е поведение в случаях противоправных, противозаконных и преступных поступков, влекущие уголовную ответстве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50000"/>
              </a:lnSpc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еструктивное поведение проявляется 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267920"/>
            <a:ext cx="7710480" cy="47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структивном изменении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а и темперамен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и неправильной 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амооцен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ажении личностных мотивов и потребнос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и контролировать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и отношений с людь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55640" y="62028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нешняя реакция поведения проявляется в движениях, поступках и словах, т.е., если говорить о деструктивной реакции, это может быть жестокое обращение с животными, </a:t>
            </a:r>
            <a:r>
              <a:rPr b="0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оровство и кражи, </a:t>
            </a:r>
            <a:r>
              <a:rPr b="0" lang="uk-UA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андализм, теракты.</a:t>
            </a:r>
            <a:r>
              <a:rPr b="0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тренняя реакция поведение направлена «внутрь» субъекта. Употребление алкоголя, запрещенных веществ и суицид – это все проявление дестру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120" y="333000"/>
            <a:ext cx="89852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ы, которые оказывают влияние на развитие девиант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360"/>
            <a:ext cx="842472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люди по своей природе могут быть склонны к деструкции. Эти факторы контролируют следующие характеристики: половая принадлежность, возраст, здоровье и выносливость, физическое строение, свойства нервной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деструктивное поведение формируется за счет влияния внешних раздражителей и психологических особенностей, которые определяют характер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99ccff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• </a:t>
            </a:r>
            <a:r>
              <a:rPr b="1" lang="uk-UA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оциальные факторы:</a:t>
            </a:r>
            <a:r>
              <a:rPr b="0" lang="uk-UA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к ним относятся влияние СМИ, общественных традиций, близкое окружение, сем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9218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8059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чины появления деструктивного поведения, связанные с семь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31640" y="1267920"/>
            <a:ext cx="756108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оявление физического или психологического насил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тская психологическая травма: развод родителей, смер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резмерный или недостаточный родительский контро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сутствие одного из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астая смена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резмерная привязанность к ребен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фликты между родителями по поводу вопросов воспитан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7104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чины, обусловливающие  деструктивное повед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3840" y="499680"/>
            <a:ext cx="892980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тсутствие прочных социальных связей  (семья, школа, круг знакомых)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стоянное желание восставать против чего-либо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признание авторитетов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ильное стремление к независимости;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тчужденность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чувство безнадежност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теря уверенности в себе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способность устанавливать близкие   отнош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дверженность влиянию со стороны сверстников и т.д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заимоотношения со сверстниками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онфликтное отвержение со стороны сверстников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ымогательство денег, давление, шантаж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однократные оскорбления, угрозы, запугивания, униж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нуждение совершать поступки против воли и т.д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Учителя (педагоги), учеба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бвинение ребенка во всех проблемах и трудностях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гативное отношение учителя к ребенку высокой степени выраженност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енденция постоянных придирок и приписок ребенку негативных характеристик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справедливое отношение к ребенку в сравнении с другими детьми и т.д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rcRect l="10379" t="0" r="11118" b="0"/>
          <a:stretch/>
        </p:blipFill>
        <p:spPr>
          <a:xfrm>
            <a:off x="6000840" y="1928880"/>
            <a:ext cx="2979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6:50:35Z</dcterms:created>
  <dc:creator>Знобина Т.В.</dc:creator>
  <dc:description/>
  <dc:language>en-US</dc:language>
  <cp:lastModifiedBy>Виталик</cp:lastModifiedBy>
  <dcterms:modified xsi:type="dcterms:W3CDTF">2024-03-12T16:57:40Z</dcterms:modified>
  <cp:revision>272</cp:revision>
  <dc:subject/>
  <dc:title>Слайд 1</dc:title>
</cp:coreProperties>
</file>