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100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7280" y="754200"/>
            <a:ext cx="5024520" cy="376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206A-E687-4384-8E13-9FB8B586D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9547200"/>
            <a:ext cx="297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8AC7-B4E6-46CB-B1BF-5F6F27AF2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5024520" cy="3768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775040"/>
            <a:ext cx="5486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 ЗАНЯТИЙ ИЗ ТРЕНИНГА ПО КОНСТРУКТИВНОМУ ОБЩЕНИЮ, РЕКЛАМА ПРОФИЛАКТИЧЕСКО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7FE-2D30-428B-A8F2-E097A6CA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0E8-2498-4F4F-8DF5-D007FEFC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1F9-1DFC-4682-B545-25821A8C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CE8-0137-48AD-8ADA-8395DAD7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34910-BD32-45D4-9726-59C53CAE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493E8-EF15-4A79-9C17-43F03A9A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CE222-12AB-4418-9B43-598ED891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B349F-EAEF-4372-91B2-AFDC26D7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1EB89-8398-4AF8-ABB1-0FDE0AD1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3D97F-43B4-4D97-8260-7FAB48CA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48590-322D-401E-905F-624563E7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A0F-4454-4FBF-952F-ADB7AC58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22A8E-1572-4D6F-A51A-FBF54067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186FA-F979-4919-B4C8-711BE4D1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DFB64-68CD-4729-8F75-A47DB297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7B8E9-F934-4217-95E6-273FCA50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A6D43-00A9-402E-B356-8165E58A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F6C-405D-4237-9CB4-E84748FD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969-02E6-4834-BBF4-67454941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A6F-A3A6-4506-9DE8-63081838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9D5-673F-41CE-8026-765AF886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B07-E8F6-4516-87AD-CA1A2AC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3BC-C776-473D-97B1-5A6C6CBC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F13-0075-45BB-9A1D-D8533DB4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695B-1AA0-489B-A141-51A899362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146D-920E-4A47-AC2E-E64F78AACB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14320" y="1557000"/>
            <a:ext cx="7143480" cy="4103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БОУ СОШ №93</a:t>
            </a: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«Причины формирования и профилактика деструктивного  поведение обучающихся»</a:t>
            </a:r>
            <a:br>
              <a:rPr sz="3200"/>
            </a:br>
            <a:br>
              <a:rPr sz="4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дагог-психолог  Билан Я.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8524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ормы деструктивного проявл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785520"/>
            <a:ext cx="8771040" cy="60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Асоциальное, антисоциальное повед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Аддиктивное (зависимое) повед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Аутодеструктивное, аутоагрессивное повед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Экстрем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Терроризм;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Фанат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Радикал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атан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оведенческие расстройства вследствие употребления психоактивных вещест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по отношению к себе: зацепинг, паркур, шрамирование и др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143680" y="2394000"/>
            <a:ext cx="33350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Формы деструктивного проявл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856800"/>
            <a:ext cx="86612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нтисоциальное повед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, противоречащее правовым нормам и угрожающее социальному порядку и благополучию окружающи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илие над более младшими и слабыми               сверстниками, буллинг, животны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ровство и краж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лкое хулиган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андал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рча чужого имуще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рговля наркотик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ормы деструктивного проявления: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480" y="642960"/>
            <a:ext cx="8412120" cy="59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социальное поведени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лонение от выполнения морально-нравственных норм, принятых в обществе, угрожающее благополучию межличностных отнош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беги из дом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стематические пропуски в школ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грессивное повед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ж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могатель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еспорядочные половые свя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тенные надписи и рисунки                непристойного характ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нормативная лекс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8524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ормы деструктивного проявления:</a:t>
            </a:r>
            <a:br>
              <a:rPr sz="40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Аутодеструктивное поведение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, отклоняющееся от медицинских и психологических норм, угрожающее целостности и развитию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ре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ксиком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ком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крытие ве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оголиз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ици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4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горитм действий психолого-педагогического сопровож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999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Групповое изучение класса или обучающихся, требующие повышенного вним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Диагностика индивидуальная, групповая (наблюдение, опрос, тесты, соц.исследования, мониторинги и т.д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Работа с  «группой особого вниман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. Просветительская (индивидуальная, групповая) работа с детьми, педагогами и родител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Рекоменд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Психолого-педагогическое сопровождение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171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Рекомендации педагога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1440" y="620280"/>
            <a:ext cx="9144000" cy="590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ыре шага снижения агрессии у подрост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ш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Гармонизация эмоциональной сферы подростка (организация различных мероприятий, где подросток получит положительный опыт). Например, такие мероприятия, как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брика звез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ута сла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 звез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ка знаком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тавка достиж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 А также организация психологических игр, которые способствуют отреагированию отрицательных эмоц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ш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Реабилита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ростка. Организация различных игр, клубов, обсужд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ий ш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ереориентация поведения. В основном, на этом этапе начинают работу в тренинговых группах по снятию агресс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тренинга хорошо использовать театральные игры, эмоциональные этюды, игры-путешествия, игры с куклами, игры с глиной (соленым тестом или пластилином) 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нинги по снятию агрессии должны решать следующие задач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ть атмосферу взаимного признания, безопасности и поддерж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 уникальности, таким образом, стимулируя толерант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и развитие навыков уверенного пове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чь найти свою позицию в общении на основе анализа агрессивных установок в отношении люд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вертый ша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Работа с родителями: решение эмоциональных, личностных проблем, потом переориентация родительского пове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01040" cy="43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Тихонько в душу загляну…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Всё передвину, переставлю!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А  может, всё, как есть, оставлю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Лишь пыль сотру,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Цветы поставлю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окна настежь распахну…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550080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3716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асибо за вним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400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«Отыщи всему начало, и ты многое поймешь…»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                                           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                                                Козьма Прутков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https://cloudstatic.eva.ru/eva/220000-230000/220612/channel/war-at-home-e1483947254830_14259337299946688.jpg?H"/>
          <p:cNvPicPr/>
          <p:nvPr/>
        </p:nvPicPr>
        <p:blipFill>
          <a:blip r:embed="rId1"/>
          <a:stretch/>
        </p:blipFill>
        <p:spPr>
          <a:xfrm>
            <a:off x="2571840" y="4500720"/>
            <a:ext cx="36925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ctr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еструктивное (разрушающее) поведение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ктические или вербальные проявления деятельности индивида, направленные на разрушение чего-либ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еет две основные форм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евиантное повед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лоняющееся) 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поступков или отдельные поступки, противоречащие принятым в обществе правовым или нравственным нормам (уголовно ненаказуемо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елинквентное повед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делинквент -правонарушитель)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е поведение в случаях противоправных, противозаконных и преступных поступков, влекущие уголовную ответствен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50000"/>
              </a:lnSpc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Деструктивное поведение проявляется 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267920"/>
            <a:ext cx="7710480" cy="47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35000"/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структивном изменении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арактера и темперамен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и неправильной 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амооцен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кажении личностных мотивов и потребност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озможности контролировать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 повед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и отношений с людь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55640" y="62028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нешняя реакция поведения проявляется в движениях, поступках и словах, т.е., если говорить о деструктивной реакции, это может быть жестокое обращение с животными, </a:t>
            </a:r>
            <a:r>
              <a:rPr b="0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оровство и кражи, </a:t>
            </a:r>
            <a:r>
              <a:rPr b="0" lang="uk-UA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вандализм, теракты.</a:t>
            </a:r>
            <a:r>
              <a:rPr b="0" lang="ru-RU" sz="2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тренняя реакция поведение направлена «внутрь» субъекта. Употребление алкоголя, запрещенных веществ и суицид – это все проявление деструк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120" y="333000"/>
            <a:ext cx="89852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кторы, которые оказывают влияние на развитие девиант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360"/>
            <a:ext cx="842472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е факто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люди по своей природе могут быть склонны к деструкции. Эти факторы контролируют следующие характеристики: половая принадлежность, возраст, здоровье и выносливость, физическое строение, свойства нервной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факто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деструктивное поведение формируется за счет влияния внешних раздражителей и психологических особенностей, которые определяют характер челове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99ccff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• </a:t>
            </a:r>
            <a:r>
              <a:rPr b="1" lang="uk-UA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Социальные факторы:</a:t>
            </a:r>
            <a:r>
              <a:rPr b="0" lang="uk-UA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к ним относятся влияние СМИ, общественных традиций, близкое окружение, сем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9218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8059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чины появления деструктивного поведения, связанные с семь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31640" y="1267920"/>
            <a:ext cx="756108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оявление физического или психологического насил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тская психологическая травма: развод родителей, смер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резмерный или недостаточный родительский контро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тсутствие одного из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астая смена роди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резмерная привязанность к ребен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нфликты между родителями по поводу вопросов воспитан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7104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чины, обусловливающие  деструктивное повед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3840" y="499680"/>
            <a:ext cx="8929800" cy="63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тсутствие прочных социальных связей  (семья, школа, круг знакомых)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стоянное желание восставать против чего-либо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епризнание авторитетов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ильное стремление к независимости;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тчужденность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чувство безнадежност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теря уверенности в себе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еспособность устанавливать близкие   отнош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дверженность влиянию со стороны сверстников и т.д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заимоотношения со сверстниками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онфликтное отвержение со стороны сверстников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ымогательство денег, давление, шантаж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еоднократные оскорбления, угрозы, запугивания, униж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нуждение совершать поступки против воли и т.д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Учителя (педагоги), учеба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бвинение ребенка во всех проблемах и трудностях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егативное отношение учителя к ребенку высокой степени выраженност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Тенденция постоянных придирок и приписок ребенку негативных характеристик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есправедливое отношение к ребенку в сравнении с другими детьми и т.д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1"/>
          <a:srcRect l="10379" t="0" r="11118" b="0"/>
          <a:stretch/>
        </p:blipFill>
        <p:spPr>
          <a:xfrm>
            <a:off x="6000840" y="1928880"/>
            <a:ext cx="2979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6:50:35Z</dcterms:created>
  <dc:creator>Знобина Т.В.</dc:creator>
  <dc:description/>
  <dc:language>en-US</dc:language>
  <cp:lastModifiedBy>Виталик</cp:lastModifiedBy>
  <dcterms:modified xsi:type="dcterms:W3CDTF">2024-03-12T16:57:40Z</dcterms:modified>
  <cp:revision>272</cp:revision>
  <dc:subject/>
  <dc:title>Слайд 1</dc:title>
</cp:coreProperties>
</file>