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13.jpeg" ContentType="image/jpe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FD1C-3DF7-447C-82D1-7E3D3AFCC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8893-FDDD-4791-A6E3-E098E3A0F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DC5A-D527-4A97-AAB0-C00A5BB04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4CDD-9397-4455-AC12-14A160760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F3707-E07D-4087-941E-FC42B16D9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3F892-B02B-4F37-84E8-9D4726FA9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914B0-1CAE-4AF7-99E7-A538B39D0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2694C-3578-4583-90FA-1D21FFFB1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E3B6A-35AD-4DB6-B77D-1F6A852E0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589B1-A463-47B6-82CE-AA4FD30C8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43E05-4BB2-448D-B544-3BC6691F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F2F7-46F8-4334-8FB0-55E35215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5519A-B717-4567-8EE5-84CB308C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D1C7B-C5F3-4746-9FE1-1881CED4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890DD-ACF9-44FA-90E2-C81A7EB4F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258AB-0CE7-4FD6-8243-BB527D374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4845E-2630-4EB8-8DAF-336D14D5E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C259B-1924-479A-9B6A-891A968B9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5EA01-A90D-457B-8970-9EA5D9AFD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D7AAB-2C22-4E9D-8905-2500763FA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CEF26-961A-469F-8587-D7EDFDC95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B0C2E-307A-4C97-801C-6607B6F7E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BC65-C0ED-4B7E-8669-5DC36707E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834EA-B844-4EAF-8CDE-4EE2F94F8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53A80-37C0-417D-9907-600263FA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0A576-9025-40B8-AFB2-1FC4F3FB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DB68D-662C-4A4A-996E-4E515896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C3B0A-3DB8-406B-A8DB-8E63F16A3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FD117-C0F1-448D-98E0-CEE37BCAD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CEB29-63F3-4C29-9ED8-54573A333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E8D36-20DA-4EBE-AC04-4780EBE49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82E49-3D8A-4476-A156-89FABBF73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AC127-7EEA-4277-BB98-BF6403DFA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817C-E445-4F86-918A-1EE52BFC3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87542-1A84-48AB-BB09-064E8ABBF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44861-F896-4468-8FB1-990F70133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2BF19-6319-42CB-A9C1-D46B1C2DC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B7421-88C6-4CC9-8D55-4592E8D2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799FC-8940-4EC7-BE80-8B85DAB6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621CA-931A-4756-B48C-814443A4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95B15-A39A-420C-929D-9268B5E07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D7B05-E3D8-4439-998F-DDA8E03D0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A4C8A-764D-408E-9405-5CAFFBA46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BBBF-0C1C-4746-843A-B7DCB17D5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0891-E856-4C3A-A6FD-2660E2E5C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2BDB-81A1-4943-B4C8-FF28F6C1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7B62-E49E-49DD-922C-47EDB67C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6C8D-DED0-41F5-B936-65FC0CE3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1D128-6213-485D-AA51-5D67A671FBA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74A38-3816-47DA-B1A0-BD64E0556886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CD004-E684-47CF-A7FB-B8368270AC01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07E78-E1B4-44C0-A120-C3301855EE9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244440" y="1316160"/>
            <a:ext cx="8150400" cy="19447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84360" y="4220640"/>
            <a:ext cx="7704000" cy="1729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дготовила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едагог дополнительного образован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Баклицкая М.В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2" descr="https://sun6-21.userapi.com/s/v1/ig2/Yl3OItctENWdTU3BtEERkt3qKv5kGsLYSaIn2_B9514Xtt0ROWzewyJQ8up2M1Qr0MU6kJ4iWLZR2b54sQ6YcVS2.jpg?size=1000x1000&amp;quality=95&amp;crop=0,0,1000,1000&amp;ava=1"/>
          <p:cNvPicPr/>
          <p:nvPr/>
        </p:nvPicPr>
        <p:blipFill>
          <a:blip r:embed="rId2"/>
          <a:stretch/>
        </p:blipFill>
        <p:spPr>
          <a:xfrm>
            <a:off x="6372360" y="2205000"/>
            <a:ext cx="25207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Наставничество это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Уважение к личности, ее способностям и праву делать собственный выбор в жизни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Умение слушать и принимать различные точки зрения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Умение сопереживать другому человеку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Умение видеть решения и возможности, а также препятствия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Гибкость и открытость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5" descr="https://leader-id.storage.yandexcloud.net/upload/785542/653c67d3-e6a9-4bfd-afd3-9566640a3351.jpg"/>
          <p:cNvPicPr/>
          <p:nvPr/>
        </p:nvPicPr>
        <p:blipFill>
          <a:blip r:embed="rId1"/>
          <a:stretch/>
        </p:blipFill>
        <p:spPr>
          <a:xfrm>
            <a:off x="1763640" y="3565440"/>
            <a:ext cx="5761080" cy="329256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Хороший наставник обладает также:</a:t>
            </a:r>
            <a:br>
              <a:rPr sz="45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гибкостью мышлени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ритичностью мышлени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ммуникативными способностям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олерантностью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эмпатие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ефлексивностью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эмоциональной устойчивость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24000" y="907920"/>
            <a:ext cx="836280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ctr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Таким образом, в числе основных задач взаимодействия наставника с наставляемым: помощь в определении личных образовательных перспектив, осознании своего образовательного и личностного потенциала; осознанный выбор дальнейших траекторий обучения; развитие гибких навыков (коммуникация, целеполагание, планирование, организация); укрепление связи между региональными образовательными организациями и повышение процента успешно перешедших на новый уровень образовани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7" descr="https://tatelprof.ru/images/10.2022/Prof_19_12_2022_01.jpg"/>
          <p:cNvPicPr/>
          <p:nvPr/>
        </p:nvPicPr>
        <p:blipFill>
          <a:blip r:embed="rId1"/>
          <a:stretch/>
        </p:blipFill>
        <p:spPr>
          <a:xfrm>
            <a:off x="0" y="3549600"/>
            <a:ext cx="4356000" cy="33084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468000" y="836640"/>
            <a:ext cx="8435880" cy="54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Каждый человек имеет право выбора профессии и выбора различных курсов в зависимости от своих личных интересов и планов. Правильный выбор определяет возможность получить рекомендации от наставника, что поможет обучающемуся полностью раскрыться, про- явить себя, реализоваться в избранной профессии в будущем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5" descr="https://prolearning.ru/storage/images/ZDpcEBHUP3mPBqGWAmDA8ug0Xz0cbXP9DSuYBz46.jpg"/>
          <p:cNvPicPr/>
          <p:nvPr/>
        </p:nvPicPr>
        <p:blipFill>
          <a:blip r:embed="rId1"/>
          <a:stretch/>
        </p:blipFill>
        <p:spPr>
          <a:xfrm>
            <a:off x="4224240" y="2890800"/>
            <a:ext cx="4919760" cy="39672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 txBox="1"/>
          <p:nvPr/>
        </p:nvSpPr>
        <p:spPr>
          <a:xfrm>
            <a:off x="-360" y="476280"/>
            <a:ext cx="8218440" cy="57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Сейчас наставничество – это эффективная форма оказания помощи в выборе и адаптации к профессии, обеспечение адаптации к выбору профессии в новых для обучающихся социальных, профессиональных и организационных условиях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Характерные признаки наставничества в профориентации: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профессиональные    взаимоотношения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–    складываются    как в процессе изучения профессии, так и в рамках организации сов- местного труд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иерархичность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– соблюдается порядок подчиненности менее опытного и сведущего авторитетному квалифицированному настав- нику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нацеленность на результат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– решаются практические задачи, реализуются ценностные ориентир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95280" y="691920"/>
            <a:ext cx="8424720" cy="56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аставляемым может стать любой обучающийся по дополнительным    общеобразовательным    программам, а также молодой специалист и педагог на условиях свободного вхождения в выбранную программу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7" descr="https://altai-republic.ru/upload/iblock/649/nastav%20(1).png"/>
          <p:cNvPicPr/>
          <p:nvPr/>
        </p:nvPicPr>
        <p:blipFill>
          <a:blip r:embed="rId1"/>
          <a:stretch/>
        </p:blipFill>
        <p:spPr>
          <a:xfrm>
            <a:off x="1332000" y="3111480"/>
            <a:ext cx="561636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23640" y="836280"/>
            <a:ext cx="8351640" cy="2305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В числе самых распространенных форм наставничества, включающих множественные вариации в зависимости от условий реализации программы наставничества, могут быть выделены: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68000" y="2636640"/>
            <a:ext cx="8218440" cy="368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ученик – ученик;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учитель – учитель;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студент – ученик;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работодатель – ученик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учитель-родитель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В наставничестве в профориентации существует несколько сложившихся подходов: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79280" y="1844280"/>
            <a:ext cx="8964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диагностический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– позволяет выявить склонности и интересы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информационный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– дает возможность разобраться, что происходит на рынке труд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личностно развивающий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– помогает научиться делать осознанный выбор, подчеркивает важность активной жизненной позици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погружение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– это мероприятия, позволяющие почувствовать деятельность изнутри (стажировки, профпробы и др.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Качества успешных наставнико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У наставников имеется искреннее желание быть частью жизни других людей, чтобы помочь им в принятии трудных решений, в вопросах саморазвития и наблюдать, как они становятся лучше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5" descr="https://training-partner.ru/wp-content/uploads/2014/06/mentor-2062999_1280.png"/>
          <p:cNvPicPr/>
          <p:nvPr/>
        </p:nvPicPr>
        <p:blipFill>
          <a:blip r:embed="rId1"/>
          <a:stretch/>
        </p:blipFill>
        <p:spPr>
          <a:xfrm>
            <a:off x="6580080" y="4508640"/>
            <a:ext cx="256392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Содержимое 3" descr="C:\Users\User\Downloads\Наставник.png"/>
          <p:cNvPicPr/>
          <p:nvPr/>
        </p:nvPicPr>
        <p:blipFill>
          <a:blip r:embed="rId1"/>
          <a:stretch/>
        </p:blipFill>
        <p:spPr>
          <a:xfrm>
            <a:off x="539640" y="333360"/>
            <a:ext cx="8280360" cy="59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3-15T07:38:39Z</dcterms:created>
  <dc:creator>User</dc:creator>
  <dc:description/>
  <dc:language>en-US</dc:language>
  <cp:lastModifiedBy>User</cp:lastModifiedBy>
  <dcterms:modified xsi:type="dcterms:W3CDTF">2023-03-15T08:09:30Z</dcterms:modified>
  <cp:revision>5</cp:revision>
  <dc:subject/>
  <dc:title>Наставничество в профориентации в образовательной организации дополнительного образования.</dc:title>
</cp:coreProperties>
</file>