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496-C08F-493C-AC1D-54C7D172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5CE-0F07-4A9C-B907-456F91A9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31E-1C55-4558-AEE2-411BB53C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E41-FC1F-4768-87F4-3CBB709E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39DB-E83B-46E0-BA5C-3A261A8F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F9E1-C5DC-4C1C-A632-84E67E76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ECDC-DD11-4E1F-9318-739F001B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439A-FED8-4B4F-96B8-86AF886A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80DC-8884-4676-9C9C-140670BA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06CF-E5C8-4DF2-895E-866CDC0A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893C-DA7A-496D-AC91-D64080B5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B18-00F7-4DD0-8300-D0157E1B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C590-4544-4A28-8C74-40818F04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5AF2-808A-496F-8448-1EA8D7C1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98F7-A276-408B-928F-6A47905A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3F51-B6F0-47FE-84CC-E665D30D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BD91-1883-4510-A4F5-43D331B6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690E-EAFC-46F1-9573-1E0FEB42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18FE-B2E6-4070-8042-BC3EC1DA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4D53-9F2A-471F-884A-5B286B7B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836CC-1DE3-4712-8AB2-784A8013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04E9-7ECC-476C-A73F-CD4B0762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D44-2869-4F95-9FB1-C54024FB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25A0-412C-40F4-95D7-6F700E89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A130-A7A9-4172-8A14-000AE9D6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76E6D-FA30-4A11-963C-3CFB49C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7C6F-63AE-46DF-99B3-B73242B4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88DD-C455-4CB8-A75D-CACB33F9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91B2-66A5-4A29-B8C7-29FDD45E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502F-6311-4F0B-9717-7873D4AA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02EF-8576-48A7-8B7B-4D7228E5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E134B-5A64-4767-BF31-CB53FA2D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9FB24-9E5C-4F03-83AA-4F452951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2BE-B9FB-42B8-B2B4-742E56AA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5BEA-99B7-430B-A3BC-3A7C126A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7670-7B9A-49BF-80B2-A5831296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68C63-1D5E-4E0A-A0CE-0CAB4F90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2B5B-5631-424B-B603-A32059BC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F7ABB-BC5F-43D5-A036-BCC1AC92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73F95-5DEB-4CA8-B474-E96E73EB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CF10-AB30-4477-B887-096F1E29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CC272-D9D4-42C4-828D-F212C333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F9A0-1C11-41F9-802B-D6638B34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AB4-06E4-4C7C-9FC7-6B5CDF07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38F-26BB-45B8-B89D-D6EDDB00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BCD-AF64-4BC0-9A3A-9B45BA70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00B-13AD-4064-BEB0-6F5A65CE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B7F-4F4D-4107-85EB-A5333780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A4A1-80C6-4BD4-91B7-0D4B10E531E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18B9-E86B-416C-85D3-493F5F0A88A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0EF0-8498-49BB-A8DC-0FD9329D86B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6870-8710-4156-90FC-8C308E4DCF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44440" y="1316160"/>
            <a:ext cx="815040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4360" y="4220640"/>
            <a:ext cx="7704000" cy="1729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ил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дагог дополнительного образова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аклицкая М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https://sun6-21.userapi.com/s/v1/ig2/Yl3OItctENWdTU3BtEERkt3qKv5kGsLYSaIn2_B9514Xtt0ROWzewyJQ8up2M1Qr0MU6kJ4iWLZR2b54sQ6YcVS2.jpg?size=1000x1000&amp;quality=95&amp;crop=0,0,1000,1000&amp;ava=1"/>
          <p:cNvPicPr/>
          <p:nvPr/>
        </p:nvPicPr>
        <p:blipFill>
          <a:blip r:embed="rId2"/>
          <a:stretch/>
        </p:blipFill>
        <p:spPr>
          <a:xfrm>
            <a:off x="6372360" y="2205000"/>
            <a:ext cx="252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Наставничество это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Уважение к личности, ее способностям и праву делать собственный выбор в жизн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Умение слушать и принимать различные точки зре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Умение сопереживать другому человек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Умение видеть решения и возможности, а также препятств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ибкость и открытость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https://leader-id.storage.yandexcloud.net/upload/785542/653c67d3-e6a9-4bfd-afd3-9566640a3351.jpg"/>
          <p:cNvPicPr/>
          <p:nvPr/>
        </p:nvPicPr>
        <p:blipFill>
          <a:blip r:embed="rId1"/>
          <a:stretch/>
        </p:blipFill>
        <p:spPr>
          <a:xfrm>
            <a:off x="1763640" y="3565440"/>
            <a:ext cx="5761080" cy="3292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Хороший наставник обладает также:</a:t>
            </a:r>
            <a:br>
              <a:rPr sz="45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ибкостью мыш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итичностью мыш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муникативными способност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лерантность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мпати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флексивность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моциональной устойчив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24000" y="907920"/>
            <a:ext cx="8362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ким образом, в числе основных задач взаимодействия наставника с наставляемым: помощь в определении личных образовательных перспектив, осознании своего образовательного и личностного потенциала; осознанный выбор дальнейших траекторий обучения; развитие гибких навыков (коммуникация, целеполагание, планирование, организация); укрепление связи между региональными образовательными организациями и повышение процента успешно перешедших на новый уровень образов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https://tatelprof.ru/images/10.2022/Prof_19_12_2022_01.jpg"/>
          <p:cNvPicPr/>
          <p:nvPr/>
        </p:nvPicPr>
        <p:blipFill>
          <a:blip r:embed="rId1"/>
          <a:stretch/>
        </p:blipFill>
        <p:spPr>
          <a:xfrm>
            <a:off x="0" y="3549600"/>
            <a:ext cx="4356000" cy="3308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68000" y="836640"/>
            <a:ext cx="843588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ждый человек имеет право выбора профессии и выбора различных курсов в зависимости от своих личных интересов и планов. Правильный выбор определяет возможность получить рекомендации от наставника, что поможет обучающемуся полностью раскрыться, про- явить себя, реализоваться в избранной профессии в будущ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https://prolearning.ru/storage/images/ZDpcEBHUP3mPBqGWAmDA8ug0Xz0cbXP9DSuYBz46.jpg"/>
          <p:cNvPicPr/>
          <p:nvPr/>
        </p:nvPicPr>
        <p:blipFill>
          <a:blip r:embed="rId1"/>
          <a:stretch/>
        </p:blipFill>
        <p:spPr>
          <a:xfrm>
            <a:off x="4224240" y="2890800"/>
            <a:ext cx="4919760" cy="39672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-360" y="476280"/>
            <a:ext cx="821844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ейчас наставничество – это эффективная форма оказания помощи в выборе и адаптации к профессии, обеспечение адаптации к выбору профессии в новых для обучающихся социальных, профессиональных и организационных условия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Характерные признаки наставничества в профориентации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офессиональные    взаимоотношения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   складываются    как в процессе изучения профессии, так и в рамках организации сов- местного труд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ерархичность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соблюдается порядок подчиненности менее опытного и сведущего авторитетному квалифицированному настав- ни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ацеленность на результат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решаются практические задачи, реализуются ценностные ориенти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5280" y="691920"/>
            <a:ext cx="842472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ставляемым может стать любой обучающийся по дополнительным    общеобразовательным    программам, а также молодой специалист и педагог на условиях свободного вхождения в выбранную программ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7" descr="https://altai-republic.ru/upload/iblock/649/nastav%20(1).png"/>
          <p:cNvPicPr/>
          <p:nvPr/>
        </p:nvPicPr>
        <p:blipFill>
          <a:blip r:embed="rId1"/>
          <a:stretch/>
        </p:blipFill>
        <p:spPr>
          <a:xfrm>
            <a:off x="1332000" y="3111480"/>
            <a:ext cx="56163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351640" cy="23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 числе самых распространенных форм наставничества, включающих множественные вариации в зависимости от условий реализации программы наставничества, могут быть выделены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000" y="2636640"/>
            <a:ext cx="821844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ученик – ученик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учитель – учитель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тудент – ученик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работодатель – ученик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учитель-родител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В наставничестве в профориентации существует несколько сложившихся подходов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84428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иагностически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позволяет выявить склонности и интерес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нформационны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дает возможность разобраться, что происходит на рынке труд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личностно развивающи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помогает научиться делать осознанный выбор, подчеркивает важность активной жизненной пози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гружени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это мероприятия, позволяющие почувствовать деятельность изнутри (стажировки, профпробы и др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ачества успешных наставник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 наставников имеется искреннее желание быть частью жизни других людей, чтобы помочь им в принятии трудных решений, в вопросах саморазвития и наблюдать, как они становятся лучш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5" descr="https://training-partner.ru/wp-content/uploads/2014/06/mentor-2062999_1280.png"/>
          <p:cNvPicPr/>
          <p:nvPr/>
        </p:nvPicPr>
        <p:blipFill>
          <a:blip r:embed="rId1"/>
          <a:stretch/>
        </p:blipFill>
        <p:spPr>
          <a:xfrm>
            <a:off x="6580080" y="4508640"/>
            <a:ext cx="25639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Содержимое 3" descr="C:\Users\User\Downloads\Наставник.png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15T07:38:39Z</dcterms:created>
  <dc:creator>User</dc:creator>
  <dc:description/>
  <dc:language>en-US</dc:language>
  <cp:lastModifiedBy>User</cp:lastModifiedBy>
  <dcterms:modified xsi:type="dcterms:W3CDTF">2023-03-15T08:09:30Z</dcterms:modified>
  <cp:revision>5</cp:revision>
  <dc:subject/>
  <dc:title>Наставничество в профориентации в образовательной организации дополнительного образования.</dc:title>
</cp:coreProperties>
</file>