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2EF-7CB1-4AE7-BFDC-07D5F9A8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E0C-9C6D-4597-886A-1E3C294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3B8-5DDC-40A3-BD9F-F468BEA6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436-510A-4A08-BA69-C1268590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875-BF52-4B75-B8F0-DD892B92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A4C-F06A-4BF0-BF5E-77973B4E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2E1-C4F3-4E4E-A462-228CAB71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AEE-7409-4385-827B-06997A4A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49C-3635-4C3D-8E41-0371E40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B9E-E573-46D7-B9F0-FBB47FB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5B8-2F87-49FE-9EE9-6E8FFD8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5B7-A2BD-450A-BF16-0B6AA1B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611-FDD0-4862-AD70-EB4D05C9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0740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ная долина -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горная впадина большой протяженности при относительно малой ширине, слуащая путем стока поверхностных вод: рек или ледн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010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381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бразуются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88840" y="46080"/>
            <a:ext cx="73407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25T12:22:30Z</dcterms:created>
  <dc:creator>admin</dc:creator>
  <dc:description/>
  <dc:language>en-US</dc:language>
  <cp:lastModifiedBy>admin</cp:lastModifiedBy>
  <dcterms:modified xsi:type="dcterms:W3CDTF">2024-02-25T12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