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C7B-4394-4C52-A394-A7650A5F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53C-334D-440D-8574-E91EA1DA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8ED-A639-442B-8E62-DF7A7EEB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6A1-19D1-4BE7-8311-4C18CC14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6C5-CC4B-4BE2-8EF7-475EE83A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287-8023-4475-BA02-E50D6312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B26-48F2-46C8-85E7-F5B63A59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BE2-82CF-4443-9584-DB00491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ADC-65A8-4ABD-9136-9321FC4A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33A-B897-4623-B9DC-6B50DC2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31E-A870-4063-9FE2-2F0B805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5D3-2B8F-4AA8-A92E-87DA7E32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0441-A347-4880-91E4-CC1E1631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0740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ная долина -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горная впадина большой протяженности при относительно малой ширине, слуащая путем стока поверхностных вод: рек или ледни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010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381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образуются 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88840" y="46080"/>
            <a:ext cx="73407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25T12:22:30Z</dcterms:created>
  <dc:creator>admin</dc:creator>
  <dc:description/>
  <dc:language>en-US</dc:language>
  <cp:lastModifiedBy>admin</cp:lastModifiedBy>
  <dcterms:modified xsi:type="dcterms:W3CDTF">2024-02-25T12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