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FA74D-DBD3-4FF4-AEB9-8D39F692F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5B7B3-156A-4A3A-AD56-5A689FB55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84BDD-578D-4449-A624-CB2E1182E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FA7EC-E872-4E0E-8D7E-ADA0D29E7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663DA-FFD7-44AE-BE42-C66CED737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C98B6-7DE4-4AE0-9770-C9A7FCB9A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16071-2E2F-4089-8857-B86BABBD0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0E840-2427-46E0-B423-C138664D8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89C1B-A4A9-4FC5-BAC8-82A617E7A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249120" y="237960"/>
            <a:ext cx="874872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503280" y="1160640"/>
            <a:ext cx="82994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итать – это ещё ничего не значит: что читать и как понимать читаемое – вот в чём главное де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. Д. Уши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исьмо с дырками»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57120" y="1449720"/>
            <a:ext cx="8572680" cy="451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есна в л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а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а в лесу!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ит весеннее солнце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ёгк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шаю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б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на чуд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ль птиц. Смол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ахл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и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лась моло травка. Выглянул голубенький подснеж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горка зажурча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учеё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осны резвилис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льча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чик спрятался под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ст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лян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вед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ел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и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ж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ст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1857240" y="2000160"/>
            <a:ext cx="571680" cy="2858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5214960" y="2000160"/>
            <a:ext cx="1000080" cy="2145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1643040" y="2357280"/>
            <a:ext cx="1071720" cy="2145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9"/>
          <p:cNvSpPr/>
          <p:nvPr/>
        </p:nvSpPr>
        <p:spPr>
          <a:xfrm>
            <a:off x="5500800" y="2357280"/>
            <a:ext cx="776160" cy="2858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0"/>
          <p:cNvSpPr/>
          <p:nvPr/>
        </p:nvSpPr>
        <p:spPr>
          <a:xfrm>
            <a:off x="2000160" y="2714760"/>
            <a:ext cx="857520" cy="2854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1"/>
          <p:cNvSpPr/>
          <p:nvPr/>
        </p:nvSpPr>
        <p:spPr>
          <a:xfrm>
            <a:off x="7929720" y="2714760"/>
            <a:ext cx="857160" cy="2854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2500200" y="3429000"/>
            <a:ext cx="857520" cy="2858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3"/>
          <p:cNvSpPr/>
          <p:nvPr/>
        </p:nvSpPr>
        <p:spPr>
          <a:xfrm>
            <a:off x="7000920" y="3429000"/>
            <a:ext cx="1857240" cy="2858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4"/>
          <p:cNvSpPr/>
          <p:nvPr/>
        </p:nvSpPr>
        <p:spPr>
          <a:xfrm>
            <a:off x="3786120" y="4143240"/>
            <a:ext cx="857160" cy="2858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5"/>
          <p:cNvSpPr/>
          <p:nvPr/>
        </p:nvSpPr>
        <p:spPr>
          <a:xfrm>
            <a:off x="3429000" y="4572000"/>
            <a:ext cx="857160" cy="2952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6"/>
          <p:cNvSpPr/>
          <p:nvPr/>
        </p:nvSpPr>
        <p:spPr>
          <a:xfrm>
            <a:off x="1857240" y="4929120"/>
            <a:ext cx="857520" cy="2952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7"/>
          <p:cNvSpPr/>
          <p:nvPr/>
        </p:nvSpPr>
        <p:spPr>
          <a:xfrm>
            <a:off x="6000840" y="4857840"/>
            <a:ext cx="857160" cy="2952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8"/>
          <p:cNvSpPr/>
          <p:nvPr/>
        </p:nvSpPr>
        <p:spPr>
          <a:xfrm>
            <a:off x="571680" y="5643720"/>
            <a:ext cx="857160" cy="2952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9"/>
          <p:cNvSpPr/>
          <p:nvPr/>
        </p:nvSpPr>
        <p:spPr>
          <a:xfrm>
            <a:off x="1928880" y="5643720"/>
            <a:ext cx="857160" cy="2952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0" y="0"/>
            <a:ext cx="885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“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за шагом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71680" y="78588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ьзуется для активизации полученных ранее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ники, шагая к доске, на каждый шаг называют термин, понятие, явление и т.д.   из  изученного ранее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428760" y="2214720"/>
            <a:ext cx="821520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дух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Воздух находится повсюду вокруг нас. Он окружает землю сплошным слоем, который называется атмосферой. Чтобы жить, нам необходимо дышать воздух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дух не имеет ни цвета, ни запаха. Но в действительности это смесь различных газов и его можно ощущать. Мы чувствуем, как дует ветер, и знаем, что воздух имеет вес. Воздух, находящийся в обычной комнате, весит около сорока пяти килограммов – примерно, как большой мешок с картошкой! Также воздух распространяет звук – без воздуха мы не могли бы слышать, потому что звуки не могут распространяться в безвоздушном пространстве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В основном воздух состоит из азота и кислорода, газа, который необходим нам для жизни. В воздухе также содержится небольшое количество воды в виде п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142920" y="-142920"/>
            <a:ext cx="88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ssandr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оставление класте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428760" y="785880"/>
            <a:ext cx="84294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тер является приемом графической систематизации материала. Этот прием формирует умения выделять смысловые единицы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500040" y="1928880"/>
            <a:ext cx="828684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1)Вова рос подвижным и сильным мальчиком. (2)Все боялись его. (3)Да и как не бояться такого! (4)Он бил товарищей, стрелял в девочек из рогатки. (5)Собаке Пушку на хвост наступал, коту Мурзею усы выдёргивал, ёжика под диван загонял, даже своей бабушке грубил. (6)Никого не боялся Вова и очень этим гордился. (7)Но недолго. (8)Настал такой день, когда мальчики не захотели с ним играть. (9)Он к девочкам побежал, но и они от него отвернулись. (10)Кинулся Вовка к Пушку, а тот на улицу удрал. (11)Хотел Вова с Мурзеем поиграть. (12)Кот сбежал от Вовы на высокий шкаф. (13)Решил Вова ёжика из-под дивана выманить. (14)Куда там! (15)Ёжик давно в другой дом жить перебрался. (16)Подошёл Вова к бабушке, а она даже глаз не подняла на внука. (17)Сидит в уголке, крупу перебирает да слезинки утирает. (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ступило самое страшное, что только бывает на свете: Вова остался один. (19)Один-одинёшенек!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Овал 1"/>
          <p:cNvSpPr/>
          <p:nvPr/>
        </p:nvSpPr>
        <p:spPr>
          <a:xfrm>
            <a:off x="3571920" y="2786040"/>
            <a:ext cx="1785960" cy="12859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2"/>
          <p:cNvSpPr/>
          <p:nvPr/>
        </p:nvSpPr>
        <p:spPr>
          <a:xfrm rot="20752200">
            <a:off x="1230480" y="941040"/>
            <a:ext cx="2571480" cy="10335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рошие 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3"/>
          <p:cNvSpPr/>
          <p:nvPr/>
        </p:nvSpPr>
        <p:spPr>
          <a:xfrm rot="20776800">
            <a:off x="546120" y="3901680"/>
            <a:ext cx="2082960" cy="9367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ты  В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4"/>
          <p:cNvSpPr/>
          <p:nvPr/>
        </p:nvSpPr>
        <p:spPr>
          <a:xfrm>
            <a:off x="4143240" y="4857840"/>
            <a:ext cx="2928960" cy="15714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авная  мысль  тек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"/>
          <p:cNvSpPr/>
          <p:nvPr/>
        </p:nvSpPr>
        <p:spPr>
          <a:xfrm rot="876600">
            <a:off x="4668840" y="775800"/>
            <a:ext cx="2325600" cy="107172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охие 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7"/>
          <p:cNvSpPr/>
          <p:nvPr/>
        </p:nvSpPr>
        <p:spPr>
          <a:xfrm rot="886200">
            <a:off x="6670440" y="2873160"/>
            <a:ext cx="1936800" cy="102708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4071960" y="3143160"/>
            <a:ext cx="928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 rot="1260600">
            <a:off x="7004160" y="3236760"/>
            <a:ext cx="1785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уп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11"/>
          <p:cNvSpPr/>
          <p:nvPr/>
        </p:nvSpPr>
        <p:spPr>
          <a:xfrm rot="13917600">
            <a:off x="2877120" y="2253600"/>
            <a:ext cx="100008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право 12"/>
          <p:cNvSpPr/>
          <p:nvPr/>
        </p:nvSpPr>
        <p:spPr>
          <a:xfrm rot="18538800">
            <a:off x="4596480" y="2108880"/>
            <a:ext cx="1000080" cy="3574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право 13"/>
          <p:cNvSpPr/>
          <p:nvPr/>
        </p:nvSpPr>
        <p:spPr>
          <a:xfrm rot="20142600">
            <a:off x="2666520" y="3735360"/>
            <a:ext cx="882720" cy="387360"/>
          </a:xfrm>
          <a:prstGeom prst="rightArrow">
            <a:avLst>
              <a:gd name="adj1" fmla="val 50000"/>
              <a:gd name="adj2" fmla="val 4989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право 14"/>
          <p:cNvSpPr/>
          <p:nvPr/>
        </p:nvSpPr>
        <p:spPr>
          <a:xfrm>
            <a:off x="5500800" y="3143160"/>
            <a:ext cx="100008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Мозговой штурм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642960" y="100008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* Учитель обращается к ученикам с вопросом: "Какие ассоциации возникли у вас, когда вы услышали тему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* Учитель записывает все называемые ассоци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* Учитель предлагает прочитать текст и определить, были ли школьники пра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1539000" y="3214800"/>
            <a:ext cx="64976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Лягушка небывалой величины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642960" y="357120"/>
            <a:ext cx="8215200" cy="49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чень давно это было. Пришли в страну жара и засуха. И не стало воды ни в одной реке, пруду или ручье. Люди, животные и птицы начали падать и умирать. Исчезли тучи и облака, и единственной тенью на земле была тень смерти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тали охотники гоняться за дичью и умирали вместе с животными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Собрались те, кто еще был жив, у высохшего главного водопоя и стали обсуждать, куда делась вся вода в стране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азалось, что ее выпила лягушка небывалой величины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решили те, кто был еще жив, люди, животные и птицы, рассмешить лягушку, чтобы вся вода вылилась из нее обратно.    Но напрасно хохотала перед лягушкой птица-хохотунья, напрасно смешно прыгал перед ней кенгуру и танцевал на одной ноге журавль. Лягушка небывалой величины крепко сжала рот и не хотела смеяться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гда забрался маленький юркий червячок на ее брюхо и начал ще­котать его кончиком хвоста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го крепилась гигантская лягушка, но наконец не выдержала, затряслась от смеха, и вода хлынула водопадом из ее огромного рта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сразу наполнились водой реки, пруды и ручьи, и жизнь всего живого была спас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Синквейн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936720" y="1015920"/>
            <a:ext cx="79200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читель предлагает написать синквейн по ключевому слову поработанного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инквейн – «белый стих», слоган из пяти строк (от фр. Cing – пять), в котором синтезирована основная информ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труктура синквей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. Существительное (тем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Два прилагате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Три глаго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Фраза из четырех с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Существите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user</cp:lastModifiedBy>
  <dcterms:modified xsi:type="dcterms:W3CDTF">2022-03-28T12:03:02Z</dcterms:modified>
  <cp:revision>110</cp:revision>
  <dc:subject/>
  <dc:title>Слайд 1</dc:title>
</cp:coreProperties>
</file>