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75F01-3E89-4491-AD95-271A0B1F9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9CA32-B0A7-472B-887A-A2E534A4B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DD4B0-6D99-4FE0-B6CE-CA4590684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77692-C19F-4564-9DFB-5AEAA9406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68ABE-D590-4778-9D39-C46C2922F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22184-6BAA-4991-8277-32B715AF0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73D15-C8A6-4DA2-88F0-4867B03E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B3410-798B-4AF8-B165-C9C684325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B3158-23B7-45B6-8875-27F5B920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49120" y="237960"/>
            <a:ext cx="8748720" cy="42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исьмо с дырками»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57120" y="1449720"/>
            <a:ext cx="8572680" cy="45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сна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в лесу!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т весеннее солнце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гк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ю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на чуд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ль птиц. Смол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ах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и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ась моло травка. Выглянул голубенький подснеж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горка зажурч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чеё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сны резвилис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льч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чик спрятался по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ст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ян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вед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л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т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1857240" y="2000160"/>
            <a:ext cx="57168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5214960" y="2000160"/>
            <a:ext cx="1000080" cy="214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643040" y="2357280"/>
            <a:ext cx="1071720" cy="2145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5500800" y="2357280"/>
            <a:ext cx="77616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2000160" y="2714760"/>
            <a:ext cx="857520" cy="285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1"/>
          <p:cNvSpPr/>
          <p:nvPr/>
        </p:nvSpPr>
        <p:spPr>
          <a:xfrm>
            <a:off x="7929720" y="2714760"/>
            <a:ext cx="857160" cy="285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2500200" y="3429000"/>
            <a:ext cx="85752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7000920" y="3429000"/>
            <a:ext cx="185724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3786120" y="4143240"/>
            <a:ext cx="857160" cy="2858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3429000" y="4572000"/>
            <a:ext cx="85716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6"/>
          <p:cNvSpPr/>
          <p:nvPr/>
        </p:nvSpPr>
        <p:spPr>
          <a:xfrm>
            <a:off x="1857240" y="4929120"/>
            <a:ext cx="85752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6000840" y="4857840"/>
            <a:ext cx="85716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8"/>
          <p:cNvSpPr/>
          <p:nvPr/>
        </p:nvSpPr>
        <p:spPr>
          <a:xfrm>
            <a:off x="571680" y="5643720"/>
            <a:ext cx="85716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9"/>
          <p:cNvSpPr/>
          <p:nvPr/>
        </p:nvSpPr>
        <p:spPr>
          <a:xfrm>
            <a:off x="1928880" y="5643720"/>
            <a:ext cx="857160" cy="295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“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за шагом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71680" y="78588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тся для активизации полученных ранее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ики, шагая к доске, на каждый шаг называют термин, понятие, явление и т.д.   из  изученного ранее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28760" y="2214720"/>
            <a:ext cx="821520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х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Воздух находится повсюду вокруг нас. Он окружает землю сплошным слоем, который называется атмосферой. Чтобы жить, нам необходимо дышать воздух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х не имеет ни цвета, ни запаха. Но в действительности это смесь различных газов и его можно ощущать. Мы чувствуем, как дует ветер, и знаем, что воздух имеет вес. Воздух, находящийся в обычной комнате, весит около сорока пяти килограммов – примерно, как большой мешок с картошкой! Также воздух распространяет звук – без воздуха мы не могли бы слышать, потому что звуки не могут распространяться в безвоздушном пространстве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В основном воздух состоит из азота и кислорода, газа, который необходим нам для жизни. В воздухе также содержится небольшое количество воды в виде п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142920" y="-142920"/>
            <a:ext cx="88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ssandr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ставление класт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28760" y="785880"/>
            <a:ext cx="84294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тер является приемом графической систематизации материала. Этот прием формирует умения выделять смысловые единицы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500040" y="1928880"/>
            <a:ext cx="828684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1)Вова рос подвижным и сильным мальчиком. (2)Все боялись его. (3)Да и как не бояться такого! (4)Он бил товарищей, стрелял в девочек из рогатки. (5)Собаке Пушку на хвост наступал, коту Мурзею усы выдёргивал, ёжика под диван загонял, даже своей бабушке грубил. (6)Никого не боялся Вова и очень этим гордился. (7)Но недолго. (8)Настал такой день, когда мальчики не захотели с ним играть. (9)Он к девочкам побежал, но и они от него отвернулись. (10)Кинулся Вовка к Пушку, а тот на улицу удрал. (11)Хотел Вова с Мурзеем поиграть. (12)Кот сбежал от Вовы на высокий шкаф. (13)Решил Вова ёжика из-под дивана выманить. (14)Куда там! (15)Ёжик давно в другой дом жить перебрался. (16)Подошёл Вова к бабушке, а она даже глаз не подняла на внука. (17)Сидит в уголке, крупу перебирает да слезинки утирает. (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тупило самое страшное, что только бывает на свете: Вова остался один. (19)Один-одинёшенек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Овал 1"/>
          <p:cNvSpPr/>
          <p:nvPr/>
        </p:nvSpPr>
        <p:spPr>
          <a:xfrm>
            <a:off x="3571920" y="2786040"/>
            <a:ext cx="1785960" cy="1285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"/>
          <p:cNvSpPr/>
          <p:nvPr/>
        </p:nvSpPr>
        <p:spPr>
          <a:xfrm rot="20752200">
            <a:off x="1230480" y="941040"/>
            <a:ext cx="2571480" cy="10335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ие 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3"/>
          <p:cNvSpPr/>
          <p:nvPr/>
        </p:nvSpPr>
        <p:spPr>
          <a:xfrm rot="20776800">
            <a:off x="546120" y="3901680"/>
            <a:ext cx="2082960" cy="936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ы  В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4"/>
          <p:cNvSpPr/>
          <p:nvPr/>
        </p:nvSpPr>
        <p:spPr>
          <a:xfrm>
            <a:off x="4143240" y="4857840"/>
            <a:ext cx="2928960" cy="1571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ая  мысль 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"/>
          <p:cNvSpPr/>
          <p:nvPr/>
        </p:nvSpPr>
        <p:spPr>
          <a:xfrm rot="876600">
            <a:off x="4668840" y="775800"/>
            <a:ext cx="2325600" cy="107172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хие 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 rot="886200">
            <a:off x="6670440" y="2873160"/>
            <a:ext cx="1936800" cy="102708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071960" y="3143160"/>
            <a:ext cx="92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 rot="1260600">
            <a:off x="7004160" y="3236760"/>
            <a:ext cx="1785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уп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11"/>
          <p:cNvSpPr/>
          <p:nvPr/>
        </p:nvSpPr>
        <p:spPr>
          <a:xfrm rot="13917600">
            <a:off x="2877120" y="225360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12"/>
          <p:cNvSpPr/>
          <p:nvPr/>
        </p:nvSpPr>
        <p:spPr>
          <a:xfrm rot="18538800">
            <a:off x="4596480" y="2108880"/>
            <a:ext cx="100008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13"/>
          <p:cNvSpPr/>
          <p:nvPr/>
        </p:nvSpPr>
        <p:spPr>
          <a:xfrm rot="20142600">
            <a:off x="2666520" y="3735360"/>
            <a:ext cx="882720" cy="38736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14"/>
          <p:cNvSpPr/>
          <p:nvPr/>
        </p:nvSpPr>
        <p:spPr>
          <a:xfrm>
            <a:off x="5500800" y="314316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Мозговой штурм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642960" y="100008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Учитель обращается к ученикам с вопросом: "Какие ассоциации возникли у вас, когда вы услышали тему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Учитель записывает все называемые ассоц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* Учитель предлагает прочитать текст и определить, были ли школьники пр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539000" y="3214800"/>
            <a:ext cx="64976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ягушка небывалой величин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42960" y="357120"/>
            <a:ext cx="821520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чень давно это было. Пришли в страну жара и засуха. И не стало воды ни в одной реке, пруду или ручье. Люди, животные и птицы начали падать и умирать. Исчезли тучи и облака, и единственной тенью на земле была тень смерти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тали охотники гоняться за дичью и умирали вместе с животными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Собрались те, кто еще был жив, у высохшего главного водопоя и стали обсуждать, куда делась вся вода в стране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что ее выпила лягушка небывалой величины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решили те, кто был еще жив, люди, животные и птицы, рассмешить лягушку, чтобы вся вода вылилась из нее обратно.    Но напрасно хохотала перед лягушкой птица-хохотунья, напрасно смешно прыгал перед ней кенгуру и танцевал на одной ноге журавль. Лягушка небывалой величины крепко сжала рот и не хотела смеяться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гда забрался маленький юркий червячок на ее брюхо и начал ще­котать его кончиком хвоста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о крепилась гигантская лягушка, но наконец не выдержала, затряслась от смеха, и вода хлынула водопадом из ее огромного рта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разу наполнились водой реки, пруды и ручьи, и жизнь всего живого была спа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Синквей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936720" y="101592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итель предлагает написать синквейн по ключевому слову поработанного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инквейн – «белый стих», слоган из пяти строк (от фр. Cing – пять), в котором синтезирована основная ин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труктура синквей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уществительное (те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Два прилага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Три глаг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Фраза из четырех с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Существ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22-03-28T12:03:02Z</dcterms:modified>
  <cp:revision>110</cp:revision>
  <dc:subject/>
  <dc:title>Слайд 1</dc:title>
</cp:coreProperties>
</file>