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4D0E-7EB6-4D9F-9D6C-DA6D151EA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7812-E4BE-4345-BE9C-7563B49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03D7-0C05-4D68-A467-1D3379A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9DBA-2EC2-4409-91AB-23C5C22CD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3A12-3948-4BF5-B9F9-D6FEADA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91BB-544B-404B-AB65-B73AD755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5C91-86DB-40EA-848B-D543EC50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46EE-2BCE-40A5-98C2-0958960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3723-1F76-4CC2-8672-A9EA1E05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2302-397A-44DB-BF07-D6CD236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ECE2-DCBC-45F2-9159-FCDCC3D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5FF9-B6AC-4CD7-B786-43234EC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E7483A-53D6-455C-80E6-89F9ACAE8A82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entury Schoolbook"/>
              </a:rPr>
              <a:t>Методы и технологии основанные на ТРИЗ.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entury Schoolbook"/>
              </a:rPr>
              <a:t>(методология решения проблем ОТСМ технология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полнила: Кузьмина Г.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лемент- Имя признака- Значение признака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мидор-имеет признак цвета, и значение этого признака-красны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291960" y="-36360"/>
            <a:ext cx="8583840" cy="165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етодика ММЧ (моделирование маленькими человечками) – моделирование процессов, происходящих в природном и рукотворном мире между веществами (твердое –жидкое –газообразное)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то прием, позволяющий объяснить и смоделировать внутреннее строение объектов и взаимодействия между ними. ММЧ позволяет наглядно описать агрегатное состояние вещества. Для этого используются «маленькие человечки», обладающие разными характеристиками: «твердые человечки» крепко держатся за руки и стоят на одном месте; «жидкие человечки» не держатся за руки, могут слегка касаться и перемещаться; «газообразные человечки» быстро бегают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Picture 2" descr="C:\Users\Администратор\Desktop\003.jpg"/>
          <p:cNvPicPr/>
          <p:nvPr/>
        </p:nvPicPr>
        <p:blipFill>
          <a:blip r:embed="rId1"/>
          <a:stretch/>
        </p:blipFill>
        <p:spPr>
          <a:xfrm>
            <a:off x="880920" y="1052640"/>
            <a:ext cx="70516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9185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Так же ,в этой методике, Генрих увидел трудности, оказалось, что в некоторых предметах по признакам существую противоречия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Генрих  Саулович выделил их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иемы разрешения противоречий —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бъяснение, как один объект может обладать противоположными признаками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Наиболее распространенные приемы разрешения противоречий: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о времени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 одно время объект обладает одним признаком, в другое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отивоположным (например, сосулька и большая и маленькая: вначале большая, потом маленькая  растаяла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пространстве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дна часть объекта обладает одним признаком, другая -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отивоположным (например, утюг и холодный и горячий: подошва горячая, а ручка холодная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системах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дин объект обладает одним признаком, но вместе с другими объектами обладает противоположным (например, спички и крепкие и некрепкие: одна спичка легко ломается, а много спичек труд­но сломать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отношениях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бъект для одного обладает одним признаком, а для другого — противоположным (например, фильм и хороший и плохой: кому-то нравится (хороший), а кому-то нет (плохой))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 настоящее время достаточное количество исследований посвящено проблемам использования технологии ТРИЗ в дошкольн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разовании: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8560" y="2205000"/>
            <a:ext cx="651348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•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рлов А.Г., зав. каф. АТПП СевНТУ, к.т.н., доцент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•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Хоменко Н.Н., профессор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INSA (Institut National des Sciences  Appliquees, Strasbourg, France), MasterTRIZ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идорчук Татьяна Александровна, заведующая кафедрой педагогических технологий Ульяновского социально-педагогического колледжа №1, научный руководитель 12 экспериментальных площадок России по использованию ОТСМТРИЗ-РТВ в работе с детьми дошкольного возраста, сертифицированный специалист по ТРИЗ, кандидат педагогических наук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Федоренко С.Н., ассистент каф. АТПП, СевНТУ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лле Нестеренко- Развитие воображения у дет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Гусарова  С.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.М. Страунинг,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О.Н. Самойлова, О.М. Дьяченко, Н.Е. Веракса, И.Я. Гуткович,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Предлагаются такие пособия и игры, дидактические иг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856944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и Луллия              Дерево признак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убики признаков       К нам пришел вопро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ото признаков             Доска без прави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мет из прошл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гадай предме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дом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Работая с этими методами дети научатся работать по алгоритму, задавать вопросы разного типа, участвовать в совместном поиске ответов на вопросы, проявлять интерес, эмоциональное отношение к изученному, активность в обсуждениях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У детей расшириться кругозор, появится стремление к новизне, к фантазированию, обогатиться речь, появится точность в суждениях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на последок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л века назад первый человек полетел в космос. Люди стремились попасть в неизведанное ,где никогда, никто не был. Они изучали то пространство, где ничего не знали. А ведь просто люди задались вопросом :а что там дальше? Ведь земля, мы о ней уже почти все зна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бенок только тогда сможет задать вопрос, когда будет знать как правильно его задать, и найдет правильный ответ, только когда будет знать как его иска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6000" y="5300280"/>
            <a:ext cx="6296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ТРИЗ – это теория решения изобретательских задач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ТРИЗ – схема системного, талантливого мышления, используя которую, Вы сможете вместе с детьми находить логический выход из любой житейской ситуации, а ребенок грамотно и правильно решать любые свои проблемы. Также ТРИЗ основана на принципах самостоятельного мышления, где необходимо дать возможность ребенку находить ответ самому, а не повторять заученные фразы или предложения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14200" y="1285920"/>
            <a:ext cx="45007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коло 50 лет назад,  замечательный человек, ученый, инженер, изобретатель, писатель-фантаст, организатор и преподаватель – Генрих Саулович Альтшуллер - создал  очень интересную и весьма эффективную теорию – Теорию Решения Изобретательских Задач (ТРИЗ) 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786200" y="1285920"/>
            <a:ext cx="4000680" cy="5214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ория решения изобретательских задач используется в дошкольной педагогике почти два десятилетия. Методика развивается, трансформируется в различные формы подачи материала. Отмечается достаточно устойчивый характер овладения такими основными понятиями, как формулировка и разрешение противоречий, нахождение и использование ресурсов, стремление к идеальному конечному результату и др. 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 счастью, детям не свойственны стереотипы мышления взрослых. Решая тризовские задачи, дошкольники не только совершенствуют навыки творческого мышления, но и расширяют свой кругозор, развивают свои познавательные способности.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357120"/>
            <a:ext cx="804384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Цели ТРИЗ - не просто развить фантазию детей, а научить их мыслить системно, с пониманием происходящих процессов, дать в руки воспитателям инструмент по конкретному практическому воспитанию у детей качеств творческой личности, способной понимать единство и противоречие окружающего мира, решать свои маленькие проблемы.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ИЗ для дошкольников – это система коллективных игр, занятий, призванная не изменять основную программу, а максимально увеличивать ее эффективность.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РИЗ – это управляемый процесс создания нового, соединяющий в себе точный расчет, логику, интуицию”, так считал основатель теории Г.С.Альтшуллер и его последователи.</a:t>
            </a: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1350"/>
                            </p:stCondLst>
                            <p:childTnLst>
                              <p:par>
                                <p:cTn id="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9050"/>
                            </p:stCondLst>
                            <p:childTnLst>
                              <p:par>
                                <p:cTn id="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33440" y="14400"/>
            <a:ext cx="824220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етодики и технологии, позволяющие овладеть способами снятия психологической инерции и развить творческое воображение (РТВ);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етодология решения проблем, основанная на законах развития систем, общих принципах разрешения противоречий и механизмах приложения их к решению конкретных задач (ОТСМ - общая теория сильного мышления);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воспитательная система, построенная на теории развития творческой личности (ТРТЛ).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208080" y="281160"/>
            <a:ext cx="843588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706320" y="1951200"/>
            <a:ext cx="7602480" cy="4620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 чем же заключается ОТСМ - общая теория сильного мышления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казал Генрих Саулович Альтшуллер, это правила игры-в игру без правил. То есть, когда ребенок сталкивается с ситуацией которая ему не знакома или он  просто чего-то не знает, задавая себе этот вопрос, как и взрослый он пользуется методом проб и ошибок. Метод ОТСМ предлагает, выбрать ребенку тот «инструмент» который поможет решить данную проблему. Как же метод это предлагает сдел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льтшуллер  предположил, что у каждого предмета на земле есть признаки по которым можно не видя предмет узнать его назначение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73771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н выделил 17 таких признако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ах             Рельеф             Действ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вет               Время               Материа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ер           Звук                  Количеств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кус               Расстояние       Ве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лажность    Температура    Фор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асти             Мест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44:29Z</dcterms:created>
  <dc:creator>Admin</dc:creator>
  <dc:description/>
  <cp:keywords/>
  <dc:language>en-US</dc:language>
  <cp:lastModifiedBy>Админ</cp:lastModifiedBy>
  <dcterms:modified xsi:type="dcterms:W3CDTF">2019-02-25T12:07:51Z</dcterms:modified>
  <cp:revision>39</cp:revision>
  <dc:subject/>
  <dc:title>ТРИЗ В ДЕТСКОМ САДУ  И ДОМА</dc:title>
</cp:coreProperties>
</file>