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520-20E3-4165-8CF2-DA588ADB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500-7CE9-4AB8-9121-9A95A7E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5F5-C662-49BB-B9BF-B6BAA8D3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285-FB47-459C-85DB-ABD9DDF5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EF7C-C299-4089-9DB9-B889BE87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6E1-3180-4E9E-9C46-CF05F64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C3C-6FBD-44F0-B4C7-5938FF7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EC7A-2244-458A-B3D2-E0634A6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BDF6-3E1D-4688-BA46-E1521709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DD15-86BB-4D95-8829-3F0B6739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43A9-0D24-4D17-AD11-EF29718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1CE-8B7F-40ED-A185-83C9D9E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3BD5-F994-4E32-8400-8EB2472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3269-5F67-4716-8EC0-D7651D1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D1A-7610-48F4-A189-E95053A6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76F1-5917-4F22-9ED1-240029E4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2938-D601-4182-953C-79425E6D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1D2-AD46-40F7-B719-DA2635E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CD3-D5D7-410C-8E22-5AF40326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994-2ADC-48FC-ADA7-20124F7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91A-5C78-4A4A-A9A5-4B46A24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985-EF1B-43BA-B162-19B8EB8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B95-66F3-4CA1-ADBA-1B1C78C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725-A448-43EE-93AC-D5D2856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E41-2804-4827-A86B-1AB04FD13B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161-0051-45A5-AF60-C8DCF57E65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center-escape.org/images/alcohol_reasons_4.jpg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рег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Picture 4" descr="пассивное курение"/>
          <p:cNvPicPr/>
          <p:nvPr/>
        </p:nvPicPr>
        <p:blipFill>
          <a:blip r:embed="rId1"/>
          <a:stretch/>
        </p:blipFill>
        <p:spPr>
          <a:xfrm>
            <a:off x="3203640" y="1628640"/>
            <a:ext cx="3024000" cy="3529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2400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39640" y="119700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505320" y="2633760"/>
            <a:ext cx="53337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употребление наркотиков внутреннее,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средняя продолжительность жизни с момента первого укола составляет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0000"/>
                </a:solidFill>
                <a:latin typeface="Arial"/>
              </a:rPr>
              <a:t>7-1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т непрерывного потреб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260280"/>
            <a:ext cx="7696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мания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болезнь, которая поражает мозг, оказывает воздействие на эмоции и душу, разрушает социальные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4360" y="3981600"/>
            <a:ext cx="23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11222"/>
          <p:cNvPicPr/>
          <p:nvPr/>
        </p:nvPicPr>
        <p:blipFill>
          <a:blip r:embed="rId1"/>
          <a:stretch/>
        </p:blipFill>
        <p:spPr>
          <a:xfrm>
            <a:off x="539640" y="2708280"/>
            <a:ext cx="25923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нарк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324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нарко"/>
          <p:cNvPicPr/>
          <p:nvPr/>
        </p:nvPicPr>
        <p:blipFill>
          <a:blip r:embed="rId2"/>
          <a:stretch/>
        </p:blipFill>
        <p:spPr>
          <a:xfrm>
            <a:off x="0" y="312408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наркотики 2"/>
          <p:cNvPicPr/>
          <p:nvPr/>
        </p:nvPicPr>
        <p:blipFill>
          <a:blip r:embed="rId3"/>
          <a:stretch/>
        </p:blipFill>
        <p:spPr>
          <a:xfrm>
            <a:off x="0" y="0"/>
            <a:ext cx="3332160" cy="2684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наркотики 5"/>
          <p:cNvPicPr/>
          <p:nvPr/>
        </p:nvPicPr>
        <p:blipFill>
          <a:blip r:embed="rId4"/>
          <a:stretch/>
        </p:blipFill>
        <p:spPr>
          <a:xfrm>
            <a:off x="5867280" y="3613320"/>
            <a:ext cx="2928960" cy="3244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наркотики"/>
          <p:cNvPicPr/>
          <p:nvPr/>
        </p:nvPicPr>
        <p:blipFill>
          <a:blip r:embed="rId5"/>
          <a:stretch/>
        </p:blipFill>
        <p:spPr>
          <a:xfrm>
            <a:off x="3657600" y="0"/>
            <a:ext cx="2465280" cy="330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наркотики 1"/>
          <p:cNvPicPr/>
          <p:nvPr/>
        </p:nvPicPr>
        <p:blipFill>
          <a:blip r:embed="rId6"/>
          <a:stretch/>
        </p:blipFill>
        <p:spPr>
          <a:xfrm>
            <a:off x="2819520" y="3578400"/>
            <a:ext cx="2408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необходимо знать о ВИЧ/СПИД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Многие люди думают, что ВИЧ и СПИД — это одно и то же. Это не 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В чем отличи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life_with_2"/>
          <p:cNvPicPr/>
          <p:nvPr/>
        </p:nvPicPr>
        <p:blipFill>
          <a:blip r:embed="rId1"/>
          <a:stretch/>
        </p:blipFill>
        <p:spPr>
          <a:xfrm>
            <a:off x="468360" y="1916280"/>
            <a:ext cx="2200320" cy="2381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life_with_4"/>
          <p:cNvPicPr/>
          <p:nvPr/>
        </p:nvPicPr>
        <p:blipFill>
          <a:blip r:embed="rId2"/>
          <a:stretch/>
        </p:blipFill>
        <p:spPr>
          <a:xfrm>
            <a:off x="6156360" y="1916280"/>
            <a:ext cx="2619360" cy="2381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life_with_3"/>
          <p:cNvPicPr/>
          <p:nvPr/>
        </p:nvPicPr>
        <p:blipFill>
          <a:blip r:embed="rId3"/>
          <a:stretch/>
        </p:blipFill>
        <p:spPr>
          <a:xfrm>
            <a:off x="3348000" y="1916280"/>
            <a:ext cx="209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419720" y="762120"/>
            <a:ext cx="43434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мунодефици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ове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6858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 И 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952880" y="3200400"/>
            <a:ext cx="397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ирус, который передаётся от человека к человеку различными путями и вызывает нарушение функций или разрушение иммунной системы организма человека.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12" descr="НАРКОТИКИ1"/>
          <p:cNvPicPr/>
          <p:nvPr/>
        </p:nvPicPr>
        <p:blipFill>
          <a:blip r:embed="rId1"/>
          <a:stretch/>
        </p:blipFill>
        <p:spPr>
          <a:xfrm>
            <a:off x="457200" y="2046240"/>
            <a:ext cx="4038480" cy="411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53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375080" y="957240"/>
            <a:ext cx="4464000" cy="43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это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ндр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иобретё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му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фицит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Это вирус в организме человека, последняя стадия ВИЧ-инфе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8222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П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0" descr="scary00"/>
          <p:cNvPicPr/>
          <p:nvPr/>
        </p:nvPicPr>
        <p:blipFill>
          <a:blip r:embed="rId1"/>
          <a:stretch/>
        </p:blipFill>
        <p:spPr>
          <a:xfrm>
            <a:off x="250920" y="189000"/>
            <a:ext cx="1809720" cy="2714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scary01"/>
          <p:cNvPicPr/>
          <p:nvPr/>
        </p:nvPicPr>
        <p:blipFill>
          <a:blip r:embed="rId2"/>
          <a:stretch/>
        </p:blipFill>
        <p:spPr>
          <a:xfrm>
            <a:off x="250920" y="292428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356000" y="549360"/>
            <a:ext cx="417672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введении наркотиков в вен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ереливании крови; во время трансплантации орг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использовании нестерильных инстр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незащищенных сексуальных контак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от больной СПИДом матери к ребенку во время беременности, родов или в период кормления грудью.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рямом попадании крови через ранки, язвочки, слизистые обол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происходит заражение ВИЧ?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00600" y="1843920"/>
            <a:ext cx="4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144960" y="2332080"/>
          <a:ext cx="1571400" cy="256068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21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2"/>
          <p:cNvSpPr/>
          <p:nvPr/>
        </p:nvSpPr>
        <p:spPr>
          <a:xfrm>
            <a:off x="3223440" y="489168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24900"/>
          <p:cNvPicPr/>
          <p:nvPr/>
        </p:nvPicPr>
        <p:blipFill>
          <a:blip r:embed="rId1"/>
          <a:stretch/>
        </p:blipFill>
        <p:spPr>
          <a:xfrm>
            <a:off x="539640" y="836640"/>
            <a:ext cx="3097440" cy="3456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4"/>
          <p:cNvSpPr/>
          <p:nvPr/>
        </p:nvSpPr>
        <p:spPr>
          <a:xfrm>
            <a:off x="324000" y="4437000"/>
            <a:ext cx="3600360" cy="2232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рус передается тольк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рез определён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дк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рганиз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именно: кровь, сперм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лагалищные выдел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дное мол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2"/>
          <p:cNvGraphicFramePr/>
          <p:nvPr/>
        </p:nvGraphicFramePr>
        <p:xfrm>
          <a:off x="324000" y="189000"/>
          <a:ext cx="33843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3384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"/>
          <p:cNvGraphicFramePr/>
          <p:nvPr/>
        </p:nvGraphicFramePr>
        <p:xfrm>
          <a:off x="5651640" y="260280"/>
          <a:ext cx="325584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60280"/>
                    <a:ext cx="3255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5364000" y="3573360"/>
          <a:ext cx="32256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573360"/>
                    <a:ext cx="3225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5943600" y="5607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ы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859280" y="393372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пр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032080" y="4567320"/>
            <a:ext cx="24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реш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230080" y="514980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во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50920" y="3860640"/>
            <a:ext cx="360036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ной фактор риска заражения ВИЧ в нашей стране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тривенное введение наркотических препара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команы на сегодняшний день составляю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е большинство все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нфицированных в нашей стра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564000" y="1197000"/>
            <a:ext cx="5364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рукопожатии или объят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пот или слез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кашле и чих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животных или при укусах насеко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оцелуе/через слюн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всю историю изучения ВИЧ/СПИДа не было зафиксировано ни одного случая заражения этим способ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692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ирус не переда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9" name="Picture 4" descr="mozg"/>
          <p:cNvPicPr/>
          <p:nvPr/>
        </p:nvPicPr>
        <p:blipFill>
          <a:blip r:embed="rId1"/>
          <a:stretch/>
        </p:blipFill>
        <p:spPr>
          <a:xfrm>
            <a:off x="179280" y="1700280"/>
            <a:ext cx="3348000" cy="3889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3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ы и так всё знаешь о чём здесь тебе рассказали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росто знать – недостаточно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771280" y="5084280"/>
            <a:ext cx="604836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ужно правильно действовать в определённой ситуации.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плакат наркотики 1"/>
          <p:cNvPicPr/>
          <p:nvPr/>
        </p:nvPicPr>
        <p:blipFill>
          <a:blip r:embed="rId1"/>
          <a:stretch/>
        </p:blipFill>
        <p:spPr>
          <a:xfrm>
            <a:off x="324000" y="2852640"/>
            <a:ext cx="2447640" cy="288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плакат наркотики"/>
          <p:cNvPicPr/>
          <p:nvPr/>
        </p:nvPicPr>
        <p:blipFill>
          <a:blip r:embed="rId2"/>
          <a:stretch/>
        </p:blipFill>
        <p:spPr>
          <a:xfrm>
            <a:off x="6012000" y="2708280"/>
            <a:ext cx="2808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51160" y="1341360"/>
            <a:ext cx="3624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приём алкоголя    или других нарко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076720" y="4292640"/>
            <a:ext cx="39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ропуски занят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105520" y="4869000"/>
            <a:ext cx="36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оступки, которые могут огорчить  ваших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292720" y="299736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беспорядочные половые свя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148360" y="3789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кра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5130000" y="2502360"/>
            <a:ext cx="3414600" cy="3324240"/>
            <a:chOff x="5130000" y="2502360"/>
            <a:chExt cx="3414600" cy="3324240"/>
          </a:xfrm>
        </p:grpSpPr>
        <p:sp>
          <p:nvSpPr>
            <p:cNvPr id="261" name="Text Box 9"/>
            <p:cNvSpPr/>
            <p:nvPr/>
          </p:nvSpPr>
          <p:spPr>
            <a:xfrm rot="2513400">
              <a:off x="6314400" y="3674880"/>
              <a:ext cx="158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Е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 rot="2481600">
              <a:off x="5508720" y="2666160"/>
              <a:ext cx="108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Н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 rot="2445000">
              <a:off x="7281360" y="417780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Т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90320" y="-360"/>
            <a:ext cx="865332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мей сказать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Arial Black"/>
              </a:rPr>
              <a:t>нет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 некоторых специфических ситуациях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5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50920" y="1916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2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2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4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990720" y="7621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643280" y="1989000"/>
            <a:ext cx="3810240" cy="4848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При этом есть болезни, которые зависят только от нашего поведения и образа жизни. Именно об этих заболеваниях, которыми, к огромному сожалению, болеет большое количество молодёжи мы поговор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648320" y="1019160"/>
            <a:ext cx="42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это</a:t>
            </a:r>
            <a:r>
              <a:rPr b="1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отсутствие болезн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178531"/>
          <p:cNvPicPr/>
          <p:nvPr/>
        </p:nvPicPr>
        <p:blipFill>
          <a:blip r:embed="rId3"/>
          <a:stretch/>
        </p:blipFill>
        <p:spPr>
          <a:xfrm>
            <a:off x="395280" y="184464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j0178525"/>
          <p:cNvPicPr/>
          <p:nvPr/>
        </p:nvPicPr>
        <p:blipFill>
          <a:blip r:embed="rId4"/>
          <a:stretch/>
        </p:blipFill>
        <p:spPr>
          <a:xfrm>
            <a:off x="395280" y="4365720"/>
            <a:ext cx="365760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ГЛАЗ"/>
          <p:cNvPicPr/>
          <p:nvPr/>
        </p:nvPicPr>
        <p:blipFill>
          <a:blip r:embed="rId1"/>
          <a:stretch/>
        </p:blipFill>
        <p:spPr>
          <a:xfrm>
            <a:off x="611280" y="2421000"/>
            <a:ext cx="2133360" cy="1800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3276720" y="1916280"/>
            <a:ext cx="5182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 Black"/>
              </a:rPr>
              <a:t>Помните: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это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е тело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и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 выбор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7998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2" name="Organization Chart 3"/>
          <p:cNvGrpSpPr/>
          <p:nvPr/>
        </p:nvGrpSpPr>
        <p:grpSpPr>
          <a:xfrm>
            <a:off x="228600" y="1208160"/>
            <a:ext cx="8914680" cy="4885200"/>
            <a:chOff x="228600" y="1208160"/>
            <a:chExt cx="8914680" cy="488520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6068880" y="1524600"/>
              <a:ext cx="356400" cy="311796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4509000" y="3081960"/>
              <a:ext cx="356400" cy="324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1030"/>
            <p:cNvCxnSpPr>
              <a:stCxn id="169" idx="0"/>
              <a:endCxn id="165" idx="2"/>
            </p:cNvCxnSpPr>
            <p:nvPr/>
          </p:nvCxnSpPr>
          <p:spPr>
            <a:xfrm flipH="1" flipV="1" rot="5400000">
              <a:off x="2948760" y="1521720"/>
              <a:ext cx="356400" cy="312372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5" name="_s1031"/>
            <p:cNvSpPr/>
            <p:nvPr/>
          </p:nvSpPr>
          <p:spPr>
            <a:xfrm>
              <a:off x="3351600" y="1208160"/>
              <a:ext cx="2671560" cy="16974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ПАВ –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психо-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активны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2"/>
            <p:cNvSpPr/>
            <p:nvPr/>
          </p:nvSpPr>
          <p:spPr>
            <a:xfrm>
              <a:off x="22860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Табак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сигареты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3"/>
            <p:cNvSpPr/>
            <p:nvPr/>
          </p:nvSpPr>
          <p:spPr>
            <a:xfrm>
              <a:off x="334872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Алкоголь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спиртно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4"/>
            <p:cNvSpPr/>
            <p:nvPr/>
          </p:nvSpPr>
          <p:spPr>
            <a:xfrm>
              <a:off x="646884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Наркоти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0" name="Picture 52" descr="14"/>
            <p:cNvPicPr/>
            <p:nvPr/>
          </p:nvPicPr>
          <p:blipFill>
            <a:blip r:embed="rId1">
              <a:lum contrast="8000"/>
            </a:blip>
            <a:stretch/>
          </p:blipFill>
          <p:spPr>
            <a:xfrm>
              <a:off x="7165440" y="4148280"/>
              <a:ext cx="1653120" cy="18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6" descr="28"/>
            <p:cNvPicPr/>
            <p:nvPr/>
          </p:nvPicPr>
          <p:blipFill>
            <a:blip r:embed="rId2">
              <a:lum contrast="16000"/>
            </a:blip>
            <a:stretch/>
          </p:blipFill>
          <p:spPr>
            <a:xfrm>
              <a:off x="3562200" y="4366080"/>
              <a:ext cx="2377440" cy="16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7" descr=""/>
            <p:cNvPicPr/>
            <p:nvPr/>
          </p:nvPicPr>
          <p:blipFill>
            <a:blip r:embed="rId3"/>
            <a:stretch/>
          </p:blipFill>
          <p:spPr>
            <a:xfrm>
              <a:off x="250200" y="4148280"/>
              <a:ext cx="2593440" cy="194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стрелка 1"/>
          <p:cNvPicPr/>
          <p:nvPr/>
        </p:nvPicPr>
        <p:blipFill>
          <a:blip r:embed="rId1"/>
          <a:stretch/>
        </p:blipFill>
        <p:spPr>
          <a:xfrm>
            <a:off x="611280" y="3284640"/>
            <a:ext cx="2361960" cy="169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стрелка 2"/>
          <p:cNvPicPr/>
          <p:nvPr/>
        </p:nvPicPr>
        <p:blipFill>
          <a:blip r:embed="rId2"/>
          <a:stretch/>
        </p:blipFill>
        <p:spPr>
          <a:xfrm>
            <a:off x="6443640" y="3357720"/>
            <a:ext cx="2286000" cy="1674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Задумайтесь о последствиях!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Picture 6" descr="9c55340cf8f6b2a05d855586fea67bfc_80_kurenie-1"/>
          <p:cNvPicPr/>
          <p:nvPr/>
        </p:nvPicPr>
        <p:blipFill>
          <a:blip r:embed="rId3"/>
          <a:stretch/>
        </p:blipFill>
        <p:spPr>
          <a:xfrm>
            <a:off x="3059280" y="2133720"/>
            <a:ext cx="3097080" cy="3527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92000" y="2775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УРЕНИЕ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Picture 3" descr="аленка"/>
          <p:cNvPicPr/>
          <p:nvPr/>
        </p:nvPicPr>
        <p:blipFill>
          <a:blip r:embed="rId1"/>
          <a:stretch/>
        </p:blipFill>
        <p:spPr>
          <a:xfrm>
            <a:off x="2771640" y="1628640"/>
            <a:ext cx="1733760" cy="2187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приводит к рождению слабых, с низким весо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no_smoking_j2"/>
          <p:cNvPicPr/>
          <p:nvPr/>
        </p:nvPicPr>
        <p:blipFill>
          <a:blip r:embed="rId2"/>
          <a:stretch/>
        </p:blipFill>
        <p:spPr>
          <a:xfrm>
            <a:off x="324000" y="393372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вонючие бычки "/>
          <p:cNvPicPr/>
          <p:nvPr/>
        </p:nvPicPr>
        <p:blipFill>
          <a:blip r:embed="rId3"/>
          <a:stretch/>
        </p:blipFill>
        <p:spPr>
          <a:xfrm>
            <a:off x="179280" y="189000"/>
            <a:ext cx="243864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Picture 3" descr="пьяница"/>
          <p:cNvPicPr/>
          <p:nvPr/>
        </p:nvPicPr>
        <p:blipFill>
          <a:blip r:embed="rId1"/>
          <a:stretch/>
        </p:blipFill>
        <p:spPr>
          <a:xfrm>
            <a:off x="457200" y="1619280"/>
            <a:ext cx="4038480" cy="21495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018040" y="993600"/>
            <a:ext cx="3745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это наркотик,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имическое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щество,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торое влия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то, как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ункциониру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ганизм.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95280" y="914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7" descr="60c473449a9492364b5cb066d44da1d1"/>
          <p:cNvPicPr/>
          <p:nvPr/>
        </p:nvPicPr>
        <p:blipFill>
          <a:blip r:embed="rId2"/>
          <a:stretch/>
        </p:blipFill>
        <p:spPr>
          <a:xfrm>
            <a:off x="1116000" y="3860640"/>
            <a:ext cx="2519280" cy="2730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 rot="210600">
            <a:off x="1116000" y="691920"/>
            <a:ext cx="7632720" cy="1984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ристрастие к алкоголю вызывает сильную деградацию личности и такие заболевания как рак пищевода или желудка, цирроз печени. Человек, пристрастившийся к алкоголю, старается заглушить страх и уменьшить стресс. Алкоголики стараются изменить свое сознание, достичь «высшего чувств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j0282749"/>
          <p:cNvPicPr/>
          <p:nvPr/>
        </p:nvPicPr>
        <p:blipFill>
          <a:blip r:embed="rId1"/>
          <a:stretch/>
        </p:blipFill>
        <p:spPr>
          <a:xfrm>
            <a:off x="2627280" y="306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lcoholicreasons_2"/>
          <p:cNvPicPr/>
          <p:nvPr/>
        </p:nvPicPr>
        <p:blipFill>
          <a:blip r:embed="rId1"/>
          <a:stretch/>
        </p:blipFill>
        <p:spPr>
          <a:xfrm>
            <a:off x="7651800" y="5718240"/>
            <a:ext cx="1492200" cy="1139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alcohol_reasons"/>
          <p:cNvPicPr/>
          <p:nvPr/>
        </p:nvPicPr>
        <p:blipFill>
          <a:blip r:embed="rId2"/>
          <a:stretch/>
        </p:blipFill>
        <p:spPr>
          <a:xfrm>
            <a:off x="7020000" y="6922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alcoholic_reasons_3"/>
          <p:cNvPicPr/>
          <p:nvPr/>
        </p:nvPicPr>
        <p:blipFill>
          <a:blip r:embed="rId3"/>
          <a:stretch/>
        </p:blipFill>
        <p:spPr>
          <a:xfrm>
            <a:off x="395280" y="4221000"/>
            <a:ext cx="1582920" cy="214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alcohol_reason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76280"/>
            <a:ext cx="2300400" cy="3273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2210040" y="-30600"/>
            <a:ext cx="65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Глупые причины начать п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411280" y="115380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охмель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2.Из-за алкоголя ты чувствуешь себя «взрослым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3. Пить, чтобы забыть о проблемах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4.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ить, чтобы быть принятым друзьями.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5.Пить от любопытств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734000" y="914400"/>
            <a:ext cx="410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еществ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е способн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эйфорию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ую и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у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исимость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я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ен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е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ому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ом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37160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Т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9" descr="neloma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1628640"/>
            <a:ext cx="3311640" cy="496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2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08:38Z</dcterms:created>
  <dc:creator>Игорь</dc:creator>
  <dc:description/>
  <dc:language>en-US</dc:language>
  <cp:lastModifiedBy>Ольга</cp:lastModifiedBy>
  <dcterms:modified xsi:type="dcterms:W3CDTF">2013-10-03T09:50:16Z</dcterms:modified>
  <cp:revision>15</cp:revision>
  <dc:subject/>
  <dc:title>Слайд 1</dc:title>
</cp:coreProperties>
</file>