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21.png" ContentType="image/png"/>
  <Override PartName="/ppt/media/image16.gif" ContentType="image/gif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19.jpeg" ContentType="image/jpeg"/>
  <Override PartName="/ppt/media/image42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2C5-0344-49AD-AE3F-27046773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F39C-4081-4822-9F3B-4451B7DC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2C4-40E9-420F-BD05-0A497F80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A1E-7E4C-415F-B868-5F4DB10A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4650-58D7-4DE7-BB22-0AC438AE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D59C-A61B-4C35-B5EA-D4B77123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516D-F02B-4C0F-BFC7-B8C77CC8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985B-3788-4C4C-B366-FC06550B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714B-0E56-431A-BA04-E1EE2259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D6F1-09DB-4309-9E21-9C0651E8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F9AE-EE51-435D-874C-B4763FED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F9A-C3B5-41AF-923D-5EED990E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B261-A550-4B21-8C0B-4EE0B983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1A1C-BC0F-4044-A329-45814689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9622-5BFC-4042-A4FA-E42E07A9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BD13-FC26-4894-B39A-E01A11E6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2E17-2CB8-4677-ADA4-8B469704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478-DFC0-4D61-99E1-B5ADC51A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640-4F24-493F-84C8-CD93435C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CA3-5300-4CA8-9F89-7C9A3AF3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3AB-0077-47C8-B8BF-DAFFCF67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DDD-8955-425E-81A2-1D993D3C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FEE4-806A-4276-861E-8DFD1892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94B-F6F9-471E-9E6A-4D3BD51A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B54C-1564-4BA4-AF4C-67A81495175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4745-9A55-4BBD-9CBA-B6745C2E355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hyperlink" Target="http://www.center-escape.org/images/alcohol_reasons_4.jpg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3"/>
          <p:cNvSpPr txBox="1"/>
          <p:nvPr/>
        </p:nvSpPr>
        <p:spPr>
          <a:xfrm>
            <a:off x="179280" y="0"/>
            <a:ext cx="878544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регит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доровь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3" name="Picture 4" descr="пассивное курение"/>
          <p:cNvPicPr/>
          <p:nvPr/>
        </p:nvPicPr>
        <p:blipFill>
          <a:blip r:embed="rId1"/>
          <a:stretch/>
        </p:blipFill>
        <p:spPr>
          <a:xfrm>
            <a:off x="3203640" y="1628640"/>
            <a:ext cx="3024000" cy="35290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324000" y="981000"/>
            <a:ext cx="40384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539640" y="1197000"/>
            <a:ext cx="40388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505320" y="2633760"/>
            <a:ext cx="533376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сли употребление наркотиков внутреннее,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о средняя продолжительность жизни с момента первого укола составляет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cc0000"/>
                </a:solidFill>
                <a:latin typeface="Arial"/>
              </a:rPr>
              <a:t>7-10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ет непрерывного потреб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042920" y="260280"/>
            <a:ext cx="76964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Black"/>
              </a:rPr>
              <a:t>Наркомания 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болезнь, которая поражает мозг, оказывает воздействие на эмоции и душу, разрушает социальные связ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684360" y="3981600"/>
            <a:ext cx="237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5" descr="11222"/>
          <p:cNvPicPr/>
          <p:nvPr/>
        </p:nvPicPr>
        <p:blipFill>
          <a:blip r:embed="rId1"/>
          <a:stretch/>
        </p:blipFill>
        <p:spPr>
          <a:xfrm>
            <a:off x="539640" y="2708280"/>
            <a:ext cx="259236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75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1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нарк"/>
          <p:cNvPicPr/>
          <p:nvPr/>
        </p:nvPicPr>
        <p:blipFill>
          <a:blip r:embed="rId1"/>
          <a:stretch/>
        </p:blipFill>
        <p:spPr>
          <a:xfrm>
            <a:off x="7042320" y="0"/>
            <a:ext cx="2101680" cy="3249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нарко"/>
          <p:cNvPicPr/>
          <p:nvPr/>
        </p:nvPicPr>
        <p:blipFill>
          <a:blip r:embed="rId2"/>
          <a:stretch/>
        </p:blipFill>
        <p:spPr>
          <a:xfrm>
            <a:off x="0" y="3124080"/>
            <a:ext cx="2425680" cy="3357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наркотики 2"/>
          <p:cNvPicPr/>
          <p:nvPr/>
        </p:nvPicPr>
        <p:blipFill>
          <a:blip r:embed="rId3"/>
          <a:stretch/>
        </p:blipFill>
        <p:spPr>
          <a:xfrm>
            <a:off x="0" y="0"/>
            <a:ext cx="3332160" cy="2684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наркотики 5"/>
          <p:cNvPicPr/>
          <p:nvPr/>
        </p:nvPicPr>
        <p:blipFill>
          <a:blip r:embed="rId4"/>
          <a:stretch/>
        </p:blipFill>
        <p:spPr>
          <a:xfrm>
            <a:off x="5867280" y="3613320"/>
            <a:ext cx="2928960" cy="3244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наркотики"/>
          <p:cNvPicPr/>
          <p:nvPr/>
        </p:nvPicPr>
        <p:blipFill>
          <a:blip r:embed="rId5"/>
          <a:stretch/>
        </p:blipFill>
        <p:spPr>
          <a:xfrm>
            <a:off x="3657600" y="0"/>
            <a:ext cx="2465280" cy="3301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наркотики 1"/>
          <p:cNvPicPr/>
          <p:nvPr/>
        </p:nvPicPr>
        <p:blipFill>
          <a:blip r:embed="rId6"/>
          <a:stretch/>
        </p:blipFill>
        <p:spPr>
          <a:xfrm>
            <a:off x="2819520" y="3578400"/>
            <a:ext cx="24080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то необходимо знать о ВИЧ/СПИДе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ahoma"/>
              </a:rPr>
              <a:t>Многие люди думают, что ВИЧ и СПИД — это одно и то же. Это не та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В чем отличия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7" descr="life_with_2"/>
          <p:cNvPicPr/>
          <p:nvPr/>
        </p:nvPicPr>
        <p:blipFill>
          <a:blip r:embed="rId1"/>
          <a:stretch/>
        </p:blipFill>
        <p:spPr>
          <a:xfrm>
            <a:off x="468360" y="1916280"/>
            <a:ext cx="2200320" cy="2381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life_with_4"/>
          <p:cNvPicPr/>
          <p:nvPr/>
        </p:nvPicPr>
        <p:blipFill>
          <a:blip r:embed="rId2"/>
          <a:stretch/>
        </p:blipFill>
        <p:spPr>
          <a:xfrm>
            <a:off x="6156360" y="1916280"/>
            <a:ext cx="2619360" cy="2381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life_with_3"/>
          <p:cNvPicPr/>
          <p:nvPr/>
        </p:nvPicPr>
        <p:blipFill>
          <a:blip r:embed="rId3"/>
          <a:stretch/>
        </p:blipFill>
        <p:spPr>
          <a:xfrm>
            <a:off x="3348000" y="1916280"/>
            <a:ext cx="20955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4419720" y="762120"/>
            <a:ext cx="434340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ру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мунодефици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ловек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981080" y="6858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В И 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4952880" y="3200400"/>
            <a:ext cx="397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вирус, который передаётся от человека к человеку различными путями и вызывает нарушение функций или разрушение иммунной системы организма человека.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12" descr="НАРКОТИКИ1"/>
          <p:cNvPicPr/>
          <p:nvPr/>
        </p:nvPicPr>
        <p:blipFill>
          <a:blip r:embed="rId1"/>
          <a:stretch/>
        </p:blipFill>
        <p:spPr>
          <a:xfrm>
            <a:off x="457200" y="2046240"/>
            <a:ext cx="4038480" cy="4119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75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25"/>
                            </p:stCondLst>
                            <p:childTnLst>
                              <p:par>
                                <p:cTn id="2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725"/>
                            </p:stCondLst>
                            <p:childTnLst>
                              <p:par>
                                <p:cTn id="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225"/>
                            </p:stCondLst>
                            <p:childTnLst>
                              <p:par>
                                <p:cTn id="253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4375080" y="957240"/>
            <a:ext cx="4464000" cy="43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- это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ндр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риобретённ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мунн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Д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ефицита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Это вирус в организме человека, последняя стадия ВИЧ-инфе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209680" y="8222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СПИ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10" descr="scary00"/>
          <p:cNvPicPr/>
          <p:nvPr/>
        </p:nvPicPr>
        <p:blipFill>
          <a:blip r:embed="rId1"/>
          <a:stretch/>
        </p:blipFill>
        <p:spPr>
          <a:xfrm>
            <a:off x="250920" y="189000"/>
            <a:ext cx="1809720" cy="2714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scary01"/>
          <p:cNvPicPr/>
          <p:nvPr/>
        </p:nvPicPr>
        <p:blipFill>
          <a:blip r:embed="rId2"/>
          <a:stretch/>
        </p:blipFill>
        <p:spPr>
          <a:xfrm>
            <a:off x="250920" y="2924280"/>
            <a:ext cx="3809880" cy="3716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75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4356000" y="549360"/>
            <a:ext cx="4176720" cy="64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при введении наркотиков в вену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при переливании крови; во время трансплантации орг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при использовании нестерильных инструмент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при незащищенных сексуальных контакт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от больной СПИДом матери к ребенку во время беременности, родов или в период кормления грудью.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При прямом попадании крови через ранки, язвочки, слизистые оболоч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803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происходит заражение ВИЧ?</a:t>
            </a:r>
            <a:br>
              <a:rPr sz="36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000600" y="1843920"/>
            <a:ext cx="43272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0" rIns="216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144960" y="2332080"/>
          <a:ext cx="1571400" cy="2560680"/>
        </p:xfrm>
        <a:graphic>
          <a:graphicData uri="http://schemas.openxmlformats.org/drawingml/2006/table">
            <a:tbl>
              <a:tblPr/>
              <a:tblGrid>
                <a:gridCol w="1571400"/>
              </a:tblGrid>
              <a:tr h="2163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1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                                  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Rectangle 12"/>
          <p:cNvSpPr/>
          <p:nvPr/>
        </p:nvSpPr>
        <p:spPr>
          <a:xfrm>
            <a:off x="3223440" y="489168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13" descr="24900"/>
          <p:cNvPicPr/>
          <p:nvPr/>
        </p:nvPicPr>
        <p:blipFill>
          <a:blip r:embed="rId1"/>
          <a:stretch/>
        </p:blipFill>
        <p:spPr>
          <a:xfrm>
            <a:off x="539640" y="836640"/>
            <a:ext cx="3097440" cy="34560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4"/>
          <p:cNvSpPr/>
          <p:nvPr/>
        </p:nvSpPr>
        <p:spPr>
          <a:xfrm>
            <a:off x="324000" y="4437000"/>
            <a:ext cx="3600360" cy="2232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ирус передается тольк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ерез определённ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жидко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рганизм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 именно: кровь, сперму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лагалищные выделен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рудное моло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Object 2"/>
          <p:cNvGraphicFramePr/>
          <p:nvPr/>
        </p:nvGraphicFramePr>
        <p:xfrm>
          <a:off x="324000" y="189000"/>
          <a:ext cx="338436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338436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3"/>
          <p:cNvGraphicFramePr/>
          <p:nvPr/>
        </p:nvGraphicFramePr>
        <p:xfrm>
          <a:off x="5651640" y="260280"/>
          <a:ext cx="3255840" cy="350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260280"/>
                    <a:ext cx="3255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4"/>
          <p:cNvGraphicFramePr/>
          <p:nvPr/>
        </p:nvGraphicFramePr>
        <p:xfrm>
          <a:off x="5364000" y="3573360"/>
          <a:ext cx="322560" cy="46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3573360"/>
                    <a:ext cx="32256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5"/>
          <p:cNvSpPr/>
          <p:nvPr/>
        </p:nvSpPr>
        <p:spPr>
          <a:xfrm>
            <a:off x="5943600" y="5607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облемы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859280" y="3933720"/>
            <a:ext cx="17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Шпри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5032080" y="4567320"/>
            <a:ext cx="24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 реши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5230080" y="514980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во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50920" y="3860640"/>
            <a:ext cx="360036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сновной фактор риска заражения ВИЧ в нашей стране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нутривенное введение наркотических препарат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ркоманы на сегодняшний день составляю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бсолютное большинство все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нфицированных в нашей стра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3564000" y="1197000"/>
            <a:ext cx="53640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рукопожатии или объятия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рез пот или слез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кашле и чиха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рез животных или при укусах насеком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поцелуе/через слюну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 всю историю изучения ВИЧ/СПИДа не было зафиксировано ни одного случая заражения этим способом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6920" y="4762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Вирус не передаетс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49" name="Picture 4" descr="mozg"/>
          <p:cNvPicPr/>
          <p:nvPr/>
        </p:nvPicPr>
        <p:blipFill>
          <a:blip r:embed="rId1"/>
          <a:stretch/>
        </p:blipFill>
        <p:spPr>
          <a:xfrm>
            <a:off x="179280" y="1700280"/>
            <a:ext cx="3348000" cy="38894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7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3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35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ы и так всё знаешь о чём здесь тебе рассказали?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Просто знать – недостаточно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771280" y="5084280"/>
            <a:ext cx="604836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Нужно правильно действовать в определённой ситуации.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6" descr="плакат наркотики 1"/>
          <p:cNvPicPr/>
          <p:nvPr/>
        </p:nvPicPr>
        <p:blipFill>
          <a:blip r:embed="rId1"/>
          <a:stretch/>
        </p:blipFill>
        <p:spPr>
          <a:xfrm>
            <a:off x="324000" y="2852640"/>
            <a:ext cx="2447640" cy="2881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плакат наркотики"/>
          <p:cNvPicPr/>
          <p:nvPr/>
        </p:nvPicPr>
        <p:blipFill>
          <a:blip r:embed="rId2"/>
          <a:stretch/>
        </p:blipFill>
        <p:spPr>
          <a:xfrm>
            <a:off x="6012000" y="2708280"/>
            <a:ext cx="28080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051160" y="1341360"/>
            <a:ext cx="36241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45a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b45a00"/>
                </a:solidFill>
                <a:latin typeface="Tahoma"/>
              </a:rPr>
              <a:t>приём алкоголя    или других наркоти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5076720" y="4292640"/>
            <a:ext cx="39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241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пропуски занят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5105520" y="4869000"/>
            <a:ext cx="367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241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поступки, которые могут огорчить  ваших р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5292720" y="2997360"/>
            <a:ext cx="359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241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беспорядочные половые связ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5148360" y="3789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8241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824100"/>
                </a:solidFill>
                <a:latin typeface="Arial"/>
              </a:rPr>
              <a:t>краж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0" name="Group 8"/>
          <p:cNvGrpSpPr/>
          <p:nvPr/>
        </p:nvGrpSpPr>
        <p:grpSpPr>
          <a:xfrm>
            <a:off x="5130000" y="2502360"/>
            <a:ext cx="3414600" cy="3324240"/>
            <a:chOff x="5130000" y="2502360"/>
            <a:chExt cx="3414600" cy="3324240"/>
          </a:xfrm>
        </p:grpSpPr>
        <p:sp>
          <p:nvSpPr>
            <p:cNvPr id="261" name="Text Box 9"/>
            <p:cNvSpPr/>
            <p:nvPr/>
          </p:nvSpPr>
          <p:spPr>
            <a:xfrm rot="2513400">
              <a:off x="6314400" y="3674880"/>
              <a:ext cx="15861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e30510"/>
                  </a:solidFill>
                  <a:latin typeface="Arial Black"/>
                </a:rPr>
                <a:t>Е</a:t>
              </a:r>
              <a:endParaRPr b="0" lang="en-US" sz="9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 rot="2481600">
              <a:off x="5508720" y="2666160"/>
              <a:ext cx="1084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e30510"/>
                  </a:solidFill>
                  <a:latin typeface="Arial Black"/>
                </a:rPr>
                <a:t>Н</a:t>
              </a:r>
              <a:endParaRPr b="0" lang="en-US" sz="9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 rot="2445000">
              <a:off x="7281360" y="4177800"/>
              <a:ext cx="858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e30510"/>
                  </a:solidFill>
                  <a:latin typeface="Arial Black"/>
                </a:rPr>
                <a:t>Т</a:t>
              </a:r>
              <a:endParaRPr b="0" lang="en-US" sz="9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90320" y="-360"/>
            <a:ext cx="8653320" cy="16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мей сказать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cc3300"/>
                </a:solidFill>
                <a:latin typeface="Arial Black"/>
              </a:rPr>
              <a:t>нет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в некоторых специфических ситуациях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5" name="Picture 5" descr="120040713204739_1-narkotiki[1]"/>
          <p:cNvPicPr/>
          <p:nvPr/>
        </p:nvPicPr>
        <p:blipFill>
          <a:blip r:embed="rId1"/>
          <a:stretch/>
        </p:blipFill>
        <p:spPr>
          <a:xfrm>
            <a:off x="250920" y="1916280"/>
            <a:ext cx="4321080" cy="44654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0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41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41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42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42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431" nodeType="after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4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990720" y="762120"/>
            <a:ext cx="3657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ье -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4643280" y="1989000"/>
            <a:ext cx="3810240" cy="4848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При этом есть болезни, которые зависят только от нашего поведения и образа жизни. Именно об этих заболеваниях, которыми, к огромному сожалению, болеет большое количество молодёжи мы поговор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4648320" y="1019160"/>
            <a:ext cx="4267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6600"/>
                </a:solidFill>
                <a:latin typeface="Arial Black"/>
              </a:rPr>
              <a:t>это</a:t>
            </a:r>
            <a:r>
              <a:rPr b="1" lang="ru-RU" sz="2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ru-RU" sz="2600" spc="-1" strike="noStrike">
                <a:solidFill>
                  <a:srgbClr val="cc6600"/>
                </a:solidFill>
                <a:latin typeface="Arial Black"/>
              </a:rPr>
              <a:t>отсутствие болезн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8" descr="j0178531"/>
          <p:cNvPicPr/>
          <p:nvPr/>
        </p:nvPicPr>
        <p:blipFill>
          <a:blip r:embed="rId3"/>
          <a:stretch/>
        </p:blipFill>
        <p:spPr>
          <a:xfrm>
            <a:off x="395280" y="1844640"/>
            <a:ext cx="3672000" cy="237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j0178525"/>
          <p:cNvPicPr/>
          <p:nvPr/>
        </p:nvPicPr>
        <p:blipFill>
          <a:blip r:embed="rId4"/>
          <a:stretch/>
        </p:blipFill>
        <p:spPr>
          <a:xfrm>
            <a:off x="395280" y="4365720"/>
            <a:ext cx="3657600" cy="24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ГЛАЗ"/>
          <p:cNvPicPr/>
          <p:nvPr/>
        </p:nvPicPr>
        <p:blipFill>
          <a:blip r:embed="rId1"/>
          <a:stretch/>
        </p:blipFill>
        <p:spPr>
          <a:xfrm>
            <a:off x="611280" y="2421000"/>
            <a:ext cx="2133360" cy="1800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3"/>
          <p:cNvSpPr/>
          <p:nvPr/>
        </p:nvSpPr>
        <p:spPr>
          <a:xfrm>
            <a:off x="3276720" y="1916280"/>
            <a:ext cx="51829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 Black"/>
              </a:rPr>
              <a:t>Помните:</a:t>
            </a: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 это </a:t>
            </a: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ваше тело </a:t>
            </a: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- </a:t>
            </a: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и </a:t>
            </a: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ваш выбор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79980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62" name="Organization Chart 3"/>
          <p:cNvGrpSpPr/>
          <p:nvPr/>
        </p:nvGrpSpPr>
        <p:grpSpPr>
          <a:xfrm>
            <a:off x="228600" y="1208160"/>
            <a:ext cx="8914680" cy="4885200"/>
            <a:chOff x="228600" y="1208160"/>
            <a:chExt cx="8914680" cy="4885200"/>
          </a:xfrm>
        </p:grpSpPr>
        <p:cxnSp>
          <p:nvCxnSpPr>
            <p:cNvPr id="163" name="_s1028"/>
            <p:cNvCxnSpPr>
              <a:stCxn id="164" idx="0"/>
              <a:endCxn id="165" idx="2"/>
            </p:cNvCxnSpPr>
            <p:nvPr/>
          </p:nvCxnSpPr>
          <p:spPr>
            <a:xfrm flipV="1" rot="16200000">
              <a:off x="6068880" y="1524600"/>
              <a:ext cx="356400" cy="3117960"/>
            </a:xfrm>
            <a:prstGeom prst="bentConnector3">
              <a:avLst>
                <a:gd name="adj1" fmla="val 321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6" name="_s1029"/>
            <p:cNvCxnSpPr>
              <a:stCxn id="167" idx="0"/>
              <a:endCxn id="165" idx="2"/>
            </p:cNvCxnSpPr>
            <p:nvPr/>
          </p:nvCxnSpPr>
          <p:spPr>
            <a:xfrm flipH="1" flipV="1" rot="5400000">
              <a:off x="4509000" y="3081960"/>
              <a:ext cx="356400" cy="3240"/>
            </a:xfrm>
            <a:prstGeom prst="bentConnector3">
              <a:avLst>
                <a:gd name="adj1" fmla="val 321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8" name="_s1030"/>
            <p:cNvCxnSpPr>
              <a:stCxn id="169" idx="0"/>
              <a:endCxn id="165" idx="2"/>
            </p:cNvCxnSpPr>
            <p:nvPr/>
          </p:nvCxnSpPr>
          <p:spPr>
            <a:xfrm flipH="1" flipV="1" rot="5400000">
              <a:off x="2948760" y="1521720"/>
              <a:ext cx="356400" cy="3123720"/>
            </a:xfrm>
            <a:prstGeom prst="bentConnector3">
              <a:avLst>
                <a:gd name="adj1" fmla="val 321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5" name="_s1031"/>
            <p:cNvSpPr/>
            <p:nvPr/>
          </p:nvSpPr>
          <p:spPr>
            <a:xfrm>
              <a:off x="3351600" y="1208160"/>
              <a:ext cx="2671560" cy="169740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0" lang="ru-RU" sz="1900" spc="-1" strike="noStrike">
                  <a:solidFill>
                    <a:srgbClr val="ffff66"/>
                  </a:solidFill>
                  <a:latin typeface="Times New Roman"/>
                </a:rPr>
                <a:t>ПАВ –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66"/>
                  </a:solidFill>
                  <a:latin typeface="Times New Roman"/>
                </a:rPr>
                <a:t>психо-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66"/>
                  </a:solidFill>
                  <a:latin typeface="Times New Roman"/>
                </a:rPr>
                <a:t>активные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66"/>
                  </a:solidFill>
                  <a:latin typeface="Times New Roman"/>
                </a:rPr>
                <a:t>вещества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_s1032"/>
            <p:cNvSpPr/>
            <p:nvPr/>
          </p:nvSpPr>
          <p:spPr>
            <a:xfrm>
              <a:off x="228600" y="3262320"/>
              <a:ext cx="2674440" cy="7124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imes New Roman"/>
                </a:rPr>
                <a:t>Табак,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imes New Roman"/>
                </a:rPr>
                <a:t>сигареты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_s1033"/>
            <p:cNvSpPr/>
            <p:nvPr/>
          </p:nvSpPr>
          <p:spPr>
            <a:xfrm>
              <a:off x="3348720" y="3262320"/>
              <a:ext cx="2674440" cy="7124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Times New Roman"/>
                </a:rPr>
                <a:t>Алкоголь,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imes New Roman"/>
                </a:rPr>
                <a:t>спиртное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_s1034"/>
            <p:cNvSpPr/>
            <p:nvPr/>
          </p:nvSpPr>
          <p:spPr>
            <a:xfrm>
              <a:off x="6468840" y="3262320"/>
              <a:ext cx="2674440" cy="7124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Наркотик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70" name="Picture 52" descr="14"/>
            <p:cNvPicPr/>
            <p:nvPr/>
          </p:nvPicPr>
          <p:blipFill>
            <a:blip r:embed="rId1">
              <a:lum contrast="8000"/>
            </a:blip>
            <a:stretch/>
          </p:blipFill>
          <p:spPr>
            <a:xfrm>
              <a:off x="7165440" y="4148280"/>
              <a:ext cx="1653120" cy="184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56" descr="28"/>
            <p:cNvPicPr/>
            <p:nvPr/>
          </p:nvPicPr>
          <p:blipFill>
            <a:blip r:embed="rId2">
              <a:lum contrast="16000"/>
            </a:blip>
            <a:stretch/>
          </p:blipFill>
          <p:spPr>
            <a:xfrm>
              <a:off x="3562200" y="4366080"/>
              <a:ext cx="2377440" cy="165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17" descr=""/>
            <p:cNvPicPr/>
            <p:nvPr/>
          </p:nvPicPr>
          <p:blipFill>
            <a:blip r:embed="rId3"/>
            <a:stretch/>
          </p:blipFill>
          <p:spPr>
            <a:xfrm>
              <a:off x="250200" y="4148280"/>
              <a:ext cx="2593440" cy="1945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стрелка 1"/>
          <p:cNvPicPr/>
          <p:nvPr/>
        </p:nvPicPr>
        <p:blipFill>
          <a:blip r:embed="rId1"/>
          <a:stretch/>
        </p:blipFill>
        <p:spPr>
          <a:xfrm>
            <a:off x="611280" y="3284640"/>
            <a:ext cx="2361960" cy="1697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стрелка 2"/>
          <p:cNvPicPr/>
          <p:nvPr/>
        </p:nvPicPr>
        <p:blipFill>
          <a:blip r:embed="rId2"/>
          <a:stretch/>
        </p:blipFill>
        <p:spPr>
          <a:xfrm>
            <a:off x="6443640" y="3357720"/>
            <a:ext cx="2286000" cy="1674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Arial"/>
              </a:rPr>
              <a:t>Задумайтесь о последствиях!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6" name="Picture 6" descr="9c55340cf8f6b2a05d855586fea67bfc_80_kurenie-1"/>
          <p:cNvPicPr/>
          <p:nvPr/>
        </p:nvPicPr>
        <p:blipFill>
          <a:blip r:embed="rId3"/>
          <a:stretch/>
        </p:blipFill>
        <p:spPr>
          <a:xfrm>
            <a:off x="3059280" y="2133720"/>
            <a:ext cx="3097080" cy="3527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92000" y="27756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КУРЕНИЕ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8" name="Picture 3" descr="аленка"/>
          <p:cNvPicPr/>
          <p:nvPr/>
        </p:nvPicPr>
        <p:blipFill>
          <a:blip r:embed="rId1"/>
          <a:stretch/>
        </p:blipFill>
        <p:spPr>
          <a:xfrm>
            <a:off x="2771640" y="1628640"/>
            <a:ext cx="1733760" cy="2187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йствие никотина особенно опасно в определенные периоды жизни - юность, старческий возраст, когда даже слабое возбуждающее действие нарушает нервную регуляцию. Особенно вреден никотин беременным, так как приводит к рождению слабых, с низким весом детей, и кормящим женщинам, так как повышает заболеваемость и смертность детей в первые годы жизни. Большинство же курильщиков удивительно бесцеремонны по отношению к окружающи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5" descr="no_smoking_j2"/>
          <p:cNvPicPr/>
          <p:nvPr/>
        </p:nvPicPr>
        <p:blipFill>
          <a:blip r:embed="rId2"/>
          <a:stretch/>
        </p:blipFill>
        <p:spPr>
          <a:xfrm>
            <a:off x="324000" y="3933720"/>
            <a:ext cx="2736720" cy="2303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вонючие бычки "/>
          <p:cNvPicPr/>
          <p:nvPr/>
        </p:nvPicPr>
        <p:blipFill>
          <a:blip r:embed="rId3"/>
          <a:stretch/>
        </p:blipFill>
        <p:spPr>
          <a:xfrm>
            <a:off x="179280" y="189000"/>
            <a:ext cx="2438640" cy="183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3" name="Picture 3" descr="пьяница"/>
          <p:cNvPicPr/>
          <p:nvPr/>
        </p:nvPicPr>
        <p:blipFill>
          <a:blip r:embed="rId1"/>
          <a:stretch/>
        </p:blipFill>
        <p:spPr>
          <a:xfrm>
            <a:off x="457200" y="1619280"/>
            <a:ext cx="4038480" cy="21495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5018040" y="993600"/>
            <a:ext cx="37450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 это наркотик,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химическое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ещество,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оторое влияет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 то, как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ункционирует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рганизм.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295280" y="9144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АЛКОГО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7" descr="60c473449a9492364b5cb066d44da1d1"/>
          <p:cNvPicPr/>
          <p:nvPr/>
        </p:nvPicPr>
        <p:blipFill>
          <a:blip r:embed="rId2"/>
          <a:stretch/>
        </p:blipFill>
        <p:spPr>
          <a:xfrm>
            <a:off x="1116000" y="3860640"/>
            <a:ext cx="2519280" cy="27306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75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3"/>
          <p:cNvSpPr/>
          <p:nvPr/>
        </p:nvSpPr>
        <p:spPr>
          <a:xfrm rot="210600">
            <a:off x="1116000" y="691920"/>
            <a:ext cx="7632720" cy="19843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Пристрастие к алкоголю вызывает сильную деградацию личности и такие заболевания как рак пищевода или желудка, цирроз печени. Человек, пристрастившийся к алкоголю, старается заглушить страх и уменьшить стресс. Алкоголики стараются изменить свое сознание, достичь «высшего чувств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j0282749"/>
          <p:cNvPicPr/>
          <p:nvPr/>
        </p:nvPicPr>
        <p:blipFill>
          <a:blip r:embed="rId1"/>
          <a:stretch/>
        </p:blipFill>
        <p:spPr>
          <a:xfrm>
            <a:off x="2627280" y="3068640"/>
            <a:ext cx="41767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alcoholicreasons_2"/>
          <p:cNvPicPr/>
          <p:nvPr/>
        </p:nvPicPr>
        <p:blipFill>
          <a:blip r:embed="rId1"/>
          <a:stretch/>
        </p:blipFill>
        <p:spPr>
          <a:xfrm>
            <a:off x="7651800" y="5718240"/>
            <a:ext cx="1492200" cy="1139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alcohol_reasons"/>
          <p:cNvPicPr/>
          <p:nvPr/>
        </p:nvPicPr>
        <p:blipFill>
          <a:blip r:embed="rId2"/>
          <a:stretch/>
        </p:blipFill>
        <p:spPr>
          <a:xfrm>
            <a:off x="7020000" y="69228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alcoholic_reasons_3"/>
          <p:cNvPicPr/>
          <p:nvPr/>
        </p:nvPicPr>
        <p:blipFill>
          <a:blip r:embed="rId3"/>
          <a:stretch/>
        </p:blipFill>
        <p:spPr>
          <a:xfrm>
            <a:off x="395280" y="4221000"/>
            <a:ext cx="1582920" cy="2144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alcohol_reasons_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76280"/>
            <a:ext cx="2300400" cy="32734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2210040" y="-30600"/>
            <a:ext cx="65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Глупые причины начать пи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2411280" y="1153800"/>
            <a:ext cx="67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Похмелье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2.Из-за алкоголя ты чувствуешь себя «взрослым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3. Пить, чтобы забыть о проблемах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4.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Пить, чтобы быть принятым друзьями.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5.Пить от любопытств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4734000" y="914400"/>
            <a:ext cx="410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вещество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торое способно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звать эйфорию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сихическую ил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зическую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исимость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чинять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щественн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ред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сихическому и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зическому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оровью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371600" y="7621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Black"/>
              </a:rPr>
              <a:t>НАРКОТ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9" descr="nelomay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00000" y="1628640"/>
            <a:ext cx="3311640" cy="49690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7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62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8:08:38Z</dcterms:created>
  <dc:creator>Игорь</dc:creator>
  <dc:description/>
  <dc:language>en-US</dc:language>
  <cp:lastModifiedBy>Ольга</cp:lastModifiedBy>
  <dcterms:modified xsi:type="dcterms:W3CDTF">2013-10-03T09:50:16Z</dcterms:modified>
  <cp:revision>15</cp:revision>
  <dc:subject/>
  <dc:title>Слайд 1</dc:title>
</cp:coreProperties>
</file>