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AE96-7799-44AE-B455-C29BFF327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136F-D9C2-4F75-AD3D-2BA637EF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04F4-374A-4830-B00A-9FFF56BB4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A0B8-0444-4EB7-BB97-EBF553967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CDA3-81D1-4F63-B899-61DD8BCC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5B7E-B344-47B6-BB8B-931541CF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A015-C00B-4589-BB8A-244D85B7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8B41-93C4-4091-AEF7-29D5920A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9C82-D683-4BA3-BC3E-C132A4CC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2B25-2A51-4CD8-9996-75CACE04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8EB0-9332-4E82-920A-F5C86A13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4311-B3D1-46BA-B346-0AFFD7FA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BA55-6028-4AE0-8A76-F0AC60323C51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900igr.net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5" descr=""/>
          <p:cNvPicPr/>
          <p:nvPr/>
        </p:nvPicPr>
        <p:blipFill>
          <a:blip r:embed="rId1"/>
          <a:stretch/>
        </p:blipFill>
        <p:spPr>
          <a:xfrm>
            <a:off x="517680" y="476280"/>
            <a:ext cx="8229600" cy="2498760"/>
          </a:xfrm>
          <a:prstGeom prst="rect">
            <a:avLst/>
          </a:prstGeom>
          <a:ln w="0">
            <a:noFill/>
          </a:ln>
        </p:spPr>
      </p:pic>
      <p:sp>
        <p:nvSpPr>
          <p:cNvPr id="42" name="Скругленный прямоугольник 4">
            <a:hlinkClick r:id="rId2"/>
          </p:cNvPr>
          <p:cNvSpPr/>
          <p:nvPr/>
        </p:nvSpPr>
        <p:spPr>
          <a:xfrm flipV="1">
            <a:off x="3898800" y="6832440"/>
            <a:ext cx="1346400" cy="46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-90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1" descr=""/>
          <p:cNvPicPr/>
          <p:nvPr/>
        </p:nvPicPr>
        <p:blipFill>
          <a:blip r:embed="rId3"/>
          <a:stretch/>
        </p:blipFill>
        <p:spPr>
          <a:xfrm>
            <a:off x="1908000" y="3213000"/>
            <a:ext cx="53280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7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74160" cy="676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34920" y="6480"/>
            <a:ext cx="9109080" cy="68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85672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"/>
          <p:cNvPicPr/>
          <p:nvPr/>
        </p:nvPicPr>
        <p:blipFill>
          <a:blip r:embed="rId1"/>
          <a:stretch/>
        </p:blipFill>
        <p:spPr>
          <a:xfrm>
            <a:off x="181080" y="115920"/>
            <a:ext cx="8962920" cy="65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85672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9280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7T02:08:52Z</dcterms:created>
  <dc:creator>класс</dc:creator>
  <dc:description/>
  <dc:language>en-US</dc:language>
  <cp:lastModifiedBy>Алексей</cp:lastModifiedBy>
  <dcterms:modified xsi:type="dcterms:W3CDTF">2024-03-17T06:35:34Z</dcterms:modified>
  <cp:revision>21</cp:revision>
  <dc:subject/>
  <dc:title>Слайд 1</dc:title>
</cp:coreProperties>
</file>