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C78-4BC0-414E-B04B-9DEF4CCD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A61-9618-40A0-8531-875EEAF0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8BD-3C14-43CD-A3A9-F524F407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A21-9D87-4111-906B-BCEF7F84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A6A-573C-4EAB-BC78-1375295F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26D-6D89-45AB-BAFA-E91B7E29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A8F-07A1-48DD-AE23-4CF9F35F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C71-3C91-439B-9FAA-2E85A3BC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4A8-EAC2-4762-858E-14B0885E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45D5-73A0-4984-BF7B-4908457F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616-F6D9-4334-AE3A-00899AB0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489-6748-4DBE-8BEE-E1E40905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0B87-306B-4911-8302-3D0236F6E3DC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5" descr=""/>
          <p:cNvPicPr/>
          <p:nvPr/>
        </p:nvPicPr>
        <p:blipFill>
          <a:blip r:embed="rId1"/>
          <a:stretch/>
        </p:blipFill>
        <p:spPr>
          <a:xfrm>
            <a:off x="517680" y="476280"/>
            <a:ext cx="8229600" cy="249876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4">
            <a:hlinkClick r:id="rId2"/>
          </p:cNvPr>
          <p:cNvSpPr/>
          <p:nvPr/>
        </p:nvSpPr>
        <p:spPr>
          <a:xfrm flipV="1">
            <a:off x="3898800" y="6832440"/>
            <a:ext cx="1346400" cy="4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-90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3"/>
          <a:stretch/>
        </p:blipFill>
        <p:spPr>
          <a:xfrm>
            <a:off x="1908000" y="3213000"/>
            <a:ext cx="5328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741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34920" y="6480"/>
            <a:ext cx="910908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856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181080" y="115920"/>
            <a:ext cx="896292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856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2:08:52Z</dcterms:created>
  <dc:creator>класс</dc:creator>
  <dc:description/>
  <dc:language>en-US</dc:language>
  <cp:lastModifiedBy>Алексей</cp:lastModifiedBy>
  <dcterms:modified xsi:type="dcterms:W3CDTF">2024-03-17T06:35:34Z</dcterms:modified>
  <cp:revision>21</cp:revision>
  <dc:subject/>
  <dc:title>Слайд 1</dc:title>
</cp:coreProperties>
</file>