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0E5-82A8-4635-B1F9-A73C4837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437-F0BD-440E-B6F5-C13A0DD0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B23-5E11-4A92-9D18-BAB52FCF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B87-49AF-4E41-BDB1-A96C7ED9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E6E8-B9A9-4DF5-BD23-960A5088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C2DA-FDDA-4E35-9091-729970CA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DF01-033F-4B96-8607-CC822B29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2370-75B4-4F92-BED7-1C61F52E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1675-7B6A-4A7D-98A8-061876FA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A315-CA85-413B-B5CA-CBB93383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D153-B894-4D2E-BD38-EEEB6FD4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2BD-828B-4D37-A2B1-53F8CCF1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1B7A-F671-4F1C-A856-B3EC0246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B667-F1FA-4F26-B77D-8554ED00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72FC-C190-4112-8820-9D99A1E4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EF47-886C-48B7-878E-679E3F50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9F0E-0D64-4AF3-A9B5-267A9731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1D2E-2E6B-412F-AD78-1B5D3FE5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5654-4AB4-45BF-9EF7-1EEC44A1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07DF-24AF-449B-8072-33DEA973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02A3-34DA-45C5-A209-AF3C02EA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A751-CFCF-41E7-9910-1C30CDF4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40C-9ECC-442D-B8FA-F1B52765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B280-9EE0-4B52-805E-0BABEACF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40C28-8CED-43A2-ABCE-494BA252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3E8A9-AFAA-4021-B352-B4A132C8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CA65-5016-4F7F-A6AC-3E0B5732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F802-6273-453A-B524-AAB76206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F3D2-CED4-4273-90DA-E757DC59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3797-0538-4F7C-B2D7-191EF5F3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139A4-D2F4-4937-A633-6DD01E6B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338D-966C-47AC-A4A2-222A5D5F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C2109-9EFD-4999-B87A-65851B5B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58D-01CC-458A-BF93-9DB11CC6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F001-E961-4605-B1B8-3FE1B48B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603A-D570-448C-8ADB-D4BCF05D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3869D-2A10-45E9-BA44-ECE243AB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3104-485A-485E-8FFA-4A4DBE5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9235E-6157-4468-B095-F61F41D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DF03A-D44A-4487-98DF-2E0DA757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A901D-3EC6-4E28-8B20-D1AB3129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7BCB-80C4-4AF4-BCE5-530339AC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C541-B83E-44DB-9383-28F0264C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C85E6-DD31-4C1D-AEEE-7342B515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4F1-F028-47D6-B560-47681EC6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4DF63-6F77-41A4-BA71-EDBA7CE0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AFBFC-D222-429F-97ED-B3FD482E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10141-43FD-43A7-BFE1-2019DA94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1E44-5C2F-433A-BE06-6A399BF7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2A4FF-2DA9-49D0-A8B8-B01330AB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36712-0FA9-463E-AF92-64F4E6B1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8F813-2C75-4BFF-9389-8C43891B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CD7C-3CA9-4DC8-B45E-50047619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6F5EC-B2F7-40B0-AA82-B2BF69E1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74FC7-29CA-46AC-A260-DBE64598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FAE-37B3-4DDD-A3FD-C1B1F2A8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B7F6-DE7B-4414-BFA2-1981E086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36F03-6478-432E-A888-3477A7C6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981A0-6154-4FD1-A2E9-4F7D6547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B4BE5-6FBC-4F71-84E7-4A09397D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33F0C-7693-4527-8875-F4385B2B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73369-BE29-4AC3-8576-50579AC1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4FCDB-2270-45D5-B7FE-E38387CC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8B78B-86A3-439F-B951-EEFD77A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633C4-4552-4313-A4DA-1407ACCC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D748D-6FB4-40E3-94D1-854D6BCA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67A-F94C-4B4D-88C8-B27A42D6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7430A-4042-4652-924F-4A7880DD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E33B9-D73D-49E7-8E94-3071ABB1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6F83-00EB-4F45-9B82-D0FA488E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26738-3AA1-4091-A1C1-B4DA51D0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1A6DD-14C1-4BFF-B9E8-9ECA88F3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12D1A-6DC4-4AB7-B632-0484790F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A9473-BDB9-489B-823D-2411E703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39270-A142-4CA1-BE55-25E4AFF8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3F513-A1F4-457F-BA0F-96CE567D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F863B-42CE-4B23-B060-BC8128F3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91F-0A32-47BF-B69C-646A8C0A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D77FE-EBCA-4769-9852-B9896672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38D45-2947-4743-A047-7ED0D74A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15D9A-3129-4F32-8F45-8382AB60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B1CB9-01EF-427A-BB4F-F2B76B5B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ABCBC-4A7E-46A9-B8CD-7F850113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1E8-DFF0-4D85-977D-A3F100A8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ABE7-F737-41DA-B116-F57DDFFC77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9B78-6F99-4857-8303-4E94A26085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6492-93BE-4504-8A3C-F96961FCA59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2768-E2BA-4E16-BD1B-1B59E4D6B44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F421-16D1-4725-B285-61F546AA8A1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6AE2-301B-4952-A7EE-5B257A0B96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7949-E1D3-45C9-91E9-300A9F11AA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спублика Украин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643200" y="5143320"/>
            <a:ext cx="4129200" cy="1285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: Гладкая Л.Н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image007"/>
          <p:cNvPicPr/>
          <p:nvPr/>
        </p:nvPicPr>
        <p:blipFill>
          <a:blip r:embed="rId1"/>
          <a:stretch/>
        </p:blipFill>
        <p:spPr>
          <a:xfrm>
            <a:off x="2438280" y="2362320"/>
            <a:ext cx="4260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          </a:t>
            </a: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Николай Гого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4" descr="D:\загрузки\Downloads\0931.jpg"/>
          <p:cNvPicPr/>
          <p:nvPr/>
        </p:nvPicPr>
        <p:blipFill>
          <a:blip r:embed="rId1"/>
          <a:stretch/>
        </p:blipFill>
        <p:spPr>
          <a:xfrm>
            <a:off x="2286000" y="1066680"/>
            <a:ext cx="4267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ихаил Булгак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4" descr="D:\загрузки\Downloads\pic_1674219160.png"/>
          <p:cNvPicPr/>
          <p:nvPr/>
        </p:nvPicPr>
        <p:blipFill>
          <a:blip r:embed="rId1"/>
          <a:stretch/>
        </p:blipFill>
        <p:spPr>
          <a:xfrm>
            <a:off x="2784600" y="14479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Александр Петрович Довженко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4" descr="D:\загрузки\Downloads\0931.jpg"/>
          <p:cNvPicPr/>
          <p:nvPr/>
        </p:nvPicPr>
        <p:blipFill>
          <a:blip r:embed="rId1"/>
          <a:stretch/>
        </p:blipFill>
        <p:spPr>
          <a:xfrm>
            <a:off x="2057400" y="1219320"/>
            <a:ext cx="4079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116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4" descr="D:\загрузки\Downloads\images.jpg"/>
          <p:cNvPicPr/>
          <p:nvPr/>
        </p:nvPicPr>
        <p:blipFill>
          <a:blip r:embed="rId1"/>
          <a:stretch/>
        </p:blipFill>
        <p:spPr>
          <a:xfrm>
            <a:off x="380880" y="9144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ушни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4" descr="D:\загрузки\Downloads\images.jpg"/>
          <p:cNvPicPr/>
          <p:nvPr/>
        </p:nvPicPr>
        <p:blipFill>
          <a:blip r:embed="rId1"/>
          <a:stretch/>
        </p:blipFill>
        <p:spPr>
          <a:xfrm>
            <a:off x="1447920" y="12193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краинская кухн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4" descr="D:\загрузки\Downloads\Без названия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Picture 2" descr="D:\загрузки\Downloads\0931.jpg"/>
          <p:cNvPicPr/>
          <p:nvPr/>
        </p:nvPicPr>
        <p:blipFill>
          <a:blip r:embed="rId1"/>
          <a:stretch/>
        </p:blipFill>
        <p:spPr>
          <a:xfrm>
            <a:off x="457200" y="174600"/>
            <a:ext cx="853452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D:\загрузки\Downloads\karta-ukraina-s.jpg"/>
          <p:cNvPicPr/>
          <p:nvPr/>
        </p:nvPicPr>
        <p:blipFill>
          <a:blip r:embed="rId1"/>
          <a:stretch/>
        </p:blipFill>
        <p:spPr>
          <a:xfrm>
            <a:off x="1295280" y="228600"/>
            <a:ext cx="7162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4" descr="D:\загрузки\Downloads\Флаг_Украины_с_гербом.png"/>
          <p:cNvPicPr/>
          <p:nvPr/>
        </p:nvPicPr>
        <p:blipFill>
          <a:blip r:embed="rId1"/>
          <a:stretch/>
        </p:blipFill>
        <p:spPr>
          <a:xfrm>
            <a:off x="863640" y="380880"/>
            <a:ext cx="80708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еографическое полож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лагоприятные природные услов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нозем и земельные ресурс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ные реки – Днепр, Южный Буг, Северный Донец и Днест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дра богаты полезными ископаемы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еди Украины Россия, Белоруссия, Польша, Венгрия, Молдо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упнейшие город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ие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историческая столица Киевской Руси и современной Украины на реке Днепр, "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Льво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средневековый "старый город"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десс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порт на Чёрном мо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Чернигов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старинный город с множеством памятников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иево-Печерская лавра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Picture 4" descr="D:\загрузки\Downloads\0931.jpg"/>
          <p:cNvPicPr/>
          <p:nvPr/>
        </p:nvPicPr>
        <p:blipFill>
          <a:blip r:embed="rId1"/>
          <a:stretch/>
        </p:blipFill>
        <p:spPr>
          <a:xfrm>
            <a:off x="1143000" y="1295280"/>
            <a:ext cx="7527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ыдающиеся люди Украины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Тарас Шевченко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4" descr="D:\загрузки\Downloads\big-person-15642469881.jpg"/>
          <p:cNvPicPr/>
          <p:nvPr/>
        </p:nvPicPr>
        <p:blipFill>
          <a:blip r:embed="rId1"/>
          <a:stretch/>
        </p:blipFill>
        <p:spPr>
          <a:xfrm>
            <a:off x="2438280" y="1447920"/>
            <a:ext cx="4953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ладимир Иванович Даль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4" descr="D:\загрузки\Downloads\1674180469_flomaster-club-p-portret-dalya-oboi-23.jpg"/>
          <p:cNvPicPr/>
          <p:nvPr/>
        </p:nvPicPr>
        <p:blipFill>
          <a:blip r:embed="rId1"/>
          <a:stretch/>
        </p:blipFill>
        <p:spPr>
          <a:xfrm>
            <a:off x="2514600" y="914400"/>
            <a:ext cx="4336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3:23:14Z</dcterms:created>
  <dc:creator>v</dc:creator>
  <dc:description/>
  <dc:language>en-US</dc:language>
  <cp:lastModifiedBy>ЛЮДМИЛА</cp:lastModifiedBy>
  <dcterms:modified xsi:type="dcterms:W3CDTF">2024-03-19T14:38:41Z</dcterms:modified>
  <cp:revision>54</cp:revision>
  <dc:subject/>
  <dc:title>Украина</dc:title>
</cp:coreProperties>
</file>