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E13-F359-4A50-A41A-2C43AD72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06A-B729-43CF-B55F-98690A1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D43-D7FF-43E6-8D06-5778583D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547-DA6D-41A8-9AAF-1CA9C029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BD9-3382-4A48-9FAD-386A8021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0A07-B097-4F54-ABF7-74D1550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C1DA-E03D-4218-8235-5DAD4E1D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7777-C090-4E3F-9A1F-520810E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DC43-4C12-4FF9-AF9B-3EB81D6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255-4476-4057-BA3F-80873B69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E7E6-8E5C-4A22-AA6C-0E64186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1ED-6793-42CC-9D01-DAED389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AB4-D2D1-4AB0-B612-347529E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42A8-40E2-4592-86A7-8F601E5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CB2D-01A5-4092-9F93-2E42884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ACA0-B220-4627-927F-75403DBF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F0D2-5CC5-432B-91B6-04DFB322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AC55-3BE7-4464-9E37-1F66A44D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4002-3ADA-44E1-A70B-DCDBA26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5A06-0DD6-4AFD-8BBD-4D9A927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D936-4A82-46FB-ACF8-3FA78CD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590D-9BD9-41DD-8DD2-5451138B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60E-A208-4562-8C37-5ADF364B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208A-1E12-4157-B5C9-BC2EC5F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0759-16C6-417F-B4C3-A7376D7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3F0E-E799-4DCA-A8F4-1CF4563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9E2F-5EC2-42E5-A05E-74FFBC3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65D0-2A5C-4F14-B597-1B9D85D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B301-F8E7-4826-88AE-0771157B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4250-AB76-43F6-AC4E-CE94048A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5DA3-E0B0-420B-8E6C-D00C91AC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4DD2-6F18-4592-B51E-77E1218E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4A68-85CB-4C78-9B56-9DFEA50F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29D-7554-4C33-A8D6-A569C3F7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F6533-2374-4DE2-A786-BE5D0B3B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BC02-35F3-4426-B85C-6FD427D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FAC4-3C1C-4AA6-8163-1C1C544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3C14-D58D-4E33-8031-AD8A425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6C9F-A530-464E-8E80-87E4E71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0BA9-8312-40AA-8C6C-208437A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76799-67F8-4C91-88F1-B8D44CC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9F86-9144-404B-B2EC-F2370164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0165-8920-4C2B-8E60-2F774DC1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89FF-C87A-4205-9B37-C953787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50B-1BE1-47F2-9CEC-BD608144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22EB-DD8A-4B3B-81D3-799014C4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B698-278F-4CB1-B5BC-1F41DC62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25E6-AEB2-456F-8A80-B5FA000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B12DB-AA7A-4155-9AE5-F0D12B4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AB95-3C0D-48F2-857D-35F1A72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6A95-8814-47AC-BE70-1D87AB9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2E78-A5C2-40E1-8A39-65EE1CC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0619-CDA0-492C-ACD5-7AE56E0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8A68-265F-49FD-A4C5-1C7FB562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5E22C-AB4A-4721-84EF-9F6D9C70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A52-B5C6-42C6-BB36-AB5CE753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C337-BBA8-454F-8192-EFA83F15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B2E2-232E-4B62-80EF-0332E5FB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AA43-1AED-4218-BCB6-AF7307C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0A7D-8ACE-43CD-90C6-E1199785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97B9-9B0D-4650-8CF6-1507CCFC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87417-8357-4FCC-92D8-3092404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FB64-382A-4C21-8BD9-395E60A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DA7D-3333-4D28-872A-CFCE3B5E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3D04A-58B6-4FC9-9882-CAF7BF6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41B3-5F5B-4501-AE80-92BE6CE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A34-0E73-466C-89D1-AF536B0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BDD1-B2E2-4CAB-891D-6A991F24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62A6-7CB7-4512-B5B6-DFE0504C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681C-EF8B-4350-B950-A5F6CE3A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E21C-FE30-483B-8B4E-D5F6CECF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EB6D2-B95C-40DF-86B0-A5DCDED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49D1-C5A3-4F0A-97DE-E6911E0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913A6-7254-4DEF-A8B9-08AACE0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D23E9-405B-4BCC-8FF7-2CE2FF05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278FB-A6B4-4AC9-99B0-1335AC89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C7A04-747E-4BDE-87F6-BE6493F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1DE-1070-46D0-89B4-8FCA0C4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03880-F41D-4F98-86CA-6DF709C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4848-E8F5-45C3-9A4C-2EDAEA2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E96BC-D4C4-4D2F-8874-C513CE30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407F-3D33-47CA-85A4-5B87C3AB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EFD70-9F71-4F07-8A1F-9659DEA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021-4CC7-44BD-A9CD-7E6CE2C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137E-726D-4F65-B284-08770DD255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C9A-62B5-4E41-B181-8E91F230D0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EF5-6C1E-47C3-AD47-7BA71B1A24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9E1-92B6-4AEE-8A86-12DF2C99FB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B0CA-8C13-43D0-974C-59EAC40133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9F5-47D6-4DAE-B099-36454F0041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D0A6-E486-41C9-8D65-55A4606EBF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спублика Украин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643200" y="5143320"/>
            <a:ext cx="4129200" cy="1285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: Гладкая Л.Н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image007"/>
          <p:cNvPicPr/>
          <p:nvPr/>
        </p:nvPicPr>
        <p:blipFill>
          <a:blip r:embed="rId1"/>
          <a:stretch/>
        </p:blipFill>
        <p:spPr>
          <a:xfrm>
            <a:off x="2438280" y="2362320"/>
            <a:ext cx="4260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         </a:t>
            </a: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Николай Гого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2286000" y="1066680"/>
            <a:ext cx="426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ихаил Булга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4" descr="D:\загрузки\Downloads\pic_1674219160.png"/>
          <p:cNvPicPr/>
          <p:nvPr/>
        </p:nvPicPr>
        <p:blipFill>
          <a:blip r:embed="rId1"/>
          <a:stretch/>
        </p:blipFill>
        <p:spPr>
          <a:xfrm>
            <a:off x="2784600" y="14479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Александр Петрович Довженк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2057400" y="1219320"/>
            <a:ext cx="4079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11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4" descr="D:\загрузки\Downloads\images.jpg"/>
          <p:cNvPicPr/>
          <p:nvPr/>
        </p:nvPicPr>
        <p:blipFill>
          <a:blip r:embed="rId1"/>
          <a:stretch/>
        </p:blipFill>
        <p:spPr>
          <a:xfrm>
            <a:off x="380880" y="9144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ушни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D:\загрузки\Downloads\images.jpg"/>
          <p:cNvPicPr/>
          <p:nvPr/>
        </p:nvPicPr>
        <p:blipFill>
          <a:blip r:embed="rId1"/>
          <a:stretch/>
        </p:blipFill>
        <p:spPr>
          <a:xfrm>
            <a:off x="1447920" y="12193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    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краинская кухн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4" descr="D:\загрузки\Downloads\Без названия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D:\загрузки\Downloads\0931.jpg"/>
          <p:cNvPicPr/>
          <p:nvPr/>
        </p:nvPicPr>
        <p:blipFill>
          <a:blip r:embed="rId1"/>
          <a:stretch/>
        </p:blipFill>
        <p:spPr>
          <a:xfrm>
            <a:off x="457200" y="174600"/>
            <a:ext cx="853452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D:\загрузки\Downloads\karta-ukraina-s.jpg"/>
          <p:cNvPicPr/>
          <p:nvPr/>
        </p:nvPicPr>
        <p:blipFill>
          <a:blip r:embed="rId1"/>
          <a:stretch/>
        </p:blipFill>
        <p:spPr>
          <a:xfrm>
            <a:off x="1295280" y="22860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D:\загрузки\Downloads\Флаг_Украины_с_гербом.png"/>
          <p:cNvPicPr/>
          <p:nvPr/>
        </p:nvPicPr>
        <p:blipFill>
          <a:blip r:embed="rId1"/>
          <a:stretch/>
        </p:blipFill>
        <p:spPr>
          <a:xfrm>
            <a:off x="863640" y="380880"/>
            <a:ext cx="80708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еографическое полож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лагоприятные природные услов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рнозем и земельные ресур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ые реки – Днепр, Южный Буг, Северный Донец и Днес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ра богаты полезными ископаем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еди Украины Россия, Белоруссия, Польша, Венгрия, Молдо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упнейшие горо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е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историческая столица Киевской Руси и современной Украины на реке Днепр, "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ьв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средневековый "старый город"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десс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порт на Чёрном мо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рнигов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старинный город с множеством памятнико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ево-Печерская лавра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4" descr="D:\загрузки\Downloads\0931.jpg"/>
          <p:cNvPicPr/>
          <p:nvPr/>
        </p:nvPicPr>
        <p:blipFill>
          <a:blip r:embed="rId1"/>
          <a:stretch/>
        </p:blipFill>
        <p:spPr>
          <a:xfrm>
            <a:off x="1143000" y="1295280"/>
            <a:ext cx="7527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дающиеся люди Украины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Тарас Шевченко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4" descr="D:\загрузки\Downloads\big-person-15642469881.jpg"/>
          <p:cNvPicPr/>
          <p:nvPr/>
        </p:nvPicPr>
        <p:blipFill>
          <a:blip r:embed="rId1"/>
          <a:stretch/>
        </p:blipFill>
        <p:spPr>
          <a:xfrm>
            <a:off x="2438280" y="1447920"/>
            <a:ext cx="4953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ладимир Иванович Даль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4" descr="D:\загрузки\Downloads\1674180469_flomaster-club-p-portret-dalya-oboi-23.jpg"/>
          <p:cNvPicPr/>
          <p:nvPr/>
        </p:nvPicPr>
        <p:blipFill>
          <a:blip r:embed="rId1"/>
          <a:stretch/>
        </p:blipFill>
        <p:spPr>
          <a:xfrm>
            <a:off x="2514600" y="914400"/>
            <a:ext cx="4336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3:23:14Z</dcterms:created>
  <dc:creator>v</dc:creator>
  <dc:description/>
  <dc:language>en-US</dc:language>
  <cp:lastModifiedBy>ЛЮДМИЛА</cp:lastModifiedBy>
  <dcterms:modified xsi:type="dcterms:W3CDTF">2024-03-19T14:38:41Z</dcterms:modified>
  <cp:revision>54</cp:revision>
  <dc:subject/>
  <dc:title>Украина</dc:title>
</cp:coreProperties>
</file>