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F79-4398-4194-B7CB-D517AF3B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4F7-F535-4D90-83A5-DB271D32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F28-2461-45E7-9CB3-5AF450FA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114-F6DF-4DD6-B4A8-75C88BE4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6E3-A231-4563-BBD7-A6ACBD84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AEF-F547-4B83-8FC3-A0F859C2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D8E-13E0-4502-8016-176410E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FCD-625B-472E-A01D-1990F60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481-EFA6-47E5-AFC3-73695C6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5FC-1516-479F-B271-89D2B52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B72-44AE-4DFB-B23A-D1FAC92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339-FADE-44BD-9DEB-C289297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3626-CAEC-4742-BFF0-7050DFD5DB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6" name="Рамка 6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2876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ема родительского собрания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Развитие самостоятельности у детей раннего возраста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готовила воспитатель 2 группы раннего возраста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БДОУ «Детский сад № 28» Миронычева Е.В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276200"/>
            <a:ext cx="3500280" cy="21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мендую прочитать               книгу автор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льги Вологодск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Воспитание самостоятельности у дет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604755-olga-vologodskaya-vospitanie-samostoyatelnosti-u-detey-mama-mozhno-ya-sam.jpg"/>
          <p:cNvPicPr/>
          <p:nvPr/>
        </p:nvPicPr>
        <p:blipFill>
          <a:blip r:embed="rId1"/>
          <a:stretch/>
        </p:blipFill>
        <p:spPr>
          <a:xfrm>
            <a:off x="4716360" y="411120"/>
            <a:ext cx="3214800" cy="4357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491840"/>
            <a:ext cx="32511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187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- родители 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именно от вас зависит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им вырастет ваш ребенок!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571680" y="14292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4200" y="684720"/>
            <a:ext cx="550080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Конечная цель всякого воспитания — воспитание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амостоятельности посредством само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едагог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Адольф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истербер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Воспитание имеет целью сделать человека самостоятельным существом, т.е.существом со свободной вол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лософ Гег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14200" y="2286000"/>
            <a:ext cx="5429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Человек становится взрослым и самостоятельным, когда начинает сам принимать решения и чувствовать за них ответственность.»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. А. Лебед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Самостоятельность – умение человека лично, без посторонней помощи управлять и распоряжаться своей жизнь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л  Доналд  Уол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4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MV Bol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85840" y="3714840"/>
            <a:ext cx="542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бя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иматься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е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я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помощи взрослых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7" descr="IMG_5806.JPG"/>
          <p:cNvPicPr/>
          <p:nvPr/>
        </p:nvPicPr>
        <p:blipFill>
          <a:blip r:embed="rId1"/>
          <a:stretch/>
        </p:blipFill>
        <p:spPr>
          <a:xfrm>
            <a:off x="5786280" y="500040"/>
            <a:ext cx="3017880" cy="40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421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я могу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856800"/>
            <a:ext cx="4429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Мыть руки, засучивая рук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Мыть лицо, не разбрызгивая в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авильно пользоваться мыл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Не мочить одеж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Одеваться и раздеваться в определенном порядке, одежду складывать, вешать, расстегива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позднее застегивать) пуговиц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Замечать непорядок в одежде и самостоятельно устранять его или обращаться за помощью к взросло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Своевременно пользоваться носовым платком, туале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ить из чашки, есть, хорошо пережёвывая пищу закрытым р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Правильно пользоваться ложкой, салфеткой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. Убирать игрушки, строительный материал на мест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IMG_5887.JPG"/>
          <p:cNvPicPr/>
          <p:nvPr/>
        </p:nvPicPr>
        <p:blipFill>
          <a:blip r:embed="rId1"/>
          <a:stretch/>
        </p:blipFill>
        <p:spPr>
          <a:xfrm>
            <a:off x="4572000" y="915840"/>
            <a:ext cx="440064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т какие мы большие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928440"/>
            <a:ext cx="81435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ми  умываем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тираем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84720" y="1058400"/>
            <a:ext cx="21592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шаем полотенц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 мес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9" descr="IMG_5849.JPG"/>
          <p:cNvPicPr/>
          <p:nvPr/>
        </p:nvPicPr>
        <p:blipFill>
          <a:blip r:embed="rId1"/>
          <a:stretch/>
        </p:blipFill>
        <p:spPr>
          <a:xfrm>
            <a:off x="6227640" y="1751040"/>
            <a:ext cx="2224080" cy="29638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8" descr="IMG_5844.JPG"/>
          <p:cNvPicPr/>
          <p:nvPr/>
        </p:nvPicPr>
        <p:blipFill>
          <a:blip r:embed="rId2"/>
          <a:stretch/>
        </p:blipFill>
        <p:spPr>
          <a:xfrm>
            <a:off x="571680" y="1785960"/>
            <a:ext cx="2222280" cy="2963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IMG_5846.JPG"/>
          <p:cNvPicPr/>
          <p:nvPr/>
        </p:nvPicPr>
        <p:blipFill>
          <a:blip r:embed="rId3"/>
          <a:stretch/>
        </p:blipFill>
        <p:spPr>
          <a:xfrm>
            <a:off x="3429000" y="178596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и одеваем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7" descr="IMG_5840.JPG"/>
          <p:cNvPicPr/>
          <p:nvPr/>
        </p:nvPicPr>
        <p:blipFill>
          <a:blip r:embed="rId1"/>
          <a:stretch/>
        </p:blipFill>
        <p:spPr>
          <a:xfrm>
            <a:off x="6072120" y="1071720"/>
            <a:ext cx="2732040" cy="32144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6" descr="IMG_5835.JPG"/>
          <p:cNvPicPr/>
          <p:nvPr/>
        </p:nvPicPr>
        <p:blipFill>
          <a:blip r:embed="rId2"/>
          <a:stretch/>
        </p:blipFill>
        <p:spPr>
          <a:xfrm>
            <a:off x="285840" y="1071720"/>
            <a:ext cx="2571840" cy="3219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IMG_5834.JPG"/>
          <p:cNvPicPr/>
          <p:nvPr/>
        </p:nvPicPr>
        <p:blipFill>
          <a:blip r:embed="rId3"/>
          <a:stretch/>
        </p:blipFill>
        <p:spPr>
          <a:xfrm>
            <a:off x="3214800" y="1071720"/>
            <a:ext cx="242892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IMG_5860.JPG"/>
          <p:cNvPicPr/>
          <p:nvPr/>
        </p:nvPicPr>
        <p:blipFill>
          <a:blip r:embed="rId1"/>
          <a:stretch/>
        </p:blipFill>
        <p:spPr>
          <a:xfrm>
            <a:off x="785880" y="357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IMG_5858.JPG"/>
          <p:cNvPicPr/>
          <p:nvPr/>
        </p:nvPicPr>
        <p:blipFill>
          <a:blip r:embed="rId2"/>
          <a:stretch/>
        </p:blipFill>
        <p:spPr>
          <a:xfrm>
            <a:off x="5238720" y="2858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IMG_5825.JPG"/>
          <p:cNvPicPr/>
          <p:nvPr/>
        </p:nvPicPr>
        <p:blipFill>
          <a:blip r:embed="rId3"/>
          <a:stretch/>
        </p:blipFill>
        <p:spPr>
          <a:xfrm>
            <a:off x="3071880" y="2643120"/>
            <a:ext cx="30002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04480"/>
            <a:ext cx="285768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евание –разде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2571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выкам одевания и раздевания ребенок учится в течение нескольких лет. Навыки эти непростые, требуют определенных усилий и терпения, причем как от детей, так и от родителей, которые, устав ждать, пока их чадо справится с очередной пуговицей или застежкой, начинают делать все за ребенка, тем самым убивая в нем стремление к самосто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IMG_5872.JPG"/>
          <p:cNvPicPr/>
          <p:nvPr/>
        </p:nvPicPr>
        <p:blipFill>
          <a:blip r:embed="rId1"/>
          <a:stretch/>
        </p:blipFill>
        <p:spPr>
          <a:xfrm>
            <a:off x="2916360" y="833400"/>
            <a:ext cx="2420640" cy="3227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MG_5886.JPG"/>
          <p:cNvPicPr/>
          <p:nvPr/>
        </p:nvPicPr>
        <p:blipFill>
          <a:blip r:embed="rId2"/>
          <a:stretch/>
        </p:blipFill>
        <p:spPr>
          <a:xfrm>
            <a:off x="5786280" y="357120"/>
            <a:ext cx="2786400" cy="2089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IMG_5888.JPG"/>
          <p:cNvPicPr/>
          <p:nvPr/>
        </p:nvPicPr>
        <p:blipFill>
          <a:blip r:embed="rId3"/>
          <a:stretch/>
        </p:blipFill>
        <p:spPr>
          <a:xfrm>
            <a:off x="5786280" y="26431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123480"/>
            <a:ext cx="447192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4" descr="IMG_5809.JPG"/>
          <p:cNvPicPr/>
          <p:nvPr/>
        </p:nvPicPr>
        <p:blipFill>
          <a:blip r:embed="rId1"/>
          <a:stretch/>
        </p:blipFill>
        <p:spPr>
          <a:xfrm>
            <a:off x="4664160" y="2154240"/>
            <a:ext cx="3620880" cy="2716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571320"/>
            <a:ext cx="867888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 время игры дети проделывают самые разнообразные движения: ползают на четвереньках, изображая какое-либо животное, играют в догонялки, преодолевают препятств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игровых занятиях дети что-то самостоятельно строят, конструируют; помогают воспитателю собрать и перенести игрушки, расставить тарелки  перед обедом и т. 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мостоятельность проявляется и во взаимоотношениях между деть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бенок уже сам может помочь сверстнику пожалеть 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IMG_5905.JPG"/>
          <p:cNvPicPr/>
          <p:nvPr/>
        </p:nvPicPr>
        <p:blipFill>
          <a:blip r:embed="rId2"/>
          <a:stretch/>
        </p:blipFill>
        <p:spPr>
          <a:xfrm>
            <a:off x="611280" y="21542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3008160" cy="3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571320"/>
            <a:ext cx="3214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нное качество. Воспитывая у детей самостоятельность, помн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о начинать воспитание  с    ранне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ще хвалите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примером для подража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опекайте детей чрезмер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льзя силой заставлять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-то дел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йте игр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веряйте своему малышу, но постоянно контролируйте, так как безопасность ребенка должна  быть на первом мес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не умеет лениться(если он чего- то не хочет делать в данную минуту ,значит у него есть на это важные причины),помогите 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еритесь терп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йте  последов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9" descr="IMG_5802.JPG"/>
          <p:cNvPicPr/>
          <p:nvPr/>
        </p:nvPicPr>
        <p:blipFill>
          <a:blip r:embed="rId1"/>
          <a:stretch/>
        </p:blipFill>
        <p:spPr>
          <a:xfrm>
            <a:off x="3714840" y="700200"/>
            <a:ext cx="5154480" cy="376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37:53Z</dcterms:created>
  <dc:creator>Lenovo</dc:creator>
  <dc:description/>
  <dc:language>en-US</dc:language>
  <cp:lastModifiedBy>user</cp:lastModifiedBy>
  <dcterms:modified xsi:type="dcterms:W3CDTF">2019-04-03T10:24:28Z</dcterms:modified>
  <cp:revision>88</cp:revision>
  <dc:subject/>
  <dc:title>Слайд 1</dc:title>
</cp:coreProperties>
</file>