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3017E-1311-4AB4-B301-1125B6A97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3BAEE-4E9E-40D4-998C-B4043D2A2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8DA17-2756-4162-BA18-2B10E4ECE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A2D7E-C08B-4D6C-A3A5-314FF91D4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9390E-E2B8-40F6-9118-D6D5D2568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BC910-08D2-4C7F-8F70-95E60C33A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865DB-1E83-417C-911B-277247C4C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284ED-F063-428E-8A41-71F4CCE6D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18120-5077-41AC-902F-962351936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E3775-9A9B-41C5-862A-1F247BC3B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3EE42-C18D-4F22-B98A-0547343D0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D6AD9-6DB7-43AA-BE4E-9BF343A1B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B25C0-21D1-4B6D-9D7D-77A8CF9065BC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Рамка 6"/>
          <p:cNvGrpSpPr/>
          <p:nvPr/>
        </p:nvGrpSpPr>
        <p:grpSpPr>
          <a:xfrm>
            <a:off x="-60480" y="-36360"/>
            <a:ext cx="9264960" cy="5267160"/>
            <a:chOff x="-60480" y="-36360"/>
            <a:chExt cx="9264960" cy="5267160"/>
          </a:xfrm>
        </p:grpSpPr>
        <p:pic>
          <p:nvPicPr>
            <p:cNvPr id="6" name="Рамка 6" descr=""/>
            <p:cNvPicPr/>
            <p:nvPr/>
          </p:nvPicPr>
          <p:blipFill>
            <a:blip r:embed="rId2"/>
            <a:stretch/>
          </p:blipFill>
          <p:spPr>
            <a:xfrm>
              <a:off x="-60480" y="-36360"/>
              <a:ext cx="9264960" cy="526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" name=""/>
            <p:cNvSpPr/>
            <p:nvPr/>
          </p:nvSpPr>
          <p:spPr>
            <a:xfrm>
              <a:off x="93600" y="93600"/>
              <a:ext cx="8956800" cy="495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000" y="428760"/>
            <a:ext cx="8358120" cy="428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Тема родительского собрания</a:t>
            </a:r>
            <a:br>
              <a:rPr sz="2400"/>
            </a:b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«</a:t>
            </a:r>
            <a:r>
              <a:rPr b="0" i="1" lang="ru-RU" sz="3600" spc="-1" strike="noStrike">
                <a:solidFill>
                  <a:srgbClr val="000000"/>
                </a:solidFill>
                <a:latin typeface="Calibri"/>
              </a:rPr>
              <a:t>Развитие самостоятельности у детей раннего возраста»</a:t>
            </a:r>
            <a:br>
              <a:rPr sz="3600"/>
            </a:br>
            <a:br>
              <a:rPr sz="3600"/>
            </a:br>
            <a:br>
              <a:rPr sz="3600"/>
            </a:b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Подготовила воспитатель 2 группы раннего возраста  </a:t>
            </a: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МБДОУ «Детский сад № 28» Миронычева Е.В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000" y="1276200"/>
            <a:ext cx="3500280" cy="2143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Рекомендую прочитать               книгу автора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Ольги Вологодской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« Воспитание самостоятельности у детей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Содержимое 4" descr="604755-olga-vologodskaya-vospitanie-samostoyatelnosti-u-detey-mama-mozhno-ya-sam.jpg"/>
          <p:cNvPicPr/>
          <p:nvPr/>
        </p:nvPicPr>
        <p:blipFill>
          <a:blip r:embed="rId1"/>
          <a:stretch/>
        </p:blipFill>
        <p:spPr>
          <a:xfrm>
            <a:off x="4716360" y="411120"/>
            <a:ext cx="3214800" cy="43578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55280" y="1491840"/>
            <a:ext cx="3251160" cy="25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360" y="1418760"/>
            <a:ext cx="82296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Вы- родители !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И именно от вас зависит, 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каким вырастет ваш ребенок! 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пасибо за внимание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Box 3"/>
          <p:cNvSpPr/>
          <p:nvPr/>
        </p:nvSpPr>
        <p:spPr>
          <a:xfrm>
            <a:off x="571680" y="142920"/>
            <a:ext cx="50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амостоятельность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4"/>
          <p:cNvSpPr/>
          <p:nvPr/>
        </p:nvSpPr>
        <p:spPr>
          <a:xfrm>
            <a:off x="214200" y="684720"/>
            <a:ext cx="5500800" cy="213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«Конечная цель всякого воспитания — воспитание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самостоятельности посредством самодеятельности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педагог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100" spc="-1" strike="noStrike">
                <a:solidFill>
                  <a:srgbClr val="000000"/>
                </a:solidFill>
                <a:latin typeface="Arial"/>
              </a:rPr>
              <a:t>Адольф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1100" spc="-1" strike="noStrike">
                <a:solidFill>
                  <a:srgbClr val="000000"/>
                </a:solidFill>
                <a:latin typeface="Arial"/>
              </a:rPr>
              <a:t>Дистерберг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«Воспитание имеет целью сделать человека самостоятельным существом, т.е.существом со свободной волей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философ Гегел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4"/>
          <p:cNvSpPr/>
          <p:nvPr/>
        </p:nvSpPr>
        <p:spPr>
          <a:xfrm>
            <a:off x="214200" y="2286000"/>
            <a:ext cx="542952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«Человек становится взрослым и самостоятельным, когда начинает сам принимать решения и чувствовать за них ответственность.»                                                   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А. А. Лебеде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«Самостоятельность – умение человека лично, без посторонней помощи управлять и распоряжаться своей жизнью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Нил  Доналд  Уол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6"/>
          <p:cNvSpPr/>
          <p:nvPr/>
        </p:nvSpPr>
        <p:spPr>
          <a:xfrm>
            <a:off x="0" y="0"/>
            <a:ext cx="460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300" spc="-1" strike="noStrike">
                <a:solidFill>
                  <a:srgbClr val="000000"/>
                </a:solidFill>
                <a:latin typeface="MV Boli"/>
                <a:ea typeface="Times New Roman"/>
              </a:rPr>
              <a:t>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6"/>
          <p:cNvSpPr/>
          <p:nvPr/>
        </p:nvSpPr>
        <p:spPr>
          <a:xfrm>
            <a:off x="285840" y="3714840"/>
            <a:ext cx="5429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«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Самостоятельность</a:t>
            </a:r>
            <a:r>
              <a:rPr b="1" i="1" lang="ru-RU" sz="1200" spc="-1" strike="noStrike">
                <a:solidFill>
                  <a:srgbClr val="000000"/>
                </a:solidFill>
                <a:latin typeface="MV Boli"/>
                <a:ea typeface="Times New Roman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1" i="1" lang="ru-RU" sz="1200" spc="-1" strike="noStrike">
                <a:solidFill>
                  <a:srgbClr val="000000"/>
                </a:solidFill>
                <a:latin typeface="MV Boli"/>
                <a:ea typeface="Times New Roman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способность</a:t>
            </a:r>
            <a:r>
              <a:rPr b="1" i="1" lang="ru-RU" sz="1200" spc="-1" strike="noStrike">
                <a:solidFill>
                  <a:srgbClr val="000000"/>
                </a:solidFill>
                <a:latin typeface="MV Boli"/>
                <a:ea typeface="Times New Roman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себя</a:t>
            </a:r>
            <a:r>
              <a:rPr b="1" i="1" lang="ru-RU" sz="1200" spc="-1" strike="noStrike">
                <a:solidFill>
                  <a:srgbClr val="000000"/>
                </a:solidFill>
                <a:latin typeface="MV Boli"/>
                <a:ea typeface="Times New Roman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занять</a:t>
            </a:r>
            <a:r>
              <a:rPr b="1" i="1" lang="ru-RU" sz="1200" spc="-1" strike="noStrike">
                <a:solidFill>
                  <a:srgbClr val="000000"/>
                </a:solidFill>
                <a:latin typeface="MV Boli"/>
                <a:ea typeface="Times New Roman"/>
              </a:rPr>
              <a:t>,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способность</a:t>
            </a:r>
            <a:r>
              <a:rPr b="1" i="1" lang="ru-RU" sz="1200" spc="-1" strike="noStrike">
                <a:solidFill>
                  <a:srgbClr val="000000"/>
                </a:solidFill>
                <a:latin typeface="MV Boli"/>
                <a:ea typeface="Times New Roman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чем</a:t>
            </a:r>
            <a:r>
              <a:rPr b="1" i="1" lang="ru-RU" sz="1200" spc="-1" strike="noStrike">
                <a:solidFill>
                  <a:srgbClr val="000000"/>
                </a:solidFill>
                <a:latin typeface="MV Boli"/>
                <a:ea typeface="Times New Roman"/>
              </a:rPr>
              <a:t>-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то</a:t>
            </a:r>
            <a:r>
              <a:rPr b="1" i="1" lang="ru-RU" sz="1200" spc="-1" strike="noStrike">
                <a:solidFill>
                  <a:srgbClr val="000000"/>
                </a:solidFill>
                <a:latin typeface="MV Boli"/>
                <a:ea typeface="Times New Roman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заниматься</a:t>
            </a:r>
            <a:r>
              <a:rPr b="1" i="1" lang="ru-RU" sz="1200" spc="-1" strike="noStrike">
                <a:solidFill>
                  <a:srgbClr val="000000"/>
                </a:solidFill>
                <a:latin typeface="MV Boli"/>
                <a:ea typeface="Times New Roman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какое</a:t>
            </a:r>
            <a:r>
              <a:rPr b="1" i="1" lang="ru-RU" sz="1200" spc="-1" strike="noStrike">
                <a:solidFill>
                  <a:srgbClr val="000000"/>
                </a:solidFill>
                <a:latin typeface="MV Boli"/>
                <a:ea typeface="Times New Roman"/>
              </a:rPr>
              <a:t>-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то</a:t>
            </a:r>
            <a:r>
              <a:rPr b="1" i="1" lang="ru-RU" sz="1200" spc="-1" strike="noStrike">
                <a:solidFill>
                  <a:srgbClr val="000000"/>
                </a:solidFill>
                <a:latin typeface="MV Boli"/>
                <a:ea typeface="Times New Roman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время</a:t>
            </a:r>
            <a:r>
              <a:rPr b="1" i="1" lang="ru-RU" sz="1200" spc="-1" strike="noStrike">
                <a:solidFill>
                  <a:srgbClr val="000000"/>
                </a:solidFill>
                <a:latin typeface="MV Boli"/>
                <a:ea typeface="Times New Roman"/>
              </a:rPr>
              <a:t>,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без помощи взрослых.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Рисунок 7" descr="IMG_5806.JPG"/>
          <p:cNvPicPr/>
          <p:nvPr/>
        </p:nvPicPr>
        <p:blipFill>
          <a:blip r:embed="rId1"/>
          <a:stretch/>
        </p:blipFill>
        <p:spPr>
          <a:xfrm>
            <a:off x="5786280" y="500040"/>
            <a:ext cx="3017880" cy="4024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14320" y="285480"/>
            <a:ext cx="421452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Что я могу 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213840" y="856800"/>
            <a:ext cx="442908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1. Мыть руки, засучивая рукава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2. Мыть лицо, не разбрызгивая воду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3. Правильно пользоваться мылом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4. Не мочить одежду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5. Одеваться и раздеваться в определенном порядке, одежду складывать, вешать, расстегивать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(позднее застегивать) пуговицы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6. Замечать непорядок в одежде и самостоятельно устранять его или обращаться за помощью к взрослому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7. Своевременно пользоваться носовым платком, туалетом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8. Пить из чашки, есть, хорошо пережёвывая пищу закрытым ртом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9. Правильно пользоваться ложкой, салфеткой 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10. Убирать игрушки, строительный материал на место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Содержимое 5" descr="IMG_5887.JPG"/>
          <p:cNvPicPr/>
          <p:nvPr/>
        </p:nvPicPr>
        <p:blipFill>
          <a:blip r:embed="rId1"/>
          <a:stretch/>
        </p:blipFill>
        <p:spPr>
          <a:xfrm>
            <a:off x="4572000" y="915840"/>
            <a:ext cx="4400640" cy="3300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Вот какие мы большие 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71320" y="928440"/>
            <a:ext cx="8143560" cy="70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Сами  умываемся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Сами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вытираемс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084720" y="1058400"/>
            <a:ext cx="2159280" cy="62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Вешаем полотенце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на  место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Содержимое 9" descr="IMG_5849.JPG"/>
          <p:cNvPicPr/>
          <p:nvPr/>
        </p:nvPicPr>
        <p:blipFill>
          <a:blip r:embed="rId1"/>
          <a:stretch/>
        </p:blipFill>
        <p:spPr>
          <a:xfrm>
            <a:off x="6227640" y="1751040"/>
            <a:ext cx="2224080" cy="2963880"/>
          </a:xfrm>
          <a:prstGeom prst="rect">
            <a:avLst/>
          </a:prstGeom>
          <a:ln w="0">
            <a:noFill/>
          </a:ln>
        </p:spPr>
      </p:pic>
      <p:pic>
        <p:nvPicPr>
          <p:cNvPr id="58" name="Содержимое 8" descr="IMG_5844.JPG"/>
          <p:cNvPicPr/>
          <p:nvPr/>
        </p:nvPicPr>
        <p:blipFill>
          <a:blip r:embed="rId2"/>
          <a:stretch/>
        </p:blipFill>
        <p:spPr>
          <a:xfrm>
            <a:off x="571680" y="1785960"/>
            <a:ext cx="2222280" cy="296388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11" descr="IMG_5846.JPG"/>
          <p:cNvPicPr/>
          <p:nvPr/>
        </p:nvPicPr>
        <p:blipFill>
          <a:blip r:embed="rId3"/>
          <a:stretch/>
        </p:blipFill>
        <p:spPr>
          <a:xfrm>
            <a:off x="3429000" y="1785960"/>
            <a:ext cx="2214720" cy="292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ами одеваемс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Содержимое 7" descr="IMG_5840.JPG"/>
          <p:cNvPicPr/>
          <p:nvPr/>
        </p:nvPicPr>
        <p:blipFill>
          <a:blip r:embed="rId1"/>
          <a:stretch/>
        </p:blipFill>
        <p:spPr>
          <a:xfrm>
            <a:off x="6072120" y="1071720"/>
            <a:ext cx="2732040" cy="3214440"/>
          </a:xfrm>
          <a:prstGeom prst="rect">
            <a:avLst/>
          </a:prstGeom>
          <a:ln w="0">
            <a:noFill/>
          </a:ln>
        </p:spPr>
      </p:pic>
      <p:pic>
        <p:nvPicPr>
          <p:cNvPr id="62" name="Содержимое 6" descr="IMG_5835.JPG"/>
          <p:cNvPicPr/>
          <p:nvPr/>
        </p:nvPicPr>
        <p:blipFill>
          <a:blip r:embed="rId2"/>
          <a:stretch/>
        </p:blipFill>
        <p:spPr>
          <a:xfrm>
            <a:off x="285840" y="1071720"/>
            <a:ext cx="2571840" cy="3219120"/>
          </a:xfrm>
          <a:prstGeom prst="rect">
            <a:avLst/>
          </a:prstGeom>
          <a:ln w="0">
            <a:noFill/>
          </a:ln>
        </p:spPr>
      </p:pic>
      <p:pic>
        <p:nvPicPr>
          <p:cNvPr id="63" name="Рисунок 8" descr="IMG_5834.JPG"/>
          <p:cNvPicPr/>
          <p:nvPr/>
        </p:nvPicPr>
        <p:blipFill>
          <a:blip r:embed="rId3"/>
          <a:stretch/>
        </p:blipFill>
        <p:spPr>
          <a:xfrm>
            <a:off x="3214800" y="1071720"/>
            <a:ext cx="2428920" cy="3192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Рисунок 6" descr="IMG_5860.JPG"/>
          <p:cNvPicPr/>
          <p:nvPr/>
        </p:nvPicPr>
        <p:blipFill>
          <a:blip r:embed="rId1"/>
          <a:stretch/>
        </p:blipFill>
        <p:spPr>
          <a:xfrm>
            <a:off x="785880" y="357120"/>
            <a:ext cx="2857320" cy="2143080"/>
          </a:xfrm>
          <a:prstGeom prst="rect">
            <a:avLst/>
          </a:prstGeom>
          <a:ln w="0">
            <a:noFill/>
          </a:ln>
        </p:spPr>
      </p:pic>
      <p:pic>
        <p:nvPicPr>
          <p:cNvPr id="65" name="Рисунок 9" descr="IMG_5858.JPG"/>
          <p:cNvPicPr/>
          <p:nvPr/>
        </p:nvPicPr>
        <p:blipFill>
          <a:blip r:embed="rId2"/>
          <a:stretch/>
        </p:blipFill>
        <p:spPr>
          <a:xfrm>
            <a:off x="5238720" y="285840"/>
            <a:ext cx="2952720" cy="2214360"/>
          </a:xfrm>
          <a:prstGeom prst="rect">
            <a:avLst/>
          </a:prstGeom>
          <a:ln w="0">
            <a:noFill/>
          </a:ln>
        </p:spPr>
      </p:pic>
      <p:pic>
        <p:nvPicPr>
          <p:cNvPr id="66" name="Рисунок 7" descr="IMG_5825.JPG"/>
          <p:cNvPicPr/>
          <p:nvPr/>
        </p:nvPicPr>
        <p:blipFill>
          <a:blip r:embed="rId3"/>
          <a:stretch/>
        </p:blipFill>
        <p:spPr>
          <a:xfrm>
            <a:off x="3071880" y="2643120"/>
            <a:ext cx="3000240" cy="218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4200" y="204480"/>
            <a:ext cx="2857680" cy="438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Одевание –раздевание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85840" y="714240"/>
            <a:ext cx="257184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Навыкам одевания и раздевания ребенок учится в течение нескольких лет. Навыки эти непростые, требуют определенных усилий и терпения, причем как от детей, так и от родителей, которые, устав ждать, пока их чадо справится с очередной пуговицей или застежкой, начинают делать все за ребенка, тем самым убивая в нем стремление к самостоятельности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Содержимое 6" descr="IMG_5872.JPG"/>
          <p:cNvPicPr/>
          <p:nvPr/>
        </p:nvPicPr>
        <p:blipFill>
          <a:blip r:embed="rId1"/>
          <a:stretch/>
        </p:blipFill>
        <p:spPr>
          <a:xfrm>
            <a:off x="2916360" y="833400"/>
            <a:ext cx="2420640" cy="3227400"/>
          </a:xfrm>
          <a:prstGeom prst="rect">
            <a:avLst/>
          </a:prstGeom>
          <a:ln w="0">
            <a:noFill/>
          </a:ln>
        </p:spPr>
      </p:pic>
      <p:pic>
        <p:nvPicPr>
          <p:cNvPr id="70" name="Рисунок 9" descr="IMG_5886.JPG"/>
          <p:cNvPicPr/>
          <p:nvPr/>
        </p:nvPicPr>
        <p:blipFill>
          <a:blip r:embed="rId2"/>
          <a:stretch/>
        </p:blipFill>
        <p:spPr>
          <a:xfrm>
            <a:off x="5786280" y="357120"/>
            <a:ext cx="2786400" cy="2089080"/>
          </a:xfrm>
          <a:prstGeom prst="rect">
            <a:avLst/>
          </a:prstGeom>
          <a:ln w="0">
            <a:noFill/>
          </a:ln>
        </p:spPr>
      </p:pic>
      <p:pic>
        <p:nvPicPr>
          <p:cNvPr id="71" name="Рисунок 10" descr="IMG_5888.JPG"/>
          <p:cNvPicPr/>
          <p:nvPr/>
        </p:nvPicPr>
        <p:blipFill>
          <a:blip r:embed="rId3"/>
          <a:stretch/>
        </p:blipFill>
        <p:spPr>
          <a:xfrm>
            <a:off x="5786280" y="2643120"/>
            <a:ext cx="2857680" cy="214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627280" y="123480"/>
            <a:ext cx="4471920" cy="438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Игр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Содержимое 4" descr="IMG_5809.JPG"/>
          <p:cNvPicPr/>
          <p:nvPr/>
        </p:nvPicPr>
        <p:blipFill>
          <a:blip r:embed="rId1"/>
          <a:stretch/>
        </p:blipFill>
        <p:spPr>
          <a:xfrm>
            <a:off x="4664160" y="2154240"/>
            <a:ext cx="3620880" cy="271620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14200" y="571320"/>
            <a:ext cx="8678880" cy="163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Во время игры дети проделывают самые разнообразные движения: ползают на четвереньках, изображая какое-либо животное, играют в догонялки, преодолевают препятствия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На игровых занятиях дети что-то самостоятельно строят, конструируют; помогают воспитателю собрать и перенести игрушки, расставить тарелки  перед обедом и т. д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Самостоятельность проявляется и во взаимоотношениях между детьми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Ребенок уже сам может помочь сверстнику пожалеть его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Рисунок 5" descr="IMG_5905.JPG"/>
          <p:cNvPicPr/>
          <p:nvPr/>
        </p:nvPicPr>
        <p:blipFill>
          <a:blip r:embed="rId2"/>
          <a:stretch/>
        </p:blipFill>
        <p:spPr>
          <a:xfrm>
            <a:off x="611280" y="2154240"/>
            <a:ext cx="3600360" cy="27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04480"/>
            <a:ext cx="3008160" cy="36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ывод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14200" y="571320"/>
            <a:ext cx="3214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амостоятельност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это ценное качество. Воспитывая у детей самостоятельность, помнит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ужно начинать воспитание  с    раннего возраст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чаще хвалите своих дете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будьте примером для подражания 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е опекайте детей чрезмерно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ельзя силой заставлять ребен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что-то делат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спользуйте игру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оверяйте своему малышу, но постоянно контролируйте, так как безопасность ребенка должна  быть на первом мест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ебенок не умеет лениться(если он чего- то не хочет делать в данную минуту ,значит у него есть на это важные причины),помогите ему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беритесь терп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ействуйте  последовательн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Рисунок 9" descr="IMG_5802.JPG"/>
          <p:cNvPicPr/>
          <p:nvPr/>
        </p:nvPicPr>
        <p:blipFill>
          <a:blip r:embed="rId1"/>
          <a:stretch/>
        </p:blipFill>
        <p:spPr>
          <a:xfrm>
            <a:off x="3714840" y="700200"/>
            <a:ext cx="5154480" cy="37670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7-02T11:37:53Z</dcterms:created>
  <dc:creator>Lenovo</dc:creator>
  <dc:description/>
  <dc:language>en-US</dc:language>
  <cp:lastModifiedBy>user</cp:lastModifiedBy>
  <dcterms:modified xsi:type="dcterms:W3CDTF">2019-04-03T10:24:28Z</dcterms:modified>
  <cp:revision>88</cp:revision>
  <dc:subject/>
  <dc:title>Слайд 1</dc:title>
</cp:coreProperties>
</file>