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435-A294-46A1-AE6D-CA0F8A66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6EB-37A3-4F9F-9596-455AF5B5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652-40EF-4A42-94DD-5376DD22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E97-8C9C-44CE-B741-1CAE989D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5B3-0A39-42EB-8E62-2F0CB5EE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392D-DAF9-4FB1-95F1-E1976F9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B4AD-9F7B-406C-B935-A72353EB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748-0757-47C6-8F60-DFA14DDB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9C0-113A-40C0-A9B2-D726FD4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1D0E-246A-40EC-9556-7496C77F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AB77-1599-4CC5-9254-D6E9E0D2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CAD-0B1B-4CDD-AAE9-64D51734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BD28-D02A-4B15-97F1-F3E69FB8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56D4-270C-4B53-AD51-93AE0E2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EFC2-A18A-4B81-A0A9-9B9CED15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408A-CA94-4937-AF82-1F5ACFF4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2DA-0F6D-4DF0-9C4D-E507C51B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9CA8-3B66-4976-8A7D-55BB64A6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1D01-9152-40B5-A3FB-52B9DA3F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BA48-BFE5-4053-85B7-C705204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A5E5-EDD0-4CB2-B5FD-AE3AA9A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0883-D9EF-46C5-B87C-5C0C014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A0A-2CDF-47B3-8551-995F7165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B127-552F-4AC4-A1D8-2F0E5D0F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B3AE-62B3-4261-9C58-ED655C3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85A5-2B56-4E53-908F-13EA9EC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F3EC-94C2-4212-82D8-268CE02B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79FB-6B46-4B90-BB31-286E03C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03E40-F60E-40FA-9872-72E5DD5D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321E-DC1D-4FC7-ADD2-E0BE2968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CB4A-FFCD-4284-8655-6125CF8F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FCCA-D950-4725-AC53-D5E809EE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7136-6799-46B9-97F6-B6F9B6EA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C23-1E33-46CE-B2C9-588F67C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1B94-9E75-4CBD-A7A5-6D55BAAD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807C-B09B-4DE9-8428-F612032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1E003-8E76-4AEE-8EAE-7A5B395E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1F87-96D7-4954-A1DA-9A4879DE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65068-8863-4F1A-85E8-B5C0828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25288-1CBB-4DFD-B736-8D4D6DE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B74B-4CFA-41DE-8C75-739A32FB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CADD-39F3-4E97-9DCF-775DA31A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09DA-01DD-4613-A6D3-E4DD0A81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F2995-CDC1-4CEB-BC8C-F3635AC4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F8B-2C52-49BB-919A-C05B98A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6F9C-6F0E-4EEA-B72E-8B96160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B916-381F-4D33-A4B0-9C696938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E668-144D-49A2-9D31-1FB2DFE3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3F1A-3633-4BFB-B386-39A34A5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BC079-E90A-4A70-8F2C-2BE7CD83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FA9F-F7DC-418E-AE74-8DA5DD2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B41B-AB2A-41F8-B630-3E6980C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CFEC-22C8-4F39-88F1-FEF2AB7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43A8-312F-4585-B6F1-7D787AE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7AE21-27EE-40F0-8BEF-B76533A8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D3A-0CE5-4112-9383-FF98BD22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3572B-269A-444A-BEA5-7791E382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DD9-F0EF-4085-9B66-914BF01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EFB-DE33-4829-9F2F-647A8B0A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EE1-FC61-4AA7-8EBF-BC4D4F51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B72-64CD-4237-BFEF-EF71B30EA4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E88F-216D-4191-91D1-2647666C3E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0A4A-8E3A-45B5-B2F2-0D176B8FC0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2605-E517-4737-A9A1-10A3B67922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1B78-7EA4-4947-8B2E-FD093B9AD0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ФИНАНСОВЫЕ РЫНКИ И СОВРЕМЕННЫЕ ФИНАНСОВЫЕ ТЕХНОЛОГИИ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ая услуг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банковская услуга, страховая услуга, услуга на рынке ценных бумаг, услуга по договору лизинга, услуга связанная с привлечением и размещением денежных средст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4600" y="126828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Возможности потребителя финансовых услуг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влечение дене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ложение и приумножение дене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трахование от различных рисков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Потребители финанасовых услуг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озничный покупатель (потребитель) финансовых услу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Институциональные инвесторы - организаци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Потребители финанасовых услуг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озничный покупатель (потребитель) финансовых услуг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Институциональные инвесторы – организации в распоряжении которых находятся большие суммы денег и которые профессионально зарабатывают на инвестиция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диверсификация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это способ снижения рисков путем вложения средств в различные актив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Хеджирование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– разнонаправленные сделки на один и тот же актив, на разных рынках или противоположные сделки к привязке к одному товару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20240" y="1267920"/>
            <a:ext cx="8364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Внебиржевой рынок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на нем есть возможность работать напрямую без посредников и договариваться о индивидуальных условиях сделки (обычно используется крупными банками и институциональными инвесторами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Биржевой рынок (биржа) особенн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личие четких регламентов осуществления сделок и проведения торгов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цедура допуска к торгам активов и включения их в биржевые списки (листинг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ценка риска по сделк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личие системы гарантирования расчет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Фондов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место, где продаются ценные бумаги (акции, облигации), система отношений между участниками рынка, владельцами капитала (инвесторами) и людьми или организациями, желающими этот капитал использоват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Российский фондовый рынок открылся в красной зоне"/>
          <p:cNvPicPr/>
          <p:nvPr/>
        </p:nvPicPr>
        <p:blipFill>
          <a:blip r:embed="rId1"/>
          <a:stretch/>
        </p:blipFill>
        <p:spPr>
          <a:xfrm>
            <a:off x="2700360" y="3500280"/>
            <a:ext cx="440676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560" y="1447920"/>
            <a:ext cx="843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Первичный рынок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отвечает за процессы, связанные с появлением ценных бумаг на рынке впервые, т.е. с их выпуском в обращение (эмиссией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Эмитент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— это организация, которая осуществляет деятельность по выпуску ценных бумаг, денежных знаков или иных финансовых активов с целью привлечения дополнительного капита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3389400" y="4876920"/>
            <a:ext cx="2736720" cy="72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ЭМИТ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5"/>
          <p:cNvSpPr/>
          <p:nvPr/>
        </p:nvSpPr>
        <p:spPr>
          <a:xfrm>
            <a:off x="395280" y="5838840"/>
            <a:ext cx="2736720" cy="72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6"/>
          <p:cNvSpPr/>
          <p:nvPr/>
        </p:nvSpPr>
        <p:spPr>
          <a:xfrm>
            <a:off x="3389400" y="5964120"/>
            <a:ext cx="2736720" cy="72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РПО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7"/>
          <p:cNvSpPr/>
          <p:nvPr/>
        </p:nvSpPr>
        <p:spPr>
          <a:xfrm>
            <a:off x="6278400" y="5824440"/>
            <a:ext cx="2735280" cy="719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ЕСТНЫЕ ОРГАНЫ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2"/>
          <p:cNvCxnSpPr>
            <a:stCxn id="292" idx="2"/>
          </p:cNvCxnSpPr>
          <p:nvPr/>
        </p:nvCxnSpPr>
        <p:spPr>
          <a:xfrm flipH="1">
            <a:off x="1852560" y="5597640"/>
            <a:ext cx="2905560" cy="18000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>
            <a:stCxn id="292" idx="2"/>
            <a:endCxn id="294" idx="0"/>
          </p:cNvCxnSpPr>
          <p:nvPr/>
        </p:nvCxnSpPr>
        <p:spPr>
          <a:xfrm>
            <a:off x="4757400" y="5597640"/>
            <a:ext cx="1080" cy="36720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298" name="Прямая со стрелкой 19"/>
          <p:cNvCxnSpPr>
            <a:stCxn id="292" idx="2"/>
            <a:endCxn id="295" idx="0"/>
          </p:cNvCxnSpPr>
          <p:nvPr/>
        </p:nvCxnSpPr>
        <p:spPr>
          <a:xfrm>
            <a:off x="4757400" y="5597640"/>
            <a:ext cx="2888280" cy="22752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  <p:sp>
        <p:nvSpPr>
          <p:cNvPr id="299" name="Прямоугольник 24"/>
          <p:cNvSpPr/>
          <p:nvPr/>
        </p:nvSpPr>
        <p:spPr>
          <a:xfrm>
            <a:off x="3389400" y="4862520"/>
            <a:ext cx="2736720" cy="719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ЭМИТ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5"/>
          <p:cNvSpPr/>
          <p:nvPr/>
        </p:nvSpPr>
        <p:spPr>
          <a:xfrm>
            <a:off x="395280" y="5824440"/>
            <a:ext cx="2736720" cy="719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Прямая со стрелкой 26"/>
          <p:cNvCxnSpPr>
            <a:stCxn id="299" idx="2"/>
          </p:cNvCxnSpPr>
          <p:nvPr/>
        </p:nvCxnSpPr>
        <p:spPr>
          <a:xfrm flipH="1">
            <a:off x="1852560" y="5581800"/>
            <a:ext cx="2905560" cy="180000"/>
          </a:xfrm>
          <a:prstGeom prst="straightConnector1">
            <a:avLst/>
          </a:prstGeom>
          <a:ln w="41400">
            <a:solidFill>
              <a:srgbClr val="9b2d1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Вторичн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рынок, на котором перепродаются уже выпущенные в обращение и включенные в биржевые списки ценные бумаг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Слабые руки, гробокопатели и кулиса: как говорили на бирже в Российской  империи - Активный возраст"/>
          <p:cNvPicPr/>
          <p:nvPr/>
        </p:nvPicPr>
        <p:blipFill>
          <a:blip r:embed="rId1"/>
          <a:stretch/>
        </p:blipFill>
        <p:spPr>
          <a:xfrm>
            <a:off x="1527120" y="2852640"/>
            <a:ext cx="57405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Валютн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место, где торгуются разные валюты, система отношений между участниками рынка, возникающих по поводу инвестиций и обмена разных валют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Рисунок 4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5246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инансовый рынок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иды финансовых рынков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ынок цифровых финансовых актив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временные финансовые технолог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инансовые экосистемы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новные принципы торговли ценными бумагам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Долговой рынок-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фессиональный рынок для институциональных инвесторов, чаще всего не биржевой, возникающий по поводу покупки и продажи долгов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60548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Товарно-сырьево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площадка, где торгуют физическими или виртуальными товарными продуктами; система отношений по поводу покупки и продажи това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ипы товарных рынков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 поставкой физического товар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ез поставки физического товар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Фьючер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– контракт между продавцом и покупателем о поставке базового актива через конкретное время и по заранее оговоренной цене. Продавец обязан продать, а покупатель купить выбранный акти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Денежный рынок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профессиональный внебиржевой рынок для институциональных инвесторов, система экономических отношений по поводу предоставления пли привлечения денежных средств на срок до одного год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Срочный рынок (производных финансовых инструментов)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Производные финансовые инструменты (ПФИ)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контракт, по которому стороны получают право или обязуются выполнять оговоренные действия в отношении базового акти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Арбитраж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это несколько логически связанных между собой сделок с целью извлечь прибыль из разницы в ценах на одинаковые или связанные актив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Пространственный арбитраж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сделки производятся в одно и то же время на разных рынка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Временный арбитраж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сделки производятся на одном рынке, но в разное врем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79280" y="1268280"/>
            <a:ext cx="843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опцион-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это договор, по которому покупатель опциона получает право купить/продать какой – либо актив (ценная бумага, валюта, товар и др.) в определенный момент времени по заранее обусловленной цен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Заголовок 3"/>
          <p:cNvSpPr/>
          <p:nvPr/>
        </p:nvSpPr>
        <p:spPr>
          <a:xfrm>
            <a:off x="125280" y="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ВИДЫ ФИНАНСОВЫХ РЫНО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2124000" y="3429000"/>
            <a:ext cx="5213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Рисунок 3" descr=""/>
          <p:cNvPicPr/>
          <p:nvPr/>
        </p:nvPicPr>
        <p:blipFill>
          <a:blip r:embed="rId1"/>
          <a:srcRect l="27169" t="23101" r="28339" b="8301"/>
          <a:stretch/>
        </p:blipFill>
        <p:spPr>
          <a:xfrm>
            <a:off x="468360" y="115920"/>
            <a:ext cx="8136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79280" y="1557000"/>
            <a:ext cx="843624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ЦФА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это цифровые права, включающие денежные требования, возможность осуществления прав по эмиссионным ценным бумагам, права участия в капитале непубличного акционерного общества, право требовать эмиссионных ценных бумаг, которые предусмотрены решением о выпуске ЦФ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РЫНОК ЦИФРОВЫХ ФИНАНСОВЫХ АКТИВОВ (ЦФА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Цифровые финансовые активы в России"/>
          <p:cNvPicPr/>
          <p:nvPr/>
        </p:nvPicPr>
        <p:blipFill>
          <a:blip r:embed="rId1"/>
          <a:stretch/>
        </p:blipFill>
        <p:spPr>
          <a:xfrm>
            <a:off x="695160" y="3213000"/>
            <a:ext cx="77536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Новые процессы финансового рынка Росси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явление новых финансовых продуктов и услуг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сширение географии пристуствия финансовых организаций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витие клиентоориентируемости и совершенствованием каналов продаж в том числе дистанционных с применением информационных технолог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Это повышает доступность финансовых продуктов и услуг для различных категорий потребителей, но создает новые риски нарушения их пра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Финансовые технологии (финтех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се инновации и разработки в сфере финансовых услуг, упрощающие взаимоотношения с денежными средствами и по их управлению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зличные технологические стартапы и крупные компании, которые продают усовершенствованные финансовые услуг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Основные цели развития финансовых технологий Банка Росс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действие развитию конкуренции на финансовом рынк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вышение доступности, качества и ассортимента финансовых услуг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ижение рисков издержек в финансовой сфере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еспечение безопасности и устойчивости при применении финансовых технологий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вышение уровня конкурентоспособности российских технолог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Подходы к определению финансового рынка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ынок капитала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финансовая сфера в цел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5280" y="1687320"/>
            <a:ext cx="8291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Бесконтактные платежи – технологии позволяющие проводить платежи без физического контакта устройств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ция удаленной идентификации – механизм, позволяющий физическим лицам получать финансовые услуги дистанционно в разных банках, подтвердив свою личность при помощи биометрических персональных данных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стема быстрых платежей (СБП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аркетплейс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стема управления цифровой информацией и согласи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Заголовок 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ОВРЕМЕННЫЕ ФИНАНСОВЫЕ ТЕХНОЛОГИИ И ЦИФРОВЫЕ ФИНАНСОВЫЕ УСЛУГ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1197000"/>
            <a:ext cx="829152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Финансовая экосистема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– совокупность финансовых и нефинансовых сервисов финансовой организации или группы организаций, размещенных на одной цифровой платформе и интегрированных друг с друг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Заголовок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ЫЕ ЭКОСИСТЕ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Финансовая Экосистема: Роль Банков, Стартапов и Технологий в Новой  Финансовой Реальности | Бизнес и финансы простыми словами | Дзен"/>
          <p:cNvPicPr/>
          <p:nvPr/>
        </p:nvPicPr>
        <p:blipFill>
          <a:blip r:embed="rId1"/>
          <a:stretch/>
        </p:blipFill>
        <p:spPr>
          <a:xfrm>
            <a:off x="1835280" y="3591000"/>
            <a:ext cx="60386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3"/>
          <p:cNvSpPr/>
          <p:nvPr/>
        </p:nvSpPr>
        <p:spPr>
          <a:xfrm>
            <a:off x="0" y="0"/>
            <a:ext cx="9036000" cy="83664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ИНАНСОВЫЕ ЭКОСИСТЕ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1"/>
          <a:srcRect l="27169" t="25067" r="29126" b="17536"/>
          <a:stretch/>
        </p:blipFill>
        <p:spPr>
          <a:xfrm>
            <a:off x="522360" y="81432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3640" y="1447920"/>
            <a:ext cx="85690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d34817"/>
                </a:solidFill>
                <a:uFillTx/>
                <a:latin typeface="Cambria"/>
              </a:rPr>
              <a:t>Ценная бумага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 — документ, удостоверяющий, с соблюдением установленной формы и обязательных реквизитов, имущественные права, осуществление или передача которых возможны только при его предъявлен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Ценная бумага - свойства, виды ценных бумаг"/>
          <p:cNvPicPr/>
          <p:nvPr/>
        </p:nvPicPr>
        <p:blipFill>
          <a:blip r:embed="rId1"/>
          <a:stretch/>
        </p:blipFill>
        <p:spPr>
          <a:xfrm>
            <a:off x="2484360" y="3645000"/>
            <a:ext cx="46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102200" y="1341000"/>
            <a:ext cx="507528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34817"/>
                </a:solidFill>
                <a:uFillTx/>
                <a:latin typeface="Cambria"/>
              </a:rPr>
              <a:t>Брокер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 — финансовые посредники. Профессиональные участники финансового рынк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еятельность лицензируется и контролируется Банком Росси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Брокеры готовы к бюджетным клиентам – Коммерсантъ"/>
          <p:cNvPicPr/>
          <p:nvPr/>
        </p:nvPicPr>
        <p:blipFill>
          <a:blip r:embed="rId1"/>
          <a:stretch/>
        </p:blipFill>
        <p:spPr>
          <a:xfrm>
            <a:off x="185760" y="1484280"/>
            <a:ext cx="3940200" cy="22147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68360" y="4076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 могут открывать в брокерских компаниях индивидуальные инвестиционные счета для сделок с ценными бумагами. Владельцам счетов полагаются налоговые выч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-360" y="1341000"/>
            <a:ext cx="917748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34817"/>
                </a:solidFill>
                <a:uFillTx/>
                <a:latin typeface="Cambria"/>
              </a:rPr>
              <a:t>Коллективные инвестиции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едача пенсионных накоплений в страховую компанию или пенсионный фонд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купка пая паевого инвестиционного фонда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ередача средств в управл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еньгами инвесторов управляет профессиональная финансовая организация, которая самостоятельно принимает решения о покупке или продаже различных инструментов финансового рынк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859280" y="148392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34817"/>
                </a:solidFill>
                <a:uFillTx/>
                <a:latin typeface="Cambria"/>
              </a:rPr>
              <a:t>Инвестиционные консультанты –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финансовые советники, деятельность которых регулируется закон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Заголовок 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РИНЦИПЫ ТОРГОВЛИ ЦЕННЫМИ БУМАГАМ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Зачем нужен инвестиционный советник и как его выбрать"/>
          <p:cNvPicPr/>
          <p:nvPr/>
        </p:nvPicPr>
        <p:blipFill>
          <a:blip r:embed="rId1"/>
          <a:stretch/>
        </p:blipFill>
        <p:spPr>
          <a:xfrm>
            <a:off x="150840" y="1484280"/>
            <a:ext cx="47084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11280" y="69192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Перечислите виды рынков. Дайте характеристику каждому из ни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Какие цели преследует Банк России по развитию финансовых технологий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- Как вы понимаете, что такое финансовая экосистема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/з пр. 10-11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-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ынок капитала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Финансовый рынок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финансовая сфера в цело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www.planetiphone.ru/upload/image/biz1.jpg"/>
          <p:cNvPicPr/>
          <p:nvPr/>
        </p:nvPicPr>
        <p:blipFill>
          <a:blip r:embed="rId1"/>
          <a:srcRect l="0" t="18900" r="779" b="0"/>
          <a:stretch/>
        </p:blipFill>
        <p:spPr>
          <a:xfrm>
            <a:off x="324000" y="1557360"/>
            <a:ext cx="3024000" cy="3706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324000" y="981000"/>
            <a:ext cx="302400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ПЕШ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24000" y="5229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            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овина рамки 5"/>
          <p:cNvSpPr/>
          <p:nvPr/>
        </p:nvSpPr>
        <p:spPr>
          <a:xfrm rot="8658600">
            <a:off x="1302840" y="5165640"/>
            <a:ext cx="452520" cy="542880"/>
          </a:xfrm>
          <a:custGeom>
            <a:avLst/>
            <a:gdLst/>
            <a:ahLst/>
            <a:rect l="l" t="t" r="r" b="b"/>
            <a:pathLst>
              <a:path w="452437" h="542925">
                <a:moveTo>
                  <a:pt x="0" y="0"/>
                </a:moveTo>
                <a:lnTo>
                  <a:pt x="452437" y="0"/>
                </a:lnTo>
                <a:lnTo>
                  <a:pt x="326761" y="150811"/>
                </a:lnTo>
                <a:lnTo>
                  <a:pt x="150811" y="150811"/>
                </a:lnTo>
                <a:lnTo>
                  <a:pt x="150811" y="361952"/>
                </a:lnTo>
                <a:lnTo>
                  <a:pt x="0" y="542925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https://encrypted-tbn3.gstatic.com/images?q=tbn:ANd9GcQVzozCECpHVol2k60kvzo8jZvorMqpPKsWTYl2YIDTZKC2zqMp"/>
          <p:cNvPicPr/>
          <p:nvPr/>
        </p:nvPicPr>
        <p:blipFill>
          <a:blip r:embed="rId2"/>
          <a:stretch/>
        </p:blipFill>
        <p:spPr>
          <a:xfrm>
            <a:off x="5319720" y="2133720"/>
            <a:ext cx="3236760" cy="2879640"/>
          </a:xfrm>
          <a:prstGeom prst="rect">
            <a:avLst/>
          </a:prstGeom>
          <a:ln w="9360">
            <a:solidFill>
              <a:srgbClr val="d34817"/>
            </a:solidFill>
            <a:miter/>
          </a:ln>
        </p:spPr>
      </p:pic>
      <p:sp>
        <p:nvSpPr>
          <p:cNvPr id="240" name="Прямоугольник 7"/>
          <p:cNvSpPr/>
          <p:nvPr/>
        </p:nvSpPr>
        <p:spPr>
          <a:xfrm>
            <a:off x="5292720" y="981000"/>
            <a:ext cx="3240000" cy="1152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УБЫТ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ИЗ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5508720" y="5157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ОДЫ             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овина рамки 9"/>
          <p:cNvSpPr/>
          <p:nvPr/>
        </p:nvSpPr>
        <p:spPr>
          <a:xfrm rot="19461000">
            <a:off x="6775560" y="5094000"/>
            <a:ext cx="453960" cy="542880"/>
          </a:xfrm>
          <a:custGeom>
            <a:avLst/>
            <a:gdLst/>
            <a:ahLst/>
            <a:rect l="l" t="t" r="r" b="b"/>
            <a:pathLst>
              <a:path w="454025" h="542925">
                <a:moveTo>
                  <a:pt x="0" y="0"/>
                </a:moveTo>
                <a:lnTo>
                  <a:pt x="454025" y="0"/>
                </a:lnTo>
                <a:lnTo>
                  <a:pt x="327466" y="151340"/>
                </a:lnTo>
                <a:lnTo>
                  <a:pt x="151340" y="151340"/>
                </a:lnTo>
                <a:lnTo>
                  <a:pt x="151340" y="361952"/>
                </a:lnTo>
                <a:lnTo>
                  <a:pt x="0" y="542925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ttp://operaconsulting.ru/edit/images/upload/Financing_main_menu.jpg"/>
          <p:cNvPicPr/>
          <p:nvPr/>
        </p:nvPicPr>
        <p:blipFill>
          <a:blip r:embed="rId3"/>
          <a:stretch/>
        </p:blipFill>
        <p:spPr>
          <a:xfrm>
            <a:off x="3348000" y="5157720"/>
            <a:ext cx="1800360" cy="1354320"/>
          </a:xfrm>
          <a:prstGeom prst="rect">
            <a:avLst/>
          </a:prstGeom>
          <a:ln w="0">
            <a:noFill/>
          </a:ln>
        </p:spPr>
      </p:pic>
      <p:sp>
        <p:nvSpPr>
          <p:cNvPr id="244" name="Двойная стрелка влево/вправо 11"/>
          <p:cNvSpPr/>
          <p:nvPr/>
        </p:nvSpPr>
        <p:spPr>
          <a:xfrm>
            <a:off x="3419640" y="2852640"/>
            <a:ext cx="1800000" cy="36036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4140360" y="3068640"/>
            <a:ext cx="287280" cy="2160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3132000" y="6488280"/>
            <a:ext cx="259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Заголовок 3"/>
          <p:cNvSpPr/>
          <p:nvPr/>
        </p:nvSpPr>
        <p:spPr>
          <a:xfrm>
            <a:off x="125280" y="0"/>
            <a:ext cx="9018720" cy="78912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ФИНАНСОВЫЙ РЫНО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850680"/>
          </a:xfrm>
          <a:prstGeom prst="rect">
            <a:avLst/>
          </a:prstGeom>
          <a:solidFill>
            <a:srgbClr val="df6c5d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ФИНАНСИР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cxnSp>
        <p:nvCxnSpPr>
          <p:cNvPr id="250" name="Прямая со стрелкой 3"/>
          <p:cNvCxnSpPr>
            <a:stCxn id="249" idx="2"/>
            <a:endCxn id="251" idx="0"/>
          </p:cNvCxnSpPr>
          <p:nvPr/>
        </p:nvCxnSpPr>
        <p:spPr>
          <a:xfrm flipH="1">
            <a:off x="1594800" y="1125000"/>
            <a:ext cx="3205800" cy="108036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52" name="Прямая со стрелкой 4"/>
          <p:cNvCxnSpPr>
            <a:stCxn id="249" idx="2"/>
            <a:endCxn id="253" idx="0"/>
          </p:cNvCxnSpPr>
          <p:nvPr/>
        </p:nvCxnSpPr>
        <p:spPr>
          <a:xfrm>
            <a:off x="4800600" y="1125000"/>
            <a:ext cx="2651760" cy="100872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51" name="Прямоугольник 8"/>
          <p:cNvSpPr/>
          <p:nvPr/>
        </p:nvSpPr>
        <p:spPr>
          <a:xfrm>
            <a:off x="0" y="2205000"/>
            <a:ext cx="3192480" cy="792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САМОФИНАНСИРОВА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6156360" y="2133720"/>
            <a:ext cx="2592360" cy="7905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НЕШ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250920" y="3213000"/>
            <a:ext cx="2736720" cy="36036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ИБЫ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1"/>
          <p:cNvSpPr/>
          <p:nvPr/>
        </p:nvSpPr>
        <p:spPr>
          <a:xfrm>
            <a:off x="250920" y="3789360"/>
            <a:ext cx="2736720" cy="158436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МОРТИЗ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ТЧИС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http://delitant.ru/wp-content/uploads/2013/02/dohodypribyl.gif"/>
          <p:cNvPicPr/>
          <p:nvPr/>
        </p:nvPicPr>
        <p:blipFill>
          <a:blip r:embed="rId1"/>
          <a:stretch/>
        </p:blipFill>
        <p:spPr>
          <a:xfrm>
            <a:off x="3059280" y="2997360"/>
            <a:ext cx="4495680" cy="19526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8"/>
          <p:cNvSpPr/>
          <p:nvPr/>
        </p:nvSpPr>
        <p:spPr>
          <a:xfrm>
            <a:off x="6084720" y="3068640"/>
            <a:ext cx="2735280" cy="86508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АНКОВСИЕ КРЕД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20"/>
          <p:cNvCxnSpPr>
            <a:stCxn id="257" idx="2"/>
          </p:cNvCxnSpPr>
          <p:nvPr/>
        </p:nvCxnSpPr>
        <p:spPr>
          <a:xfrm flipH="1">
            <a:off x="4716000" y="3933720"/>
            <a:ext cx="2736000" cy="144036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59" name="Прямая со стрелкой 23"/>
          <p:cNvCxnSpPr>
            <a:stCxn id="257" idx="2"/>
            <a:endCxn id="260" idx="0"/>
          </p:cNvCxnSpPr>
          <p:nvPr/>
        </p:nvCxnSpPr>
        <p:spPr>
          <a:xfrm>
            <a:off x="7451640" y="3933720"/>
            <a:ext cx="145440" cy="1440360"/>
          </a:xfrm>
          <a:prstGeom prst="straightConnector1">
            <a:avLst/>
          </a:prstGeom>
          <a:ln w="5724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61" name="Прямоугольник 28"/>
          <p:cNvSpPr/>
          <p:nvPr/>
        </p:nvSpPr>
        <p:spPr>
          <a:xfrm>
            <a:off x="3348000" y="5373720"/>
            <a:ext cx="2736720" cy="93492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РАТКОС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О 1 ГОД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9"/>
          <p:cNvSpPr/>
          <p:nvPr/>
        </p:nvSpPr>
        <p:spPr>
          <a:xfrm>
            <a:off x="6227640" y="5373720"/>
            <a:ext cx="2737080" cy="944640"/>
          </a:xfrm>
          <a:prstGeom prst="rect">
            <a:avLst/>
          </a:prstGeom>
          <a:solidFill>
            <a:srgbClr val="df6c5d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ОЛГОС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ЛЕЕ 1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http://st03.kakprosto.ru/images/article/2011/6/22/1_5255279798c3e5255279798c84.jpg"/>
          <p:cNvPicPr/>
          <p:nvPr/>
        </p:nvPicPr>
        <p:blipFill>
          <a:blip r:embed="rId2"/>
          <a:stretch/>
        </p:blipFill>
        <p:spPr>
          <a:xfrm>
            <a:off x="3348000" y="2276640"/>
            <a:ext cx="54691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ambria"/>
              </a:rPr>
              <a:t>Бирж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лощадка, на которой ведутся торги различными активам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Заголовок 3"/>
          <p:cNvSpPr/>
          <p:nvPr/>
        </p:nvSpPr>
        <p:spPr>
          <a:xfrm>
            <a:off x="-108000" y="0"/>
            <a:ext cx="926964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ФИНАНСОВЫЙ РЫНО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3"/>
          <p:cNvSpPr/>
          <p:nvPr/>
        </p:nvSpPr>
        <p:spPr>
          <a:xfrm>
            <a:off x="-108000" y="0"/>
            <a:ext cx="926964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  <a:ea typeface="Arial"/>
              </a:rPr>
              <a:t>ФИНАНСОВЫЙ РЫНОК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2340000" y="1476360"/>
            <a:ext cx="4464000" cy="1152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ИГМЕНТЫ РЫНОКА КАПИТ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539640" y="2997360"/>
            <a:ext cx="3456000" cy="1152360"/>
          </a:xfrm>
          <a:prstGeom prst="rect">
            <a:avLst/>
          </a:prstGeom>
          <a:solidFill>
            <a:srgbClr val="ef8c6a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ЫНОК БАНКОВСКИЙХ КРЕДИТОВ (РЫНОК ССУДНЫХ КАПИТА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5148360" y="2997360"/>
            <a:ext cx="3456000" cy="1152360"/>
          </a:xfrm>
          <a:prstGeom prst="rect">
            <a:avLst/>
          </a:prstGeom>
          <a:solidFill>
            <a:srgbClr val="ef8c6a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ЫНОК ЦЕННЫХ БУМ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 вниз 8"/>
          <p:cNvSpPr/>
          <p:nvPr/>
        </p:nvSpPr>
        <p:spPr>
          <a:xfrm>
            <a:off x="2843280" y="2637000"/>
            <a:ext cx="433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низ 9"/>
          <p:cNvSpPr/>
          <p:nvPr/>
        </p:nvSpPr>
        <p:spPr>
          <a:xfrm>
            <a:off x="5796000" y="263700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920" y="-360"/>
            <a:ext cx="9036360" cy="1143000"/>
          </a:xfrm>
          <a:prstGeom prst="rect">
            <a:avLst/>
          </a:prstGeom>
          <a:solidFill>
            <a:srgbClr val="f4b39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ФИНАНСОВЫЙ РЫНОК 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000" y="1447560"/>
            <a:ext cx="821844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Ценная бумага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– комплекс прав, оформленных в соответствии с  правилами, установленными законодательством (бумажные, электронные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4" name="Рисунок 1" descr=""/>
          <p:cNvPicPr/>
          <p:nvPr/>
        </p:nvPicPr>
        <p:blipFill>
          <a:blip r:embed="rId1"/>
          <a:stretch/>
        </p:blipFill>
        <p:spPr>
          <a:xfrm>
            <a:off x="1835280" y="3141720"/>
            <a:ext cx="534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6:41:14Z</dcterms:created>
  <dc:creator>Саша</dc:creator>
  <dc:description/>
  <dc:language>en-US</dc:language>
  <cp:lastModifiedBy>Учетная запись Майкрософт</cp:lastModifiedBy>
  <dcterms:modified xsi:type="dcterms:W3CDTF">2024-03-24T09:39:46Z</dcterms:modified>
  <cp:revision>73</cp:revision>
  <dc:subject/>
  <dc:title>Занятость и безработица</dc:title>
</cp:coreProperties>
</file>