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0B5-F691-4601-B941-2B6878DC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64C-6D92-4EA3-B5FA-6595E915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773-58C7-4EF6-86E8-4ECF1C72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323-3AE7-4C66-8824-26EA2770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D675-A0A1-49EF-BB85-CF6B8BE1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BC0F-900F-4D5C-81E4-B0652446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A602-5518-48BC-9589-8BE902C1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EF4F-03CF-400A-BE3D-F826CD95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F857-920B-408C-97BC-114CEA98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1B4C-F46B-4719-B40A-3191563E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0312-7C4F-485F-B239-41980A11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93F-D49A-49C1-9FC7-8615E1EB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3939-6CF3-4F42-A699-7966F74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E32F-1636-4624-A2AE-BCBCF3D6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2CE3-64B2-41C3-B4B9-28C4A60A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AB35-15C9-4C33-BAB5-3088ED38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B8FB-0244-43D6-A63C-6048AD35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B75F-4FBE-41D8-B3F1-CB3E182A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E0CC-FC6B-4F50-A2B3-8FFE52B9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77E6-F2B7-4A64-80BD-A9D5320C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AD55-3795-4D9D-8557-D3A0DC56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99930-CA56-4CF5-986B-5ABA02C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EB5-47EF-4FDA-91B5-E4F33B2F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DF8F-9CD4-4E39-861B-16C58532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63ED-7C98-47E0-8FA1-EBAB7CB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1F9A-E969-4272-92A5-54CD1B6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AF7A-AC61-4CFB-8EC5-0892739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26E9-6672-4FB7-9879-3BD093A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9021-5B8C-46A5-9422-7ED2AE14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06BF-68B4-44BA-83EA-995DBEF5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6ECE-7457-4DF7-A320-2FD29F0A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5E7E-CF30-4D19-831D-419C7740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031D3-BD65-480E-A7B8-7948F611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A6D-5DA2-4FE6-BF64-D550CA31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5644-0C91-433D-8303-86C75E4C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A665-9D1D-41C5-9F39-D5F778AF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98AE-7733-433B-9841-40D79EE6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544A-B546-4A49-91ED-7523FE41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6CE49-ACEF-458F-B2C8-595B340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BBF7-4092-4A84-A9F1-47934525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19BC7-A773-48C1-A18A-03C5BA98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6D33-8B8A-4077-835A-AF057770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3ECE-BE84-4C3F-94D7-FF29B88E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2B300-7453-4AF0-BB40-AEF882A5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45B-D16B-4613-A40D-08B8120E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1BCF3-E045-4EC6-8D33-D0B92B9F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67257-87CD-4467-94F1-9E1C67A0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BE9F1-5200-4E4E-8669-37B87884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18B7-9D3F-48B7-9C93-B72D36D9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EB1A6-857C-4153-BA9A-747768C9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0329D-2287-4139-B0CE-302F2585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1A799-CE7A-4907-994E-7C1B485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239F-DE89-4849-A013-7CFA9A0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B4383-CBF2-4E5C-AED3-9F74E818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08C3-B11F-47CF-BDCC-AD4000D6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B4D-B806-4CA7-80B2-15D66888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31D0F-48E8-4506-B6A5-46585E94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AC1-89BA-4B25-9D16-54B6EA3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684-DEBE-4FCE-A656-6E8A5275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AFB-5465-43CF-A3D6-2E065578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5895-95CE-47EC-92D4-2ED7EDCE580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BC4E-70A1-4667-AA4B-32595A98A1F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4ED-7248-45B7-B38E-D02D04FD8E8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D5D8-8A6C-4A8C-9C23-28B82AFFE5F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CCCF-46D7-48DB-B691-4CAB4EB59F1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ФИНАНСОВЫЕ РЫНКИ И СОВРЕМЕННЫЕ ФИНАНСОВЫЕ ТЕХНОЛОГИИ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ая услуга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банковская услуга, страховая услуга, услуга на рынке ценных бумаг, услуга по договору лизинга, услуга связанная с привлечением и размещением денежных средст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4600" y="1268280"/>
            <a:ext cx="8217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Возможности потребителя финансовых услуг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влечение денег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ложение и приумножение денег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трахование от различных рисков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Потребители финанасовых услуг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озничный покупатель (потребитель) финансовых услуг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- Институциональные инвесторы - организаци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Потребители финанасовых услуг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озничный покупатель (потребитель) финансовых услуг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- Институциональные инвесторы – организации в распоряжении которых находятся большие суммы денег и которые профессионально зарабатывают на инвестициях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диверсификация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это способ снижения рисков путем вложения средств в различные актив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Хеджирование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– разнонаправленные сделки на один и тот же актив, на разных рынках или противоположные сделки к привязке к одному товару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20240" y="1267920"/>
            <a:ext cx="8364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Внебиржевой рынок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на нем есть возможность работать напрямую без посредников и договариваться о индивидуальных условиях сделки (обычно используется крупными банками и институциональными инвесторами)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Биржевой рынок (биржа) особенност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личие четких регламентов осуществления сделок и проведения торгов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цедура допуска к торгам активов и включения их в биржевые списки (листинг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ценка риска по сделк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личие системы гарантирования расчет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Фондовы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место, где продаются ценные бумаги (акции, облигации), система отношений между участниками рынка, владельцами капитала (инвесторами) и людьми или организациями, желающими этот капитал использоват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Российский фондовый рынок открылся в красной зоне"/>
          <p:cNvPicPr/>
          <p:nvPr/>
        </p:nvPicPr>
        <p:blipFill>
          <a:blip r:embed="rId1"/>
          <a:stretch/>
        </p:blipFill>
        <p:spPr>
          <a:xfrm>
            <a:off x="2700360" y="3500280"/>
            <a:ext cx="440676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560" y="1447920"/>
            <a:ext cx="843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Первичный рынок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отвечает за процессы, связанные с появлением ценных бумаг на рынке впервые, т.е. с их выпуском в обращение (эмиссией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Эмитент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это организация, которая осуществляет деятельность по выпуску ценных бумаг, денежных знаков или иных финансовых активов с целью привлечения дополнительного капитал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4"/>
          <p:cNvSpPr/>
          <p:nvPr/>
        </p:nvSpPr>
        <p:spPr>
          <a:xfrm>
            <a:off x="3389400" y="4876920"/>
            <a:ext cx="2736720" cy="720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ЭМИТ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5"/>
          <p:cNvSpPr/>
          <p:nvPr/>
        </p:nvSpPr>
        <p:spPr>
          <a:xfrm>
            <a:off x="395280" y="5838840"/>
            <a:ext cx="2736720" cy="720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6"/>
          <p:cNvSpPr/>
          <p:nvPr/>
        </p:nvSpPr>
        <p:spPr>
          <a:xfrm>
            <a:off x="3389400" y="5964120"/>
            <a:ext cx="2736720" cy="720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РПО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7"/>
          <p:cNvSpPr/>
          <p:nvPr/>
        </p:nvSpPr>
        <p:spPr>
          <a:xfrm>
            <a:off x="6278400" y="5824440"/>
            <a:ext cx="2735280" cy="719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ЕСТНЫЕ ОРГАНЫ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12"/>
          <p:cNvCxnSpPr>
            <a:stCxn id="292" idx="2"/>
          </p:cNvCxnSpPr>
          <p:nvPr/>
        </p:nvCxnSpPr>
        <p:spPr>
          <a:xfrm flipH="1">
            <a:off x="1852560" y="5597640"/>
            <a:ext cx="2905560" cy="180000"/>
          </a:xfrm>
          <a:prstGeom prst="straightConnector1">
            <a:avLst/>
          </a:prstGeom>
          <a:ln w="4140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>
            <a:stCxn id="292" idx="2"/>
            <a:endCxn id="294" idx="0"/>
          </p:cNvCxnSpPr>
          <p:nvPr/>
        </p:nvCxnSpPr>
        <p:spPr>
          <a:xfrm>
            <a:off x="4757400" y="5597640"/>
            <a:ext cx="1080" cy="367200"/>
          </a:xfrm>
          <a:prstGeom prst="straightConnector1">
            <a:avLst/>
          </a:prstGeom>
          <a:ln w="4140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298" name="Прямая со стрелкой 19"/>
          <p:cNvCxnSpPr>
            <a:stCxn id="292" idx="2"/>
            <a:endCxn id="295" idx="0"/>
          </p:cNvCxnSpPr>
          <p:nvPr/>
        </p:nvCxnSpPr>
        <p:spPr>
          <a:xfrm>
            <a:off x="4757400" y="5597640"/>
            <a:ext cx="2888280" cy="227520"/>
          </a:xfrm>
          <a:prstGeom prst="straightConnector1">
            <a:avLst/>
          </a:prstGeom>
          <a:ln w="41400">
            <a:solidFill>
              <a:srgbClr val="9b2d1f"/>
            </a:solidFill>
            <a:miter/>
            <a:tailEnd len="med" type="triangle" w="med"/>
          </a:ln>
        </p:spPr>
      </p:cxnSp>
      <p:sp>
        <p:nvSpPr>
          <p:cNvPr id="299" name="Прямоугольник 24"/>
          <p:cNvSpPr/>
          <p:nvPr/>
        </p:nvSpPr>
        <p:spPr>
          <a:xfrm>
            <a:off x="3389400" y="4862520"/>
            <a:ext cx="2736720" cy="719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ЭМИТ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5"/>
          <p:cNvSpPr/>
          <p:nvPr/>
        </p:nvSpPr>
        <p:spPr>
          <a:xfrm>
            <a:off x="395280" y="5824440"/>
            <a:ext cx="2736720" cy="719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Прямая со стрелкой 26"/>
          <p:cNvCxnSpPr>
            <a:stCxn id="299" idx="2"/>
          </p:cNvCxnSpPr>
          <p:nvPr/>
        </p:nvCxnSpPr>
        <p:spPr>
          <a:xfrm flipH="1">
            <a:off x="1852560" y="5581800"/>
            <a:ext cx="2905560" cy="180000"/>
          </a:xfrm>
          <a:prstGeom prst="straightConnector1">
            <a:avLst/>
          </a:prstGeom>
          <a:ln w="41400">
            <a:solidFill>
              <a:srgbClr val="9b2d1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Вторичны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рынок, на котором перепродаются уже выпущенные в обращение и включенные в биржевые списки ценные бумаг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Слабые руки, гробокопатели и кулиса: как говорили на бирже в Российской  империи - Активный возраст"/>
          <p:cNvPicPr/>
          <p:nvPr/>
        </p:nvPicPr>
        <p:blipFill>
          <a:blip r:embed="rId1"/>
          <a:stretch/>
        </p:blipFill>
        <p:spPr>
          <a:xfrm>
            <a:off x="1527120" y="2852640"/>
            <a:ext cx="57405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Валютны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место, где торгуются разные валюты, система отношений между участниками рынка, возникающих по поводу инвестиций и обмена разных валют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Рисунок 4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5246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ПЛАН УРО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инансовый рынок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иды финансовых рынков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ынок цифровых финансовых актив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временные финансовые технолог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инансовые экосистемы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новные принципы торговли ценными бумагам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Долговой рынок-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фессиональный рынок для институциональных инвесторов, чаще всего не биржевой, возникающий по поводу покупки и продажи долгов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60548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Товарно-сырьево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площадка, где торгуют физическими или виртуальными товарными продуктами; система отношений по поводу покупки и продажи товар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ипы товарных рынков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 поставкой физического товар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ез поставки физического товар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Фьючерс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– контракт между продавцом и покупателем о поставке базового актива через конкретное время и по заранее оговоренной цене. Продавец обязан продать, а покупатель купить выбранный акти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Денежны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профессиональный внебиржевой рынок для институциональных инвесторов, система экономических отношений по поводу предоставления пли привлечения денежных средств на срок до одного год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Срочный рынок (производных финансовых инструментов)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Производные финансовые инструменты (ПФИ)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контракт, по которому стороны получают право или обязуются выполнять оговоренные действия в отношении базового акти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Арбитраж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это несколько логически связанных между собой сделок с целью извлечь прибыль из разницы в ценах на одинаковые или связанные актив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Пространственный арбитраж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сделки производятся в одно и то же время на разных рынка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Временный арбитраж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сделки производятся на одном рынке, но в разное врем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опцион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договор, по которому покупатель опциона получает право купить/продать какой – либо актив (ценная бумага, валюта, товар и др.) в определенный момент времени по заранее обусловленной цен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1" descr=""/>
          <p:cNvPicPr/>
          <p:nvPr/>
        </p:nvPicPr>
        <p:blipFill>
          <a:blip r:embed="rId1"/>
          <a:stretch/>
        </p:blipFill>
        <p:spPr>
          <a:xfrm>
            <a:off x="2124000" y="3429000"/>
            <a:ext cx="5213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3" name="Рисунок 3" descr=""/>
          <p:cNvPicPr/>
          <p:nvPr/>
        </p:nvPicPr>
        <p:blipFill>
          <a:blip r:embed="rId1"/>
          <a:srcRect l="27169" t="23101" r="28339" b="8301"/>
          <a:stretch/>
        </p:blipFill>
        <p:spPr>
          <a:xfrm>
            <a:off x="468360" y="115920"/>
            <a:ext cx="813600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79280" y="1557000"/>
            <a:ext cx="843624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mbria"/>
              </a:rPr>
              <a:t>ЦФА-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это цифровые права, включающие денежные требования, возможность осуществления прав по эмиссионным ценным бумагам, права участия в капитале непубличного акционерного общества, право требовать эмиссионных ценных бумаг, которые предусмотрены решением о выпуске ЦФ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РЫНОК ЦИФРОВЫХ ФИНАНСОВЫХ АКТИВОВ (ЦФА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Цифровые финансовые активы в России"/>
          <p:cNvPicPr/>
          <p:nvPr/>
        </p:nvPicPr>
        <p:blipFill>
          <a:blip r:embed="rId1"/>
          <a:stretch/>
        </p:blipFill>
        <p:spPr>
          <a:xfrm>
            <a:off x="695160" y="3213000"/>
            <a:ext cx="77536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5280" y="1687320"/>
            <a:ext cx="8291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Новые процессы финансового рынка Росси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явление новых финансовых продуктов и услуг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сширение географии пристуствия финансовых организаций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звитие клиентоориентируемости и совершенствованием каналов продаж в том числе дистанционных с применением информационных технолог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Это повышает доступность финансовых продуктов и услуг для различных категорий потребителей, но создает новые риски нарушения их пра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ВРЕМЕННЫЕ ФИНАНСОВЫЕ ТЕХНОЛОГИИ И ЦИФРОВЫЕ ФИНАНСОВЫЕ УСЛУ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5280" y="1687320"/>
            <a:ext cx="8291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Финансовые технологии (финтех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се инновации и разработки в сфере финансовых услуг, упрощающие взаимоотношения с денежными средствами и по их управлению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зличные технологические стартапы и крупные компании, которые продают усовершенствованные финансовые услуг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ВРЕМЕННЫЕ ФИНАНСОВЫЕ ТЕХНОЛОГИИ И ЦИФРОВЫЕ ФИНАНСОВЫЕ УСЛУ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95280" y="1687320"/>
            <a:ext cx="8291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Основные цели развития финансовых технологий Банка Росс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действие развитию конкуренции на финансовом рынк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вышение доступности, качества и ассортимента финансовых услуг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нижение рисков издержек в финансовой сфер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еспечение безопасности и устойчивости при применении финансовых технологий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вышение уровня конкурентоспособности российских технолог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ВРЕМЕННЫЕ ФИНАНСОВЫЕ ТЕХНОЛОГИИ И ЦИФРОВЫЕ ФИНАНСОВЫЕ УСЛУ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Подходы к определению финансового рынка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ый рынок -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ынок капитала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ый рынок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финансовая сфера в цело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5280" y="1687320"/>
            <a:ext cx="8291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есконтактные платежи – технологии позволяющие проводить платежи без физического контакта устройств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ция удаленной идентификации – механизм, позволяющий физическим лицам получать финансовые услуги дистанционно в разных банках, подтвердив свою личность при помощи биометрических персональных данны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стема быстрых платежей (СБП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аркетплейс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стема управления цифровой информацией и согласия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ВРЕМЕННЫЕ ФИНАНСОВЫЕ ТЕХНОЛОГИИ И ЦИФРОВЫЕ ФИНАНСОВЫЕ УСЛУ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11280" y="1197000"/>
            <a:ext cx="829152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Финансовая экосистема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совокупность финансовых и нефинансовых сервисов финансовой организации или группы организаций, размещенных на одной цифровой платформе и интегрированных друг с друг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Заголовок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ЫЕ ЭКОСИСТЕМ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Финансовая Экосистема: Роль Банков, Стартапов и Технологий в Новой  Финансовой Реальности | Бизнес и финансы простыми словами | Дзен"/>
          <p:cNvPicPr/>
          <p:nvPr/>
        </p:nvPicPr>
        <p:blipFill>
          <a:blip r:embed="rId1"/>
          <a:stretch/>
        </p:blipFill>
        <p:spPr>
          <a:xfrm>
            <a:off x="1835280" y="3591000"/>
            <a:ext cx="60386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Заголовок 3"/>
          <p:cNvSpPr/>
          <p:nvPr/>
        </p:nvSpPr>
        <p:spPr>
          <a:xfrm>
            <a:off x="0" y="0"/>
            <a:ext cx="9036000" cy="83664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ЫЕ ЭКОСИСТЕМ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1" descr=""/>
          <p:cNvPicPr/>
          <p:nvPr/>
        </p:nvPicPr>
        <p:blipFill>
          <a:blip r:embed="rId1"/>
          <a:srcRect l="27169" t="25067" r="29126" b="17536"/>
          <a:stretch/>
        </p:blipFill>
        <p:spPr>
          <a:xfrm>
            <a:off x="522360" y="81432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23640" y="1447920"/>
            <a:ext cx="85690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Ценная бумага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 — документ, удостоверяющий, с соблюдением установленной формы и обязательных реквизитов, имущественные права, осуществление или передача которых возможны только при его предъявлен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Заголово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РИНЦИПЫ ТОРГОВЛИ ЦЕННЫМИ БУМАГА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Ценная бумага - свойства, виды ценных бумаг"/>
          <p:cNvPicPr/>
          <p:nvPr/>
        </p:nvPicPr>
        <p:blipFill>
          <a:blip r:embed="rId1"/>
          <a:stretch/>
        </p:blipFill>
        <p:spPr>
          <a:xfrm>
            <a:off x="2484360" y="3645000"/>
            <a:ext cx="468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102200" y="1341000"/>
            <a:ext cx="507528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34817"/>
                </a:solidFill>
                <a:uFillTx/>
                <a:latin typeface="Cambria"/>
              </a:rPr>
              <a:t>Брокер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 — финансовые посредники. Профессиональные участники финансового рынк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еятельность лицензируется и контролируется Банком России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Заголово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РИНЦИПЫ ТОРГОВЛИ ЦЕННЫМИ БУМАГА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Брокеры готовы к бюджетным клиентам – Коммерсантъ"/>
          <p:cNvPicPr/>
          <p:nvPr/>
        </p:nvPicPr>
        <p:blipFill>
          <a:blip r:embed="rId1"/>
          <a:stretch/>
        </p:blipFill>
        <p:spPr>
          <a:xfrm>
            <a:off x="185760" y="1484280"/>
            <a:ext cx="3940200" cy="22147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1"/>
          <p:cNvSpPr/>
          <p:nvPr/>
        </p:nvSpPr>
        <p:spPr>
          <a:xfrm>
            <a:off x="468360" y="407664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 могут открывать в брокерских компаниях индивидуальные инвестиционные счета для сделок с ценными бумагами. Владельцам счетов полагаются налоговые выч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-360" y="1341000"/>
            <a:ext cx="917748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34817"/>
                </a:solidFill>
                <a:uFillTx/>
                <a:latin typeface="Cambria"/>
              </a:rPr>
              <a:t>Коллективные инвестиции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ередача пенсионных накоплений в страховую компанию или пенсионный фонд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купка пая паевого инвестиционного фонда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ередача средств в управл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еньгами инвесторов управляет профессиональная финансовая организация, которая самостоятельно принимает решения о покупке или продаже различных инструментов финансового рын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РИНЦИПЫ ТОРГОВЛИ ЦЕННЫМИ БУМАГА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859280" y="1483920"/>
            <a:ext cx="41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34817"/>
                </a:solidFill>
                <a:uFillTx/>
                <a:latin typeface="Cambria"/>
              </a:rPr>
              <a:t>Инвестиционные консультанты –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финансовые советники, деятельность которых регулируется законо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Заголово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РИНЦИПЫ ТОРГОВЛИ ЦЕННЫМИ БУМАГА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Зачем нужен инвестиционный советник и как его выбрать"/>
          <p:cNvPicPr/>
          <p:nvPr/>
        </p:nvPicPr>
        <p:blipFill>
          <a:blip r:embed="rId1"/>
          <a:stretch/>
        </p:blipFill>
        <p:spPr>
          <a:xfrm>
            <a:off x="150840" y="1484280"/>
            <a:ext cx="47084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11280" y="69192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 Перечислите виды рынков. Дайте характеристику каждому из них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 Какие цели преследует Банк России по развитию финансовых технологий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 Как вы понимаете, что такое финансовая экосистема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/з пр. 10-11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ый рынок -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ынок капитала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ый рынок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финансовая сфера в цело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www.planetiphone.ru/upload/image/biz1.jpg"/>
          <p:cNvPicPr/>
          <p:nvPr/>
        </p:nvPicPr>
        <p:blipFill>
          <a:blip r:embed="rId1"/>
          <a:srcRect l="0" t="18900" r="779" b="0"/>
          <a:stretch/>
        </p:blipFill>
        <p:spPr>
          <a:xfrm>
            <a:off x="324000" y="1557360"/>
            <a:ext cx="3024000" cy="37069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324000" y="981000"/>
            <a:ext cx="3024000" cy="52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ПЕШ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324000" y="5229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ХОДЫ             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овина рамки 5"/>
          <p:cNvSpPr/>
          <p:nvPr/>
        </p:nvSpPr>
        <p:spPr>
          <a:xfrm rot="8658600">
            <a:off x="1302840" y="5165640"/>
            <a:ext cx="452520" cy="542880"/>
          </a:xfrm>
          <a:custGeom>
            <a:avLst/>
            <a:gdLst/>
            <a:ahLst/>
            <a:rect l="l" t="t" r="r" b="b"/>
            <a:pathLst>
              <a:path w="452437" h="542925">
                <a:moveTo>
                  <a:pt x="0" y="0"/>
                </a:moveTo>
                <a:lnTo>
                  <a:pt x="452437" y="0"/>
                </a:lnTo>
                <a:lnTo>
                  <a:pt x="326761" y="150811"/>
                </a:lnTo>
                <a:lnTo>
                  <a:pt x="150811" y="150811"/>
                </a:lnTo>
                <a:lnTo>
                  <a:pt x="150811" y="361952"/>
                </a:lnTo>
                <a:lnTo>
                  <a:pt x="0" y="542925"/>
                </a:lnTo>
                <a:lnTo>
                  <a:pt x="0" y="0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https://encrypted-tbn3.gstatic.com/images?q=tbn:ANd9GcQVzozCECpHVol2k60kvzo8jZvorMqpPKsWTYl2YIDTZKC2zqMp"/>
          <p:cNvPicPr/>
          <p:nvPr/>
        </p:nvPicPr>
        <p:blipFill>
          <a:blip r:embed="rId2"/>
          <a:stretch/>
        </p:blipFill>
        <p:spPr>
          <a:xfrm>
            <a:off x="5319720" y="2133720"/>
            <a:ext cx="3236760" cy="287964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sp>
        <p:nvSpPr>
          <p:cNvPr id="240" name="Прямоугольник 7"/>
          <p:cNvSpPr/>
          <p:nvPr/>
        </p:nvSpPr>
        <p:spPr>
          <a:xfrm>
            <a:off x="5292720" y="981000"/>
            <a:ext cx="3240000" cy="1152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УБЫТ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ИЗ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5508720" y="5157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ХОДЫ             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овина рамки 9"/>
          <p:cNvSpPr/>
          <p:nvPr/>
        </p:nvSpPr>
        <p:spPr>
          <a:xfrm rot="19461000">
            <a:off x="6775560" y="5094000"/>
            <a:ext cx="453960" cy="542880"/>
          </a:xfrm>
          <a:custGeom>
            <a:avLst/>
            <a:gdLst/>
            <a:ahLst/>
            <a:rect l="l" t="t" r="r" b="b"/>
            <a:pathLst>
              <a:path w="454025" h="542925">
                <a:moveTo>
                  <a:pt x="0" y="0"/>
                </a:moveTo>
                <a:lnTo>
                  <a:pt x="454025" y="0"/>
                </a:lnTo>
                <a:lnTo>
                  <a:pt x="327466" y="151340"/>
                </a:lnTo>
                <a:lnTo>
                  <a:pt x="151340" y="151340"/>
                </a:lnTo>
                <a:lnTo>
                  <a:pt x="151340" y="361952"/>
                </a:lnTo>
                <a:lnTo>
                  <a:pt x="0" y="542925"/>
                </a:lnTo>
                <a:lnTo>
                  <a:pt x="0" y="0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http://operaconsulting.ru/edit/images/upload/Financing_main_menu.jpg"/>
          <p:cNvPicPr/>
          <p:nvPr/>
        </p:nvPicPr>
        <p:blipFill>
          <a:blip r:embed="rId3"/>
          <a:stretch/>
        </p:blipFill>
        <p:spPr>
          <a:xfrm>
            <a:off x="3348000" y="5157720"/>
            <a:ext cx="1800360" cy="1354320"/>
          </a:xfrm>
          <a:prstGeom prst="rect">
            <a:avLst/>
          </a:prstGeom>
          <a:ln w="0">
            <a:noFill/>
          </a:ln>
        </p:spPr>
      </p:pic>
      <p:sp>
        <p:nvSpPr>
          <p:cNvPr id="244" name="Двойная стрелка влево/вправо 11"/>
          <p:cNvSpPr/>
          <p:nvPr/>
        </p:nvSpPr>
        <p:spPr>
          <a:xfrm>
            <a:off x="3419640" y="2852640"/>
            <a:ext cx="1800000" cy="360360"/>
          </a:xfrm>
          <a:prstGeom prst="leftRightArrow">
            <a:avLst>
              <a:gd name="adj1" fmla="val 50000"/>
              <a:gd name="adj2" fmla="val 4999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4140360" y="3068640"/>
            <a:ext cx="287280" cy="2160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3132000" y="6488280"/>
            <a:ext cx="25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Заголовок 3"/>
          <p:cNvSpPr/>
          <p:nvPr/>
        </p:nvSpPr>
        <p:spPr>
          <a:xfrm>
            <a:off x="125280" y="0"/>
            <a:ext cx="9018720" cy="78912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ФИНАНСОВЫЙ РЫНО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solidFill>
            <a:srgbClr val="df6c5d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ФИНАНСИРОВ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cxnSp>
        <p:nvCxnSpPr>
          <p:cNvPr id="250" name="Прямая со стрелкой 3"/>
          <p:cNvCxnSpPr>
            <a:stCxn id="249" idx="2"/>
            <a:endCxn id="251" idx="0"/>
          </p:cNvCxnSpPr>
          <p:nvPr/>
        </p:nvCxnSpPr>
        <p:spPr>
          <a:xfrm flipH="1">
            <a:off x="1594800" y="1125000"/>
            <a:ext cx="3205800" cy="1080360"/>
          </a:xfrm>
          <a:prstGeom prst="straightConnector1">
            <a:avLst/>
          </a:prstGeom>
          <a:ln w="5724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52" name="Прямая со стрелкой 4"/>
          <p:cNvCxnSpPr>
            <a:stCxn id="249" idx="2"/>
            <a:endCxn id="253" idx="0"/>
          </p:cNvCxnSpPr>
          <p:nvPr/>
        </p:nvCxnSpPr>
        <p:spPr>
          <a:xfrm>
            <a:off x="4800600" y="1125000"/>
            <a:ext cx="2651760" cy="1008720"/>
          </a:xfrm>
          <a:prstGeom prst="straightConnector1">
            <a:avLst/>
          </a:prstGeom>
          <a:ln w="5724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51" name="Прямоугольник 8"/>
          <p:cNvSpPr/>
          <p:nvPr/>
        </p:nvSpPr>
        <p:spPr>
          <a:xfrm>
            <a:off x="0" y="2205000"/>
            <a:ext cx="3192480" cy="792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САМОФИНАНСИРОВА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6156360" y="2133720"/>
            <a:ext cx="2592360" cy="7905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НЕШ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250920" y="3213000"/>
            <a:ext cx="2736720" cy="36036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ИБЫ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1"/>
          <p:cNvSpPr/>
          <p:nvPr/>
        </p:nvSpPr>
        <p:spPr>
          <a:xfrm>
            <a:off x="250920" y="3789360"/>
            <a:ext cx="2736720" cy="158436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МОРТИЗ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Т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http://delitant.ru/wp-content/uploads/2013/02/dohodypribyl.gif"/>
          <p:cNvPicPr/>
          <p:nvPr/>
        </p:nvPicPr>
        <p:blipFill>
          <a:blip r:embed="rId1"/>
          <a:stretch/>
        </p:blipFill>
        <p:spPr>
          <a:xfrm>
            <a:off x="3059280" y="2997360"/>
            <a:ext cx="4495680" cy="19526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8"/>
          <p:cNvSpPr/>
          <p:nvPr/>
        </p:nvSpPr>
        <p:spPr>
          <a:xfrm>
            <a:off x="6084720" y="3068640"/>
            <a:ext cx="2735280" cy="86508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АНКОВСИЕ КРЕД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20"/>
          <p:cNvCxnSpPr>
            <a:stCxn id="257" idx="2"/>
          </p:cNvCxnSpPr>
          <p:nvPr/>
        </p:nvCxnSpPr>
        <p:spPr>
          <a:xfrm flipH="1">
            <a:off x="4716000" y="3933720"/>
            <a:ext cx="2736000" cy="1440360"/>
          </a:xfrm>
          <a:prstGeom prst="straightConnector1">
            <a:avLst/>
          </a:prstGeom>
          <a:ln w="5724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59" name="Прямая со стрелкой 23"/>
          <p:cNvCxnSpPr>
            <a:stCxn id="257" idx="2"/>
            <a:endCxn id="260" idx="0"/>
          </p:cNvCxnSpPr>
          <p:nvPr/>
        </p:nvCxnSpPr>
        <p:spPr>
          <a:xfrm>
            <a:off x="7451640" y="3933720"/>
            <a:ext cx="145440" cy="1440360"/>
          </a:xfrm>
          <a:prstGeom prst="straightConnector1">
            <a:avLst/>
          </a:prstGeom>
          <a:ln w="5724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61" name="Прямоугольник 28"/>
          <p:cNvSpPr/>
          <p:nvPr/>
        </p:nvSpPr>
        <p:spPr>
          <a:xfrm>
            <a:off x="3348000" y="5373720"/>
            <a:ext cx="2736720" cy="93492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РАТКОС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О 1 ГОД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9"/>
          <p:cNvSpPr/>
          <p:nvPr/>
        </p:nvSpPr>
        <p:spPr>
          <a:xfrm>
            <a:off x="6227640" y="5373720"/>
            <a:ext cx="2737080" cy="94464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ОЛГОС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ЛЕЕ 1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http://st03.kakprosto.ru/images/article/2011/6/22/1_5255279798c3e5255279798c84.jpg"/>
          <p:cNvPicPr/>
          <p:nvPr/>
        </p:nvPicPr>
        <p:blipFill>
          <a:blip r:embed="rId2"/>
          <a:stretch/>
        </p:blipFill>
        <p:spPr>
          <a:xfrm>
            <a:off x="3348000" y="2276640"/>
            <a:ext cx="54691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Бирж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лощадка, на которой ведутся торги различными активам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Заголовок 3"/>
          <p:cNvSpPr/>
          <p:nvPr/>
        </p:nvSpPr>
        <p:spPr>
          <a:xfrm>
            <a:off x="-108000" y="0"/>
            <a:ext cx="926964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ФИНАНСОВЫЙ РЫНО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Заголовок 3"/>
          <p:cNvSpPr/>
          <p:nvPr/>
        </p:nvSpPr>
        <p:spPr>
          <a:xfrm>
            <a:off x="-108000" y="0"/>
            <a:ext cx="926964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ФИНАНСОВЫЙ РЫНО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2340000" y="1476360"/>
            <a:ext cx="4464000" cy="1152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ИГМЕНТЫ РЫНОКА КАПИТ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539640" y="2997360"/>
            <a:ext cx="3456000" cy="1152360"/>
          </a:xfrm>
          <a:prstGeom prst="rect">
            <a:avLst/>
          </a:prstGeom>
          <a:solidFill>
            <a:srgbClr val="ef8c6a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ЫНОК БАНКОВСКИЙХ КРЕДИТОВ (РЫНОК ССУДНЫХ КАПИТА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7"/>
          <p:cNvSpPr/>
          <p:nvPr/>
        </p:nvSpPr>
        <p:spPr>
          <a:xfrm>
            <a:off x="5148360" y="2997360"/>
            <a:ext cx="3456000" cy="1152360"/>
          </a:xfrm>
          <a:prstGeom prst="rect">
            <a:avLst/>
          </a:prstGeom>
          <a:solidFill>
            <a:srgbClr val="ef8c6a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ЫНОК ЦЕННЫХ БУМА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трелка вниз 8"/>
          <p:cNvSpPr/>
          <p:nvPr/>
        </p:nvSpPr>
        <p:spPr>
          <a:xfrm>
            <a:off x="2843280" y="2637000"/>
            <a:ext cx="4334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трелка вниз 9"/>
          <p:cNvSpPr/>
          <p:nvPr/>
        </p:nvSpPr>
        <p:spPr>
          <a:xfrm>
            <a:off x="5796000" y="2637000"/>
            <a:ext cx="431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000" y="1447560"/>
            <a:ext cx="821844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Ценная бумага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комплекс прав, оформленных в соответствии с  правилами, установленными законодательством (бумажные, электронные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4" name="Рисунок 1" descr=""/>
          <p:cNvPicPr/>
          <p:nvPr/>
        </p:nvPicPr>
        <p:blipFill>
          <a:blip r:embed="rId1"/>
          <a:stretch/>
        </p:blipFill>
        <p:spPr>
          <a:xfrm>
            <a:off x="1835280" y="3141720"/>
            <a:ext cx="5340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6:41:14Z</dcterms:created>
  <dc:creator>Саша</dc:creator>
  <dc:description/>
  <dc:language>en-US</dc:language>
  <cp:lastModifiedBy>Учетная запись Майкрософт</cp:lastModifiedBy>
  <dcterms:modified xsi:type="dcterms:W3CDTF">2024-03-24T09:39:46Z</dcterms:modified>
  <cp:revision>73</cp:revision>
  <dc:subject/>
  <dc:title>Занятость и безработица</dc:title>
</cp:coreProperties>
</file>