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  <p:sldId id="278" r:id="rId59"/>
    <p:sldId id="279" r:id="rId60"/>
    <p:sldId id="280" r:id="rId61"/>
    <p:sldId id="281" r:id="rId62"/>
    <p:sldId id="282" r:id="rId63"/>
    <p:sldId id="283" r:id="rId64"/>
    <p:sldId id="284" r:id="rId65"/>
    <p:sldId id="285" r:id="rId66"/>
    <p:sldId id="286" r:id="rId67"/>
    <p:sldId id="287" r:id="rId68"/>
    <p:sldId id="288" r:id="rId69"/>
    <p:sldId id="289" r:id="rId70"/>
    <p:sldId id="290" r:id="rId71"/>
    <p:sldId id="291" r:id="rId72"/>
    <p:sldId id="292" r:id="rId73"/>
    <p:sldId id="293" r:id="rId74"/>
    <p:sldId id="294" r:id="rId75"/>
    <p:sldId id="295" r:id="rId76"/>
    <p:sldId id="296" r:id="rId77"/>
    <p:sldId id="297" r:id="rId78"/>
    <p:sldId id="298" r:id="rId79"/>
    <p:sldId id="299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slide" Target="slides/slide23.xml"/><Relationship Id="rId60" Type="http://schemas.openxmlformats.org/officeDocument/2006/relationships/slide" Target="slides/slide24.xml"/><Relationship Id="rId61" Type="http://schemas.openxmlformats.org/officeDocument/2006/relationships/slide" Target="slides/slide25.xml"/><Relationship Id="rId62" Type="http://schemas.openxmlformats.org/officeDocument/2006/relationships/slide" Target="slides/slide26.xml"/><Relationship Id="rId63" Type="http://schemas.openxmlformats.org/officeDocument/2006/relationships/slide" Target="slides/slide27.xml"/><Relationship Id="rId64" Type="http://schemas.openxmlformats.org/officeDocument/2006/relationships/slide" Target="slides/slide28.xml"/><Relationship Id="rId65" Type="http://schemas.openxmlformats.org/officeDocument/2006/relationships/slide" Target="slides/slide29.xml"/><Relationship Id="rId66" Type="http://schemas.openxmlformats.org/officeDocument/2006/relationships/slide" Target="slides/slide30.xml"/><Relationship Id="rId67" Type="http://schemas.openxmlformats.org/officeDocument/2006/relationships/slide" Target="slides/slide31.xml"/><Relationship Id="rId68" Type="http://schemas.openxmlformats.org/officeDocument/2006/relationships/slide" Target="slides/slide32.xml"/><Relationship Id="rId69" Type="http://schemas.openxmlformats.org/officeDocument/2006/relationships/slide" Target="slides/slide33.xml"/><Relationship Id="rId70" Type="http://schemas.openxmlformats.org/officeDocument/2006/relationships/slide" Target="slides/slide34.xml"/><Relationship Id="rId71" Type="http://schemas.openxmlformats.org/officeDocument/2006/relationships/slide" Target="slides/slide35.xml"/><Relationship Id="rId72" Type="http://schemas.openxmlformats.org/officeDocument/2006/relationships/slide" Target="slides/slide36.xml"/><Relationship Id="rId73" Type="http://schemas.openxmlformats.org/officeDocument/2006/relationships/slide" Target="slides/slide37.xml"/><Relationship Id="rId74" Type="http://schemas.openxmlformats.org/officeDocument/2006/relationships/slide" Target="slides/slide38.xml"/><Relationship Id="rId75" Type="http://schemas.openxmlformats.org/officeDocument/2006/relationships/slide" Target="slides/slide39.xml"/><Relationship Id="rId76" Type="http://schemas.openxmlformats.org/officeDocument/2006/relationships/slide" Target="slides/slide40.xml"/><Relationship Id="rId77" Type="http://schemas.openxmlformats.org/officeDocument/2006/relationships/slide" Target="slides/slide41.xml"/><Relationship Id="rId78" Type="http://schemas.openxmlformats.org/officeDocument/2006/relationships/slide" Target="slides/slide42.xml"/><Relationship Id="rId79" Type="http://schemas.openxmlformats.org/officeDocument/2006/relationships/slide" Target="slides/slide43.xml"/><Relationship Id="rId80" Type="http://schemas.openxmlformats.org/officeDocument/2006/relationships/slide" Target="slides/slide44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00D-7079-471C-9D79-D8E04D8B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B21-DF3A-4E0F-9411-DED99EBE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74ED6-53F3-4AF5-9514-AFEB7E66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90454-C9CC-4919-9571-FB275EB5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11AFB-A673-4294-B301-8EEAB5AE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FE27C-B478-4CAF-91BF-3E53B6A0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136EB-E479-48DF-8627-33999EB3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4F4F6-44C0-4FDD-8484-C9E51FA3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CF2E7-26AA-4594-B4E7-0EDE0472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4DE14-BEE2-45A4-B811-D816DE01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F928F-21B7-4481-88C5-83815495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89213-14C5-473B-9FB8-4BBC3E22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401-6C4E-46B7-AE8E-E3845096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B2671-B3B6-497E-9F62-09EF1048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9B9FD-ADDE-40E2-9B7D-EFCA6CF6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BDE86-44B2-4EFD-BC44-BF73C1C0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41990-705A-4C81-927F-CC3ABA48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490EC-6C0D-4B75-A734-0FC54E22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F67AA-FCC2-449F-8AAB-98EFA768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4D793-3205-4D7D-9BDC-6A7B044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016CC-1DBA-49CD-AC93-E29DCEF2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13C9E-807D-46E8-BC96-56622AF3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0AA28-BB04-46BC-A3EC-A5249D8A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714-FF5F-45A9-AD26-52D19B4F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471F3-F277-47DA-9772-37FC9298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BAC07-8F7C-4F5C-A757-6A32D395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0FE03-967B-4B99-A569-9630D75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DE41C-D12E-41D5-9245-0E3E2A65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29000-FEA4-4156-B915-98EDE5D5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F7FDC-0369-47A4-99BF-2B13719C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3FC34-AD0F-4738-9CF9-126C68DE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92AB2-193F-4CE4-951C-967C8A8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8D564-2332-45D6-B7B0-9A3DA38D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DD0AD-628F-46D3-9725-93CA3F31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50C6-8FB1-4CA1-9F8A-754F19AE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2EB58-9075-4CBD-ACF9-9818FE34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5608F-EF43-40FF-8D2A-58FD8DA7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6630E-5CF1-4750-80A8-D0C8E3AC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64DAB-5E2D-47FC-A3F6-C485BA72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CBC1E-9698-4BBE-9946-6B035E21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708F1-E661-4F2A-81B2-26FBD10E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331EB-0F44-429E-BECA-5F06F170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189CC-00F0-4FF2-8416-EF8A6452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05D6D-0F1F-4979-BEB3-34FF2C68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2A5FB-D6E3-4F5D-B8F2-6067CC64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B72B-56C3-4F32-87C2-44D55B4B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E036B-AAF3-48AF-AC73-C60F039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0CD50-6479-42D7-8989-B4FE6EB8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95570-7C85-4EC5-916C-9A3781A2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CC133-94E4-4580-8448-F6FB2C19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022B8-5D61-4617-A064-38EE96AF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FD1CA-E04E-4D02-AF0E-B71E5A00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8519B-79C1-4192-BE3D-C9985674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A33D9-8490-49F5-9CE2-1191080F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88862-A83E-4977-B7C2-45F58EF5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DAF11-7E55-44E8-AA8E-FF478E10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6023-020B-4A9F-A732-F67B0C12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52124-E28A-4CD3-A8B9-D4E0C0C8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5AE2A-55F3-45EF-9984-6CB15874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7E4BF-E1B2-49F0-84A5-4344D7C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0AA80-5354-4CB6-8E32-EFCCB0E3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62AC1-D9CE-4462-9BE4-61DC187E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92735-0814-4E79-9AFA-21EE1DA7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DAD90-3021-4860-BC45-D2ED931F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D4D35-D7CF-443A-853C-E890C3FA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81ED3-AE7A-4389-A757-E7F8C94F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2E7F8-6F3D-4A1B-A695-9751A33D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E618-6973-4F1E-A49C-8EB6F18F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FDF93-89A5-4540-9483-7E01BF6E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950F6-DC0A-4909-9FA2-F08C8279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460E1-6A8D-4D4C-8F61-407827AB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06CD5-D3A7-4B77-A789-4CD647B7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56BC4-C5EC-4B8D-B6FC-1011440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5DED8-0562-4EBB-B88E-AB586AE1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4BE0C-8AC5-443E-A626-E832039F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2222B-465A-4A0E-A6AA-BC4C23CA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2431D-7E23-4BD7-A112-54E6706B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78596-F1EF-430E-B26D-4A9A087F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C8A9-F606-4F38-92A9-1EDE4F6B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49AC6-A0BE-4D6F-9939-7B10BE37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84FB5-5A60-429D-979E-7C28D72F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F7FB1-8E76-45B8-AB9F-4DF31DD0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78BDD-90CB-450E-AF61-2452988E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37B68-EE65-492B-A8A5-59C9BDD1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D75E8-8267-47CF-9582-D0F94C03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9911F9-EFE1-4707-B011-17A20800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764D6-7D86-4E45-9FF5-BC17F77A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55516-39DC-488C-851D-5FF94D12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4127F-1460-4DEE-A57A-541ADAC6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FD31-7421-4D8F-A264-211403D3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B171FA-C37A-4567-8DBD-3B76A219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A8232-F813-4073-8E46-67D4486D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CD81D-1233-42A2-9CCF-7CD5A310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FEBF8-1C05-45D6-9E4F-0243BC7A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EF1AB-226B-465E-B268-18768C4E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43307-DA55-4BA4-8909-6D9F1652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4DD39-E6FD-4EA4-AEF7-D157B7AB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2D060-1C1A-44D0-BBB1-98369809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3828A-843F-436A-924A-FD3DD246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750E1-3C99-4DD1-9EBC-7C5FA3AB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45FA-70CE-47A3-8882-A41A51A1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AF848-64E5-4645-8135-A9FF36F3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BCB54-E007-4F32-AFB7-BCE83269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0D2BA-57F2-4CCF-8261-6D79A3DF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58CE2-B95B-44C8-984D-48C206ED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9DD22-4F58-4E8F-8EAF-6172583C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2AF54D-4A9E-4A46-9BEF-5FD850F4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0049E4-AC21-43D9-AD7E-252CB3F4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AB5BF2-682A-4AFB-BAAE-417C31D9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15F6F5-F54C-4945-B346-86111F20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DADDD9-3377-4BB6-A664-255603E6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1F0-2FCF-4611-BA68-51FC9517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4AAB-7246-4625-9061-5A77DF6F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5B736-0ECF-4DD6-89B6-B9E34B99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D658D-3D5C-4A7F-BB5D-1C1733D5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8C7A2-B421-4160-8514-819B49B3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19601-96F2-47B8-BA68-99351466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B913B-6E67-466A-8786-4AA79F6C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54D60-EF8F-4AB3-881B-95F97E1A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2BFF0-5538-4404-92FC-9DFE5104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7C2E3-0B2D-43AB-9272-4B4102D0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60D9CC-2D6C-41C6-B535-3CD207D3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A75F35-7CE9-40F0-8055-5FA4CB2D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5C91-6CA4-4ABF-B46D-35C1FF3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906239-F984-4E94-8510-A5A1CA64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99006-DE2E-4E44-8067-16E0F624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D5D20-9B9F-4FE6-AA2F-2EDB6E5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CB30AB-7713-468D-8779-80ABF051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FA2C1-8F01-409A-A1F5-2E29D767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89198-DD61-429C-8084-4E00C8E0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93E6F-9F32-473B-867E-16787F53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349C57-5A9E-4FD0-839D-43577346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0510F-C5FD-451E-AB48-EF646879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263205-7A60-494A-A4AA-01316723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230C-EEEC-4808-B0F5-9F22B67C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26571-DB6D-47FA-BDF7-6E8415A0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C4C12C-7BF1-4835-A7B4-35306128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87BAE1-C0FB-4E10-BFB0-666A63F7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E70A78-C46C-4D72-94A1-2D7BFB24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F6B525-E05B-471C-8E0F-0D13D083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2AB54-1DB1-4CC5-A118-5B9272D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D71C1-74CE-42B3-A956-ABB3131B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2A23A-9742-4FCC-991A-C9EF11E2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FCAEE4-9A0C-4AEE-90C7-9BF2F43C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7578EB-2777-4F0B-B650-3FECD4DF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CA5F-0B8F-469A-9739-321FBC1A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91926-8420-4AA8-9136-DA9F89A7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67D77-3E66-4284-A1D5-599CE963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EA603C-27CC-43F5-9674-B381021F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3998A-60CE-4C49-935E-DACB4438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628D62-9908-4068-8DEC-AD12A38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BDEED-7EE6-403E-B3ED-CBC402B8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C691A1-0BEB-437A-8C12-2488B8EB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E9F67E-3547-4C82-85DC-75225250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F6EAE-EC3D-4C57-8576-ACC88CEE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3D0EB-2601-47FB-9D10-4B527DFF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D4B5-C4D8-47DB-ABD9-CC7AC68A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556B91-C97C-4EB8-BC2D-E7458A0D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8B13D9-2155-4418-8B42-727EBBC9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76535A-C69F-4CB7-93BC-C316B178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62BA0-79B1-45BC-A81A-D15DDC6D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7493A1-3E4B-422C-B6EE-85C9EF61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106FC8-7B01-423B-B1C1-AC3BCB92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68C51D-4285-4651-8C76-225B4F6A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4E74A5-F0A7-49CA-9265-129A61A4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007C45-EBC6-431A-9808-B70443F2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A0ABBA-0F12-48E2-AC5E-B016A789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5DDC-7801-44D5-A931-48983A94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BB3C8-02D0-48E4-85F6-13E25983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61E907-4864-424A-9F98-C97E3497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B499C2-5952-4A1D-B12A-ADAFB762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F6956E-E393-4158-84DF-AE77FCF5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472E9F-B210-498F-98F6-52598980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878C45-C5CF-4D80-9862-A2096E5A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42D97D-1366-471B-8A2E-B50582C6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842F47-FC7B-40F6-B03C-E3BC9D87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9F9C75-0F9B-42D1-BC00-EF2C4D8E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CBA951-7BE6-41A1-8EF4-638C964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CB7E-DB36-44E3-8C3B-F4D2B368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E8FF5C-594E-4D3A-AAEB-C29A230E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22EBB8-5906-4BA2-B8AA-B8E960AB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07AC46-A3BF-4A6E-BF5F-8E967185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AAA525-42DF-4D8B-A791-55B2997C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03388A-431A-48C3-8C91-AC060D65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53542C-75BE-4947-84F5-E4EBDF20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3F7471-2244-4F59-88E3-503248C0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5E53EE-494F-4DA5-91C2-08F3AD39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0D9591-F075-439F-9292-06B567C4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C36BBB-96BB-4ADB-9960-592FD751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74C8-D1E8-4554-B0D0-A950992F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11502E-5577-4779-9D90-CB793A16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84132E-E4EB-4AA6-967A-3EA46F6F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7F44CC-2B5D-4640-844B-BE7F4C66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ECE868-2705-4CDE-887B-94DE231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ADD196-C982-4762-BC94-4D7B2BCB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79490A-FF31-4202-823E-81745B83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122E89-1348-466E-80A9-984EEAE2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85426E-7EA5-4D40-862A-8C27A145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901003-A75F-4DF8-B9FC-36E60EB8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B3CFD1-C075-4058-9B9C-EF2CA7B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E129F-347B-45B5-BC42-93219573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0868F9-22B5-4F79-BA36-ABA7AB92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BFFA27-55F5-4927-8FF3-E0D6F6ED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EA74F9-A7C0-43CE-9718-80255CEA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B15F7D-0721-4997-AAF5-1EA37D77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B515AD-5088-4FBE-9648-EDB767B0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74D025-7540-4F74-98C7-68738544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117AFC-4562-4DFE-BE06-BB24334F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F80D27-7922-46FC-8C6B-B9C167AF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D2AEAB-AE17-4420-822C-55A548E3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3EADF5-8D7C-4E51-B566-8D7F34B5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793FF-A9E6-497B-9545-FC9CE9AD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5B0328-E42A-4FA3-96FC-83037BAB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CF92A2-C8D7-4686-863C-0768231B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A91166-DD85-4D62-A939-2CFA0004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5F7D79-C69B-497F-B360-8A259E45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AE4E95-914E-4F30-909D-53DA82E9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BAFAC3-87A4-4E30-BF99-0115054B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B149F9-5C55-4FFE-BA0C-710C2B2D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EA0407-B470-4FA1-B424-0B125491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1B9D70-12B5-496A-A312-1DFCA875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F544CE-8EC7-4F7C-AEA4-ADD0C3C8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A92-886E-41B6-934A-B3F102D7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0987-6BF4-480B-AD3F-71538B2C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3106C8-7416-4A85-AD4A-6599F912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F45EAA-0F99-4C99-BFD0-BED9270E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D74546-D1A9-4E16-8ED5-573DB300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5EB051-4E97-45C8-BDF8-A7E13ED3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9EB662-D7FE-46D9-B33C-F9736A2D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DE36B2-27A4-4545-9C2D-9E8403CA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25EB50-BEBE-404D-96D1-4F0DDA61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3080FE-EA0D-4051-9577-D7A6477A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AE4FE1-10C5-43B8-9920-AC401137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5CC3BF-7055-4E8F-809F-0F43D7DB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03E6-2A14-458F-9B83-3CB904D6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C454B6-B226-4B2C-8CB9-2934453C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11C437-072B-4E57-83DA-C13AE85D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DFC110-092A-4EEA-9BB1-32AFF65E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5B8CE5-68EA-496B-B31C-CFBEDADF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29708A-B6EF-4DF8-ABD2-298E47A1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C211FA-48E7-405E-B7B8-3ED60C3C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994024-2BBB-464B-8B5A-1092A0C5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813636-A2F4-4226-9397-859FB538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05A7C9-DEB4-406E-B829-114E9124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279818-FF30-4706-8829-6ECED24D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A98B-2B18-4513-ACB4-11E0370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D99C75-5951-4F65-944B-C8D10FB8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C7347C-F97E-47F2-8C43-51F816B7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DED714-F1ED-4981-910A-8ADFCE50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979635-3EBA-483E-8D3E-0DDD6A91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812458-1F66-469D-A46A-C7AE4511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7A63FE-1F6C-4134-9C84-A1A9B9CC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9D8510-D700-44CD-B326-0C200004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1EC421-8E87-4014-810F-A159A218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2310A6-3978-449E-85F2-C86FC407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3BF388-ED17-42CA-8AEB-D2FC9D47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716E-8F71-481A-8AF0-A18E77A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7BDB9C-0EAE-41B7-BBCB-F097C0EC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6A5171-C459-4B3C-B20D-5663561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B46EAF-F32B-4E62-8454-06078400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1A8E19-8FE2-421A-B133-B41F6593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D997DF-34D4-4707-B7A3-5D6F938A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0A790D-8302-44E6-B740-78A0BB76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1D086A-B801-4F24-A669-ED671743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FCCC14-0390-4531-9FB1-9D5729F4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097862-9767-473B-992E-124BA36A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CFFD21-9BCB-4497-AD20-3631B9AB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DAD47-C9F2-4C76-973B-EFDD2724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418059-948D-4F8F-84BA-66DABB72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ED3AE3-9CED-464D-B05B-8C467359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302238-FB11-46D5-A081-A7487165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EBE803-8537-4C52-8102-9F8310A2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11CAD1-B497-4BA7-8868-C9E25777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1A3C8A-90FF-452A-9967-61440722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214739-6FB9-4721-B02E-9DE9DB4F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F6B713-626C-42D7-83CA-FD132B14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B9F533-931A-4A6C-A65D-2341AFA9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8352C7-9D9D-497B-B188-22C5D967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3D79-F482-4053-ADDC-9295B28D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C53CD0-FD37-4D11-976C-27655EB1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652A91-A8A2-46A0-B2C9-0B56EECF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A85CEA-2D65-4FAB-976A-C43237C5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A6CFE6-65D5-443B-A6C4-9494BE12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2206A6-0633-44F2-BC6D-3B88BE1A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85E912-1578-4B15-8318-C9D15573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6D5621-87B9-42C0-BCA6-7BC7B0FE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A5439F-F773-409D-B8F5-1C507998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D39880-3BDC-426C-A0B2-19D4E6F5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75E083-1BD1-466D-9A96-185AB164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7D95-3CD2-4863-85DD-32A1D60D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6C8FC0-36DC-4C52-AED4-516441DB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1B6875-1CB3-4EB1-8D9F-B0DA38D7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34CFAF-5EEF-429F-B719-173E1011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09C01F-F933-4734-81A7-09DDB572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A488E3-ED6B-4EC5-90C0-A564CE2C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837CFE-C20D-4D1F-98FD-E5D75F6C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D6D0CD-7487-4DDF-AEB6-B10C4018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D77BBC-1037-41F0-A13A-B6BB0DB8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C4A992-004B-447E-8890-13F764D3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5E70B2-187C-47CB-8B4D-17145189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8D5E1-1423-4608-AEB0-3D8FB192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9BB8CF-82AA-473F-9581-139773F3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AAC889-987F-46FD-82FB-797B943E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8F695C-CC90-4A77-A6B1-61D73FDA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51A569-5173-4F0D-BCB3-CAD058FB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9F97C2-8AD5-4ACC-A649-0A1F6D58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8C4591-4A7C-47B2-AC6D-3A06EF49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96985E-9321-4A84-B960-488D9C20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AC1487-E9E2-45EE-8AE2-E3D175CE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D896EB-A4AF-4300-9A22-3C6F3BC8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348D0A-A4B5-46A9-AAEF-9B62A55E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CA6E-BECA-4E11-81ED-6CA43A94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C92CE2-FD90-43D1-9DB3-8FEB83EA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12B1A3-3721-46D7-B81E-4A872079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A696AB-2FE2-40A5-8A76-6C8427BD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85B5F0-120B-447A-80B3-31DCDF25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18ED0E-EF91-4055-A67D-AB35E717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12B0E9-80E9-4645-BBB5-580E6D28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22DF25-D669-462E-8CFB-C1D3C964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99F638-E3B3-4FD8-BBD6-26FA6394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C53DDF-C412-4F8F-B7F0-B0A12F91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E81C5C-5C48-4EB5-A078-15292C2F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CFDE-3F0F-454E-93E2-135ED5FA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9E7E2E-24F9-45D7-8E00-E3C79E8B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98BDCE-C54F-4FD4-A340-6E588A88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D859F0-CA4F-45A3-8A53-2CF138C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E14D0A-4D47-4455-A91C-12C03AC9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3BDB1A-A24E-4D73-B8AE-3FD8422B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4F8A3A-44C0-4796-A28F-CC48E06C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9E7E9B-BB90-4D98-BB38-80ED161A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A7EA82-272B-404D-BA4A-EC4BB8D9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EE2992-2081-42E9-8545-19D69246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3B5641-FCEF-496B-910C-988EC2DA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E93-539D-42A6-BAC1-A55041F4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1FA7-B4BC-404B-B140-0D9FD7C8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4074C7-7775-4D73-9A50-5483E4EC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D50326-1077-4327-8A5A-58418A75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C46341-2871-4CD3-8EF7-1D007A55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599A22-2B42-48F5-A1D0-309E4C2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590497-669B-474C-91A5-1D73D5D8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0009AE-C018-4DF6-BAF7-8C6F5984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3CA32B-EABD-446A-A4F6-F3784502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D77320-D4C8-435B-AB8B-43F33605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5038F0-ABC3-4E6C-9EE6-BB8679BE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34E7A4-E7F4-4D5B-B68F-A9F04888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FF46-E6D0-4871-BF67-CCF16C35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F44896-3693-43CF-9CDB-CF1AD463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1B5771-EEE5-4376-9C6B-6BBD48D9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1DD1FA-942C-4D0B-85C6-62B58B8A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016DD8-8074-414B-BCF2-90B8B2D8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110AAD-07EE-4548-91A3-F0D60389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2CFA49-ECC9-4EE4-AB1C-61BA37C5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20BA77-E3A7-422F-8547-0BEE879A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9CA89A-6C70-42A8-AA4B-DE44252E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2B275D-CBFC-4F95-BF29-A80462F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6DFFFC-63F5-421D-AD65-6E0F0D11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47D9E-891C-49EC-973D-CCD162C7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CEF91F-1E4F-4D37-B631-9E2373D6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16A7-55FB-4803-9D0E-4B2C3FCC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66A94-6B44-4C40-8813-A3A6312D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99CA-43C2-438F-973A-17A66838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F488D-245F-4ED7-8243-21471971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57BB-7407-4E65-BA31-DB9BB832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B54CD-30C6-4005-B3A3-BCAFECB9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CB6AB-F80C-45E5-9EC9-494D5775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F76-6415-476F-80DC-8953B0C6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A0D9-6C95-4D53-A7F0-2AEF3739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DF92-CB1D-43F2-8F22-B415F3D2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0A494-0D03-422E-BB9C-E8A18A2C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6FDAF-C7DD-44FC-A746-2C3E8BD5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976CF-1C64-4333-8628-7F8A7E07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D89ED-1E72-405A-875C-D182BEE5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659D8-928B-45A1-9216-2D38D07A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C442F-BDEB-4B54-9DA2-400A3CDA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58273-23FD-4B78-B882-072A2DD8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5363B-869D-4BE1-AF87-0EA2FB8A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F18-53F7-48F1-98B6-95769C26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55D08-3684-42DE-B707-6905924F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0B86E-01CF-4BA1-935D-65E497DA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5B673-CD72-4922-8180-9F75DC68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4C3C3-B958-4600-87E3-BCBEC575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F0882-FEAA-4AEE-A78B-D079D862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37F9C-F5C8-4A99-8CDE-1CA43AED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BA030-C820-469E-8E2F-187F23CD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4F881-689D-42A6-BF2C-545696C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AF34C-68FA-4915-98D6-233051DA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AD768-9AD2-496D-8602-9528F02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5D1-188D-443C-8C24-CAA7BA5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9091-459D-41D5-83B7-7E5B0188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F8038-F2DE-41E0-BA8F-DDFE71F0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CF890-AB9D-4D73-89F2-22110808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6284-C0FF-4FAE-81EC-BBCE4B36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D0112-8884-4F95-8368-0A75E3ED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B8238-C354-42F1-B9BF-C71010EA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49932-73BF-423C-BCD8-DE310AF0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9F3D8-1535-41DD-A598-8472712E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D001B-0BA3-4DA6-8381-DE0F8A72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D63DF-B859-48CB-BA15-86BE0A9A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398-CA2B-4CF5-A80B-608D0B64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D7C6F-36E3-4286-B322-E35A32BC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A0717-4E95-49B5-B21E-54EE7509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E17A9-E061-4CCB-B89D-4990642D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E9564-27B1-49F9-A2A7-5C47BB5E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2F43D-5929-41E8-83B9-5362D7D3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8DF8C-AFB6-453B-AB21-15039667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F865C-372A-47B9-8DB0-4692E4C2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F309B-9799-4E0F-B84A-99C30927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84B72-A8B9-4015-9E17-4863C63E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C4E79-3526-47AA-B596-242C6610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4F9-B410-46B8-8D8F-AA255456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C9C79-C7F9-4B8E-9D87-7D206FDF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54201-7B31-4F85-A05B-16E2CD6A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46040-7CEA-4138-B1FB-B72BD9F2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29536-D9EB-423C-8215-67536F77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F9000-E74F-4F92-9FC1-375BA2AC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C2515-07A1-42C3-AF01-1D51E8FF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73C1E-E150-46E0-BF41-647073C8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EDF15-A35C-445D-8AFC-98E85912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A30C8-4CD4-46CC-A4AF-537A8FDA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62B0E-2971-458D-AD89-DDB363A7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D1C2-32E8-477B-A954-62DE599C64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DA23-1B63-4CE5-9397-91039E2225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9572-4CF7-4749-9478-AD0B44CA3A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717B-8273-4C8F-BA5F-BB8EBC21C0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2CF2-CD6C-456A-A542-B26C31B46D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9377-C7AE-4C04-B12E-4ADAC20589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E13B-0D26-4E57-820C-162F784F9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7F9B-BDA5-4096-893D-F55221A8BC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47E4-B78E-4543-9052-D6865FB0ED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1531-4701-4048-8475-8F1CBFAA72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AB14-0517-4683-A0EE-A37667697D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FD17-4402-4D50-9ACB-81BD668EA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DF88-C967-47D0-8607-E454CE527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F327-7880-4862-A385-3AF4C86AE5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5BEC-AFF3-4CD5-BFCD-79C67D74B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A686-B9DF-4C49-9535-022F6BA950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1DFE-46A0-417C-B7CD-0EDDCA4E5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8A96-78D5-4241-97A8-6A08B5B85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23A7-2D75-4430-9ADE-1F0E7B8D1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953D-0560-49CF-AA0A-E7CB0D31A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34E6-711D-4B2A-AFEA-8948008AF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C94B-CCCB-42AC-979C-B768ACD228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E344-52C0-4F52-BC67-5FD2F81B2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7E2B-C9F5-49D2-9154-F78A5B7DB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7BFC-F5CC-40FF-83DC-1F7906AF8D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9AEF-AE8C-481A-A5E1-A094CEE389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2383-C107-4F64-9C94-073F2D6B56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745C-0957-4C3A-9793-35BE6D571E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D084-450B-4360-BEAD-B4305F5B1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7D6A-3406-40D2-9510-6DD45E8586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CA4D-80EC-4079-B64E-0877C74C10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1DE9-1B73-42A2-A1A7-CE832E6F16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1BDF-7E11-4446-9DA7-2DCABF0EB1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DE5E-8545-49CB-BD77-E6164FBFCB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6FC8-2742-48FF-8E97-9B53355E63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0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e937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69880" y="189000"/>
            <a:ext cx="82296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торительно – обобщающий ур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6" name="Прямоугольник 8" descr=""/>
          <p:cNvPicPr/>
          <p:nvPr/>
        </p:nvPicPr>
        <p:blipFill>
          <a:blip r:embed="rId1"/>
          <a:stretch/>
        </p:blipFill>
        <p:spPr>
          <a:xfrm>
            <a:off x="5254560" y="5327640"/>
            <a:ext cx="3743280" cy="1103400"/>
          </a:xfrm>
          <a:prstGeom prst="rect">
            <a:avLst/>
          </a:prstGeom>
          <a:ln w="0">
            <a:noFill/>
          </a:ln>
        </p:spPr>
      </p:pic>
      <p:sp>
        <p:nvSpPr>
          <p:cNvPr id="1437" name="WordArt 8"/>
          <p:cNvSpPr txBox="1"/>
          <p:nvPr/>
        </p:nvSpPr>
        <p:spPr>
          <a:xfrm>
            <a:off x="1214280" y="1214280"/>
            <a:ext cx="6913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вадратные уравнения!</a:t>
            </a:r>
            <a:endParaRPr b="0" lang="en-US" sz="1800" spc="1" strike="noStrike">
              <a:ln w="25560">
                <a:solidFill>
                  <a:srgbClr val="99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8" name="TextBox 4"/>
          <p:cNvSpPr/>
          <p:nvPr/>
        </p:nvSpPr>
        <p:spPr>
          <a:xfrm>
            <a:off x="4929120" y="4714920"/>
            <a:ext cx="344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л учитель физик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отных З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28520" y="714240"/>
            <a:ext cx="5483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Математический диктант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4"/>
          <p:cNvSpPr/>
          <p:nvPr/>
        </p:nvSpPr>
        <p:spPr>
          <a:xfrm>
            <a:off x="1798560" y="2500200"/>
            <a:ext cx="586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а для вычис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скриминанта ! Слова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9" name="Рисунок 3" descr="https://uprostim.com/wp-content/uploads/2021/04/image037-4.png"/>
          <p:cNvPicPr/>
          <p:nvPr/>
        </p:nvPicPr>
        <p:blipFill>
          <a:blip r:embed="rId1"/>
          <a:stretch/>
        </p:blipFill>
        <p:spPr>
          <a:xfrm>
            <a:off x="3500280" y="4572000"/>
            <a:ext cx="261000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3846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17"/>
          <p:cNvSpPr/>
          <p:nvPr/>
        </p:nvSpPr>
        <p:spPr>
          <a:xfrm>
            <a:off x="678600" y="1214280"/>
            <a:ext cx="76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риминант раве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у второго коэффициента мину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едение 4 на  первый коэффициент 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вободный коэффиц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3" name="Picture 5" descr="C:\Users\user\Desktop\159851643_w640_h640_multpersonazhi-geroi-figurki.jpg"/>
          <p:cNvPicPr/>
          <p:nvPr/>
        </p:nvPicPr>
        <p:blipFill>
          <a:blip r:embed="rId1"/>
          <a:stretch/>
        </p:blipFill>
        <p:spPr>
          <a:xfrm>
            <a:off x="3500280" y="3857760"/>
            <a:ext cx="2895840" cy="272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071800" y="714240"/>
            <a:ext cx="5194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Математический диктант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Прямоугольник 1"/>
          <p:cNvSpPr/>
          <p:nvPr/>
        </p:nvSpPr>
        <p:spPr>
          <a:xfrm>
            <a:off x="571680" y="29289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1)ах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+вх+с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Прямоугольник 5"/>
          <p:cNvSpPr/>
          <p:nvPr/>
        </p:nvSpPr>
        <p:spPr>
          <a:xfrm>
            <a:off x="2286000" y="296712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)ax+c=0;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3)ax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+x=0; 4)ax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+x=0;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Box 6"/>
          <p:cNvSpPr/>
          <p:nvPr/>
        </p:nvSpPr>
        <p:spPr>
          <a:xfrm>
            <a:off x="371520" y="1928880"/>
            <a:ext cx="76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ть номера квадратных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Рисунок 5" descr="https://uprostim.com/wp-content/uploads/2021/04/image037-4.png"/>
          <p:cNvPicPr/>
          <p:nvPr/>
        </p:nvPicPr>
        <p:blipFill>
          <a:blip r:embed="rId1"/>
          <a:stretch/>
        </p:blipFill>
        <p:spPr>
          <a:xfrm>
            <a:off x="3500280" y="4357800"/>
            <a:ext cx="261000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419280" y="188640"/>
            <a:ext cx="1882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5"/>
          <p:cNvSpPr/>
          <p:nvPr/>
        </p:nvSpPr>
        <p:spPr>
          <a:xfrm>
            <a:off x="250920" y="2768760"/>
            <a:ext cx="8713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Прямоугольник 1"/>
          <p:cNvSpPr/>
          <p:nvPr/>
        </p:nvSpPr>
        <p:spPr>
          <a:xfrm>
            <a:off x="2143080" y="12859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1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3" name="Picture 6" descr="C:\Users\user\Desktop\159851643_w640_h640_multpersonazhi-geroi-figurki.jpg"/>
          <p:cNvPicPr/>
          <p:nvPr/>
        </p:nvPicPr>
        <p:blipFill>
          <a:blip r:embed="rId1"/>
          <a:stretch/>
        </p:blipFill>
        <p:spPr>
          <a:xfrm>
            <a:off x="2857680" y="2928960"/>
            <a:ext cx="347652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785600" y="857160"/>
            <a:ext cx="5699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Математический диктант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Прямоугольник 1"/>
          <p:cNvSpPr/>
          <p:nvPr/>
        </p:nvSpPr>
        <p:spPr>
          <a:xfrm>
            <a:off x="785880" y="2071800"/>
            <a:ext cx="7848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чег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как зависит количество корней квадратного уравн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6" name="Рисунок 3" descr="https://yarmarka-podarkov.ru/upload/iblock/2f1/2f1bc4698509cd5d22b2018462fa5b74.jpg"/>
          <p:cNvPicPr/>
          <p:nvPr/>
        </p:nvPicPr>
        <p:blipFill>
          <a:blip r:embed="rId1"/>
          <a:stretch/>
        </p:blipFill>
        <p:spPr>
          <a:xfrm>
            <a:off x="2928960" y="4229280"/>
            <a:ext cx="3506760" cy="262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3203280" y="189000"/>
            <a:ext cx="231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Box 4">
            <a:hlinkClick r:id="rId1"/>
          </p:cNvPr>
          <p:cNvSpPr/>
          <p:nvPr/>
        </p:nvSpPr>
        <p:spPr>
          <a:xfrm>
            <a:off x="485640" y="1071720"/>
            <a:ext cx="8315640" cy="5150520"/>
          </a:xfrm>
          <a:custGeom>
            <a:avLst/>
            <a:gdLst>
              <a:gd name="textAreaLeft" fmla="*/ 333720 w 8315640"/>
              <a:gd name="textAreaRight" fmla="*/ 7981920 w 8315640"/>
              <a:gd name="textAreaTop" fmla="*/ 333720 h 5150520"/>
              <a:gd name="textAreaBottom" fmla="*/ 4816800 h 5150520"/>
            </a:gdLst>
            <a:ahLst/>
            <a:rect l="textAreaLeft" t="textAreaTop" r="textAreaRight" b="textAreaBottom"/>
            <a:pathLst>
              <a:path w="34873" h="21600">
                <a:moveTo>
                  <a:pt x="0" y="0"/>
                </a:moveTo>
                <a:lnTo>
                  <a:pt x="34873" y="0"/>
                </a:lnTo>
                <a:lnTo>
                  <a:pt x="34873" y="21600"/>
                </a:lnTo>
                <a:lnTo>
                  <a:pt x="0" y="21600"/>
                </a:lnTo>
                <a:close/>
              </a:path>
              <a:path fill="lightenLess" w="34873" h="21600">
                <a:moveTo>
                  <a:pt x="0" y="0"/>
                </a:moveTo>
                <a:lnTo>
                  <a:pt x="34873" y="0"/>
                </a:lnTo>
                <a:lnTo>
                  <a:pt x="33473" y="1400"/>
                </a:lnTo>
                <a:lnTo>
                  <a:pt x="1400" y="1400"/>
                </a:lnTo>
                <a:close/>
              </a:path>
              <a:path fill="darken" w="34873" h="21600">
                <a:moveTo>
                  <a:pt x="34873" y="0"/>
                </a:moveTo>
                <a:lnTo>
                  <a:pt x="34873" y="21600"/>
                </a:lnTo>
                <a:lnTo>
                  <a:pt x="33473" y="20200"/>
                </a:lnTo>
                <a:lnTo>
                  <a:pt x="33473" y="1400"/>
                </a:lnTo>
                <a:close/>
              </a:path>
              <a:path fill="darkenLess" w="34873" h="21600">
                <a:moveTo>
                  <a:pt x="34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73" y="20200"/>
                </a:lnTo>
                <a:close/>
              </a:path>
              <a:path fill="lighten" w="34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73" h="21600">
                <a:moveTo>
                  <a:pt x="10430" y="8406"/>
                </a:moveTo>
                <a:lnTo>
                  <a:pt x="14860" y="8406"/>
                </a:lnTo>
                <a:lnTo>
                  <a:pt x="19282" y="3794"/>
                </a:lnTo>
                <a:lnTo>
                  <a:pt x="19282" y="17806"/>
                </a:lnTo>
                <a:lnTo>
                  <a:pt x="14860" y="13194"/>
                </a:lnTo>
                <a:lnTo>
                  <a:pt x="10430" y="13194"/>
                </a:lnTo>
                <a:close/>
              </a:path>
              <a:path fill="darken" w="34873" h="21600">
                <a:moveTo>
                  <a:pt x="20935" y="10800"/>
                </a:moveTo>
                <a:lnTo>
                  <a:pt x="24443" y="10800"/>
                </a:lnTo>
              </a:path>
              <a:path fill="darken" w="34873" h="21600">
                <a:moveTo>
                  <a:pt x="20935" y="8406"/>
                </a:moveTo>
                <a:lnTo>
                  <a:pt x="24443" y="5639"/>
                </a:lnTo>
              </a:path>
              <a:path fill="darken" w="34873" h="21600">
                <a:moveTo>
                  <a:pt x="20935" y="13194"/>
                </a:moveTo>
                <a:lnTo>
                  <a:pt x="24443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дискриминанта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дискриминант больше 0, 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имеет 2 корн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дискриминант равен 0, 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имеет 1 корен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дискриминант меньше  0, 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не имеет корн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0" name="Рисунок 4" descr="http://webmg.ru/wp-content/uploads/2022/01/15-20220108_222417.jpg"/>
          <p:cNvPicPr/>
          <p:nvPr/>
        </p:nvPicPr>
        <p:blipFill>
          <a:blip r:embed="rId2"/>
          <a:stretch/>
        </p:blipFill>
        <p:spPr>
          <a:xfrm>
            <a:off x="6873840" y="4572000"/>
            <a:ext cx="2270160" cy="196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62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шение квадратных уравнений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Прямоугольник 1"/>
          <p:cNvSpPr/>
          <p:nvPr/>
        </p:nvSpPr>
        <p:spPr>
          <a:xfrm>
            <a:off x="395280" y="1268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квадратное уравнение по его коэффициентам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а= -3; с= -10. в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3" name="Рисунок 3" descr="https://i.pinimg.com/originals/98/fe/e6/98fee66dd2eb617e4d6d6390f0556edb.jpg"/>
          <p:cNvPicPr/>
          <p:nvPr/>
        </p:nvPicPr>
        <p:blipFill>
          <a:blip r:embed="rId1"/>
          <a:stretch/>
        </p:blipFill>
        <p:spPr>
          <a:xfrm>
            <a:off x="3214800" y="3714840"/>
            <a:ext cx="289872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3348000" y="260280"/>
            <a:ext cx="2160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Прямоугольник 1"/>
          <p:cNvSpPr/>
          <p:nvPr/>
        </p:nvSpPr>
        <p:spPr>
          <a:xfrm>
            <a:off x="324000" y="981000"/>
            <a:ext cx="47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Прямоугольник 5"/>
          <p:cNvSpPr/>
          <p:nvPr/>
        </p:nvSpPr>
        <p:spPr>
          <a:xfrm>
            <a:off x="2669040" y="142884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-3х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+4х- 10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Рисунок 5" descr="https://uprostim.com/wp-content/uploads/2021/04/image037-4.png"/>
          <p:cNvPicPr/>
          <p:nvPr/>
        </p:nvPicPr>
        <p:blipFill>
          <a:blip r:embed="rId1"/>
          <a:stretch/>
        </p:blipFill>
        <p:spPr>
          <a:xfrm>
            <a:off x="3214800" y="3929040"/>
            <a:ext cx="260964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28480" y="500040"/>
            <a:ext cx="6646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шение квадратных уравнений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Прямоугольник 1"/>
          <p:cNvSpPr/>
          <p:nvPr/>
        </p:nvSpPr>
        <p:spPr>
          <a:xfrm>
            <a:off x="468360" y="1341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колько корней имеют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= 0      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 = 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Рисунок 3" descr="https://i.pinimg.com/originals/98/fe/e6/98fee66dd2eb617e4d6d6390f0556edb.jpg"/>
          <p:cNvPicPr/>
          <p:nvPr/>
        </p:nvPicPr>
        <p:blipFill>
          <a:blip r:embed="rId1"/>
          <a:stretch/>
        </p:blipFill>
        <p:spPr>
          <a:xfrm>
            <a:off x="3000240" y="3500280"/>
            <a:ext cx="2899080" cy="289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611520" y="13644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8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Прямоугольник 1"/>
          <p:cNvSpPr/>
          <p:nvPr/>
        </p:nvSpPr>
        <p:spPr>
          <a:xfrm>
            <a:off x="1116000" y="72720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ОДИН!        0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5" name="Рисунок 4" descr="https://uprostim.com/wp-content/uploads/2021/04/image037-4.png"/>
          <p:cNvPicPr/>
          <p:nvPr/>
        </p:nvPicPr>
        <p:blipFill>
          <a:blip r:embed="rId1"/>
          <a:stretch/>
        </p:blipFill>
        <p:spPr>
          <a:xfrm>
            <a:off x="3357720" y="3429000"/>
            <a:ext cx="260964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Прямоугольник 3"/>
          <p:cNvSpPr/>
          <p:nvPr/>
        </p:nvSpPr>
        <p:spPr>
          <a:xfrm>
            <a:off x="303840" y="620640"/>
            <a:ext cx="88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«Здоров будешь – все добудеш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Рисунок 1" descr="http://vmnews.ru/site-specific/vmnews.ru/upload/article-illustrations/2012/article-32174-1.jpg"/>
          <p:cNvPicPr/>
          <p:nvPr/>
        </p:nvPicPr>
        <p:blipFill>
          <a:blip r:embed="rId1"/>
          <a:stretch/>
        </p:blipFill>
        <p:spPr>
          <a:xfrm>
            <a:off x="2340000" y="1484280"/>
            <a:ext cx="4414680" cy="3116160"/>
          </a:xfrm>
          <a:prstGeom prst="rect">
            <a:avLst/>
          </a:prstGeom>
          <a:ln w="0">
            <a:noFill/>
          </a:ln>
        </p:spPr>
      </p:pic>
      <p:sp>
        <p:nvSpPr>
          <p:cNvPr id="1441" name="TextBox 6"/>
          <p:cNvSpPr/>
          <p:nvPr/>
        </p:nvSpPr>
        <p:spPr>
          <a:xfrm>
            <a:off x="2001600" y="4600440"/>
            <a:ext cx="45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«Здоровян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Прямоугольник 4"/>
          <p:cNvSpPr/>
          <p:nvPr/>
        </p:nvSpPr>
        <p:spPr>
          <a:xfrm>
            <a:off x="2286000" y="14446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, тебя сегодня слави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хотим спасибо мы сказа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о тех, кто приложил старань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заботишься, как ласковая м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шь ум и память наш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шь сравнивать, трудиться, рассужда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дбросив хитрую задачк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шь нас трудности преодолев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ас пробуждаешь, окрыляеш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настойчивыми учишь неустан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знаний жажду разжигаеш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агая неразгаданные тайн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Рисунок 6" descr="http://images.myshared.ru/4/201225/slide_5.jpg"/>
          <p:cNvPicPr/>
          <p:nvPr/>
        </p:nvPicPr>
        <p:blipFill>
          <a:blip r:embed="rId2"/>
          <a:stretch/>
        </p:blipFill>
        <p:spPr>
          <a:xfrm>
            <a:off x="0" y="0"/>
            <a:ext cx="9001080" cy="6643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62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шение квадратных уравнений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Прямоугольник 1"/>
          <p:cNvSpPr/>
          <p:nvPr/>
        </p:nvSpPr>
        <p:spPr>
          <a:xfrm>
            <a:off x="539640" y="1268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ти  устно  корни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=3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8" name="Рисунок 3" descr="http://webmg.ru/wp-content/uploads/2022/01/15-20220108_222417.jpg"/>
          <p:cNvPicPr/>
          <p:nvPr/>
        </p:nvPicPr>
        <p:blipFill>
          <a:blip r:embed="rId1"/>
          <a:stretch/>
        </p:blipFill>
        <p:spPr>
          <a:xfrm>
            <a:off x="2857680" y="3786120"/>
            <a:ext cx="2778120" cy="2411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3757680" y="260280"/>
            <a:ext cx="17366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5"/>
          <p:cNvSpPr/>
          <p:nvPr/>
        </p:nvSpPr>
        <p:spPr>
          <a:xfrm>
            <a:off x="3071880" y="714240"/>
            <a:ext cx="300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00"/>
                </a:solidFill>
                <a:latin typeface="Arial"/>
              </a:rPr>
              <a:t>6; -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2" name="Рисунок 4" descr="https://yarmarka-podarkov.ru/upload/iblock/2f1/2f1bc4698509cd5d22b2018462fa5b74.jpg"/>
          <p:cNvPicPr/>
          <p:nvPr/>
        </p:nvPicPr>
        <p:blipFill>
          <a:blip r:embed="rId1"/>
          <a:stretch/>
        </p:blipFill>
        <p:spPr>
          <a:xfrm>
            <a:off x="3000240" y="3643200"/>
            <a:ext cx="350676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670572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шение квадратных уравнений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Прямоугольник 1"/>
          <p:cNvSpPr/>
          <p:nvPr/>
        </p:nvSpPr>
        <p:spPr>
          <a:xfrm>
            <a:off x="500040" y="12859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3"/>
          <p:cNvSpPr/>
          <p:nvPr/>
        </p:nvSpPr>
        <p:spPr>
          <a:xfrm>
            <a:off x="327600" y="1571760"/>
            <a:ext cx="84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дискриминант и определить число корней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+ 3х –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6" name="Рисунок 4" descr="http://flomaster.club/uploads/posts/2022-08/1660751650_4-flomaster-club-p-kartinki-s-emotsiyami-dlya-detei-krasivo-6.jpg"/>
          <p:cNvPicPr/>
          <p:nvPr/>
        </p:nvPicPr>
        <p:blipFill>
          <a:blip r:embed="rId1"/>
          <a:srcRect l="24832" t="51281" r="49815" b="4871"/>
          <a:stretch/>
        </p:blipFill>
        <p:spPr>
          <a:xfrm>
            <a:off x="3143160" y="4214880"/>
            <a:ext cx="228600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288960" y="188640"/>
            <a:ext cx="2601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4"/>
          <p:cNvSpPr/>
          <p:nvPr/>
        </p:nvSpPr>
        <p:spPr>
          <a:xfrm>
            <a:off x="900000" y="1052640"/>
            <a:ext cx="588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Arial"/>
              </a:rPr>
              <a:t>Д=49; 2 корн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0" name="Рисунок 4" descr="https://uprostim.com/wp-content/uploads/2021/04/image037-4.png"/>
          <p:cNvPicPr/>
          <p:nvPr/>
        </p:nvPicPr>
        <p:blipFill>
          <a:blip r:embed="rId1"/>
          <a:stretch/>
        </p:blipFill>
        <p:spPr>
          <a:xfrm>
            <a:off x="3214800" y="3714840"/>
            <a:ext cx="260964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129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шение квадратных уравнений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Прямоугольник 1"/>
          <p:cNvSpPr/>
          <p:nvPr/>
        </p:nvSpPr>
        <p:spPr>
          <a:xfrm>
            <a:off x="468360" y="1268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Прямоугольник 3"/>
          <p:cNvSpPr/>
          <p:nvPr/>
        </p:nvSpPr>
        <p:spPr>
          <a:xfrm>
            <a:off x="357120" y="128592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больше решит уравнений за 5 мину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ая команда          Вторая ком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1)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+ 3x – 4 = 0 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– x – 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2)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=16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3)6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– 5x + 1 = 0          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 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+ x – 1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Рисунок 4" descr="http://flomaster.club/uploads/posts/2022-08/1660751650_4-flomaster-club-p-kartinki-s-emotsiyami-dlya-detei-krasivo-6.jpg"/>
          <p:cNvPicPr/>
          <p:nvPr/>
        </p:nvPicPr>
        <p:blipFill>
          <a:blip r:embed="rId1"/>
          <a:srcRect l="24832" t="51281" r="49815" b="4871"/>
          <a:stretch/>
        </p:blipFill>
        <p:spPr>
          <a:xfrm>
            <a:off x="3643200" y="4714920"/>
            <a:ext cx="207180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665520" y="189000"/>
            <a:ext cx="18115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Прямоугольник 1"/>
          <p:cNvSpPr/>
          <p:nvPr/>
        </p:nvSpPr>
        <p:spPr>
          <a:xfrm>
            <a:off x="324000" y="692280"/>
            <a:ext cx="86058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команда         Вторая ком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-4                         1)3,-2  2)3,-3;3) 1/3,-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5;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8" name="Рисунок 4" descr="https://yarmarka-podarkov.ru/upload/iblock/2f1/2f1bc4698509cd5d22b2018462fa5b74.jpg"/>
          <p:cNvPicPr/>
          <p:nvPr/>
        </p:nvPicPr>
        <p:blipFill>
          <a:blip r:embed="rId1"/>
          <a:stretch/>
        </p:blipFill>
        <p:spPr>
          <a:xfrm>
            <a:off x="2928960" y="3714840"/>
            <a:ext cx="3506760" cy="262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99640" y="223920"/>
            <a:ext cx="755964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гадки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Прямоугольник 1"/>
          <p:cNvSpPr/>
          <p:nvPr/>
        </p:nvSpPr>
        <p:spPr>
          <a:xfrm>
            <a:off x="1643040" y="692280"/>
            <a:ext cx="7215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 дуба, я у зуб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 слов и у цвет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прятан в темнот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не вверх, а вниз рост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 без мен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одержится и дн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– решенье уравнень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ажно, без сомнень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Рисунок 3" descr="https://klike.net/uploads/posts/2019-09/1568622622_3.jpg"/>
          <p:cNvPicPr/>
          <p:nvPr/>
        </p:nvPicPr>
        <p:blipFill>
          <a:blip r:embed="rId1"/>
          <a:stretch/>
        </p:blipFill>
        <p:spPr>
          <a:xfrm>
            <a:off x="6215040" y="285840"/>
            <a:ext cx="2722680" cy="26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090960" y="188640"/>
            <a:ext cx="29620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6"/>
          <p:cNvSpPr/>
          <p:nvPr/>
        </p:nvSpPr>
        <p:spPr>
          <a:xfrm>
            <a:off x="1187280" y="5716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Рисунок 4" descr="http://flomaster.club/uploads/posts/2022-08/1660751650_4-flomaster-club-p-kartinki-s-emotsiyami-dlya-detei-krasivo-6.jpg"/>
          <p:cNvPicPr/>
          <p:nvPr/>
        </p:nvPicPr>
        <p:blipFill>
          <a:blip r:embed="rId1"/>
          <a:srcRect l="25517" t="5554" r="50001" b="50005"/>
          <a:stretch/>
        </p:blipFill>
        <p:spPr>
          <a:xfrm>
            <a:off x="5429160" y="378612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1536" name="Рисунок 5" descr="https://uprostim.com/wp-content/uploads/2021/02/image004-29.jpg"/>
          <p:cNvPicPr/>
          <p:nvPr/>
        </p:nvPicPr>
        <p:blipFill>
          <a:blip r:embed="rId2"/>
          <a:stretch/>
        </p:blipFill>
        <p:spPr>
          <a:xfrm>
            <a:off x="285840" y="571680"/>
            <a:ext cx="3346200" cy="3044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7756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гадки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Прямоугольник 1"/>
          <p:cNvSpPr/>
          <p:nvPr/>
        </p:nvSpPr>
        <p:spPr>
          <a:xfrm>
            <a:off x="539640" y="112536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 слова «дискриминант» составить как можно больше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5" descr="C:\Users\user\Desktop\s-l400.gif"/>
          <p:cNvPicPr/>
          <p:nvPr/>
        </p:nvPicPr>
        <p:blipFill>
          <a:blip r:embed="rId1"/>
          <a:stretch/>
        </p:blipFill>
        <p:spPr>
          <a:xfrm>
            <a:off x="2428920" y="3929040"/>
            <a:ext cx="3214800" cy="256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492360" y="188640"/>
            <a:ext cx="18115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Рисунок 3" descr="http://flomaster.club/uploads/posts/2022-08/1660751650_4-flomaster-club-p-kartinki-s-emotsiyami-dlya-detei-krasivo-6.jpg"/>
          <p:cNvPicPr/>
          <p:nvPr/>
        </p:nvPicPr>
        <p:blipFill>
          <a:blip r:embed="rId1"/>
          <a:srcRect l="25517" t="5554" r="50001" b="50005"/>
          <a:stretch/>
        </p:blipFill>
        <p:spPr>
          <a:xfrm>
            <a:off x="6000840" y="3643200"/>
            <a:ext cx="2357280" cy="2286000"/>
          </a:xfrm>
          <a:prstGeom prst="rect">
            <a:avLst/>
          </a:prstGeom>
          <a:ln w="0">
            <a:noFill/>
          </a:ln>
        </p:spPr>
      </p:pic>
      <p:pic>
        <p:nvPicPr>
          <p:cNvPr id="1543" name="Рисунок 4" descr="https://uprostim.com/wp-content/uploads/2021/02/image160-19.jpg"/>
          <p:cNvPicPr/>
          <p:nvPr/>
        </p:nvPicPr>
        <p:blipFill>
          <a:blip r:embed="rId2"/>
          <a:stretch/>
        </p:blipFill>
        <p:spPr>
          <a:xfrm>
            <a:off x="642960" y="785880"/>
            <a:ext cx="3511440" cy="3044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ят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ласс зашёл – не хмурь лиц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 весёлым до конц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не зритель, и не гос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программы нашей гвозд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ломайся, не кривляй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законам подчиняйся.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се члены команд: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лянёмся, клянёмся, клянём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6" name="Рисунок 4" descr="https://fs.znanio.ru/methodology/images/31/b2/31b24eb96c3251d90b25205862a2dcd6125da046.jpg"/>
          <p:cNvPicPr/>
          <p:nvPr/>
        </p:nvPicPr>
        <p:blipFill>
          <a:blip r:embed="rId1"/>
          <a:srcRect l="79347" t="59296" r="5162" b="23490"/>
          <a:stretch/>
        </p:blipFill>
        <p:spPr>
          <a:xfrm>
            <a:off x="6357960" y="2286000"/>
            <a:ext cx="2357280" cy="2214720"/>
          </a:xfrm>
          <a:prstGeom prst="rect">
            <a:avLst/>
          </a:prstGeom>
          <a:ln w="0">
            <a:noFill/>
          </a:ln>
        </p:spPr>
      </p:pic>
      <p:pic>
        <p:nvPicPr>
          <p:cNvPr id="1447" name="Рисунок 5" descr="https://uprostim.com/wp-content/uploads/2021/04/image037-4.png"/>
          <p:cNvPicPr/>
          <p:nvPr/>
        </p:nvPicPr>
        <p:blipFill>
          <a:blip r:embed="rId2"/>
          <a:stretch/>
        </p:blipFill>
        <p:spPr>
          <a:xfrm>
            <a:off x="0" y="0"/>
            <a:ext cx="261000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гадки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рямоугольник 1"/>
          <p:cNvSpPr/>
          <p:nvPr/>
        </p:nvSpPr>
        <p:spPr>
          <a:xfrm>
            <a:off x="539640" y="1125360"/>
            <a:ext cx="6894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корни внимательней я посмотрю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ь дискриминант будет равен нулю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бе я поведаю, мой господин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в случае этом корень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Рисунок 3" descr="https://i.pinimg.com/originals/98/fe/e6/98fee66dd2eb617e4d6d6390f0556edb.jpg"/>
          <p:cNvPicPr/>
          <p:nvPr/>
        </p:nvPicPr>
        <p:blipFill>
          <a:blip r:embed="rId1"/>
          <a:stretch/>
        </p:blipFill>
        <p:spPr>
          <a:xfrm>
            <a:off x="6357960" y="285840"/>
            <a:ext cx="2571840" cy="2469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3348000" y="188640"/>
            <a:ext cx="21700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8"/>
          <p:cNvSpPr/>
          <p:nvPr/>
        </p:nvSpPr>
        <p:spPr>
          <a:xfrm>
            <a:off x="3861720" y="10018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0" name="Picture 6" descr="C:\Users\user\Desktop\159851643_w640_h640_multpersonazhi-geroi-figurki.jpg"/>
          <p:cNvPicPr/>
          <p:nvPr/>
        </p:nvPicPr>
        <p:blipFill>
          <a:blip r:embed="rId1"/>
          <a:stretch/>
        </p:blipFill>
        <p:spPr>
          <a:xfrm>
            <a:off x="2857680" y="2928960"/>
            <a:ext cx="347652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10920" y="131760"/>
            <a:ext cx="78483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гадки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142920" y="2540160"/>
            <a:ext cx="8893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Прямоугольник 1"/>
          <p:cNvSpPr/>
          <p:nvPr/>
        </p:nvSpPr>
        <p:spPr>
          <a:xfrm>
            <a:off x="250920" y="90792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в дискриминанта зна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ичество корней узнает вся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ь знак этот плюс, то излишни слов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уравненья корней ровн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Рисунок 4" descr="http://flomaster.club/uploads/posts/2022-08/1660751650_4-flomaster-club-p-kartinki-s-emotsiyami-dlya-detei-krasivo-6.jpg"/>
          <p:cNvPicPr/>
          <p:nvPr/>
        </p:nvPicPr>
        <p:blipFill>
          <a:blip r:embed="rId1"/>
          <a:srcRect l="25517" t="5554" r="50001" b="50005"/>
          <a:stretch/>
        </p:blipFill>
        <p:spPr>
          <a:xfrm>
            <a:off x="3786120" y="4286160"/>
            <a:ext cx="23576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892600" y="188640"/>
            <a:ext cx="33940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Прямоугольник 1"/>
          <p:cNvSpPr/>
          <p:nvPr/>
        </p:nvSpPr>
        <p:spPr>
          <a:xfrm>
            <a:off x="539640" y="10526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d60093"/>
                </a:solidFill>
                <a:uFillTx/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8" name="Рисунок 4" descr="https://yarmarka-podarkov.ru/upload/iblock/2f1/2f1bc4698509cd5d22b2018462fa5b74.jpg"/>
          <p:cNvPicPr/>
          <p:nvPr/>
        </p:nvPicPr>
        <p:blipFill>
          <a:blip r:embed="rId1"/>
          <a:stretch/>
        </p:blipFill>
        <p:spPr>
          <a:xfrm>
            <a:off x="2857680" y="3929040"/>
            <a:ext cx="350676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гадки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1"/>
          <p:cNvSpPr/>
          <p:nvPr/>
        </p:nvSpPr>
        <p:spPr>
          <a:xfrm>
            <a:off x="324000" y="1484280"/>
            <a:ext cx="8496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ь минус с тобою мы замечае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это обрадует даже лентя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уравненье корней …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екращается сразу решен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Рисунок 3" descr="https://i.pinimg.com/originals/98/fe/e6/98fee66dd2eb617e4d6d6390f0556edb.jpg"/>
          <p:cNvPicPr/>
          <p:nvPr/>
        </p:nvPicPr>
        <p:blipFill>
          <a:blip r:embed="rId1"/>
          <a:stretch/>
        </p:blipFill>
        <p:spPr>
          <a:xfrm>
            <a:off x="3571920" y="4500720"/>
            <a:ext cx="239868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Box 5"/>
          <p:cNvSpPr/>
          <p:nvPr/>
        </p:nvSpPr>
        <p:spPr>
          <a:xfrm>
            <a:off x="2722320" y="2000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Не имеет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Рисунок 4" descr="https://yarmarka-podarkov.ru/upload/iblock/2f1/2f1bc4698509cd5d22b2018462fa5b74.jpg"/>
          <p:cNvPicPr/>
          <p:nvPr/>
        </p:nvPicPr>
        <p:blipFill>
          <a:blip r:embed="rId1"/>
          <a:stretch/>
        </p:blipFill>
        <p:spPr>
          <a:xfrm>
            <a:off x="2857680" y="3929040"/>
            <a:ext cx="350676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213920" y="1071720"/>
            <a:ext cx="685188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иведенные и биквадратные уравнения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5"/>
          <p:cNvSpPr/>
          <p:nvPr/>
        </p:nvSpPr>
        <p:spPr>
          <a:xfrm>
            <a:off x="357120" y="1928880"/>
            <a:ext cx="842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ть под каким номерами приведенное и биквадратное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)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+ 3x – 4 = 0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)3x + 7 = 0            6) 3х +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)6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– 5x + 1 = 0         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+ x –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8" name="Рисунок 3" descr="http://flomaster.club/uploads/posts/2022-08/1660751650_4-flomaster-club-p-kartinki-s-emotsiyami-dlya-detei-krasivo-6.jpg"/>
          <p:cNvPicPr/>
          <p:nvPr/>
        </p:nvPicPr>
        <p:blipFill>
          <a:blip r:embed="rId1"/>
          <a:srcRect l="24832" t="51281" r="49815" b="4871"/>
          <a:stretch/>
        </p:blipFill>
        <p:spPr>
          <a:xfrm>
            <a:off x="3643200" y="4714920"/>
            <a:ext cx="2071800" cy="1928880"/>
          </a:xfrm>
          <a:prstGeom prst="rect">
            <a:avLst/>
          </a:prstGeom>
          <a:ln w="0">
            <a:noFill/>
          </a:ln>
        </p:spPr>
      </p:pic>
      <p:sp>
        <p:nvSpPr>
          <p:cNvPr id="1569" name="TextBox 4"/>
          <p:cNvSpPr/>
          <p:nvPr/>
        </p:nvSpPr>
        <p:spPr>
          <a:xfrm>
            <a:off x="193176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Box 5"/>
          <p:cNvSpPr/>
          <p:nvPr/>
        </p:nvSpPr>
        <p:spPr>
          <a:xfrm>
            <a:off x="421776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3492000" y="115920"/>
            <a:ext cx="30085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Рисунок 5" descr="https://fs.znanio.ru/methodology/images/31/b2/31b24eb96c3251d90b25205862a2dcd6125da046.jpg"/>
          <p:cNvPicPr/>
          <p:nvPr/>
        </p:nvPicPr>
        <p:blipFill>
          <a:blip r:embed="rId1"/>
          <a:srcRect l="78616" t="41326" r="7079" b="44216"/>
          <a:stretch/>
        </p:blipFill>
        <p:spPr>
          <a:xfrm>
            <a:off x="4714920" y="335772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1574" name="Прямоугольник 5"/>
          <p:cNvSpPr/>
          <p:nvPr/>
        </p:nvSpPr>
        <p:spPr>
          <a:xfrm>
            <a:off x="1586880" y="1357200"/>
            <a:ext cx="28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0000"/>
                </a:solidFill>
                <a:latin typeface="Arial"/>
              </a:rPr>
              <a:t>1,2,4,5,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857240" y="1285560"/>
            <a:ext cx="6346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иведенные и биквадратные уравнения 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000160" y="2714760"/>
            <a:ext cx="6748560" cy="331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орема Ви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Формул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484000" y="208080"/>
            <a:ext cx="37544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5"/>
          <p:cNvSpPr/>
          <p:nvPr/>
        </p:nvSpPr>
        <p:spPr>
          <a:xfrm>
            <a:off x="590040" y="1143000"/>
            <a:ext cx="811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мма корней приведенного квад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го уравнения ра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торому коэффициенту, взятому 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тивоположным зна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произведение корней ра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ободному член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0" name="Рисунок 3" descr="https://i.pinimg.com/originals/98/fe/e6/98fee66dd2eb617e4d6d6390f0556edb.jpg"/>
          <p:cNvPicPr/>
          <p:nvPr/>
        </p:nvPicPr>
        <p:blipFill>
          <a:blip r:embed="rId1"/>
          <a:stretch/>
        </p:blipFill>
        <p:spPr>
          <a:xfrm>
            <a:off x="6429240" y="4000680"/>
            <a:ext cx="239868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Прямоугольник 5" descr=""/>
          <p:cNvPicPr/>
          <p:nvPr/>
        </p:nvPicPr>
        <p:blipFill>
          <a:blip r:embed="rId1"/>
          <a:stretch/>
        </p:blipFill>
        <p:spPr>
          <a:xfrm>
            <a:off x="390600" y="146160"/>
            <a:ext cx="8362800" cy="2133360"/>
          </a:xfrm>
          <a:prstGeom prst="rect">
            <a:avLst/>
          </a:prstGeom>
          <a:ln w="0">
            <a:noFill/>
          </a:ln>
        </p:spPr>
      </p:pic>
      <p:pic>
        <p:nvPicPr>
          <p:cNvPr id="1449" name="Рисунок 3" descr="http://flomaster.club/uploads/posts/2022-08/1660751650_4-flomaster-club-p-kartinki-s-emotsiyami-dlya-detei-krasivo-6.jpg"/>
          <p:cNvPicPr/>
          <p:nvPr/>
        </p:nvPicPr>
        <p:blipFill>
          <a:blip r:embed="rId2"/>
          <a:srcRect l="25243" t="6572" r="50001" b="50005"/>
          <a:stretch/>
        </p:blipFill>
        <p:spPr>
          <a:xfrm>
            <a:off x="1071720" y="3643200"/>
            <a:ext cx="2928960" cy="271476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4" descr="C:\Users\user\Desktop\159851643_w640_h640_multpersonazhi-geroi-figurki.jpg"/>
          <p:cNvPicPr/>
          <p:nvPr/>
        </p:nvPicPr>
        <p:blipFill>
          <a:blip r:embed="rId3"/>
          <a:stretch/>
        </p:blipFill>
        <p:spPr>
          <a:xfrm>
            <a:off x="5000760" y="3832200"/>
            <a:ext cx="2619360" cy="2463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0" y="247032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рямоугольник 1"/>
          <p:cNvSpPr/>
          <p:nvPr/>
        </p:nvSpPr>
        <p:spPr>
          <a:xfrm>
            <a:off x="826920" y="213372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Arial"/>
              </a:rPr>
              <a:t>Формула квадратного трехчле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риведенные и биквадратные уравнения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4" name="Рисунок 3" descr="http://flomaster.club/uploads/posts/2022-08/1660751650_4-flomaster-club-p-kartinki-s-emotsiyami-dlya-detei-krasivo-6.jpg"/>
          <p:cNvPicPr/>
          <p:nvPr/>
        </p:nvPicPr>
        <p:blipFill>
          <a:blip r:embed="rId1"/>
          <a:srcRect l="24832" t="51281" r="49815" b="4871"/>
          <a:stretch/>
        </p:blipFill>
        <p:spPr>
          <a:xfrm>
            <a:off x="7072200" y="4929120"/>
            <a:ext cx="207180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325116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Box 3"/>
          <p:cNvSpPr/>
          <p:nvPr/>
        </p:nvSpPr>
        <p:spPr>
          <a:xfrm>
            <a:off x="714240" y="642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а(x - х1)(х-х2)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Рисунок 4" descr="https://uprostim.com/wp-content/uploads/2021/02/image004-29.jpg"/>
          <p:cNvPicPr/>
          <p:nvPr/>
        </p:nvPicPr>
        <p:blipFill>
          <a:blip r:embed="rId2"/>
          <a:stretch/>
        </p:blipFill>
        <p:spPr>
          <a:xfrm>
            <a:off x="2000160" y="1714680"/>
            <a:ext cx="4929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439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риведенные биквадратные уравнения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Прямоугольник 1"/>
          <p:cNvSpPr/>
          <p:nvPr/>
        </p:nvSpPr>
        <p:spPr>
          <a:xfrm>
            <a:off x="571680" y="2214720"/>
            <a:ext cx="8316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Box 3"/>
          <p:cNvSpPr/>
          <p:nvPr/>
        </p:nvSpPr>
        <p:spPr>
          <a:xfrm>
            <a:off x="536760" y="2571840"/>
            <a:ext cx="78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6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 - 10x + 9 = 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Box 4"/>
          <p:cNvSpPr/>
          <p:nvPr/>
        </p:nvSpPr>
        <p:spPr>
          <a:xfrm>
            <a:off x="3217680" y="3571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3" name="Рисунок 5" descr="https://uprostim.com/wp-content/uploads/2021/02/image018-29.jpg"/>
          <p:cNvPicPr/>
          <p:nvPr/>
        </p:nvPicPr>
        <p:blipFill>
          <a:blip r:embed="rId1"/>
          <a:stretch/>
        </p:blipFill>
        <p:spPr>
          <a:xfrm>
            <a:off x="6500880" y="4429080"/>
            <a:ext cx="218736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630440" y="260280"/>
            <a:ext cx="59148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Box 5"/>
          <p:cNvSpPr/>
          <p:nvPr/>
        </p:nvSpPr>
        <p:spPr>
          <a:xfrm>
            <a:off x="1746000" y="1071720"/>
            <a:ext cx="46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рни:  3,-3,1,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7" name="Рисунок 6" descr="https://uprostim.com/wp-content/uploads/2021/02/image036-28.jpg"/>
          <p:cNvPicPr/>
          <p:nvPr/>
        </p:nvPicPr>
        <p:blipFill>
          <a:blip r:embed="rId1"/>
          <a:stretch/>
        </p:blipFill>
        <p:spPr>
          <a:xfrm>
            <a:off x="3214800" y="3286080"/>
            <a:ext cx="4270320" cy="3044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Рисунок 3" descr="http://fotoramochki.com/fon/fon-324.jpg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596280"/>
          </a:xfrm>
          <a:prstGeom prst="rect">
            <a:avLst/>
          </a:prstGeom>
          <a:ln w="0">
            <a:noFill/>
          </a:ln>
        </p:spPr>
      </p:pic>
      <p:pic>
        <p:nvPicPr>
          <p:cNvPr id="1599" name="TextBox 4" descr=""/>
          <p:cNvPicPr/>
          <p:nvPr/>
        </p:nvPicPr>
        <p:blipFill>
          <a:blip r:embed="rId2"/>
          <a:stretch/>
        </p:blipFill>
        <p:spPr>
          <a:xfrm>
            <a:off x="1938240" y="2541600"/>
            <a:ext cx="599292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1" name=""/>
          <p:cNvGraphicFramePr/>
          <p:nvPr/>
        </p:nvGraphicFramePr>
        <p:xfrm>
          <a:off x="0" y="0"/>
          <a:ext cx="9144000" cy="7683480"/>
        </p:xfrm>
        <a:graphic>
          <a:graphicData uri="http://schemas.openxmlformats.org/drawingml/2006/table">
            <a:tbl>
              <a:tblPr/>
              <a:tblGrid>
                <a:gridCol w="2643120"/>
                <a:gridCol w="1120680"/>
                <a:gridCol w="1308240"/>
                <a:gridCol w="1382760"/>
                <a:gridCol w="1305000"/>
                <a:gridCol w="13842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Математический диктан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Решение квадратных уравнений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Математические загадк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Приведенные и биквадратные уравнения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Математический диктант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714240" y="2357280"/>
            <a:ext cx="460872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е название имеет уравнение второй степе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Рисунок 3" descr="http://flomaster.club/uploads/posts/2022-08/1660751650_4-flomaster-club-p-kartinki-s-emotsiyami-dlya-detei-krasivo-6.jpg"/>
          <p:cNvPicPr/>
          <p:nvPr/>
        </p:nvPicPr>
        <p:blipFill>
          <a:blip r:embed="rId1"/>
          <a:srcRect l="24829" t="51281" r="50692" b="6493"/>
          <a:stretch/>
        </p:blipFill>
        <p:spPr>
          <a:xfrm>
            <a:off x="5527800" y="2286000"/>
            <a:ext cx="261612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419640" y="189000"/>
            <a:ext cx="17985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AutoShape 7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Прямоугольник 1"/>
          <p:cNvSpPr/>
          <p:nvPr/>
        </p:nvSpPr>
        <p:spPr>
          <a:xfrm>
            <a:off x="250920" y="76500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Квадратно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8" name="Picture 5" descr="C:\Users\user\Desktop\159851643_w640_h640_multpersonazhi-geroi-figurki.jpg"/>
          <p:cNvPicPr/>
          <p:nvPr/>
        </p:nvPicPr>
        <p:blipFill>
          <a:blip r:embed="rId1"/>
          <a:stretch/>
        </p:blipFill>
        <p:spPr>
          <a:xfrm>
            <a:off x="2714760" y="3000240"/>
            <a:ext cx="347652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999800" y="571320"/>
            <a:ext cx="62866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Математический диктант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Прямоугольник 1"/>
          <p:cNvSpPr/>
          <p:nvPr/>
        </p:nvSpPr>
        <p:spPr>
          <a:xfrm>
            <a:off x="714240" y="1785960"/>
            <a:ext cx="61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ходится старший коэффициент в квадратном уравнени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к обозначае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1" name="Picture 5" descr="C:\Users\user\Desktop\s-l400.gif"/>
          <p:cNvPicPr/>
          <p:nvPr/>
        </p:nvPicPr>
        <p:blipFill>
          <a:blip r:embed="rId1"/>
          <a:stretch/>
        </p:blipFill>
        <p:spPr>
          <a:xfrm>
            <a:off x="2428920" y="3929040"/>
            <a:ext cx="3214800" cy="256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3436920" y="18864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7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Прямоугольник 1"/>
          <p:cNvSpPr/>
          <p:nvPr/>
        </p:nvSpPr>
        <p:spPr>
          <a:xfrm>
            <a:off x="755640" y="981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Перед Х. Обозначается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4"/>
          <p:cNvSpPr/>
          <p:nvPr/>
        </p:nvSpPr>
        <p:spPr>
          <a:xfrm>
            <a:off x="33602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6" name="Picture 6" descr="C:\Users\user\Desktop\159851643_w640_h640_multpersonazhi-geroi-figurki.jpg"/>
          <p:cNvPicPr/>
          <p:nvPr/>
        </p:nvPicPr>
        <p:blipFill>
          <a:blip r:embed="rId1"/>
          <a:stretch/>
        </p:blipFill>
        <p:spPr>
          <a:xfrm>
            <a:off x="2928960" y="2786040"/>
            <a:ext cx="3833640" cy="3606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0T04:29:36Z</dcterms:created>
  <dc:creator>1</dc:creator>
  <dc:description/>
  <dc:language>en-US</dc:language>
  <cp:lastModifiedBy>user</cp:lastModifiedBy>
  <dcterms:modified xsi:type="dcterms:W3CDTF">2024-03-24T09:55:20Z</dcterms:modified>
  <cp:revision>87</cp:revision>
  <dc:subject/>
  <dc:title>Слайд 1</dc:title>
</cp:coreProperties>
</file>