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2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</p:sldMasterIdLst>
  <p:sldIdLst>
    <p:sldId id="256" r:id="rId37"/>
    <p:sldId id="257" r:id="rId38"/>
    <p:sldId id="258" r:id="rId39"/>
    <p:sldId id="259" r:id="rId40"/>
    <p:sldId id="260" r:id="rId41"/>
    <p:sldId id="261" r:id="rId42"/>
    <p:sldId id="262" r:id="rId43"/>
    <p:sldId id="263" r:id="rId44"/>
    <p:sldId id="264" r:id="rId45"/>
    <p:sldId id="265" r:id="rId46"/>
    <p:sldId id="266" r:id="rId47"/>
    <p:sldId id="267" r:id="rId48"/>
    <p:sldId id="268" r:id="rId49"/>
    <p:sldId id="269" r:id="rId50"/>
    <p:sldId id="270" r:id="rId51"/>
    <p:sldId id="271" r:id="rId52"/>
    <p:sldId id="272" r:id="rId53"/>
    <p:sldId id="273" r:id="rId54"/>
    <p:sldId id="274" r:id="rId55"/>
    <p:sldId id="275" r:id="rId56"/>
    <p:sldId id="276" r:id="rId57"/>
    <p:sldId id="277" r:id="rId58"/>
    <p:sldId id="278" r:id="rId59"/>
    <p:sldId id="279" r:id="rId60"/>
    <p:sldId id="280" r:id="rId61"/>
    <p:sldId id="281" r:id="rId62"/>
    <p:sldId id="282" r:id="rId63"/>
    <p:sldId id="283" r:id="rId64"/>
    <p:sldId id="284" r:id="rId65"/>
    <p:sldId id="285" r:id="rId66"/>
    <p:sldId id="286" r:id="rId67"/>
    <p:sldId id="287" r:id="rId68"/>
    <p:sldId id="288" r:id="rId69"/>
    <p:sldId id="289" r:id="rId70"/>
    <p:sldId id="290" r:id="rId71"/>
    <p:sldId id="291" r:id="rId72"/>
    <p:sldId id="292" r:id="rId73"/>
    <p:sldId id="293" r:id="rId74"/>
    <p:sldId id="294" r:id="rId75"/>
    <p:sldId id="295" r:id="rId76"/>
    <p:sldId id="296" r:id="rId77"/>
    <p:sldId id="297" r:id="rId78"/>
    <p:sldId id="298" r:id="rId79"/>
    <p:sldId id="299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" Target="slides/slide1.xml"/><Relationship Id="rId38" Type="http://schemas.openxmlformats.org/officeDocument/2006/relationships/slide" Target="slides/slide2.xml"/><Relationship Id="rId39" Type="http://schemas.openxmlformats.org/officeDocument/2006/relationships/slide" Target="slides/slide3.xml"/><Relationship Id="rId40" Type="http://schemas.openxmlformats.org/officeDocument/2006/relationships/slide" Target="slides/slide4.xml"/><Relationship Id="rId41" Type="http://schemas.openxmlformats.org/officeDocument/2006/relationships/slide" Target="slides/slide5.xml"/><Relationship Id="rId42" Type="http://schemas.openxmlformats.org/officeDocument/2006/relationships/slide" Target="slides/slide6.xml"/><Relationship Id="rId43" Type="http://schemas.openxmlformats.org/officeDocument/2006/relationships/slide" Target="slides/slide7.xml"/><Relationship Id="rId44" Type="http://schemas.openxmlformats.org/officeDocument/2006/relationships/slide" Target="slides/slide8.xml"/><Relationship Id="rId45" Type="http://schemas.openxmlformats.org/officeDocument/2006/relationships/slide" Target="slides/slide9.xml"/><Relationship Id="rId46" Type="http://schemas.openxmlformats.org/officeDocument/2006/relationships/slide" Target="slides/slide10.xml"/><Relationship Id="rId47" Type="http://schemas.openxmlformats.org/officeDocument/2006/relationships/slide" Target="slides/slide11.xml"/><Relationship Id="rId48" Type="http://schemas.openxmlformats.org/officeDocument/2006/relationships/slide" Target="slides/slide12.xml"/><Relationship Id="rId49" Type="http://schemas.openxmlformats.org/officeDocument/2006/relationships/slide" Target="slides/slide13.xml"/><Relationship Id="rId50" Type="http://schemas.openxmlformats.org/officeDocument/2006/relationships/slide" Target="slides/slide14.xml"/><Relationship Id="rId51" Type="http://schemas.openxmlformats.org/officeDocument/2006/relationships/slide" Target="slides/slide15.xml"/><Relationship Id="rId52" Type="http://schemas.openxmlformats.org/officeDocument/2006/relationships/slide" Target="slides/slide16.xml"/><Relationship Id="rId53" Type="http://schemas.openxmlformats.org/officeDocument/2006/relationships/slide" Target="slides/slide17.xml"/><Relationship Id="rId54" Type="http://schemas.openxmlformats.org/officeDocument/2006/relationships/slide" Target="slides/slide18.xml"/><Relationship Id="rId55" Type="http://schemas.openxmlformats.org/officeDocument/2006/relationships/slide" Target="slides/slide19.xml"/><Relationship Id="rId56" Type="http://schemas.openxmlformats.org/officeDocument/2006/relationships/slide" Target="slides/slide20.xml"/><Relationship Id="rId57" Type="http://schemas.openxmlformats.org/officeDocument/2006/relationships/slide" Target="slides/slide21.xml"/><Relationship Id="rId58" Type="http://schemas.openxmlformats.org/officeDocument/2006/relationships/slide" Target="slides/slide22.xml"/><Relationship Id="rId59" Type="http://schemas.openxmlformats.org/officeDocument/2006/relationships/slide" Target="slides/slide23.xml"/><Relationship Id="rId60" Type="http://schemas.openxmlformats.org/officeDocument/2006/relationships/slide" Target="slides/slide24.xml"/><Relationship Id="rId61" Type="http://schemas.openxmlformats.org/officeDocument/2006/relationships/slide" Target="slides/slide25.xml"/><Relationship Id="rId62" Type="http://schemas.openxmlformats.org/officeDocument/2006/relationships/slide" Target="slides/slide26.xml"/><Relationship Id="rId63" Type="http://schemas.openxmlformats.org/officeDocument/2006/relationships/slide" Target="slides/slide27.xml"/><Relationship Id="rId64" Type="http://schemas.openxmlformats.org/officeDocument/2006/relationships/slide" Target="slides/slide28.xml"/><Relationship Id="rId65" Type="http://schemas.openxmlformats.org/officeDocument/2006/relationships/slide" Target="slides/slide29.xml"/><Relationship Id="rId66" Type="http://schemas.openxmlformats.org/officeDocument/2006/relationships/slide" Target="slides/slide30.xml"/><Relationship Id="rId67" Type="http://schemas.openxmlformats.org/officeDocument/2006/relationships/slide" Target="slides/slide31.xml"/><Relationship Id="rId68" Type="http://schemas.openxmlformats.org/officeDocument/2006/relationships/slide" Target="slides/slide32.xml"/><Relationship Id="rId69" Type="http://schemas.openxmlformats.org/officeDocument/2006/relationships/slide" Target="slides/slide33.xml"/><Relationship Id="rId70" Type="http://schemas.openxmlformats.org/officeDocument/2006/relationships/slide" Target="slides/slide34.xml"/><Relationship Id="rId71" Type="http://schemas.openxmlformats.org/officeDocument/2006/relationships/slide" Target="slides/slide35.xml"/><Relationship Id="rId72" Type="http://schemas.openxmlformats.org/officeDocument/2006/relationships/slide" Target="slides/slide36.xml"/><Relationship Id="rId73" Type="http://schemas.openxmlformats.org/officeDocument/2006/relationships/slide" Target="slides/slide37.xml"/><Relationship Id="rId74" Type="http://schemas.openxmlformats.org/officeDocument/2006/relationships/slide" Target="slides/slide38.xml"/><Relationship Id="rId75" Type="http://schemas.openxmlformats.org/officeDocument/2006/relationships/slide" Target="slides/slide39.xml"/><Relationship Id="rId76" Type="http://schemas.openxmlformats.org/officeDocument/2006/relationships/slide" Target="slides/slide40.xml"/><Relationship Id="rId77" Type="http://schemas.openxmlformats.org/officeDocument/2006/relationships/slide" Target="slides/slide41.xml"/><Relationship Id="rId78" Type="http://schemas.openxmlformats.org/officeDocument/2006/relationships/slide" Target="slides/slide42.xml"/><Relationship Id="rId79" Type="http://schemas.openxmlformats.org/officeDocument/2006/relationships/slide" Target="slides/slide43.xml"/><Relationship Id="rId80" Type="http://schemas.openxmlformats.org/officeDocument/2006/relationships/slide" Target="slides/slide44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AFCC-552A-43A2-A778-F26FFB6A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B674-9884-4400-A3B0-907E6775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4B12E-A904-42C4-BBFF-06AF9097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25305-05D0-4F30-AF9B-B2527E55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B95C0-E893-43E0-8BEB-220EB996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AD745-9255-404F-9BC6-2E0B6AF7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B8FA4-2A32-431F-99E5-4947E9C2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5E461-1DA7-4EF4-BB57-36DE13DE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DCD7D-12FC-4746-AB3E-852380C3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64F69-5E38-4D19-A5FA-96B6DA65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55726-F74B-4898-B704-1C7BC18B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4DB8B-95D7-43D2-973D-225BB9C9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4E31-C5DD-4E2C-AFFD-AC77F6A7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4BD11-490B-43EF-968D-DDC77B6F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74E09-0247-4DE1-BA1F-FA4B5512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51F40-D953-49C8-BBC2-1B94D548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52F46-9DE9-4C6F-940F-A6BC6050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6B538-1FAA-42AD-A4CD-5FE6C4F0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B7F19-EED9-41BB-BA5F-F822BA6F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100C7-19EE-4374-98DD-45D54322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CBC89-2F7C-45E0-9F38-0E99998B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3A22F-F95F-4006-AC88-9FBF759E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AD800-17D5-44FC-BA95-69FF41EC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7294-D139-47AE-9530-F78A5852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A7A80-7FEE-4A11-B3B6-6DD10B86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281E0-6DBB-4D61-A7A8-48893F20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6CED6-2DB2-4259-B6B4-00A4CFAC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CC39B-E223-40D8-8966-431F5497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332F3-866C-48E4-863C-F7A9F2A7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226A6-F0BE-4B04-8156-02C18755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D81DB-0843-419A-9369-350E3633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E15EA-1B88-45DF-81FF-3CF47C94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B72CE-176E-41A7-B0D3-89404869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C6AA5-1C26-49DB-A724-B565F7F7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BD63-8AF0-4CAE-82B2-7D62E576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8165F-A5D1-493A-90D9-87C0DDD3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BB3D5-D702-42B4-9F3A-D2AA89B1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E49E1-1460-4323-9421-D5FA21DD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95286-68F5-4A3B-A506-CF75DD1D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4F192-45DC-478F-B96F-949C6AFC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E0723-5D2F-4382-8669-92CE6E2F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7361A-9A5A-4B7C-A9F4-9688CE1D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4D802-F5A2-451F-9ADF-1BA24A4A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E1E63-D8FA-45C3-B9F7-A6C2DCD7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06258-FC1D-4481-BE57-F1B5AFB7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501B-D4D6-4FA2-AEC6-19087F4E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E4B08-B4ED-4B01-AA7B-4CF165E5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5F13E-5ABD-4223-BD36-06CF7A41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0FF15-71E1-4162-BE6F-0DC88333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A599D-4957-4CEF-913A-38A25626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04848-292D-4F54-9650-47734AED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E0E42D-A459-49F0-B1BD-7CCC5EC7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885FB-3E79-439F-BB22-091EED1C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72ECE1-1380-4EF0-B96B-EB0EAAED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05665A-43B3-46B4-B401-693D4E7E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8A3D2-92EA-41FF-A905-DF9CC78B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3F44-B8FC-48A0-B8BF-D4299F9F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7A3CD0-7739-4492-9439-9602D817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7684F9-0BDD-4F31-8B67-0BB668F6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35AA9-35D2-4F80-A1B9-322341C0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09922-2F95-4CC5-8D10-6495C9DB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58FD7F-3AAD-4CD2-9401-44395BE8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B149A-1774-44D1-9027-7FB4FD7E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950EC7-E10A-4FE0-9CE0-43E799BD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F8E971-556F-4F45-A79F-38B56BFA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52249C-61BC-4D7D-8546-F825DB0B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D10A7-B2CE-409A-A24C-89EB1588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E3C3-C899-452D-BC06-C3A0BFA6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46EBC4-5F64-451D-977A-E76EC731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60369E-EB32-4FD3-A8BA-DF9D4CC7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05F4C3-F393-4422-A394-2EBD727D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BB0054-09F4-46A9-AD48-21520DE4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05ECE8-86D1-42C0-8627-BEC1E484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4A9E09-D459-4012-94D5-F6A0A41E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C6456F-542F-4AE2-ADF5-FBE04801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CDC612-9A33-45B3-8585-2539058F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2A3470-3EA6-46F2-B08C-6BC25320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99CC73-CB6B-4923-9D13-BB051FD3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7012-A0EE-43E9-9D42-611236DF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98AE8D-C443-412B-A12C-3567B4A5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2F45E5-DC79-41C8-A0D5-431FC59C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445AD2-489A-40AA-9C7E-E79DB8A7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1225AC-278A-4816-B06B-971D0A35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56F767-4D90-4AE7-92C8-0DAF6909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632377-EF5D-4870-A85D-567C621A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EDA86D-7942-42DD-9412-204AFEDE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2C4E2B-D77E-4EF4-BE7B-FF9F8AF3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554597-895C-49C6-9B06-C2C1CB1F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2443F8-289F-4E28-86AB-C4B97828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8DBE-0D4B-495B-8F72-5F85F371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392B85-D081-46B1-BF54-0976845B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F8BDA5-FF87-44FB-8EED-AD7E0098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A7263B-BF47-4278-9B62-BFE34CF9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1FDB75-8234-4E4A-BF20-FC0FBC80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F85E9C-9BED-4994-9436-4A6BA723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401C48-DB39-4770-97C7-FA40E362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C5983F-05B9-4687-B083-36EDC3C4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068021-F4E5-4EC3-8654-1FD6CF9E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0F4AAA-F15E-4907-A425-65A41562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A33833-A6E2-4FAE-9FAB-02AE55EC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E222-4BB3-4CC3-8783-994B1F83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40FD10-4348-4E4C-9D9E-430AC716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1FDCA3-1754-47E2-8E45-F7C097E1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7E5888-2510-4200-9B20-81F1E687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C04764-338E-44D1-8957-B41C821E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88FF41-4E46-47FF-87C7-2AD420FF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9D1BE4-751D-44D0-AA7C-6A2DE5C3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08DB01-45BF-4C78-BF66-C222C9F1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77ADC2-BD64-4520-B8E2-1CCEB25F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703C5F-C1DC-42CB-8C3E-BF4FC8E5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684B06-3F8D-4F84-B133-6176D15A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1889-40EE-43CA-905B-7EF40E20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F5D2-7E91-48A3-99AB-15D60B9D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498012-7D01-40A6-B577-A22C0D71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1ADD83-596F-4B86-9A23-BEEA8812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3557EE-941F-4163-B7DB-AE8B10CC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ABF53C-92D7-4B56-9EC1-7255CF33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FD6DF8-97A3-46EB-88FD-DEA6BB45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E35FF0-66D1-48FB-BF51-B93812BC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F6AB53-3E2D-4C80-AA9E-5515492A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43366F-F5B3-4E87-9A1F-2DA60841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C7075A-36FE-42CC-BED2-6A5EE622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E4F9F3-AFC3-45AB-B0C0-8B059B61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D169-A3CF-463F-AEDA-EFB1D804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DC4BE8-9336-47EC-BDED-B60FCE58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650579-E012-4FC0-915B-96A0629D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DC7E63-EFED-4101-A2AB-E3DE5EAF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221862-4412-4EC6-B2FC-B2DCE5F4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687D98-775E-4AA5-8431-3510CEFF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759911-9707-4F83-8256-E2FE63B6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080B76-9711-4199-AE77-D4A46705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D13111-7082-4833-8BD2-D831C291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33BC75-1698-40BD-9FD0-D1377895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44EA08-A5F6-4CE3-A1B8-69CF669A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B0DF-3EF1-4BC7-A0C4-9E48A144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DDEEF2-E3C3-460D-9B35-1F565C58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FE4F8B-A7CE-4EED-AC53-EF54B3B4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94296B-4087-492A-B44F-E9439114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028013-7E83-4654-B6C1-4EB8CC07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C589F1-818A-4999-B9DC-C1B84106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9CBA49-77E5-448C-91C6-5A4DE9DD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D61B60-89D2-4E82-A256-46C09A65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6105DD-E324-4482-853E-1E386F02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EA9883-6089-4612-9924-6629DCAD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7D80BC-5EA6-4461-8505-CCB6A53D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074D-A47B-4CF0-BEFB-C2A775BC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73FCDB-A08B-4292-926D-013A64A5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28BF33-C680-45EB-8168-E41F5674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AB14E8-3DBB-4A8B-983D-3C8C9303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DC2CAB-86C6-41AC-8183-0BB8C2A4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2FEE57-13E8-4C15-8BF4-A651E2FC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3D6893-EEC8-47A0-A19A-8A3F03A5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4D05A2-01CB-408C-B67B-A77736C1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A81256-E6FA-4AE0-BF05-A4E04872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2EBB79-5AEC-4395-895A-0DE9F7A7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A40193-AF32-46C6-AB0B-1F1F4145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8AFD-7E40-460E-A163-D822ECBA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77E6EC-2887-4B24-9927-E1C1ECC3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3EFABB-E3E0-414D-941F-241B9498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B03D96-5A27-4D9F-B679-38328744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8D105C-6593-4DF8-A64A-177D5861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78975E-7899-463A-8287-E22A4C85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A390CB-6F2F-4D21-AAF3-060CE709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85C91D-E650-4A5E-B958-A0642415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AAAE0D-C3CB-4A39-8FF1-D4FCD038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5D4DFF-B4CB-4AF7-8F97-903E56BA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084DD6-EDBE-4FA0-8A94-24871ACA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BCF93-5A63-476B-9FFE-8C865FEF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5B2143-FEE7-4505-A69F-997A1E22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7DA910-D14B-4A5B-BE54-B4FA3843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91EF56-8448-4906-80F8-20610343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94840D-225F-4C19-B696-BA2CCB72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27527D-4037-4F66-9A0F-4C384F19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6B5409-DD21-4C44-9CE6-EFB8CC94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C035F4-157F-465A-950E-E23D711F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D8D676-8600-41A7-A4B0-D27EEAC5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FE28F6-335C-4755-9D44-46273D2C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075735-CCEF-4723-A654-F07A311A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53AD4-B01B-45E5-96BD-964FF600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5A3DB0-A630-4E8C-BBFD-E9E710BB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F5CFCD-3F6B-4B22-9D42-B8C97753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5565F7-6BFF-4BE2-9F9C-33E4B403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D0228C-9E20-4C47-B72A-6E4A3C48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D3491C-219A-407A-A321-7D400C23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4D3CC6-D6D1-4117-AD66-AAE740DB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2A44FF-2040-4CB7-A010-1A9696BF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2837AD-A6CE-49AE-BFAD-04980BD0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5F3FBF-95AF-4451-BFCD-C9B61CB9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D656F8-0D96-45C1-BF3C-152F25DC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EEC11-6056-4C0B-B287-D795D0F5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362E49-89B7-445C-A24A-B1C6B41C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CF9CB6-B14D-4E7D-8827-3060535A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0E790C-CCC9-46F6-A1CE-6641D623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C21BA4-2EFB-4155-9712-E7237E9B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48D27E-7FE2-4E1B-A3AB-F9237F25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10A56D-9CAE-41F4-A017-C0C03F60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E4F7FB-4C32-4D01-B372-F9DA4781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61353F-F033-4F4E-A890-0C68AEE1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DD59B3-E789-4381-972E-9E0C2073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C45576-80BB-49FB-8502-61945725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13B07-2B57-41CA-9DD1-DE0EAE0C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40E237-2A49-4093-AD64-C0081B87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443EE9-4079-4802-87B9-52C41DA1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B1E5A7-CF8E-4487-9949-F0670A31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27E8E3-C385-404F-B543-693BDD07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2EB2BD-E549-4B43-BBD7-CD329B12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99E4F7-12A0-442F-8153-A9051BDF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9C330C-35B9-4B5C-A3AC-8BB458CC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088ED2-14C4-4B90-8EBE-C2337C6D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C760FF-0005-42F6-B27A-2A5B7AAA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4E153F-2911-4A0E-91C5-66253E45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7076D-F7A1-406A-A325-41B9C8D8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662FCC-B1A6-404E-946C-788E94D7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813533-217B-451C-A6CB-922140CA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CEE4FE-45E0-492F-AACF-2D23F0A3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EE1786-B95F-4204-85AA-7C7C9E72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333660-7130-46CB-92B9-23A534DA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2448CA-28F9-4CF7-B3C8-01CF5514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9B4D5E-EEB2-4FC8-9F24-50AF933B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5B7B3A-69E6-4EEF-865E-8D25714B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BB6DA8-7A5B-48B2-8478-BF4485C2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E698D2-4F01-4A68-B0D8-4999E3BC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B4C5-D595-44C7-B028-F3601BF6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4BEA7-FDC2-45B8-8E60-BAB55ED3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5DA403-7C9E-4336-97D7-A71CA01A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240884-6095-4F31-9035-5D894173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E05A7F-152F-4122-8CDC-8C6EDE34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DECEE9-DCB4-4A81-BF89-8736F7B9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282521-53E0-48B5-A913-D53F6720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11DF17-2E8F-41FD-87AE-910BAFE6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C37F8A-84EC-435C-BCDA-878CF1BD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5C0C56-55B2-4E55-A99F-CF0BF54A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69AE82-EC26-4B56-8118-9BAD3F6A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4BF402-EDB6-473E-867D-E8EB74AA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36CEA-18C9-45C7-9A5C-1F5B67C9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144F40-EC78-4D5E-A298-6DAF1821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7BA0DC-A4ED-43DD-9C52-89771FF5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CD2D97-D0E2-4F9D-B9FD-BF0E1731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53126C-2CF8-45A6-AD75-96D2B143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B8A98F-331C-4034-BEF1-AF6C7D2B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313175-4B45-4AC8-B0FC-8086FBEA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B5CC7F-5DD7-4FFC-AE19-CDD1341A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915B69-8A9F-46A8-B856-F2003FEB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9B4573-B821-4B5C-913B-0B897CC6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05ED77-2241-48A3-805D-4DEBC3A8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892A4-FC55-4F05-8E0E-2FCCF00B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259664-9DA1-4C88-9F8B-9F479687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2B4B3B-B2F1-422A-BD0C-C6A259BF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D1F5EB-A5D1-43FE-B3E6-37451073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66A979-B086-48D1-902F-7403F96A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2AB3C1-CED9-4739-AEBA-E7DE3750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0157C6-E36A-4B8D-9EEA-F32C8029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447212-C3E0-44FA-BF53-4A9EF390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FED7D4-0091-42FC-8EEC-3C0ECEED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6C3BDB-6818-4F76-BDEF-FD4AED3B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799D3D-22A4-4C4E-A1D8-FDD82D13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312AE-39E8-49CD-A1BF-B5B595E8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44F2DB-4388-4F6B-BDBE-44204C0B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5C56AA-19B5-41F6-A8AA-C8A4DCFB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6ABDFA-F2FC-44D7-A0D3-3030D2B5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697749-D7C4-414F-A094-87A757E4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A4AD0C-1BAB-4C68-8C11-D5AC8968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1E0300-B3EB-4B66-959B-64955830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44DF65-9EE2-4375-BA05-9C0F2A0C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D793E3-9E7F-4B7B-8C2B-95FBB615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2B917D-C314-4037-95A6-4243C8E3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203187-6B74-4AA2-89DD-1530D632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642A9-5845-40E9-A762-50A05A85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3FF445-F530-4B7F-8D32-B1CA8589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2B5173-44B4-4B61-9888-7336E019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FB99BF-9D9B-46AD-893E-AF937AB9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937F27-5592-4CEC-9075-450882AA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6F0879-AE1A-48C2-9EDE-3A76691E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445568-67A8-45E0-B0BF-CEECE006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BED0D3-2E39-4C79-9D45-8EDED5A3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56F0CF-4ECE-49B7-87FA-175082DB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9BA17B-7F79-4629-8D2C-7B99A6AC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427594-C9A0-470E-8FDF-8A44DDF0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DADCC-FB6C-4C20-A2ED-F38BFDD3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46ABB0-675D-4305-9106-ECFD76C7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37837F-3D6E-4344-8434-0CA59572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AE878C-7594-444F-983D-AF1AC06E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24ED8A-96F9-4139-8497-5BA0C8DA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E24083-332D-4EB8-A357-8E28BF7E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FF41AD-8080-4566-AB31-6042E437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BF448E-DCE4-482C-BD06-0C77A5E5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3A6784-7751-4768-84AD-0DC15264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D55431-985F-453A-967D-42BA1D6D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967831-7A16-452C-8B83-DB12D4A4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BF191-7D6E-4C4F-A8AE-468EBDB5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BFC94D-D9AD-4110-B29D-7C939250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DD6018-5261-4316-B05C-C5242172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D53BA8-67AD-4D74-902B-754DBA2C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0E62C16-DC8D-4C7F-A225-F5B85DF7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079E0B-F165-4D22-B25E-8E6F4163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7A9056-55F7-408D-BB44-853BFF05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8AE022-6DA9-459A-8172-FA231D7F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5ECAD1-009C-4003-9416-6D630A53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FFD51F-E677-4653-9EAE-CB7C122C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867DE8-51D9-4D70-B76A-61D245C3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0D7AC-A5CD-4394-A342-2FC99DC2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0635F7-145E-4A22-B812-9FF4F028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2C5BAE-61DC-4CD7-9E44-FDB34A6B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CB9267-F223-4380-87B0-EAD66B7A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73E68F4-AF05-44A9-9D64-F634021B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F50A77A-2170-4C3D-951F-A0DEDF85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B40FAA-F8D8-4FEB-AFAA-DF08BE47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C4261E5-3A5D-4498-80D6-E521BED9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4CCA751-4753-4965-BE29-F85FBB14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689E9C0-4198-4EE7-9A7E-17364009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3859C5D-BDD8-4B0A-8891-8F75B1B7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67E03-EEA1-4137-A324-2F62352E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6434F2-EEF9-4C62-9A1B-C6DCEFD5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E6720F5-91CB-4884-B82F-9FF94EC7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D90D323-98DB-4061-AEED-776C558C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2D7AF12-706C-406D-AD6F-B54D56D0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67EE6B4-F7AD-4CCC-9B29-6C325D6E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5B78108-5373-4168-A09A-D4E7E0F5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7E54D5B-1AB7-47EB-BE54-C0A24E46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32F916F-C319-4366-9B5A-70BD35A8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38D04B-2D1A-4B6E-9746-CEA4595D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C9AAC8D-7835-4A17-ABF7-AE4C08C9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F0FF8-60F5-4617-B053-964BDAB3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81B7338-1C82-4829-85BC-D5B92D9C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7D8A2B-D1FD-4500-A29B-560FBE03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26A1BB0-8DA6-4DCD-95D3-102D3054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B3B150A-9E69-475A-9B1B-61BA055C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10CF4E0-E203-4635-BD23-7352EA05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941F764-0936-4725-9D29-DEAF6A0D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E724C05-2401-4CAC-8B36-70E24B2B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00A59F-BBF6-4C86-8E6B-6D3C198A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0C85764-3E09-4092-BFE2-D36EABF3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DFECC13-E9BF-4358-A77C-668E7A3C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C06B-C1F2-4267-AD3F-26144C43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1A73E-D7B0-4D28-A941-0114AE00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4C63206-DDBE-4738-B10A-3D348EC6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C5121E8-22AB-4FB7-B144-F20C3756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7E8F5B2-9798-434C-A500-438915C5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16308AD-E17E-42D4-A3AC-A5D8728C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67B2845-25F4-4326-9E7D-D1C3E2C2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739760B-D04D-4CD6-9E5E-54011EE4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9A2B84B-480F-43D5-A2FA-0C123E49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918DE53-A1E9-4EB6-9BF8-A0139393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8442CB-0DE0-429E-9B7A-C8809FDE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30031CE-0790-4019-A169-1D044A18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A901B-C0B5-407F-9857-6E353659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167A0F9-1CA2-495B-AA8D-8713AB7E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9808A15-5EB2-4EF5-97EE-0450E669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5F801FC-281E-4D85-BE61-1628F726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4C12DBB-3BA7-45C7-A689-5831EAD0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FC89512-7E49-43CF-BEB6-0A80A99A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E9A8D71-3299-43C7-AB98-B13CF972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9489AF3-EA00-4B94-B951-5D83D4B4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55F8242-8773-463C-A2E3-9BBF3C4D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39BBC06-CAB6-4205-9002-23788CCF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1B911CF-9D24-455A-A073-5920506E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51F78-BEB9-4244-86AC-AFE9F273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AE4D160-6C42-40AC-BF25-8A8951A5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240FD-5578-4A6D-AF6D-ECB0074B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2D138-F23B-44FA-95A5-DF3EF1F2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FE4EA-A19B-47C6-AA7A-49CE1603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B45C5-CB56-4BCB-AE67-2380ED6E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9838C-0C85-4A66-8EB5-42CF1916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E6819-3EBC-4154-87BB-8E4ACB8E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3623B-2E40-46B4-BDEF-18F77FF5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2B6B-9482-4C5F-ABBE-BA807236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4690F-0786-424B-835E-7FD562A2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A857C-5516-43BD-BA24-7BECAB9F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F6C07-C45F-4CF8-81B1-B22D73FF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CA0D8-C7DA-4D82-83D7-86D1C7C4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BF3A3-4A4B-4938-8654-AE08CDA1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2AFD8-86F4-4463-985E-0A3CBCF7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3DDCA-29EB-47A7-B6C0-DD353BCB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B6C1B-4E81-4B0F-8C85-1BA92F6A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57DF8-5B29-4EB9-9A83-D0C3DAF5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47C81-80A4-42D3-A121-62788AC8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B2C5-499C-41BD-A889-1C6E0EB7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518A1-A1CA-4A88-B9D2-97CA298E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0EEAF-3297-48AE-B024-C16508DE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54E19-3D55-4DDF-9E81-B5E6E9F6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4459E-2E06-4DB3-82C3-9AFB1667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7539F-D7E8-4359-B458-7C51F18D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B5A2E-F72E-4479-9AD8-A910C5B5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2A57C-84A3-4928-96AE-638C27CA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50166-9E11-4E61-8815-0A449A6B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96480-F416-44B5-BAEA-5CC9F1A1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CA5F0-91E1-4661-9034-F14AD432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24D-7D99-46DA-9F2C-E1A82151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0A2DB-FA17-4DDA-9B83-7B64F687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18FBD-DF50-46A4-9442-6ADF4BAB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8F8E1-8557-4D24-A1FE-C216B578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13F42-7AA2-400A-82AB-4B85E421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35E66-1430-4071-96C2-2DC16BEB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869A0-BA6B-4DD9-85A2-73D50F92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4D056-94C2-4675-9EA3-563FAF5A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BD3D1-8C69-4A39-A0C3-04F3311D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00F27-4330-401C-9617-E9D3BB23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EFC92-2DEB-4E18-8685-E6B4E178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0FC8-77CF-497B-A06C-5D8C741C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AE7BB-6965-4544-9B60-88932240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E5604-1C02-49A0-8E56-E7792809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F4B47-976E-402B-AB8A-FA02C443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36A25-E82B-497A-BB6F-CB3C9FF4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15BE9-4CE3-4E54-8FF0-8E2E1D43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C2C8B-C14A-4883-B4B2-1FB8A713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D391B-C926-427A-B0C8-BD1D70DC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A898A-E85B-47E3-AF39-4C4B874D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00FAA-E287-476A-8FD1-1273B83C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A064F-1356-4647-9902-4FCDD056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ABCB-601E-4945-BA03-24012627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66E5B-7E42-4ACD-9FFA-8625433E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CA596-E27C-4F59-8324-CCDFE7FD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ECB53-C17C-4B85-8F44-4D36B637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A3851-D327-4D3E-9962-ECE86A59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07662-393E-4210-9A39-12CBB282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4EE53-C5DE-4AFA-9447-4430F459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A673D-E44C-4B2D-836A-174D339B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23A63-4069-4D78-B62C-9484FCF1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44F56-95B2-4D85-9495-9A0755AB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765B9-F4DE-4BD6-AB2B-5ACC08F7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4576-A435-4059-A858-B3AE2F4D21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6DD6-FA62-4DC2-8BE9-0839806FB5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2D93-31E1-40DE-866C-8C46B7DC1E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B429-13DF-4041-947D-DEEEB70059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2042-0D8C-4A4B-B376-A6D2D57D88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9DAD-57D7-4B23-9847-028D96DEC0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AA69-CC2A-4662-8864-FF16BC22ED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54A8-EA2A-4220-BAE6-EE30654B96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0822-29AC-432A-9801-C022E6C0DF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7CED-A1D4-4332-B9F0-679091DF93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9D7D-18B0-4C37-B7A4-1323232E92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60F0-18E1-4083-9290-4D85A8BC5B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D6DF-89CF-4D26-A426-19CC8EE70A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5505-A23D-47A7-8A76-271B6CBB25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458F-A0CA-4439-9750-B879819D01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4D85-E359-4121-B8BE-440E5C900C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190F-2389-4B83-8B7B-F43B92B25C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DD93-7BC9-480E-974E-061EF6B043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6928-4B3C-4288-B9FF-4970B6F8DF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5D6D-804A-499A-8AB7-3C0282C6A4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CE7C-37DA-4D97-A28A-EA47C682A6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76B5-F908-456C-8C48-890EABE0E4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4AFA-C18C-475C-82C3-B018ED03A3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5C38-BF94-49C9-847E-D0B074E3BB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8A85-3786-4314-B49E-EE381CD93F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19FA-1917-421C-9979-4A80D9FC51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BAEC-B64F-4D48-A375-C01AC92735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818B-788E-4ED7-880B-B8417E16BF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14E8-E78D-414E-980E-8F1835881B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321D-CDB6-4681-85B9-6998AF6E6C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FD8F-B5A1-40E6-821B-13798820C5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8653-6272-48FF-8B7C-632E6FC141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7EE9-CFA3-485C-8577-651CDC0406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82A1-103B-4923-A837-C053FBBE50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6954-3280-4D08-BAFF-9AD97A662A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0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0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0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4.xml"/><Relationship Id="rId11" Type="http://schemas.openxmlformats.org/officeDocument/2006/relationships/slide" Target="slide26.xml"/><Relationship Id="rId12" Type="http://schemas.openxmlformats.org/officeDocument/2006/relationships/slide" Target="slide28.xml"/><Relationship Id="rId13" Type="http://schemas.openxmlformats.org/officeDocument/2006/relationships/slide" Target="slide30.xml"/><Relationship Id="rId14" Type="http://schemas.openxmlformats.org/officeDocument/2006/relationships/slide" Target="slide32.xml"/><Relationship Id="rId15" Type="http://schemas.openxmlformats.org/officeDocument/2006/relationships/slide" Target="slide34.xml"/><Relationship Id="rId16" Type="http://schemas.openxmlformats.org/officeDocument/2006/relationships/slide" Target="slide36.xml"/><Relationship Id="rId17" Type="http://schemas.openxmlformats.org/officeDocument/2006/relationships/slide" Target="slide38.xml"/><Relationship Id="rId18" Type="http://schemas.openxmlformats.org/officeDocument/2006/relationships/slide" Target="slide40.xml"/><Relationship Id="rId19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e937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69880" y="189000"/>
            <a:ext cx="82296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вторительно – обобщающий ур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6" name="Прямоугольник 8" descr=""/>
          <p:cNvPicPr/>
          <p:nvPr/>
        </p:nvPicPr>
        <p:blipFill>
          <a:blip r:embed="rId1"/>
          <a:stretch/>
        </p:blipFill>
        <p:spPr>
          <a:xfrm>
            <a:off x="5254560" y="5327640"/>
            <a:ext cx="3743280" cy="1103400"/>
          </a:xfrm>
          <a:prstGeom prst="rect">
            <a:avLst/>
          </a:prstGeom>
          <a:ln w="0">
            <a:noFill/>
          </a:ln>
        </p:spPr>
      </p:pic>
      <p:sp>
        <p:nvSpPr>
          <p:cNvPr id="1437" name="WordArt 8"/>
          <p:cNvSpPr txBox="1"/>
          <p:nvPr/>
        </p:nvSpPr>
        <p:spPr>
          <a:xfrm>
            <a:off x="1214280" y="1214280"/>
            <a:ext cx="69138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00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вадратные уравнения!</a:t>
            </a:r>
            <a:endParaRPr b="0" lang="en-US" sz="1800" spc="1" strike="noStrike">
              <a:ln w="25560">
                <a:solidFill>
                  <a:srgbClr val="9900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8" name="TextBox 4"/>
          <p:cNvSpPr/>
          <p:nvPr/>
        </p:nvSpPr>
        <p:spPr>
          <a:xfrm>
            <a:off x="4929120" y="4714920"/>
            <a:ext cx="344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ал учитель физик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болотных З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928520" y="714240"/>
            <a:ext cx="5483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Математический диктант 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Box 4"/>
          <p:cNvSpPr/>
          <p:nvPr/>
        </p:nvSpPr>
        <p:spPr>
          <a:xfrm>
            <a:off x="1798560" y="2500200"/>
            <a:ext cx="586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ула для вычис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искриминанта ! Словам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9" name="Рисунок 3" descr="https://uprostim.com/wp-content/uploads/2021/04/image037-4.png"/>
          <p:cNvPicPr/>
          <p:nvPr/>
        </p:nvPicPr>
        <p:blipFill>
          <a:blip r:embed="rId1"/>
          <a:stretch/>
        </p:blipFill>
        <p:spPr>
          <a:xfrm>
            <a:off x="3500280" y="4572000"/>
            <a:ext cx="2610000" cy="173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3348000" y="333000"/>
            <a:ext cx="23846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Box 17"/>
          <p:cNvSpPr/>
          <p:nvPr/>
        </p:nvSpPr>
        <p:spPr>
          <a:xfrm>
            <a:off x="678600" y="1214280"/>
            <a:ext cx="760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криминант равен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у второго коэффициента мину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едение 4 на  первый коэффициент 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вободный коэффици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3" name="Picture 5" descr="C:\Users\user\Desktop\159851643_w640_h640_multpersonazhi-geroi-figurki.jpg"/>
          <p:cNvPicPr/>
          <p:nvPr/>
        </p:nvPicPr>
        <p:blipFill>
          <a:blip r:embed="rId1"/>
          <a:stretch/>
        </p:blipFill>
        <p:spPr>
          <a:xfrm>
            <a:off x="3500280" y="3857760"/>
            <a:ext cx="2895840" cy="2724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2071800" y="714240"/>
            <a:ext cx="51940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Математический диктант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Прямоугольник 1"/>
          <p:cNvSpPr/>
          <p:nvPr/>
        </p:nvSpPr>
        <p:spPr>
          <a:xfrm>
            <a:off x="571680" y="29289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1)ах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+вх+с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Прямоугольник 5"/>
          <p:cNvSpPr/>
          <p:nvPr/>
        </p:nvSpPr>
        <p:spPr>
          <a:xfrm>
            <a:off x="2286000" y="2967120"/>
            <a:ext cx="66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)ax+c=0;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     3)ax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+x=0; 4)ax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+x=0;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TextBox 6"/>
          <p:cNvSpPr/>
          <p:nvPr/>
        </p:nvSpPr>
        <p:spPr>
          <a:xfrm>
            <a:off x="371520" y="1928880"/>
            <a:ext cx="76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ть номера квадратных у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8" name="Рисунок 5" descr="https://uprostim.com/wp-content/uploads/2021/04/image037-4.png"/>
          <p:cNvPicPr/>
          <p:nvPr/>
        </p:nvPicPr>
        <p:blipFill>
          <a:blip r:embed="rId1"/>
          <a:stretch/>
        </p:blipFill>
        <p:spPr>
          <a:xfrm>
            <a:off x="3500280" y="4357800"/>
            <a:ext cx="2610000" cy="173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419280" y="188640"/>
            <a:ext cx="18824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Rectangle 5"/>
          <p:cNvSpPr/>
          <p:nvPr/>
        </p:nvSpPr>
        <p:spPr>
          <a:xfrm>
            <a:off x="250920" y="2768760"/>
            <a:ext cx="8713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Прямоугольник 1"/>
          <p:cNvSpPr/>
          <p:nvPr/>
        </p:nvSpPr>
        <p:spPr>
          <a:xfrm>
            <a:off x="2143080" y="12859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                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1,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3" name="Picture 6" descr="C:\Users\user\Desktop\159851643_w640_h640_multpersonazhi-geroi-figurki.jpg"/>
          <p:cNvPicPr/>
          <p:nvPr/>
        </p:nvPicPr>
        <p:blipFill>
          <a:blip r:embed="rId1"/>
          <a:stretch/>
        </p:blipFill>
        <p:spPr>
          <a:xfrm>
            <a:off x="2857680" y="2928960"/>
            <a:ext cx="3476520" cy="3270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785600" y="857160"/>
            <a:ext cx="5699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Математический диктант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Прямоугольник 1"/>
          <p:cNvSpPr/>
          <p:nvPr/>
        </p:nvSpPr>
        <p:spPr>
          <a:xfrm>
            <a:off x="785880" y="2071800"/>
            <a:ext cx="7848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чег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как зависит количество корней квадратного уравн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6" name="Рисунок 3" descr="https://yarmarka-podarkov.ru/upload/iblock/2f1/2f1bc4698509cd5d22b2018462fa5b74.jpg"/>
          <p:cNvPicPr/>
          <p:nvPr/>
        </p:nvPicPr>
        <p:blipFill>
          <a:blip r:embed="rId1"/>
          <a:stretch/>
        </p:blipFill>
        <p:spPr>
          <a:xfrm>
            <a:off x="2928960" y="4229280"/>
            <a:ext cx="3506760" cy="262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3203280" y="189000"/>
            <a:ext cx="2314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TextBox 4">
            <a:hlinkClick r:id="rId1"/>
          </p:cNvPr>
          <p:cNvSpPr/>
          <p:nvPr/>
        </p:nvSpPr>
        <p:spPr>
          <a:xfrm>
            <a:off x="485640" y="1071720"/>
            <a:ext cx="8315640" cy="5150520"/>
          </a:xfrm>
          <a:custGeom>
            <a:avLst/>
            <a:gdLst>
              <a:gd name="textAreaLeft" fmla="*/ 333720 w 8315640"/>
              <a:gd name="textAreaRight" fmla="*/ 7981920 w 8315640"/>
              <a:gd name="textAreaTop" fmla="*/ 333720 h 5150520"/>
              <a:gd name="textAreaBottom" fmla="*/ 4816800 h 5150520"/>
            </a:gdLst>
            <a:ahLst/>
            <a:rect l="textAreaLeft" t="textAreaTop" r="textAreaRight" b="textAreaBottom"/>
            <a:pathLst>
              <a:path w="34873" h="21600">
                <a:moveTo>
                  <a:pt x="0" y="0"/>
                </a:moveTo>
                <a:lnTo>
                  <a:pt x="34873" y="0"/>
                </a:lnTo>
                <a:lnTo>
                  <a:pt x="34873" y="21600"/>
                </a:lnTo>
                <a:lnTo>
                  <a:pt x="0" y="21600"/>
                </a:lnTo>
                <a:close/>
              </a:path>
              <a:path fill="lightenLess" w="34873" h="21600">
                <a:moveTo>
                  <a:pt x="0" y="0"/>
                </a:moveTo>
                <a:lnTo>
                  <a:pt x="34873" y="0"/>
                </a:lnTo>
                <a:lnTo>
                  <a:pt x="33473" y="1400"/>
                </a:lnTo>
                <a:lnTo>
                  <a:pt x="1400" y="1400"/>
                </a:lnTo>
                <a:close/>
              </a:path>
              <a:path fill="darken" w="34873" h="21600">
                <a:moveTo>
                  <a:pt x="34873" y="0"/>
                </a:moveTo>
                <a:lnTo>
                  <a:pt x="34873" y="21600"/>
                </a:lnTo>
                <a:lnTo>
                  <a:pt x="33473" y="20200"/>
                </a:lnTo>
                <a:lnTo>
                  <a:pt x="33473" y="1400"/>
                </a:lnTo>
                <a:close/>
              </a:path>
              <a:path fill="darkenLess" w="34873" h="21600">
                <a:moveTo>
                  <a:pt x="34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73" y="20200"/>
                </a:lnTo>
                <a:close/>
              </a:path>
              <a:path fill="lighten" w="34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73" h="21600">
                <a:moveTo>
                  <a:pt x="10430" y="8406"/>
                </a:moveTo>
                <a:lnTo>
                  <a:pt x="14860" y="8406"/>
                </a:lnTo>
                <a:lnTo>
                  <a:pt x="19282" y="3794"/>
                </a:lnTo>
                <a:lnTo>
                  <a:pt x="19282" y="17806"/>
                </a:lnTo>
                <a:lnTo>
                  <a:pt x="14860" y="13194"/>
                </a:lnTo>
                <a:lnTo>
                  <a:pt x="10430" y="13194"/>
                </a:lnTo>
                <a:close/>
              </a:path>
              <a:path fill="darken" w="34873" h="21600">
                <a:moveTo>
                  <a:pt x="20935" y="10800"/>
                </a:moveTo>
                <a:lnTo>
                  <a:pt x="24443" y="10800"/>
                </a:lnTo>
              </a:path>
              <a:path fill="darken" w="34873" h="21600">
                <a:moveTo>
                  <a:pt x="20935" y="8406"/>
                </a:moveTo>
                <a:lnTo>
                  <a:pt x="24443" y="5639"/>
                </a:lnTo>
              </a:path>
              <a:path fill="darken" w="34873" h="21600">
                <a:moveTo>
                  <a:pt x="20935" y="13194"/>
                </a:moveTo>
                <a:lnTo>
                  <a:pt x="24443" y="1596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дискриминанта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ли дискриминант больше 0, 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авнение имеет 2 корн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ли дискриминант равен 0, 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авнение имеет 1 корен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ли дискриминант меньше  0, 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авнение не имеет корне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0" name="Рисунок 4" descr="http://webmg.ru/wp-content/uploads/2022/01/15-20220108_222417.jpg"/>
          <p:cNvPicPr/>
          <p:nvPr/>
        </p:nvPicPr>
        <p:blipFill>
          <a:blip r:embed="rId2"/>
          <a:stretch/>
        </p:blipFill>
        <p:spPr>
          <a:xfrm>
            <a:off x="6873840" y="4572000"/>
            <a:ext cx="2270160" cy="1967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6247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Решение квадратных уравнений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Прямоугольник 1"/>
          <p:cNvSpPr/>
          <p:nvPr/>
        </p:nvSpPr>
        <p:spPr>
          <a:xfrm>
            <a:off x="395280" y="126828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те квадратное уравнение по его коэффициентам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 а= -3; с= -10. в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3" name="Рисунок 3" descr="https://i.pinimg.com/originals/98/fe/e6/98fee66dd2eb617e4d6d6390f0556edb.jpg"/>
          <p:cNvPicPr/>
          <p:nvPr/>
        </p:nvPicPr>
        <p:blipFill>
          <a:blip r:embed="rId1"/>
          <a:stretch/>
        </p:blipFill>
        <p:spPr>
          <a:xfrm>
            <a:off x="3214800" y="3714840"/>
            <a:ext cx="2898720" cy="289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3348000" y="260280"/>
            <a:ext cx="2160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Прямоугольник 1"/>
          <p:cNvSpPr/>
          <p:nvPr/>
        </p:nvSpPr>
        <p:spPr>
          <a:xfrm>
            <a:off x="324000" y="981000"/>
            <a:ext cx="475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Прямоугольник 5"/>
          <p:cNvSpPr/>
          <p:nvPr/>
        </p:nvSpPr>
        <p:spPr>
          <a:xfrm>
            <a:off x="2669040" y="1428840"/>
            <a:ext cx="30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-3х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+4х- 10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Рисунок 5" descr="https://uprostim.com/wp-content/uploads/2021/04/image037-4.png"/>
          <p:cNvPicPr/>
          <p:nvPr/>
        </p:nvPicPr>
        <p:blipFill>
          <a:blip r:embed="rId1"/>
          <a:stretch/>
        </p:blipFill>
        <p:spPr>
          <a:xfrm>
            <a:off x="3214800" y="3929040"/>
            <a:ext cx="2609640" cy="173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28480" y="500040"/>
            <a:ext cx="66466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Решение квадратных уравнений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Прямоугольник 1"/>
          <p:cNvSpPr/>
          <p:nvPr/>
        </p:nvSpPr>
        <p:spPr>
          <a:xfrm>
            <a:off x="468360" y="134136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колько корней имеют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= 0      x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 = 0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1" name="Рисунок 3" descr="https://i.pinimg.com/originals/98/fe/e6/98fee66dd2eb617e4d6d6390f0556edb.jpg"/>
          <p:cNvPicPr/>
          <p:nvPr/>
        </p:nvPicPr>
        <p:blipFill>
          <a:blip r:embed="rId1"/>
          <a:stretch/>
        </p:blipFill>
        <p:spPr>
          <a:xfrm>
            <a:off x="3000240" y="3500280"/>
            <a:ext cx="2899080" cy="2899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611520" y="13644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AutoShape 8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Прямоугольник 1"/>
          <p:cNvSpPr/>
          <p:nvPr/>
        </p:nvSpPr>
        <p:spPr>
          <a:xfrm>
            <a:off x="1116000" y="72720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ОДИН!        0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5" name="Рисунок 4" descr="https://uprostim.com/wp-content/uploads/2021/04/image037-4.png"/>
          <p:cNvPicPr/>
          <p:nvPr/>
        </p:nvPicPr>
        <p:blipFill>
          <a:blip r:embed="rId1"/>
          <a:stretch/>
        </p:blipFill>
        <p:spPr>
          <a:xfrm>
            <a:off x="3357720" y="3429000"/>
            <a:ext cx="2609640" cy="173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Прямоугольник 3"/>
          <p:cNvSpPr/>
          <p:nvPr/>
        </p:nvSpPr>
        <p:spPr>
          <a:xfrm>
            <a:off x="303840" y="620640"/>
            <a:ext cx="885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«Здоров будешь – все добудеш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Рисунок 1" descr="http://vmnews.ru/site-specific/vmnews.ru/upload/article-illustrations/2012/article-32174-1.jpg"/>
          <p:cNvPicPr/>
          <p:nvPr/>
        </p:nvPicPr>
        <p:blipFill>
          <a:blip r:embed="rId1"/>
          <a:stretch/>
        </p:blipFill>
        <p:spPr>
          <a:xfrm>
            <a:off x="2340000" y="1484280"/>
            <a:ext cx="4414680" cy="3116160"/>
          </a:xfrm>
          <a:prstGeom prst="rect">
            <a:avLst/>
          </a:prstGeom>
          <a:ln w="0">
            <a:noFill/>
          </a:ln>
        </p:spPr>
      </p:pic>
      <p:sp>
        <p:nvSpPr>
          <p:cNvPr id="1441" name="TextBox 6"/>
          <p:cNvSpPr/>
          <p:nvPr/>
        </p:nvSpPr>
        <p:spPr>
          <a:xfrm>
            <a:off x="2001600" y="4600440"/>
            <a:ext cx="45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«Здоровян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Прямоугольник 4"/>
          <p:cNvSpPr/>
          <p:nvPr/>
        </p:nvSpPr>
        <p:spPr>
          <a:xfrm>
            <a:off x="2286000" y="144468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ка, тебя сегодня слави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хотим спасибо мы сказат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ь о тех, кто приложил старань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заботишься, как ласковая ма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ешь ум и память наш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шь сравнивать, трудиться, рассуждат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подбросив хитрую задачк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шь нас трудности преодолева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нас пробуждаешь, окрыляеш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ть настойчивыми учишь неустан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знаний жажду разжигаеш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агая неразгаданные тайны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3" name="Рисунок 6" descr="http://images.myshared.ru/4/201225/slide_5.jpg"/>
          <p:cNvPicPr/>
          <p:nvPr/>
        </p:nvPicPr>
        <p:blipFill>
          <a:blip r:embed="rId2"/>
          <a:stretch/>
        </p:blipFill>
        <p:spPr>
          <a:xfrm>
            <a:off x="0" y="0"/>
            <a:ext cx="9001080" cy="6643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6624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Решение квадратных уравнений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Прямоугольник 1"/>
          <p:cNvSpPr/>
          <p:nvPr/>
        </p:nvSpPr>
        <p:spPr>
          <a:xfrm>
            <a:off x="539640" y="126828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айти  устно  корни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=3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8" name="Рисунок 3" descr="http://webmg.ru/wp-content/uploads/2022/01/15-20220108_222417.jpg"/>
          <p:cNvPicPr/>
          <p:nvPr/>
        </p:nvPicPr>
        <p:blipFill>
          <a:blip r:embed="rId1"/>
          <a:stretch/>
        </p:blipFill>
        <p:spPr>
          <a:xfrm>
            <a:off x="2857680" y="3786120"/>
            <a:ext cx="2778120" cy="2411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3757680" y="260280"/>
            <a:ext cx="17366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TextBox 5"/>
          <p:cNvSpPr/>
          <p:nvPr/>
        </p:nvSpPr>
        <p:spPr>
          <a:xfrm>
            <a:off x="3071880" y="714240"/>
            <a:ext cx="300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00"/>
                </a:solidFill>
                <a:latin typeface="Arial"/>
              </a:rPr>
              <a:t>6; -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2" name="Рисунок 4" descr="https://yarmarka-podarkov.ru/upload/iblock/2f1/2f1bc4698509cd5d22b2018462fa5b74.jpg"/>
          <p:cNvPicPr/>
          <p:nvPr/>
        </p:nvPicPr>
        <p:blipFill>
          <a:blip r:embed="rId1"/>
          <a:stretch/>
        </p:blipFill>
        <p:spPr>
          <a:xfrm>
            <a:off x="3000240" y="3643200"/>
            <a:ext cx="3506760" cy="2629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1142640" y="499680"/>
            <a:ext cx="670572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Решение квадратных уравнений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Прямоугольник 1"/>
          <p:cNvSpPr/>
          <p:nvPr/>
        </p:nvSpPr>
        <p:spPr>
          <a:xfrm>
            <a:off x="500040" y="128592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Box 3"/>
          <p:cNvSpPr/>
          <p:nvPr/>
        </p:nvSpPr>
        <p:spPr>
          <a:xfrm>
            <a:off x="327600" y="1571760"/>
            <a:ext cx="847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 дискриминант и определить число корней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+ 3х – 5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6" name="Рисунок 4" descr="http://flomaster.club/uploads/posts/2022-08/1660751650_4-flomaster-club-p-kartinki-s-emotsiyami-dlya-detei-krasivo-6.jpg"/>
          <p:cNvPicPr/>
          <p:nvPr/>
        </p:nvPicPr>
        <p:blipFill>
          <a:blip r:embed="rId1"/>
          <a:srcRect l="24832" t="51281" r="49815" b="4871"/>
          <a:stretch/>
        </p:blipFill>
        <p:spPr>
          <a:xfrm>
            <a:off x="3143160" y="4214880"/>
            <a:ext cx="228600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3288960" y="188640"/>
            <a:ext cx="2601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Rectangle 4"/>
          <p:cNvSpPr/>
          <p:nvPr/>
        </p:nvSpPr>
        <p:spPr>
          <a:xfrm>
            <a:off x="900000" y="1052640"/>
            <a:ext cx="588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00"/>
                </a:solidFill>
                <a:latin typeface="Arial"/>
              </a:rPr>
              <a:t>Д=49; 2 корн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0" name="Рисунок 4" descr="https://uprostim.com/wp-content/uploads/2021/04/image037-4.png"/>
          <p:cNvPicPr/>
          <p:nvPr/>
        </p:nvPicPr>
        <p:blipFill>
          <a:blip r:embed="rId1"/>
          <a:stretch/>
        </p:blipFill>
        <p:spPr>
          <a:xfrm>
            <a:off x="3214800" y="3714840"/>
            <a:ext cx="2609640" cy="173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129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Решение квадратных уравнений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Прямоугольник 1"/>
          <p:cNvSpPr/>
          <p:nvPr/>
        </p:nvSpPr>
        <p:spPr>
          <a:xfrm>
            <a:off x="468360" y="1268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Прямоугольник 3"/>
          <p:cNvSpPr/>
          <p:nvPr/>
        </p:nvSpPr>
        <p:spPr>
          <a:xfrm>
            <a:off x="357120" y="1285920"/>
            <a:ext cx="857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больше решит уравнений за 5 мину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вая команда          Вторая коман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1)x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 + 3x – 4 = 0 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 – x – 6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2)x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 =16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 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3)6x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 – 5x + 1 = 0          3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 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6x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 + x – 1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4" name="Рисунок 4" descr="http://flomaster.club/uploads/posts/2022-08/1660751650_4-flomaster-club-p-kartinki-s-emotsiyami-dlya-detei-krasivo-6.jpg"/>
          <p:cNvPicPr/>
          <p:nvPr/>
        </p:nvPicPr>
        <p:blipFill>
          <a:blip r:embed="rId1"/>
          <a:srcRect l="24832" t="51281" r="49815" b="4871"/>
          <a:stretch/>
        </p:blipFill>
        <p:spPr>
          <a:xfrm>
            <a:off x="3643200" y="4714920"/>
            <a:ext cx="2071800" cy="1928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665520" y="189000"/>
            <a:ext cx="181152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Прямоугольник 1"/>
          <p:cNvSpPr/>
          <p:nvPr/>
        </p:nvSpPr>
        <p:spPr>
          <a:xfrm>
            <a:off x="324000" y="692280"/>
            <a:ext cx="860580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команда         Вторая кома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,-4                         1)3,-2  2)3,-3;3) 1/3,-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,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5;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8" name="Рисунок 4" descr="https://yarmarka-podarkov.ru/upload/iblock/2f1/2f1bc4698509cd5d22b2018462fa5b74.jpg"/>
          <p:cNvPicPr/>
          <p:nvPr/>
        </p:nvPicPr>
        <p:blipFill>
          <a:blip r:embed="rId1"/>
          <a:stretch/>
        </p:blipFill>
        <p:spPr>
          <a:xfrm>
            <a:off x="2928960" y="3714840"/>
            <a:ext cx="3506760" cy="262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99640" y="223920"/>
            <a:ext cx="7559640" cy="3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Загадки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Прямоугольник 1"/>
          <p:cNvSpPr/>
          <p:nvPr/>
        </p:nvSpPr>
        <p:spPr>
          <a:xfrm>
            <a:off x="1643040" y="692280"/>
            <a:ext cx="72151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у дуба, я у зуб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у слов и у цветов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упрятан в темноту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не вверх, а вниз рост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к без мен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родержится и дн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– решенье уравнень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важно, без сомнень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Рисунок 3" descr="https://klike.net/uploads/posts/2019-09/1568622622_3.jpg"/>
          <p:cNvPicPr/>
          <p:nvPr/>
        </p:nvPicPr>
        <p:blipFill>
          <a:blip r:embed="rId1"/>
          <a:stretch/>
        </p:blipFill>
        <p:spPr>
          <a:xfrm>
            <a:off x="6215040" y="285840"/>
            <a:ext cx="2722680" cy="2649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3090960" y="188640"/>
            <a:ext cx="296208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Rectangle 6"/>
          <p:cNvSpPr/>
          <p:nvPr/>
        </p:nvSpPr>
        <p:spPr>
          <a:xfrm>
            <a:off x="1187280" y="5716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                     </a:t>
            </a: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Кор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5" name="Рисунок 4" descr="http://flomaster.club/uploads/posts/2022-08/1660751650_4-flomaster-club-p-kartinki-s-emotsiyami-dlya-detei-krasivo-6.jpg"/>
          <p:cNvPicPr/>
          <p:nvPr/>
        </p:nvPicPr>
        <p:blipFill>
          <a:blip r:embed="rId1"/>
          <a:srcRect l="25517" t="5554" r="50001" b="50005"/>
          <a:stretch/>
        </p:blipFill>
        <p:spPr>
          <a:xfrm>
            <a:off x="5429160" y="3786120"/>
            <a:ext cx="2643120" cy="2643120"/>
          </a:xfrm>
          <a:prstGeom prst="rect">
            <a:avLst/>
          </a:prstGeom>
          <a:ln w="0">
            <a:noFill/>
          </a:ln>
        </p:spPr>
      </p:pic>
      <p:pic>
        <p:nvPicPr>
          <p:cNvPr id="1536" name="Рисунок 5" descr="https://uprostim.com/wp-content/uploads/2021/02/image004-29.jpg"/>
          <p:cNvPicPr/>
          <p:nvPr/>
        </p:nvPicPr>
        <p:blipFill>
          <a:blip r:embed="rId2"/>
          <a:stretch/>
        </p:blipFill>
        <p:spPr>
          <a:xfrm>
            <a:off x="285840" y="571680"/>
            <a:ext cx="3346200" cy="3044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7756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Загадки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Прямоугольник 1"/>
          <p:cNvSpPr/>
          <p:nvPr/>
        </p:nvSpPr>
        <p:spPr>
          <a:xfrm>
            <a:off x="539640" y="1125360"/>
            <a:ext cx="65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 слова «дискриминант» составить как можно больше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5" descr="C:\Users\user\Desktop\s-l400.gif"/>
          <p:cNvPicPr/>
          <p:nvPr/>
        </p:nvPicPr>
        <p:blipFill>
          <a:blip r:embed="rId1"/>
          <a:stretch/>
        </p:blipFill>
        <p:spPr>
          <a:xfrm>
            <a:off x="2428920" y="3929040"/>
            <a:ext cx="3214800" cy="2563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3492360" y="188640"/>
            <a:ext cx="18115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2" name="Рисунок 3" descr="http://flomaster.club/uploads/posts/2022-08/1660751650_4-flomaster-club-p-kartinki-s-emotsiyami-dlya-detei-krasivo-6.jpg"/>
          <p:cNvPicPr/>
          <p:nvPr/>
        </p:nvPicPr>
        <p:blipFill>
          <a:blip r:embed="rId1"/>
          <a:srcRect l="25517" t="5554" r="50001" b="50005"/>
          <a:stretch/>
        </p:blipFill>
        <p:spPr>
          <a:xfrm>
            <a:off x="6000840" y="3643200"/>
            <a:ext cx="2357280" cy="2286000"/>
          </a:xfrm>
          <a:prstGeom prst="rect">
            <a:avLst/>
          </a:prstGeom>
          <a:ln w="0">
            <a:noFill/>
          </a:ln>
        </p:spPr>
      </p:pic>
      <p:pic>
        <p:nvPicPr>
          <p:cNvPr id="1543" name="Рисунок 4" descr="https://uprostim.com/wp-content/uploads/2021/02/image160-19.jpg"/>
          <p:cNvPicPr/>
          <p:nvPr/>
        </p:nvPicPr>
        <p:blipFill>
          <a:blip r:embed="rId2"/>
          <a:stretch/>
        </p:blipFill>
        <p:spPr>
          <a:xfrm>
            <a:off x="642960" y="785880"/>
            <a:ext cx="3511440" cy="3044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лятв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ласс зашёл – не хмурь лица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 весёлым до конц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 не зритель, и не гост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 программы нашей гвозд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ломайся, не кривляйс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м законам подчиняйся.</a:t>
            </a: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се члены команд: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лянёмся, клянёмся, клянёмс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6" name="Рисунок 4" descr="https://fs.znanio.ru/methodology/images/31/b2/31b24eb96c3251d90b25205862a2dcd6125da046.jpg"/>
          <p:cNvPicPr/>
          <p:nvPr/>
        </p:nvPicPr>
        <p:blipFill>
          <a:blip r:embed="rId1"/>
          <a:srcRect l="79347" t="59296" r="5162" b="23490"/>
          <a:stretch/>
        </p:blipFill>
        <p:spPr>
          <a:xfrm>
            <a:off x="6357960" y="2286000"/>
            <a:ext cx="2357280" cy="2214720"/>
          </a:xfrm>
          <a:prstGeom prst="rect">
            <a:avLst/>
          </a:prstGeom>
          <a:ln w="0">
            <a:noFill/>
          </a:ln>
        </p:spPr>
      </p:pic>
      <p:pic>
        <p:nvPicPr>
          <p:cNvPr id="1447" name="Рисунок 5" descr="https://uprostim.com/wp-content/uploads/2021/04/image037-4.png"/>
          <p:cNvPicPr/>
          <p:nvPr/>
        </p:nvPicPr>
        <p:blipFill>
          <a:blip r:embed="rId2"/>
          <a:stretch/>
        </p:blipFill>
        <p:spPr>
          <a:xfrm>
            <a:off x="0" y="0"/>
            <a:ext cx="2610000" cy="173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Загадки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Прямоугольник 1"/>
          <p:cNvSpPr/>
          <p:nvPr/>
        </p:nvSpPr>
        <p:spPr>
          <a:xfrm>
            <a:off x="539640" y="1125360"/>
            <a:ext cx="68947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корни внимательней я посмотрю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ль дискриминант будет равен нулю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бе я поведаю, мой господин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в случае этом корень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6" name="Рисунок 3" descr="https://i.pinimg.com/originals/98/fe/e6/98fee66dd2eb617e4d6d6390f0556edb.jpg"/>
          <p:cNvPicPr/>
          <p:nvPr/>
        </p:nvPicPr>
        <p:blipFill>
          <a:blip r:embed="rId1"/>
          <a:stretch/>
        </p:blipFill>
        <p:spPr>
          <a:xfrm>
            <a:off x="6357960" y="285840"/>
            <a:ext cx="2571840" cy="2469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3348000" y="188640"/>
            <a:ext cx="217008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ectangle 8"/>
          <p:cNvSpPr/>
          <p:nvPr/>
        </p:nvSpPr>
        <p:spPr>
          <a:xfrm>
            <a:off x="3861720" y="10018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Од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0" name="Picture 6" descr="C:\Users\user\Desktop\159851643_w640_h640_multpersonazhi-geroi-figurki.jpg"/>
          <p:cNvPicPr/>
          <p:nvPr/>
        </p:nvPicPr>
        <p:blipFill>
          <a:blip r:embed="rId1"/>
          <a:stretch/>
        </p:blipFill>
        <p:spPr>
          <a:xfrm>
            <a:off x="2857680" y="2928960"/>
            <a:ext cx="3476520" cy="3270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10920" y="131760"/>
            <a:ext cx="784836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Загадки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Rectangle 5"/>
          <p:cNvSpPr/>
          <p:nvPr/>
        </p:nvSpPr>
        <p:spPr>
          <a:xfrm>
            <a:off x="142920" y="2540160"/>
            <a:ext cx="88930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Прямоугольник 1"/>
          <p:cNvSpPr/>
          <p:nvPr/>
        </p:nvSpPr>
        <p:spPr>
          <a:xfrm>
            <a:off x="250920" y="907920"/>
            <a:ext cx="835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ив дискриминанта знак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личество корней узнает всяк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ль знак этот плюс, то излишни слова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уравненья корней ровно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4" name="Рисунок 4" descr="http://flomaster.club/uploads/posts/2022-08/1660751650_4-flomaster-club-p-kartinki-s-emotsiyami-dlya-detei-krasivo-6.jpg"/>
          <p:cNvPicPr/>
          <p:nvPr/>
        </p:nvPicPr>
        <p:blipFill>
          <a:blip r:embed="rId1"/>
          <a:srcRect l="25517" t="5554" r="50001" b="50005"/>
          <a:stretch/>
        </p:blipFill>
        <p:spPr>
          <a:xfrm>
            <a:off x="3786120" y="4286160"/>
            <a:ext cx="235764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2892600" y="188640"/>
            <a:ext cx="339408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Прямоугольник 1"/>
          <p:cNvSpPr/>
          <p:nvPr/>
        </p:nvSpPr>
        <p:spPr>
          <a:xfrm>
            <a:off x="539640" y="105264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d60093"/>
                </a:solidFill>
                <a:uFillTx/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8" name="Рисунок 4" descr="https://yarmarka-podarkov.ru/upload/iblock/2f1/2f1bc4698509cd5d22b2018462fa5b74.jpg"/>
          <p:cNvPicPr/>
          <p:nvPr/>
        </p:nvPicPr>
        <p:blipFill>
          <a:blip r:embed="rId1"/>
          <a:stretch/>
        </p:blipFill>
        <p:spPr>
          <a:xfrm>
            <a:off x="2857680" y="3929040"/>
            <a:ext cx="3506760" cy="2629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0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Загадки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Прямоугольник 1"/>
          <p:cNvSpPr/>
          <p:nvPr/>
        </p:nvSpPr>
        <p:spPr>
          <a:xfrm>
            <a:off x="324000" y="1484280"/>
            <a:ext cx="8496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ь минус с тобою мы замечаем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это обрадует даже лентя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да уравненье корней …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прекращается сразу решень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1" name="Рисунок 3" descr="https://i.pinimg.com/originals/98/fe/e6/98fee66dd2eb617e4d6d6390f0556edb.jpg"/>
          <p:cNvPicPr/>
          <p:nvPr/>
        </p:nvPicPr>
        <p:blipFill>
          <a:blip r:embed="rId1"/>
          <a:stretch/>
        </p:blipFill>
        <p:spPr>
          <a:xfrm>
            <a:off x="3571920" y="4500720"/>
            <a:ext cx="2398680" cy="2357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TextBox 5"/>
          <p:cNvSpPr/>
          <p:nvPr/>
        </p:nvSpPr>
        <p:spPr>
          <a:xfrm>
            <a:off x="2722320" y="2000160"/>
            <a:ext cx="35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"/>
              </a:rPr>
              <a:t>Не имеет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5" name="Рисунок 4" descr="https://yarmarka-podarkov.ru/upload/iblock/2f1/2f1bc4698509cd5d22b2018462fa5b74.jpg"/>
          <p:cNvPicPr/>
          <p:nvPr/>
        </p:nvPicPr>
        <p:blipFill>
          <a:blip r:embed="rId1"/>
          <a:stretch/>
        </p:blipFill>
        <p:spPr>
          <a:xfrm>
            <a:off x="2857680" y="3929040"/>
            <a:ext cx="3506760" cy="2629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1213920" y="1071720"/>
            <a:ext cx="685188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иведенные и биквадратные уравнения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5"/>
          <p:cNvSpPr/>
          <p:nvPr/>
        </p:nvSpPr>
        <p:spPr>
          <a:xfrm>
            <a:off x="357120" y="1928880"/>
            <a:ext cx="842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ть под каким номерами приведенное и биквадратное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)x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+ 3x – 4 = 0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)3x + 7 = 0            6) 3х +4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)6x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– 5x + 1 = 0          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6x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+ x – 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8" name="Рисунок 3" descr="http://flomaster.club/uploads/posts/2022-08/1660751650_4-flomaster-club-p-kartinki-s-emotsiyami-dlya-detei-krasivo-6.jpg"/>
          <p:cNvPicPr/>
          <p:nvPr/>
        </p:nvPicPr>
        <p:blipFill>
          <a:blip r:embed="rId1"/>
          <a:srcRect l="24832" t="51281" r="49815" b="4871"/>
          <a:stretch/>
        </p:blipFill>
        <p:spPr>
          <a:xfrm>
            <a:off x="3643200" y="4714920"/>
            <a:ext cx="2071800" cy="1928880"/>
          </a:xfrm>
          <a:prstGeom prst="rect">
            <a:avLst/>
          </a:prstGeom>
          <a:ln w="0">
            <a:noFill/>
          </a:ln>
        </p:spPr>
      </p:pic>
      <p:sp>
        <p:nvSpPr>
          <p:cNvPr id="1569" name="TextBox 4"/>
          <p:cNvSpPr/>
          <p:nvPr/>
        </p:nvSpPr>
        <p:spPr>
          <a:xfrm>
            <a:off x="1931760" y="3571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TextBox 5"/>
          <p:cNvSpPr/>
          <p:nvPr/>
        </p:nvSpPr>
        <p:spPr>
          <a:xfrm>
            <a:off x="4217760" y="32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3492000" y="115920"/>
            <a:ext cx="300852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3" name="Рисунок 5" descr="https://fs.znanio.ru/methodology/images/31/b2/31b24eb96c3251d90b25205862a2dcd6125da046.jpg"/>
          <p:cNvPicPr/>
          <p:nvPr/>
        </p:nvPicPr>
        <p:blipFill>
          <a:blip r:embed="rId1"/>
          <a:srcRect l="78616" t="41326" r="7079" b="44216"/>
          <a:stretch/>
        </p:blipFill>
        <p:spPr>
          <a:xfrm>
            <a:off x="4714920" y="3357720"/>
            <a:ext cx="3929040" cy="2786040"/>
          </a:xfrm>
          <a:prstGeom prst="rect">
            <a:avLst/>
          </a:prstGeom>
          <a:ln w="0">
            <a:noFill/>
          </a:ln>
        </p:spPr>
      </p:pic>
      <p:sp>
        <p:nvSpPr>
          <p:cNvPr id="1574" name="Прямоугольник 5"/>
          <p:cNvSpPr/>
          <p:nvPr/>
        </p:nvSpPr>
        <p:spPr>
          <a:xfrm>
            <a:off x="1586880" y="1357200"/>
            <a:ext cx="284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0000"/>
                </a:solidFill>
                <a:latin typeface="Arial"/>
              </a:rPr>
              <a:t>1,2,4,5,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857240" y="1285560"/>
            <a:ext cx="63468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иведенные и биквадратные уравнения 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2000160" y="2714760"/>
            <a:ext cx="6748560" cy="331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еорема Вие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Формул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2484000" y="208080"/>
            <a:ext cx="37544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Box 5"/>
          <p:cNvSpPr/>
          <p:nvPr/>
        </p:nvSpPr>
        <p:spPr>
          <a:xfrm>
            <a:off x="590040" y="1143000"/>
            <a:ext cx="811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умма корней приведенного квадр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ого уравнения ра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торому коэффициенту, взятому 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тивоположным зна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произведение корней рав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вободному член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0" name="Рисунок 3" descr="https://i.pinimg.com/originals/98/fe/e6/98fee66dd2eb617e4d6d6390f0556edb.jpg"/>
          <p:cNvPicPr/>
          <p:nvPr/>
        </p:nvPicPr>
        <p:blipFill>
          <a:blip r:embed="rId1"/>
          <a:stretch/>
        </p:blipFill>
        <p:spPr>
          <a:xfrm>
            <a:off x="6429240" y="4000680"/>
            <a:ext cx="2398680" cy="2357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Прямоугольник 5" descr=""/>
          <p:cNvPicPr/>
          <p:nvPr/>
        </p:nvPicPr>
        <p:blipFill>
          <a:blip r:embed="rId1"/>
          <a:stretch/>
        </p:blipFill>
        <p:spPr>
          <a:xfrm>
            <a:off x="390600" y="146160"/>
            <a:ext cx="8362800" cy="2133360"/>
          </a:xfrm>
          <a:prstGeom prst="rect">
            <a:avLst/>
          </a:prstGeom>
          <a:ln w="0">
            <a:noFill/>
          </a:ln>
        </p:spPr>
      </p:pic>
      <p:pic>
        <p:nvPicPr>
          <p:cNvPr id="1449" name="Рисунок 3" descr="http://flomaster.club/uploads/posts/2022-08/1660751650_4-flomaster-club-p-kartinki-s-emotsiyami-dlya-detei-krasivo-6.jpg"/>
          <p:cNvPicPr/>
          <p:nvPr/>
        </p:nvPicPr>
        <p:blipFill>
          <a:blip r:embed="rId2"/>
          <a:srcRect l="25243" t="6572" r="50001" b="50005"/>
          <a:stretch/>
        </p:blipFill>
        <p:spPr>
          <a:xfrm>
            <a:off x="1071720" y="3643200"/>
            <a:ext cx="2928960" cy="2714760"/>
          </a:xfrm>
          <a:prstGeom prst="rect">
            <a:avLst/>
          </a:prstGeom>
          <a:ln w="0">
            <a:noFill/>
          </a:ln>
        </p:spPr>
      </p:pic>
      <p:pic>
        <p:nvPicPr>
          <p:cNvPr id="1450" name="Picture 4" descr="C:\Users\user\Desktop\159851643_w640_h640_multpersonazhi-geroi-figurki.jpg"/>
          <p:cNvPicPr/>
          <p:nvPr/>
        </p:nvPicPr>
        <p:blipFill>
          <a:blip r:embed="rId3"/>
          <a:stretch/>
        </p:blipFill>
        <p:spPr>
          <a:xfrm>
            <a:off x="5000760" y="3832200"/>
            <a:ext cx="2619360" cy="2463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0" y="2470320"/>
            <a:ext cx="9144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рямоугольник 1"/>
          <p:cNvSpPr/>
          <p:nvPr/>
        </p:nvSpPr>
        <p:spPr>
          <a:xfrm>
            <a:off x="826920" y="2133720"/>
            <a:ext cx="749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00"/>
                </a:solidFill>
                <a:latin typeface="Arial"/>
              </a:rPr>
              <a:t>Формула квадратного трехчле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Приведенные и биквадратные уравнения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4" name="Рисунок 3" descr="http://flomaster.club/uploads/posts/2022-08/1660751650_4-flomaster-club-p-kartinki-s-emotsiyami-dlya-detei-krasivo-6.jpg"/>
          <p:cNvPicPr/>
          <p:nvPr/>
        </p:nvPicPr>
        <p:blipFill>
          <a:blip r:embed="rId1"/>
          <a:srcRect l="24832" t="51281" r="49815" b="4871"/>
          <a:stretch/>
        </p:blipFill>
        <p:spPr>
          <a:xfrm>
            <a:off x="7072200" y="4929120"/>
            <a:ext cx="2071800" cy="1928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2842920" y="188640"/>
            <a:ext cx="325116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TextBox 3"/>
          <p:cNvSpPr/>
          <p:nvPr/>
        </p:nvSpPr>
        <p:spPr>
          <a:xfrm>
            <a:off x="714240" y="6429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а(x - х1)(х-х2)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8" name="Рисунок 4" descr="https://uprostim.com/wp-content/uploads/2021/02/image004-29.jpg"/>
          <p:cNvPicPr/>
          <p:nvPr/>
        </p:nvPicPr>
        <p:blipFill>
          <a:blip r:embed="rId2"/>
          <a:stretch/>
        </p:blipFill>
        <p:spPr>
          <a:xfrm>
            <a:off x="2000160" y="1714680"/>
            <a:ext cx="492912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1439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Приведенные биквадратные уравнения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Прямоугольник 1"/>
          <p:cNvSpPr/>
          <p:nvPr/>
        </p:nvSpPr>
        <p:spPr>
          <a:xfrm>
            <a:off x="571680" y="2214720"/>
            <a:ext cx="83167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TextBox 3"/>
          <p:cNvSpPr/>
          <p:nvPr/>
        </p:nvSpPr>
        <p:spPr>
          <a:xfrm>
            <a:off x="536760" y="2571840"/>
            <a:ext cx="785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Arial"/>
              </a:rPr>
              <a:t>Решить уравн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6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ru-RU" sz="6600" spc="-1" strike="noStrike">
                <a:solidFill>
                  <a:srgbClr val="000000"/>
                </a:solidFill>
                <a:latin typeface="Arial"/>
              </a:rPr>
              <a:t> - 10x + 9 = 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TextBox 4"/>
          <p:cNvSpPr/>
          <p:nvPr/>
        </p:nvSpPr>
        <p:spPr>
          <a:xfrm>
            <a:off x="3217680" y="35719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3" name="Рисунок 5" descr="https://uprostim.com/wp-content/uploads/2021/02/image018-29.jpg"/>
          <p:cNvPicPr/>
          <p:nvPr/>
        </p:nvPicPr>
        <p:blipFill>
          <a:blip r:embed="rId1"/>
          <a:stretch/>
        </p:blipFill>
        <p:spPr>
          <a:xfrm>
            <a:off x="6500880" y="4429080"/>
            <a:ext cx="2187360" cy="2000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1630440" y="260280"/>
            <a:ext cx="59148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TextBox 5"/>
          <p:cNvSpPr/>
          <p:nvPr/>
        </p:nvSpPr>
        <p:spPr>
          <a:xfrm>
            <a:off x="1746000" y="1071720"/>
            <a:ext cx="46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орни:  3,-3,1,-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7" name="Рисунок 6" descr="https://uprostim.com/wp-content/uploads/2021/02/image036-28.jpg"/>
          <p:cNvPicPr/>
          <p:nvPr/>
        </p:nvPicPr>
        <p:blipFill>
          <a:blip r:embed="rId1"/>
          <a:stretch/>
        </p:blipFill>
        <p:spPr>
          <a:xfrm>
            <a:off x="3214800" y="3286080"/>
            <a:ext cx="4270320" cy="3044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8" name="Рисунок 3" descr="http://fotoramochki.com/fon/fon-324.jpg"/>
          <p:cNvPicPr/>
          <p:nvPr/>
        </p:nvPicPr>
        <p:blipFill>
          <a:blip r:embed="rId1"/>
          <a:stretch/>
        </p:blipFill>
        <p:spPr>
          <a:xfrm>
            <a:off x="0" y="314280"/>
            <a:ext cx="9144000" cy="6596280"/>
          </a:xfrm>
          <a:prstGeom prst="rect">
            <a:avLst/>
          </a:prstGeom>
          <a:ln w="0">
            <a:noFill/>
          </a:ln>
        </p:spPr>
      </p:pic>
      <p:pic>
        <p:nvPicPr>
          <p:cNvPr id="1599" name="TextBox 4" descr=""/>
          <p:cNvPicPr/>
          <p:nvPr/>
        </p:nvPicPr>
        <p:blipFill>
          <a:blip r:embed="rId2"/>
          <a:stretch/>
        </p:blipFill>
        <p:spPr>
          <a:xfrm>
            <a:off x="1938240" y="2541600"/>
            <a:ext cx="5992920" cy="1023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1" name=""/>
          <p:cNvGraphicFramePr/>
          <p:nvPr/>
        </p:nvGraphicFramePr>
        <p:xfrm>
          <a:off x="0" y="0"/>
          <a:ext cx="9144000" cy="7683480"/>
        </p:xfrm>
        <a:graphic>
          <a:graphicData uri="http://schemas.openxmlformats.org/drawingml/2006/table">
            <a:tbl>
              <a:tblPr/>
              <a:tblGrid>
                <a:gridCol w="2643120"/>
                <a:gridCol w="1120680"/>
                <a:gridCol w="1308240"/>
                <a:gridCol w="1382760"/>
                <a:gridCol w="1305000"/>
                <a:gridCol w="138420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Monotype Corsiva"/>
                        </a:rPr>
                        <a:t>Математический диктан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c00000"/>
                          </a:solidFill>
                          <a:latin typeface="Monotype Corsiva"/>
                        </a:rPr>
                        <a:t>Решение квадратных уравнений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4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c00000"/>
                          </a:solidFill>
                          <a:latin typeface="Monotype Corsiva"/>
                        </a:rPr>
                        <a:t>Математические загадки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c00000"/>
                          </a:solidFill>
                          <a:latin typeface="Monotype Corsiva"/>
                        </a:rPr>
                        <a:t>Приведенные и биквадратные уравнения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Математический диктант 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subTitle"/>
          </p:nvPr>
        </p:nvSpPr>
        <p:spPr>
          <a:xfrm>
            <a:off x="714240" y="2357280"/>
            <a:ext cx="460872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ое название имеет уравнение второй степен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4" name="Рисунок 3" descr="http://flomaster.club/uploads/posts/2022-08/1660751650_4-flomaster-club-p-kartinki-s-emotsiyami-dlya-detei-krasivo-6.jpg"/>
          <p:cNvPicPr/>
          <p:nvPr/>
        </p:nvPicPr>
        <p:blipFill>
          <a:blip r:embed="rId1"/>
          <a:srcRect l="24829" t="51281" r="50692" b="6493"/>
          <a:stretch/>
        </p:blipFill>
        <p:spPr>
          <a:xfrm>
            <a:off x="5527800" y="2286000"/>
            <a:ext cx="261612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419640" y="189000"/>
            <a:ext cx="179856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AutoShape 7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Прямоугольник 1"/>
          <p:cNvSpPr/>
          <p:nvPr/>
        </p:nvSpPr>
        <p:spPr>
          <a:xfrm>
            <a:off x="250920" y="76500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Квадратно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8" name="Picture 5" descr="C:\Users\user\Desktop\159851643_w640_h640_multpersonazhi-geroi-figurki.jpg"/>
          <p:cNvPicPr/>
          <p:nvPr/>
        </p:nvPicPr>
        <p:blipFill>
          <a:blip r:embed="rId1"/>
          <a:stretch/>
        </p:blipFill>
        <p:spPr>
          <a:xfrm>
            <a:off x="2714760" y="3000240"/>
            <a:ext cx="3476520" cy="3270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999800" y="571320"/>
            <a:ext cx="62866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Математический диктант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Прямоугольник 1"/>
          <p:cNvSpPr/>
          <p:nvPr/>
        </p:nvSpPr>
        <p:spPr>
          <a:xfrm>
            <a:off x="714240" y="1785960"/>
            <a:ext cx="61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находится старший коэффициент в квадратном уравнени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ак обозначае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1" name="Picture 5" descr="C:\Users\user\Desktop\s-l400.gif"/>
          <p:cNvPicPr/>
          <p:nvPr/>
        </p:nvPicPr>
        <p:blipFill>
          <a:blip r:embed="rId1"/>
          <a:stretch/>
        </p:blipFill>
        <p:spPr>
          <a:xfrm>
            <a:off x="2428920" y="3929040"/>
            <a:ext cx="3214800" cy="2563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3436920" y="188640"/>
            <a:ext cx="209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AutoShape 7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Прямоугольник 1"/>
          <p:cNvSpPr/>
          <p:nvPr/>
        </p:nvSpPr>
        <p:spPr>
          <a:xfrm>
            <a:off x="755640" y="98100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Перед Х. Обозначается 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Box 4"/>
          <p:cNvSpPr/>
          <p:nvPr/>
        </p:nvSpPr>
        <p:spPr>
          <a:xfrm>
            <a:off x="33602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6" name="Picture 6" descr="C:\Users\user\Desktop\159851643_w640_h640_multpersonazhi-geroi-figurki.jpg"/>
          <p:cNvPicPr/>
          <p:nvPr/>
        </p:nvPicPr>
        <p:blipFill>
          <a:blip r:embed="rId1"/>
          <a:stretch/>
        </p:blipFill>
        <p:spPr>
          <a:xfrm>
            <a:off x="2928960" y="2786040"/>
            <a:ext cx="3833640" cy="3606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0T04:29:36Z</dcterms:created>
  <dc:creator>1</dc:creator>
  <dc:description/>
  <dc:language>en-US</dc:language>
  <cp:lastModifiedBy>user</cp:lastModifiedBy>
  <dcterms:modified xsi:type="dcterms:W3CDTF">2024-03-24T09:55:20Z</dcterms:modified>
  <cp:revision>87</cp:revision>
  <dc:subject/>
  <dc:title>Слайд 1</dc:title>
</cp:coreProperties>
</file>