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436-27C8-401D-8AC4-4B4CC592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F95-5B49-4A46-9D4E-15B97FFE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314-8A0F-4A52-A952-6147837B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B34-08B1-4839-99D6-8F7086D2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367-DC52-456F-BA21-CA0D6872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59B-D67E-444C-8FF3-CC56929E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39D-5CBD-4F74-9A64-C8312F01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88A-CACB-4576-B751-701875A2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323-039F-4A57-AD60-E1879FB4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A18-B7E7-4565-B254-C4654D77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3F8-23DF-4946-9606-34575392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BE9-70DA-44EE-AE1C-134FBD88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167B-0D1F-4512-A347-4AA7A7C9D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7" name="Овал 8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" name="Овал 7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3" name="Овал 19" descr="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53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56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59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276720" y="1052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Arbat-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bat-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02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5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08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50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53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56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Прямоугольник 5" descr=""/>
          <p:cNvPicPr/>
          <p:nvPr/>
        </p:nvPicPr>
        <p:blipFill>
          <a:blip r:embed="rId1"/>
          <a:stretch/>
        </p:blipFill>
        <p:spPr>
          <a:xfrm>
            <a:off x="493560" y="2000160"/>
            <a:ext cx="80470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The Lord\Desktop\6fb84f9a-948e-4358-bdb6-39695df6c5d3.jpg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5"/>
          <p:cNvSpPr txBox="1"/>
          <p:nvPr/>
        </p:nvSpPr>
        <p:spPr>
          <a:xfrm>
            <a:off x="2340000" y="620640"/>
            <a:ext cx="57531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785880" y="2143080"/>
            <a:ext cx="76438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ЕМА 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о воздух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Учебные задачи: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28800" y="1285560"/>
            <a:ext cx="7758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Что такое воздух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Из чего состоит воздух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Каковы свойства воздуха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Как человек использует воздух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От чего загрязняется воздух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Как охраняют воздух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5"/>
          <p:cNvSpPr txBox="1"/>
          <p:nvPr/>
        </p:nvSpPr>
        <p:spPr>
          <a:xfrm>
            <a:off x="2411280" y="765000"/>
            <a:ext cx="6131160" cy="193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-4680" y="0"/>
            <a:ext cx="920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Arbat-Bold"/>
              </a:rPr>
              <a:t>Отчего загрязняется воздух?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8" name="Picture 4" descr="12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  <p:pic>
        <p:nvPicPr>
          <p:cNvPr id="209" name="Picture 5" descr="13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  <p:pic>
        <p:nvPicPr>
          <p:cNvPr id="210" name="Picture 6" descr="14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  <p:pic>
        <p:nvPicPr>
          <p:cNvPr id="211" name="Picture 7" descr="15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  <p:pic>
        <p:nvPicPr>
          <p:cNvPr id="212" name="Picture 11" descr="17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  <p:pic>
        <p:nvPicPr>
          <p:cNvPr id="213" name="Picture 10" descr="16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5" name="WordArt 5"/>
          <p:cNvSpPr txBox="1"/>
          <p:nvPr/>
        </p:nvSpPr>
        <p:spPr>
          <a:xfrm>
            <a:off x="2268360" y="620640"/>
            <a:ext cx="6050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 Irenus</dc:creator>
  <dc:description/>
  <dc:language>en-US</dc:language>
  <cp:lastModifiedBy>Admin</cp:lastModifiedBy>
  <dcterms:modified xsi:type="dcterms:W3CDTF">2022-10-09T09:29:31Z</dcterms:modified>
  <cp:revision>40</cp:revision>
  <dc:subject/>
  <dc:title>Классная доска</dc:title>
</cp:coreProperties>
</file>