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952C-5DD5-4AE6-A7FC-D85FF65305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F251-DCEF-4157-95E8-D4715BB20A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724-EEE2-472A-82A1-BA965A33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C88-6E84-4D4A-80F6-0020ACB2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A10-4589-43B3-B063-A72D5D5F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9A0-B91B-49C2-84E3-49C1713A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4168-B244-4F3F-B637-C91A081A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63EF-187C-4292-AFF1-068150BE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961D-042A-4D2D-94B7-418F8FE7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B356-FFBC-4350-9278-FFAE3FED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13D4-CF06-4EB8-AC32-60AEDF15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3709-DE65-4716-8372-82A59BA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0A71-51A1-4C98-8883-AAAA417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05B-83C5-4D59-94B7-C98BFFC4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B210-F4CD-48C5-B1DB-7BE7841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6897-FB97-45C5-B144-70C3257A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97B3-0AC9-4864-A280-9B2F3D4C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01F6-0517-4AE1-AA8B-E8F35D78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6DA8-BCD7-4DF9-8DE8-DEF9AC78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EAE3-A415-4D12-B3DB-5CCB79D6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8EB0-4339-45D9-8002-C267AE90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7F96-0660-417C-B57C-BB24DCDF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F6EC-F747-4286-86A3-6D4ED55E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3D8D-9B28-405F-99F0-A709229D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FF2-5005-4EA5-91C2-408D7E0C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D31CA-2928-47F9-877F-8F7976E8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6C94-EC0F-4A95-84D8-B502D53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2264-8B6F-4A31-8F97-7A5C315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29EC-9C55-4BED-9352-507222C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20AB-420E-48FE-A278-F5E64D00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076C-2978-4639-9E81-A5762428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66B2-D3B7-4977-8D0A-1F947403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32E0-A366-44D6-AF71-54BD9111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A8F36-04A6-45AE-9B10-6003859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795B4-60A5-4637-9FF5-0690C449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77D-8955-4766-8644-1DEA420A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10B9-1908-4635-9304-215341E9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DDEB5-3204-481E-814C-0CB7E65F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3E5D-F91B-41B5-8CD1-8EB8374F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05FE-1803-4130-83DC-1D63D3EB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9CCF-9E83-466B-8AED-91DDEC1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E8728-7C4D-4982-BBF3-DC4FF9E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7C36-2C2E-447F-94BF-D36CA3D7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22BC4-3E84-435F-9CB0-95D6EA3E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4BD83-0E02-4866-B365-74E4BDF6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7583-36A5-4B50-88CB-9415440D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763-E778-44A6-A8A8-80B01597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5B6EF-F492-4BE4-A0C5-C018D0D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85A9-3165-4A20-BACC-70FEFE30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60020-B00E-47CA-A709-0ED3A91B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32FF4-0F4B-46E2-AB93-AE50C70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85D26-8363-4270-AD38-80C1C7AC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96AA5-5EF7-483D-9299-BE143F94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3E4A9-7340-4B96-80C4-A18923D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AC3C-015C-41A4-B7E1-62DD225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FB596-D3C9-48F5-8485-6EA5F368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3387-8F0A-466F-A705-E2CDB50F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4E7-3201-4FD2-8789-06CC59E8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8A376-DC8F-4BC8-B68F-AEBAFE14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81F-7C4B-41EC-B6F0-3A61762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567-4A89-4AFA-9651-244CA1D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4D4-458C-48EB-A428-7707A3A2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1026720" y="2292480"/>
            <a:ext cx="4503600" cy="9921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Medium"/>
              </a:rPr>
              <a:t>КЛАССНЫЙ ЧАС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Franklin Gothic Medium"/>
              </a:rPr>
              <a:t>ПОДГОТОВИЛА УЧИТЕЛЬ  БИОЛОГИИ СЛОБОДСКОГО ФИЛИАЛА СТАРОЖИЛОВСКОЙ СРЕДНЕЙ ШКОЛЫ ГОРБУНОВА О.В.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1979640" y="333360"/>
            <a:ext cx="5905440" cy="642600"/>
          </a:xfrm>
          <a:prstGeom prst="rect">
            <a:avLst/>
          </a:prstGeom>
          <a:solidFill>
            <a:srgbClr val="91dffb"/>
          </a:solidFill>
          <a:ln w="25560">
            <a:solidFill>
              <a:srgbClr val="047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«Выберем жизнь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(Профилактика ВИЧ/СП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Рисунок 6" descr="https://polotnos.cdnbro.com/posts/848130-risunok-na-temu-borba-so-spidom-28.jpg"/>
          <p:cNvPicPr/>
          <p:nvPr/>
        </p:nvPicPr>
        <p:blipFill>
          <a:blip r:embed="rId1"/>
          <a:stretch/>
        </p:blipFill>
        <p:spPr>
          <a:xfrm>
            <a:off x="4140360" y="3213000"/>
            <a:ext cx="500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Franklin Gothic Medium"/>
              </a:rPr>
              <a:t>ИСТОРИЯ ВОЗНИКНОВЕНИЯ ВИЧ-ИНФЕКЦИИ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941720"/>
          </a:xfrm>
          <a:prstGeom prst="rect">
            <a:avLst/>
          </a:prstGeom>
          <a:solidFill>
            <a:srgbClr val="91dffb"/>
          </a:solidFill>
          <a:ln w="9360">
            <a:solidFill>
              <a:srgbClr val="5acef9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Franklin Gothic Book"/>
              </a:rPr>
              <a:t>История возникновения ВИЧ-инфекции начинается с регистрации первых случаев этого заболевания (июнь 1981 года). Открытие вируса произошло почти одновременно в двух лабораториях: первоначально он был выделен американцем Робертом Гало (Национальный институт рака), а несколько позже французским ученым Люком Монтанье (институт им. Пастера. Возбудитель болезни получил название «вирус иммунодефицита человека» (ВИЧ)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7" name="Picture 5" descr="JJJ (299)"/>
          <p:cNvPicPr/>
          <p:nvPr/>
        </p:nvPicPr>
        <p:blipFill>
          <a:blip r:embed="rId1"/>
          <a:stretch/>
        </p:blipFill>
        <p:spPr>
          <a:xfrm>
            <a:off x="3059280" y="3789360"/>
            <a:ext cx="3076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920" y="216000"/>
            <a:ext cx="8874000" cy="909360"/>
          </a:xfrm>
          <a:prstGeom prst="rect">
            <a:avLst/>
          </a:prstGeom>
          <a:solidFill>
            <a:srgbClr val="08a1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ЧТО ТАКОЕ ВИЧ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85080" cy="505620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txBody>
          <a:bodyPr anchor="t">
            <a:normAutofit/>
          </a:bodyPr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В - вирус: паразитирующий организм, атакующий и разрушающий человеческие клетки - лейкоциты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И - иммунодефицита: снижение функций иммунной системы, т.е. способности организма противостоять болезням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Ч - человека: носителем этого вируса является только человек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ВИЧ относится к малоустойчивым во внешней среде вирусам. Он гибнет при температуре 56°С в течение 30 минут. Он очень чувствителен к химическим веществам: погибает при воздействии этилового спирта, эфира, хлорамина, и других дезинфикаторов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Весь процесс от момента заражения ВИЧ до развития СПИДа называется ВИЧ-инфекцией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5" descr="JJJ (163)"/>
          <p:cNvPicPr/>
          <p:nvPr/>
        </p:nvPicPr>
        <p:blipFill>
          <a:blip r:embed="rId1"/>
          <a:stretch/>
        </p:blipFill>
        <p:spPr>
          <a:xfrm>
            <a:off x="4932360" y="4076640"/>
            <a:ext cx="2735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0000" y="-14400"/>
            <a:ext cx="8874000" cy="1238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ПИД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395280" y="836640"/>
            <a:ext cx="8280360" cy="436284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индром: совокупность ряда признаков и симптомов, указывающих на наличие определенной боле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обретенного, т.е. не врожденного, а приобретенного в течение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мунного, относящегося к иммунной (защитной) системе орган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дефицита: отсутствие ответной реакции со стороны иммунной системы на внедрение патогенных микроорганизм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щиеся в арсенале врачей лекарственные средства позволяют стабилизировать состояние больного СПИДом, облегчить страдания и продлить жизнь. Не смотря на то, что специфическая терапия позволяет людям, живущим с ВИЧ, вести полноценную жизнь на протяжении многих лет, процесс лечения очень сложный и дорогостоящ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ТАДИИ ТЕЧЕНИЯ ВИЧ-ИНФЕКЦ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2520" y="1801800"/>
            <a:ext cx="5757840" cy="443880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Острый ретровирусный синдро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Латентный (бессимптомный) период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ериод клинических проявлений (СПИД)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5126040" y="1914480"/>
            <a:ext cx="318276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-14400"/>
            <a:ext cx="6840360" cy="1238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ПИД И ЕГО ПРОФИЛАКТИ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5468760" cy="352908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Franklin Gothic Book"/>
              </a:rPr>
              <a:t>Способы заражения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Franklin Gothic Book"/>
              </a:rPr>
              <a:t>Передача ВИЧ при половых контактах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Franklin Gothic Book"/>
              </a:rPr>
              <a:t>Передача ВИЧ через кров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Franklin Gothic Book"/>
              </a:rPr>
              <a:t>Передача от матери к ребенк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8" name="Picture 5" descr="JJJ (98)"/>
          <p:cNvPicPr/>
          <p:nvPr/>
        </p:nvPicPr>
        <p:blipFill>
          <a:blip r:embed="rId1"/>
          <a:stretch/>
        </p:blipFill>
        <p:spPr>
          <a:xfrm>
            <a:off x="4716360" y="4365720"/>
            <a:ext cx="43434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ПИД И ЕГО ПРОФИЛАКТИ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0" name="Picture 4" descr="JJJ (683)"/>
          <p:cNvPicPr/>
          <p:nvPr/>
        </p:nvPicPr>
        <p:blipFill>
          <a:blip r:embed="rId1"/>
          <a:stretch/>
        </p:blipFill>
        <p:spPr>
          <a:xfrm>
            <a:off x="1440" y="1695600"/>
            <a:ext cx="9144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9920" y="216000"/>
            <a:ext cx="8874000" cy="90936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ПИД И ЕГО ПРОФИЛАКТИ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03280" y="1268280"/>
            <a:ext cx="5688000" cy="4176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10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Franklin Gothic Book"/>
              </a:rPr>
              <a:t>Профилактика СПИДа</a:t>
            </a: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– единственный путь борьбы с ним!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10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Franklin Gothic Book"/>
              </a:rPr>
              <a:t>Основные направления профилактики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ff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Соблюдение правил личной гигиен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ff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Обеспечение правил обращения со шприцам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ff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Стерилизация мединструментов и систем переливания кров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ff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Использование одноразовых инструментов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3" name="Picture 5" descr="JJJ (98)"/>
          <p:cNvPicPr/>
          <p:nvPr/>
        </p:nvPicPr>
        <p:blipFill>
          <a:blip r:embed="rId1"/>
          <a:stretch/>
        </p:blipFill>
        <p:spPr>
          <a:xfrm>
            <a:off x="4500720" y="4632480"/>
            <a:ext cx="44352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9:54:12Z</dcterms:created>
  <dc:creator>PASARELLA</dc:creator>
  <dc:description/>
  <dc:language>en-US</dc:language>
  <cp:lastModifiedBy>admin</cp:lastModifiedBy>
  <dcterms:modified xsi:type="dcterms:W3CDTF">2024-03-24T09:55:59Z</dcterms:modified>
  <cp:revision>39</cp:revision>
  <dc:subject/>
  <dc:title>СПИД И ЕГО ПРОФИЛАКТИКА</dc:title>
</cp:coreProperties>
</file>