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849-DCA0-4FBB-9866-68495025C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4305-B817-430F-A8B3-B00B6DA2D6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403-60F8-4DDE-9FD0-08632D5B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BE4-5771-4999-A874-3DC9F54B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243-6D8C-4480-AF98-EA14FDDD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848-AAC8-442A-8900-98D311D4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29EA-7EA9-4692-B2DA-B93D2885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73D-D432-4CEB-9890-D2B0692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465F-53E5-48D8-A085-356631D1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417D-03D4-4054-AB7C-718053C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C5A8-BC8D-443D-ABE9-3DFE6884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56D-8C2D-49C8-8C0A-E8008CDC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3DF7-227F-4CA5-B0B6-5E77333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A36-F8DC-4712-ADD3-BED84A1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17C-6FCC-416A-A3D8-E72A20E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B78-0884-455D-952E-6768BD7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CEAB-7410-4617-B3AB-6A5C8CA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4678-D26A-42EF-AB2F-CD3BCA9D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D701-CF9D-4481-820A-173865B8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099F-73B9-48D2-B322-6339BCB2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F61E-D3C9-4437-8598-9E0FF9C6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2FB5-D1CC-4CFE-BDA5-AD3771B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B673-31B5-4FA3-942B-25936766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DABA-062B-4036-865E-CBF8C42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033-6307-4908-9CE0-4E75658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DA02-5E11-4B03-ADE4-FC670DB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1CB4-1680-49DE-9DE5-B8A02592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3D47-A816-4923-A7E9-B27924F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81A3-56DB-4460-A820-D682554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FF31-E7B8-4761-85A6-EB1B2B4F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EF5F6-8162-4F39-BBD8-FCA1E55B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1EA5-0ACF-4284-9D91-84C28DFA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AD3E-7784-4BA1-8F29-7D32B4A4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2B9F-E4ED-4B94-94F3-B3D1244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B82A6-57B0-461B-B62A-B229281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E59-A77C-43C5-816F-CEFE511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6E70B-8662-421D-953D-EA4E1DD8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6A28-E466-431E-94D4-BC931AF7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A848-2B5B-49FF-85C6-E0479EE9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E70A-77FD-4078-AAB8-C770568C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01DF-ED16-4E2C-AA86-D9014AA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D5D8-1658-433F-AE62-0E589DA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14B3-99B7-4A87-BE0C-971EF64D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EF03-7587-42F5-857C-D9F90080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CEEA-5A8B-4581-B5FF-702796FA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D460-404B-4981-93C9-EDACF33F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CAA-C4D2-4E85-B12E-C0A04D7D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3EA2-0A03-48D8-B424-F39A364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995FA-E6A8-4B1D-95E0-A3987B3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8C00F-75FA-4B03-8123-DBE68FB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01152-AF0C-4F48-BC29-ED0F8293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A090-9D21-4194-B3CF-CCCF8C71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D32C5-E680-465F-9970-41891BE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E6725-DEA2-4C4F-B1BF-96F8EF75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2C866-DADC-4FB4-81F0-99814BC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7672-3846-402B-8F86-6BC0E95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1DA84-BB66-4F4F-BBF9-FF789279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044-C3BF-4F68-B16F-EBC486B0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C4B0-8DAD-4372-894C-1B00DAE4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70D-96F7-4742-882E-EC34EEF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82A-1EDF-4790-8153-62026F3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FF0-1EE4-4D76-A9C5-7EDD927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1026720" y="2292480"/>
            <a:ext cx="4503600" cy="9921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Medium"/>
              </a:rPr>
              <a:t>КЛАССНЫЙ ЧАС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Franklin Gothic Medium"/>
              </a:rPr>
              <a:t>ПОДГОТОВИЛА УЧИТЕЛЬ  БИОЛОГИИ СЛОБОДСКОГО ФИЛИАЛА СТАРОЖИЛОВСКОЙ СРЕДНЕЙ ШКОЛЫ ГОРБУНОВА О.В.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1979640" y="333360"/>
            <a:ext cx="5905440" cy="642600"/>
          </a:xfrm>
          <a:prstGeom prst="rect">
            <a:avLst/>
          </a:prstGeom>
          <a:solidFill>
            <a:srgbClr val="91dffb"/>
          </a:solidFill>
          <a:ln w="25560">
            <a:solidFill>
              <a:srgbClr val="047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Выберем жизнь!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(Профилактика ВИЧ/СП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Рисунок 6" descr="https://polotnos.cdnbro.com/posts/848130-risunok-na-temu-borba-so-spidom-28.jpg"/>
          <p:cNvPicPr/>
          <p:nvPr/>
        </p:nvPicPr>
        <p:blipFill>
          <a:blip r:embed="rId1"/>
          <a:stretch/>
        </p:blipFill>
        <p:spPr>
          <a:xfrm>
            <a:off x="4140360" y="3213000"/>
            <a:ext cx="50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Medium"/>
              </a:rPr>
              <a:t>ИСТОРИЯ ВОЗНИКНОВЕНИЯ ВИЧ-ИНФЕКЦИИ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941720"/>
          </a:xfrm>
          <a:prstGeom prst="rect">
            <a:avLst/>
          </a:prstGeom>
          <a:solidFill>
            <a:srgbClr val="91dffb"/>
          </a:solidFill>
          <a:ln w="9360">
            <a:solidFill>
              <a:srgbClr val="5acef9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Franklin Gothic Book"/>
              </a:rPr>
              <a:t>История возникновения ВИЧ-инфекции начинается с регистрации первых случаев этого заболевания (июнь 1981 года). Открытие вируса произошло почти одновременно в двух лабораториях: первоначально он был выделен американцем Робертом Гало (Национальный институт рака), а несколько позже французским ученым Люком Монтанье (институт им. Пастера. Возбудитель болезни получил название «вирус иммунодефицита человека» (ВИЧ)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7" name="Picture 5" descr="JJJ (299)"/>
          <p:cNvPicPr/>
          <p:nvPr/>
        </p:nvPicPr>
        <p:blipFill>
          <a:blip r:embed="rId1"/>
          <a:stretch/>
        </p:blipFill>
        <p:spPr>
          <a:xfrm>
            <a:off x="3059280" y="3789360"/>
            <a:ext cx="3076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920" y="216000"/>
            <a:ext cx="8874000" cy="909360"/>
          </a:xfrm>
          <a:prstGeom prst="rect">
            <a:avLst/>
          </a:prstGeom>
          <a:solidFill>
            <a:srgbClr val="08a1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ЧТО ТАКОЕ ВИЧ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85080" cy="505620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t">
            <a:normAutofit/>
          </a:bodyPr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В - вирус: паразитирующий организм, атакующий и разрушающий человеческие клетки - лейкоциты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И - иммунодефицита: снижение функций иммунной системы, т.е. способности организма противостоять болезням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Ч - человека: носителем этого вируса является только человек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ВИЧ относится к малоустойчивым во внешней среде вирусам. Он гибнет при температуре 56°С в течение 30 минут. Он очень чувствителен к химическим веществам: погибает при воздействии этилового спирта, эфира, хлорамина, и других дезинфикатор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Franklin Gothic Book"/>
                <a:ea typeface="Arial"/>
              </a:rPr>
              <a:t>Весь процесс от момента заражения ВИЧ до развития СПИДа называется ВИЧ-инфекцией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5" descr="JJJ (163)"/>
          <p:cNvPicPr/>
          <p:nvPr/>
        </p:nvPicPr>
        <p:blipFill>
          <a:blip r:embed="rId1"/>
          <a:stretch/>
        </p:blipFill>
        <p:spPr>
          <a:xfrm>
            <a:off x="4932360" y="4076640"/>
            <a:ext cx="2735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0000" y="-14400"/>
            <a:ext cx="8874000" cy="1238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395280" y="836640"/>
            <a:ext cx="8280360" cy="436284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индром: совокупность ряда признаков и симптомов, указывающих на наличие определенной боле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обретенного, т.е. не врожденного, а приобретенного в течение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мунного, относящегося к иммунной (защитной) системе орган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ефицита: отсутствие ответной реакции со стороны иммунной системы на внедрение патогенных микроорганизм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ющиеся в арсенале врачей лекарственные средства позволяют стабилизировать состояние больного СПИДом, облегчить страдания и продлить жизнь. Не смотря на то, что специфическая терапия позволяет людям, живущим с ВИЧ, вести полноценную жизнь на протяжении многих лет, процесс лечения очень сложный и дорогостоящ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ТАДИИ ТЕЧЕНИЯ ВИЧ-ИНФЕК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2520" y="1801800"/>
            <a:ext cx="5757840" cy="443880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стрый ретровирусный синдро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Латентный (бессимптомный) период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ериод клинических проявлений (СПИД)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5126040" y="1914480"/>
            <a:ext cx="31827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-14400"/>
            <a:ext cx="6840360" cy="1238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 И ЕГО ПРОФИЛАКТИ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5468760" cy="352908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Franklin Gothic Book"/>
              </a:rPr>
              <a:t>Способы заражения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Franklin Gothic Book"/>
              </a:rPr>
              <a:t>Передача ВИЧ при половых контактах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Franklin Gothic Book"/>
              </a:rPr>
              <a:t>Передача ВИЧ через кров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Franklin Gothic Book"/>
              </a:rPr>
              <a:t>Передача от матери к ребенк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8" name="Picture 5" descr="JJJ (98)"/>
          <p:cNvPicPr/>
          <p:nvPr/>
        </p:nvPicPr>
        <p:blipFill>
          <a:blip r:embed="rId1"/>
          <a:stretch/>
        </p:blipFill>
        <p:spPr>
          <a:xfrm>
            <a:off x="4716360" y="4365720"/>
            <a:ext cx="43434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 И ЕГО ПРОФИЛАКТИ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0" name="Picture 4" descr="JJJ (683)"/>
          <p:cNvPicPr/>
          <p:nvPr/>
        </p:nvPicPr>
        <p:blipFill>
          <a:blip r:embed="rId1"/>
          <a:stretch/>
        </p:blipFill>
        <p:spPr>
          <a:xfrm>
            <a:off x="1440" y="1695600"/>
            <a:ext cx="9144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920" y="216000"/>
            <a:ext cx="8874000" cy="909360"/>
          </a:xfrm>
          <a:prstGeom prst="rect">
            <a:avLst/>
          </a:prstGeom>
          <a:solidFill>
            <a:srgbClr val="91d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СПИД И ЕГО ПРОФИЛАКТИК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03280" y="1268280"/>
            <a:ext cx="5688000" cy="4176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Franklin Gothic Book"/>
              </a:rPr>
              <a:t>Профилактика СПИДа</a:t>
            </a:r>
            <a:r>
              <a:rPr b="1" lang="ru-RU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– единственный путь борьбы с ним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Franklin Gothic Book"/>
              </a:rPr>
              <a:t>Основные направления профилактик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Соблюдение правил личной гигиен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Обеспечение правил обращения со шприцам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Стерилизация мединструментов и систем переливания кров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ff00"/>
              </a:buClr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Franklin Gothic Book"/>
              </a:rPr>
              <a:t>Использование одноразовых инструментов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3" name="Picture 5" descr="JJJ (98)"/>
          <p:cNvPicPr/>
          <p:nvPr/>
        </p:nvPicPr>
        <p:blipFill>
          <a:blip r:embed="rId1"/>
          <a:stretch/>
        </p:blipFill>
        <p:spPr>
          <a:xfrm>
            <a:off x="4500720" y="4632480"/>
            <a:ext cx="44352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9:54:12Z</dcterms:created>
  <dc:creator>PASARELLA</dc:creator>
  <dc:description/>
  <dc:language>en-US</dc:language>
  <cp:lastModifiedBy>admin</cp:lastModifiedBy>
  <dcterms:modified xsi:type="dcterms:W3CDTF">2024-03-24T09:55:59Z</dcterms:modified>
  <cp:revision>39</cp:revision>
  <dc:subject/>
  <dc:title>СПИД И ЕГО ПРОФИЛАКТИКА</dc:title>
</cp:coreProperties>
</file>