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CED2-26C3-4F2A-AE65-CCF4700AA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AB75-F857-4455-AE4E-68422885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07DD-7517-4F52-AFAD-7E5B28182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D001-E379-42FE-A54F-FC78B0402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8A4C-3127-40BC-AF17-D9211966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6D8C-1371-4CDE-B4BF-8318B2C0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AB2B-370D-43F7-B6D8-B8A319C3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3E02-ED3E-48C0-8A0D-36E60F37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2773-3069-41BC-AF90-65849A2D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46F6-CF6B-4597-B814-53E36EEE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41C9-544B-45CE-99C4-981A4654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D4C2-EA56-4A40-AE0E-799284C9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4234-03AF-4B26-A918-C74ADE4410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87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ЕЗЕНТАЦИЯ ПО ТЕМЕ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«ПРОДУКТЫ ПИТАНИ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148360" y="3039120"/>
            <a:ext cx="968400" cy="19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Users\юрий\Desktop\ДЕТСКИЕ ПРЕЗЕНТАЦИИ\ПРОДУКТЫ мучные\продукты.jpg"/>
          <p:cNvPicPr/>
          <p:nvPr/>
        </p:nvPicPr>
        <p:blipFill>
          <a:blip r:embed="rId1"/>
          <a:stretch/>
        </p:blipFill>
        <p:spPr>
          <a:xfrm>
            <a:off x="0" y="3286080"/>
            <a:ext cx="5000760" cy="3571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Users\юрий\Desktop\ДЕТСКИЕ ПРЕЗЕНТАЦИИ\ПРОДУКТЫ мучные\продукты2.jpg"/>
          <p:cNvPicPr/>
          <p:nvPr/>
        </p:nvPicPr>
        <p:blipFill>
          <a:blip r:embed="rId2"/>
          <a:stretch/>
        </p:blipFill>
        <p:spPr>
          <a:xfrm>
            <a:off x="4071960" y="1714680"/>
            <a:ext cx="44528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Знает твёрдо с детства Глеб: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На столе главней всех …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Users\юрий\Desktop\ДЕТСКИЕ ПРЕЗЕНТАЦИИ\ПРОДУКТЫ мучные\хлеб белый (батон).jpg"/>
          <p:cNvPicPr/>
          <p:nvPr/>
        </p:nvPicPr>
        <p:blipFill>
          <a:blip r:embed="rId1"/>
          <a:stretch/>
        </p:blipFill>
        <p:spPr>
          <a:xfrm>
            <a:off x="0" y="1428840"/>
            <a:ext cx="4643280" cy="350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юрий\Desktop\ДЕТСКИЕ ПРЕЗЕНТАЦИИ\ПРОДУКТЫ мучные\хлеб черный (буханка).jpg"/>
          <p:cNvPicPr/>
          <p:nvPr/>
        </p:nvPicPr>
        <p:blipFill>
          <a:blip r:embed="rId2"/>
          <a:stretch/>
        </p:blipFill>
        <p:spPr>
          <a:xfrm>
            <a:off x="4357800" y="2071800"/>
            <a:ext cx="47862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Печка из сказки всех просит: «Дружок!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Сьешь мой горячий ржаной …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Users\юрий\Desktop\ДЕТСКИЕ ПРЕЗЕНТАЦИИ\ПРОДУКТЫ мучные\пирожки.jpg"/>
          <p:cNvPicPr/>
          <p:nvPr/>
        </p:nvPicPr>
        <p:blipFill>
          <a:blip r:embed="rId1"/>
          <a:stretch/>
        </p:blipFill>
        <p:spPr>
          <a:xfrm>
            <a:off x="2000160" y="2286000"/>
            <a:ext cx="507708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Женя шёл по переулку,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На ходу жевал он 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C:\Users\юрий\Desktop\ДЕТСКИЕ ПРЕЗЕНТАЦИИ\ПРОДУКТЫ мучные\булка.jpg"/>
          <p:cNvPicPr/>
          <p:nvPr/>
        </p:nvPicPr>
        <p:blipFill>
          <a:blip r:embed="rId1"/>
          <a:stretch/>
        </p:blipFill>
        <p:spPr>
          <a:xfrm>
            <a:off x="2411280" y="1916280"/>
            <a:ext cx="44532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Отложил я все игрушки,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Ем я с творогом 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юрий\Desktop\ДЕТСКИЕ ПРЕЗЕНТАЦИИ\ПРОДУКТЫ мучные\ватрушки.jpg"/>
          <p:cNvPicPr/>
          <p:nvPr/>
        </p:nvPicPr>
        <p:blipFill>
          <a:blip r:embed="rId1"/>
          <a:stretch/>
        </p:blipFill>
        <p:spPr>
          <a:xfrm>
            <a:off x="1357200" y="1928880"/>
            <a:ext cx="6034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Для тонюсеньких ребят лучшее леченье 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Всевозможнейших сортов  вкусное …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Users\юрий\Desktop\ДЕТСКИЕ ПРЕЗЕНТАЦИИ\ПРОДУКТЫ мучные\печенье.jpg"/>
          <p:cNvPicPr/>
          <p:nvPr/>
        </p:nvPicPr>
        <p:blipFill>
          <a:blip r:embed="rId1"/>
          <a:stretch/>
        </p:blipFill>
        <p:spPr>
          <a:xfrm>
            <a:off x="2143080" y="2690640"/>
            <a:ext cx="485784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Только ступим за порог,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Чуем мамин мы …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Users\юрий\Desktop\ДЕТСКИЕ ПРЕЗЕНТАЦИИ\ПРОДУКТЫ мучные\пирог2.jpg"/>
          <p:cNvPicPr/>
          <p:nvPr/>
        </p:nvPicPr>
        <p:blipFill>
          <a:blip r:embed="rId1"/>
          <a:stretch/>
        </p:blipFill>
        <p:spPr>
          <a:xfrm>
            <a:off x="1071720" y="1785960"/>
            <a:ext cx="71737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Каждый день я спозаранку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С молоком жую 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C:\Users\юрий\Desktop\ДЕТСКИЕ ПРЕЗЕНТАЦИИ\ПРОДУКТЫ мучные\баранки.jpg"/>
          <p:cNvPicPr/>
          <p:nvPr/>
        </p:nvPicPr>
        <p:blipFill>
          <a:blip r:embed="rId1"/>
          <a:stretch/>
        </p:blipFill>
        <p:spPr>
          <a:xfrm>
            <a:off x="1913040" y="1600200"/>
            <a:ext cx="5317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Продаются всевозможные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В той кондитерской …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Users\юрий\Desktop\ДЕТСКИЕ ПРЕЗЕНТАЦИИ\ПРОДУКТЫ мучные\пирожные.jpg"/>
          <p:cNvPicPr/>
          <p:nvPr/>
        </p:nvPicPr>
        <p:blipFill>
          <a:blip r:embed="rId1"/>
          <a:stretch/>
        </p:blipFill>
        <p:spPr>
          <a:xfrm>
            <a:off x="1714680" y="2077920"/>
            <a:ext cx="592920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Даже Лондон и Берлин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Любят наш российский …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C:\Users\юрий\Desktop\ДЕТСКИЕ ПРЕЗЕНТАЦИИ\ПРОДУКТЫ мучные\блины.jpg"/>
          <p:cNvPicPr/>
          <p:nvPr/>
        </p:nvPicPr>
        <p:blipFill>
          <a:blip r:embed="rId1"/>
          <a:stretch/>
        </p:blipFill>
        <p:spPr>
          <a:xfrm>
            <a:off x="2000160" y="1928880"/>
            <a:ext cx="51436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Жарят внукам бабушки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Пышные …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C:\Users\юрий\Desktop\ДЕТСКИЕ ПРЕЗЕНТАЦИИ\ПРОДУКТЫ мучные\оладьи.jpg"/>
          <p:cNvPicPr/>
          <p:nvPr/>
        </p:nvPicPr>
        <p:blipFill>
          <a:blip r:embed="rId1"/>
          <a:stretch/>
        </p:blipFill>
        <p:spPr>
          <a:xfrm>
            <a:off x="1285920" y="1643040"/>
            <a:ext cx="671508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МОЛОЧНЫЕ ПРОДУК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юрий\Desktop\ДЕТСКИЕ ПРЕЗЕНТАЦИИ\ПРОДУКТЫ молочные\1 молоко.jpg"/>
          <p:cNvPicPr/>
          <p:nvPr/>
        </p:nvPicPr>
        <p:blipFill>
          <a:blip r:embed="rId1"/>
          <a:stretch/>
        </p:blipFill>
        <p:spPr>
          <a:xfrm>
            <a:off x="2641680" y="1600200"/>
            <a:ext cx="3860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Посчитаем – раз, два, три –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На тарелке 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C:\Users\юрий\Desktop\ДЕТСКИЕ ПРЕЗЕНТАЦИИ\сухари2.jpg"/>
          <p:cNvPicPr/>
          <p:nvPr/>
        </p:nvPicPr>
        <p:blipFill>
          <a:blip r:embed="rId1"/>
          <a:stretch/>
        </p:blipFill>
        <p:spPr>
          <a:xfrm>
            <a:off x="1692360" y="1557360"/>
            <a:ext cx="5904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Угощенье первый сорт –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Мама нам купила 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Users\юрий\Desktop\ДЕТСКИЕ ПРЕЗЕНТАЦИИ\ПРОДУКТЫ мучные\торт.jpg"/>
          <p:cNvPicPr/>
          <p:nvPr/>
        </p:nvPicPr>
        <p:blipFill>
          <a:blip r:embed="rId1"/>
          <a:stretch/>
        </p:blipFill>
        <p:spPr>
          <a:xfrm>
            <a:off x="971640" y="1600200"/>
            <a:ext cx="7129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Нужно нам поторопиться,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Ведь на ужин будет …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Содержимое 4" descr="пицца.jpg"/>
          <p:cNvPicPr/>
          <p:nvPr/>
        </p:nvPicPr>
        <p:blipFill>
          <a:blip r:embed="rId1"/>
          <a:stretch/>
        </p:blipFill>
        <p:spPr>
          <a:xfrm>
            <a:off x="1332000" y="1268280"/>
            <a:ext cx="619272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МЯСНЫЕ  ПРОДУК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C:\Users\юрий\Desktop\ДЕТСКИЕ ПРЕЗЕНТАЦИИ\ПРОДУКТЫ мясные\1 мясо.jpg"/>
          <p:cNvPicPr/>
          <p:nvPr/>
        </p:nvPicPr>
        <p:blipFill>
          <a:blip r:embed="rId1"/>
          <a:stretch/>
        </p:blipFill>
        <p:spPr>
          <a:xfrm>
            <a:off x="1143000" y="1785960"/>
            <a:ext cx="70722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В магазин я хоть босой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Побегу за …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C:\Users\юрий\Desktop\ДЕТСКИЕ ПРЕЗЕНТАЦИИ\ПРОДУКТЫ мясные\колбаса.jpg"/>
          <p:cNvPicPr/>
          <p:nvPr/>
        </p:nvPicPr>
        <p:blipFill>
          <a:blip r:embed="rId1"/>
          <a:stretch/>
        </p:blipFill>
        <p:spPr>
          <a:xfrm>
            <a:off x="857160" y="1571760"/>
            <a:ext cx="74296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За окном зима иль лето –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На второе нам – …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C:\Users\юрий\Desktop\ДЕТСКИЕ ПРЕЗЕНТАЦИИ\ПРОДУКТЫ мясные\котлеты.jpg"/>
          <p:cNvPicPr/>
          <p:nvPr/>
        </p:nvPicPr>
        <p:blipFill>
          <a:blip r:embed="rId1"/>
          <a:stretch/>
        </p:blipFill>
        <p:spPr>
          <a:xfrm>
            <a:off x="1619280" y="1557360"/>
            <a:ext cx="59770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Любим гостить у бабули в Тюмени,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Вкусные лепит она нам 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C:\Users\юрий\Desktop\ДЕТСКИЕ ПРЕЗЕНТАЦИИ\ПРОДУКТЫ мучные\пельмени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Разве можно было киске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Доверять стеречь …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C:\Users\юрий\Desktop\ДЕТСКИЕ ПРЕЗЕНТАЦИИ\ПРОДУКТЫ мясные\сосиски.JPG"/>
          <p:cNvPicPr/>
          <p:nvPr/>
        </p:nvPicPr>
        <p:blipFill>
          <a:blip r:embed="rId1"/>
          <a:stretch/>
        </p:blipFill>
        <p:spPr>
          <a:xfrm>
            <a:off x="1765440" y="1600200"/>
            <a:ext cx="5613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Из мяса сделана она,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Розовая 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C:\Users\юрий\Desktop\ДЕТСКИЕ ПРЕЗЕНТАЦИИ\ПРОДУКТЫ мясные\ветчина.jpg"/>
          <p:cNvPicPr/>
          <p:nvPr/>
        </p:nvPicPr>
        <p:blipFill>
          <a:blip r:embed="rId1"/>
          <a:stretch/>
        </p:blipFill>
        <p:spPr>
          <a:xfrm>
            <a:off x="1643040" y="178596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Я продукт тебе известный.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Ну-ка, съешь меня скорей!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Я сосискина сестрёнка,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Только толще и сочне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C:\Users\юрий\Desktop\ДЕТСКИЕ ПРЕЗЕНТАЦИИ\ПРОДУКТЫ мясные\сардельки.jpg"/>
          <p:cNvPicPr/>
          <p:nvPr/>
        </p:nvPicPr>
        <p:blipFill>
          <a:blip r:embed="rId1"/>
          <a:stretch/>
        </p:blipFill>
        <p:spPr>
          <a:xfrm>
            <a:off x="1928880" y="2500200"/>
            <a:ext cx="54291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Я расти быстрее стану,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Если буду есть …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Users\юрий\Desktop\ДЕТСКИЕ ПРЕЗЕНТАЦИИ\ПРОДУКТЫ молочные\сметана.jpg"/>
          <p:cNvPicPr/>
          <p:nvPr/>
        </p:nvPicPr>
        <p:blipFill>
          <a:blip r:embed="rId1"/>
          <a:stretch/>
        </p:blipFill>
        <p:spPr>
          <a:xfrm>
            <a:off x="1835280" y="1957320"/>
            <a:ext cx="547344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Завернула мама мясо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В листики капустные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И сварила на обед –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Очень-очень вкусны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C:\Users\юрий\Desktop\ДЕТСКИЕ ПРЕЗЕНТАЦИИ\ПРОДУКТЫ мясные\голубцы.jpg"/>
          <p:cNvPicPr/>
          <p:nvPr/>
        </p:nvPicPr>
        <p:blipFill>
          <a:blip r:embed="rId1"/>
          <a:stretch/>
        </p:blipFill>
        <p:spPr>
          <a:xfrm>
            <a:off x="1285920" y="2428920"/>
            <a:ext cx="67626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Даже те, кто ходит в ясли,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Знают толк в коровьем …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4" descr="масло.jpg"/>
          <p:cNvPicPr/>
          <p:nvPr/>
        </p:nvPicPr>
        <p:blipFill>
          <a:blip r:embed="rId1"/>
          <a:stretch/>
        </p:blipFill>
        <p:spPr>
          <a:xfrm>
            <a:off x="1763640" y="1600200"/>
            <a:ext cx="554508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Если видишь мало дыр,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То невкусный это …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юрий\Desktop\ДЕТСКИЕ ПРЕЗЕНТАЦИИ\ПРОДУКТЫ молочные\сыр.jpg"/>
          <p:cNvPicPr/>
          <p:nvPr/>
        </p:nvPicPr>
        <p:blipFill>
          <a:blip r:embed="rId1"/>
          <a:stretch/>
        </p:blipFill>
        <p:spPr>
          <a:xfrm>
            <a:off x="2243160" y="1600200"/>
            <a:ext cx="4657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Для здоровья дорог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Белый свежий 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Users\юрий\Desktop\ДЕТСКИЕ ПРЕЗЕНТАЦИИ\ПРОДУКТЫ молочные\творог.jpg"/>
          <p:cNvPicPr/>
          <p:nvPr/>
        </p:nvPicPr>
        <p:blipFill>
          <a:blip r:embed="rId1"/>
          <a:stretch/>
        </p:blipFill>
        <p:spPr>
          <a:xfrm>
            <a:off x="1763640" y="2133720"/>
            <a:ext cx="597384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Хоть кислее, чем зефир,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Но полезнее 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Users\юрий\Desktop\ДЕТСКИЕ ПРЕЗЕНТАЦИИ\ПРОДУКТЫ молочные\кефир.jpg"/>
          <p:cNvPicPr/>
          <p:nvPr/>
        </p:nvPicPr>
        <p:blipFill>
          <a:blip r:embed="rId1"/>
          <a:stretch/>
        </p:blipFill>
        <p:spPr>
          <a:xfrm>
            <a:off x="1763640" y="1484280"/>
            <a:ext cx="54007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Немножко сметану напоминает,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С фруктами  и ягодами бывае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юрий\Desktop\ДЕТСКИЕ ПРЕЗЕНТАЦИИ\ПРОДУКТЫ молочные\йогурт.jpg"/>
          <p:cNvPicPr/>
          <p:nvPr/>
        </p:nvPicPr>
        <p:blipFill>
          <a:blip r:embed="rId1"/>
          <a:stretch/>
        </p:blipFill>
        <p:spPr>
          <a:xfrm>
            <a:off x="2071800" y="2286000"/>
            <a:ext cx="5595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МУЧНЫЕ ПРОДУКТЫ</a:t>
            </a:r>
            <a:br>
              <a:rPr sz="4400"/>
            </a:b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(ХЛЕБО-БУЛОЧНЫЕ и КОНДИТЕРСКИЕ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юрий\Desktop\ДЕТСКИЕ ПРЕЗЕНТАЦИИ\ПРОДУКТЫ мучные\изделия из муки.jpg"/>
          <p:cNvPicPr/>
          <p:nvPr/>
        </p:nvPicPr>
        <p:blipFill>
          <a:blip r:embed="rId1"/>
          <a:stretch/>
        </p:blipFill>
        <p:spPr>
          <a:xfrm>
            <a:off x="2214720" y="1754280"/>
            <a:ext cx="485748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13:26:27Z</dcterms:created>
  <dc:creator>юрий</dc:creator>
  <dc:description/>
  <dc:language>en-US</dc:language>
  <cp:lastModifiedBy>admin</cp:lastModifiedBy>
  <dcterms:modified xsi:type="dcterms:W3CDTF">2018-12-01T05:24:59Z</dcterms:modified>
  <cp:revision>26</cp:revision>
  <dc:subject/>
  <dc:title>ПРЕЗЕНТАЦИЯ ПО ТЕМЕ «ПРОДУКТЫ ПИТАНИЯ»</dc:title>
</cp:coreProperties>
</file>