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B96-8673-44C5-AB31-CC5C3C88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597-D7BE-4585-99A0-7F2286A6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A0AF-6FC4-4E77-94E8-78604C6F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679-9749-428C-AE8C-CDDB688A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35B-CDBA-4C21-84FD-E6F5DFDA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6FC-453E-45B6-9105-EFD4ABBE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0EF-34F7-43F9-9D55-5A654EA8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09D-4FCB-4DE3-8622-D6D6BC7D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225-A029-4B82-839C-EAC3BCC7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956-A756-4970-A888-92F94605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4EC-7543-444C-9B5A-31220BC4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D95-FE56-4D42-A01B-9D7103E2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83E5-3C81-4A50-8C09-F913DDA8DB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87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ЕЗЕНТАЦИЯ ПО ТЕМ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ПРОДУКТЫ ПИТА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8360" y="3039120"/>
            <a:ext cx="96840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юрий\Desktop\ДЕТСКИЕ ПРЕЗЕНТАЦИИ\ПРОДУКТЫ мучные\продукты.jpg"/>
          <p:cNvPicPr/>
          <p:nvPr/>
        </p:nvPicPr>
        <p:blipFill>
          <a:blip r:embed="rId1"/>
          <a:stretch/>
        </p:blipFill>
        <p:spPr>
          <a:xfrm>
            <a:off x="0" y="3286080"/>
            <a:ext cx="5000760" cy="357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юрий\Desktop\ДЕТСКИЕ ПРЕЗЕНТАЦИИ\ПРОДУКТЫ мучные\продукты2.jpg"/>
          <p:cNvPicPr/>
          <p:nvPr/>
        </p:nvPicPr>
        <p:blipFill>
          <a:blip r:embed="rId2"/>
          <a:stretch/>
        </p:blipFill>
        <p:spPr>
          <a:xfrm>
            <a:off x="4071960" y="1714680"/>
            <a:ext cx="44528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Знает твёрдо с детства Глеб: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а столе главней всех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юрий\Desktop\ДЕТСКИЕ ПРЕЗЕНТАЦИИ\ПРОДУКТЫ мучные\хлеб белый (батон).jpg"/>
          <p:cNvPicPr/>
          <p:nvPr/>
        </p:nvPicPr>
        <p:blipFill>
          <a:blip r:embed="rId1"/>
          <a:stretch/>
        </p:blipFill>
        <p:spPr>
          <a:xfrm>
            <a:off x="0" y="142884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юрий\Desktop\ДЕТСКИЕ ПРЕЗЕНТАЦИИ\ПРОДУКТЫ мучные\хлеб черный (буханка).jpg"/>
          <p:cNvPicPr/>
          <p:nvPr/>
        </p:nvPicPr>
        <p:blipFill>
          <a:blip r:embed="rId2"/>
          <a:stretch/>
        </p:blipFill>
        <p:spPr>
          <a:xfrm>
            <a:off x="4357800" y="2071800"/>
            <a:ext cx="4786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ечка из сказки всех просит: «Дружок!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ьешь мой горячий ржаной …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юрий\Desktop\ДЕТСКИЕ ПРЕЗЕНТАЦИИ\ПРОДУКТЫ мучные\пирожки.jpg"/>
          <p:cNvPicPr/>
          <p:nvPr/>
        </p:nvPicPr>
        <p:blipFill>
          <a:blip r:embed="rId1"/>
          <a:stretch/>
        </p:blipFill>
        <p:spPr>
          <a:xfrm>
            <a:off x="2000160" y="2286000"/>
            <a:ext cx="50770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Женя шёл по переулку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а ходу жевал он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:\Users\юрий\Desktop\ДЕТСКИЕ ПРЕЗЕНТАЦИИ\ПРОДУКТЫ мучные\булка.jpg"/>
          <p:cNvPicPr/>
          <p:nvPr/>
        </p:nvPicPr>
        <p:blipFill>
          <a:blip r:embed="rId1"/>
          <a:stretch/>
        </p:blipFill>
        <p:spPr>
          <a:xfrm>
            <a:off x="2411280" y="1916280"/>
            <a:ext cx="44532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Отложил я все игрушки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Ем я с творогом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юрий\Desktop\ДЕТСКИЕ ПРЕЗЕНТАЦИИ\ПРОДУКТЫ мучные\ватрушки.jpg"/>
          <p:cNvPicPr/>
          <p:nvPr/>
        </p:nvPicPr>
        <p:blipFill>
          <a:blip r:embed="rId1"/>
          <a:stretch/>
        </p:blipFill>
        <p:spPr>
          <a:xfrm>
            <a:off x="1357200" y="192888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ля тонюсеньких ребят лучшее леченье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севозможнейших сортов  вкусное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юрий\Desktop\ДЕТСКИЕ ПРЕЗЕНТАЦИИ\ПРОДУКТЫ мучные\печенье.jpg"/>
          <p:cNvPicPr/>
          <p:nvPr/>
        </p:nvPicPr>
        <p:blipFill>
          <a:blip r:embed="rId1"/>
          <a:stretch/>
        </p:blipFill>
        <p:spPr>
          <a:xfrm>
            <a:off x="2143080" y="2690640"/>
            <a:ext cx="485784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Только ступим за порог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Чуем мамин мы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юрий\Desktop\ДЕТСКИЕ ПРЕЗЕНТАЦИИ\ПРОДУКТЫ мучные\пирог2.jpg"/>
          <p:cNvPicPr/>
          <p:nvPr/>
        </p:nvPicPr>
        <p:blipFill>
          <a:blip r:embed="rId1"/>
          <a:stretch/>
        </p:blipFill>
        <p:spPr>
          <a:xfrm>
            <a:off x="1071720" y="1785960"/>
            <a:ext cx="7173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Каждый день я спозаранку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 молоком жую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юрий\Desktop\ДЕТСКИЕ ПРЕЗЕНТАЦИИ\ПРОДУКТЫ мучные\баранки.jpg"/>
          <p:cNvPicPr/>
          <p:nvPr/>
        </p:nvPicPr>
        <p:blipFill>
          <a:blip r:embed="rId1"/>
          <a:stretch/>
        </p:blipFill>
        <p:spPr>
          <a:xfrm>
            <a:off x="1913040" y="1600200"/>
            <a:ext cx="53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родаются всевозможные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 той кондитерской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юрий\Desktop\ДЕТСКИЕ ПРЕЗЕНТАЦИИ\ПРОДУКТЫ мучные\пирожные.jpg"/>
          <p:cNvPicPr/>
          <p:nvPr/>
        </p:nvPicPr>
        <p:blipFill>
          <a:blip r:embed="rId1"/>
          <a:stretch/>
        </p:blipFill>
        <p:spPr>
          <a:xfrm>
            <a:off x="1714680" y="2077920"/>
            <a:ext cx="59292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аже Лондон и Берлин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Любят наш российский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юрий\Desktop\ДЕТСКИЕ ПРЕЗЕНТАЦИИ\ПРОДУКТЫ мучные\блины.jpg"/>
          <p:cNvPicPr/>
          <p:nvPr/>
        </p:nvPicPr>
        <p:blipFill>
          <a:blip r:embed="rId1"/>
          <a:stretch/>
        </p:blipFill>
        <p:spPr>
          <a:xfrm>
            <a:off x="2000160" y="1928880"/>
            <a:ext cx="51436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Жарят внукам бабушки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ышные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юрий\Desktop\ДЕТСКИЕ ПРЕЗЕНТАЦИИ\ПРОДУКТЫ мучные\оладьи.jpg"/>
          <p:cNvPicPr/>
          <p:nvPr/>
        </p:nvPicPr>
        <p:blipFill>
          <a:blip r:embed="rId1"/>
          <a:stretch/>
        </p:blipFill>
        <p:spPr>
          <a:xfrm>
            <a:off x="1285920" y="1643040"/>
            <a:ext cx="671508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МОЛОЧНЫЕ ПРОДУ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юрий\Desktop\ДЕТСКИЕ ПРЕЗЕНТАЦИИ\ПРОДУКТЫ молочные\1 молоко.jpg"/>
          <p:cNvPicPr/>
          <p:nvPr/>
        </p:nvPicPr>
        <p:blipFill>
          <a:blip r:embed="rId1"/>
          <a:stretch/>
        </p:blipFill>
        <p:spPr>
          <a:xfrm>
            <a:off x="2641680" y="1600200"/>
            <a:ext cx="3860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осчитаем – раз, два, три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а тарелке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юрий\Desktop\ДЕТСКИЕ ПРЕЗЕНТАЦИИ\сухари2.jpg"/>
          <p:cNvPicPr/>
          <p:nvPr/>
        </p:nvPicPr>
        <p:blipFill>
          <a:blip r:embed="rId1"/>
          <a:stretch/>
        </p:blipFill>
        <p:spPr>
          <a:xfrm>
            <a:off x="1692360" y="1557360"/>
            <a:ext cx="590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Угощенье первый сорт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Мама нам купила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юрий\Desktop\ДЕТСКИЕ ПРЕЗЕНТАЦИИ\ПРОДУКТЫ мучные\торт.jpg"/>
          <p:cNvPicPr/>
          <p:nvPr/>
        </p:nvPicPr>
        <p:blipFill>
          <a:blip r:embed="rId1"/>
          <a:stretch/>
        </p:blipFill>
        <p:spPr>
          <a:xfrm>
            <a:off x="971640" y="1600200"/>
            <a:ext cx="712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ужно нам поторопиться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едь на ужин будет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4" descr="пицца.jpg"/>
          <p:cNvPicPr/>
          <p:nvPr/>
        </p:nvPicPr>
        <p:blipFill>
          <a:blip r:embed="rId1"/>
          <a:stretch/>
        </p:blipFill>
        <p:spPr>
          <a:xfrm>
            <a:off x="1332000" y="1268280"/>
            <a:ext cx="6192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МЯСНЫЕ  ПРОДУ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юрий\Desktop\ДЕТСКИЕ ПРЕЗЕНТАЦИИ\ПРОДУКТЫ мясные\1 мясо.jpg"/>
          <p:cNvPicPr/>
          <p:nvPr/>
        </p:nvPicPr>
        <p:blipFill>
          <a:blip r:embed="rId1"/>
          <a:stretch/>
        </p:blipFill>
        <p:spPr>
          <a:xfrm>
            <a:off x="1143000" y="1785960"/>
            <a:ext cx="70722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 магазин я хоть босой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обегу за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юрий\Desktop\ДЕТСКИЕ ПРЕЗЕНТАЦИИ\ПРОДУКТЫ мясные\колбаса.jpg"/>
          <p:cNvPicPr/>
          <p:nvPr/>
        </p:nvPicPr>
        <p:blipFill>
          <a:blip r:embed="rId1"/>
          <a:stretch/>
        </p:blipFill>
        <p:spPr>
          <a:xfrm>
            <a:off x="857160" y="1571760"/>
            <a:ext cx="74296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За окном зима иль лето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а второе нам –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юрий\Desktop\ДЕТСКИЕ ПРЕЗЕНТАЦИИ\ПРОДУКТЫ мясные\котлеты.jpg"/>
          <p:cNvPicPr/>
          <p:nvPr/>
        </p:nvPicPr>
        <p:blipFill>
          <a:blip r:embed="rId1"/>
          <a:stretch/>
        </p:blipFill>
        <p:spPr>
          <a:xfrm>
            <a:off x="1619280" y="1557360"/>
            <a:ext cx="5977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Любим гостить у бабули в Тюмени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кусные лепит она нам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юрий\Desktop\ДЕТСКИЕ ПРЕЗЕНТАЦИИ\ПРОДУКТЫ мучные\пельмени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Разве можно было киске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оверять стеречь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юрий\Desktop\ДЕТСКИЕ ПРЕЗЕНТАЦИИ\ПРОДУКТЫ мясные\сосиски.JPG"/>
          <p:cNvPicPr/>
          <p:nvPr/>
        </p:nvPicPr>
        <p:blipFill>
          <a:blip r:embed="rId1"/>
          <a:stretch/>
        </p:blipFill>
        <p:spPr>
          <a:xfrm>
            <a:off x="1765440" y="1600200"/>
            <a:ext cx="5613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Из мяса сделана она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Розовая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юрий\Desktop\ДЕТСКИЕ ПРЕЗЕНТАЦИИ\ПРОДУКТЫ мясные\ветчина.jpg"/>
          <p:cNvPicPr/>
          <p:nvPr/>
        </p:nvPicPr>
        <p:blipFill>
          <a:blip r:embed="rId1"/>
          <a:stretch/>
        </p:blipFill>
        <p:spPr>
          <a:xfrm>
            <a:off x="1643040" y="178596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Я продукт тебе известный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у-ка, съешь меня скорей!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Я сосискина сестрёнка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Только толще и сочн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юрий\Desktop\ДЕТСКИЕ ПРЕЗЕНТАЦИИ\ПРОДУКТЫ мясные\сардельки.jpg"/>
          <p:cNvPicPr/>
          <p:nvPr/>
        </p:nvPicPr>
        <p:blipFill>
          <a:blip r:embed="rId1"/>
          <a:stretch/>
        </p:blipFill>
        <p:spPr>
          <a:xfrm>
            <a:off x="1928880" y="2500200"/>
            <a:ext cx="5429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Я расти быстрее стану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Если буду есть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юрий\Desktop\ДЕТСКИЕ ПРЕЗЕНТАЦИИ\ПРОДУКТЫ молочные\сметана.jpg"/>
          <p:cNvPicPr/>
          <p:nvPr/>
        </p:nvPicPr>
        <p:blipFill>
          <a:blip r:embed="rId1"/>
          <a:stretch/>
        </p:blipFill>
        <p:spPr>
          <a:xfrm>
            <a:off x="1835280" y="1957320"/>
            <a:ext cx="54734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Завернула мама мясо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 листики капустные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И сварила на обед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Очень-очень вкусны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юрий\Desktop\ДЕТСКИЕ ПРЕЗЕНТАЦИИ\ПРОДУКТЫ мясные\голубцы.jpg"/>
          <p:cNvPicPr/>
          <p:nvPr/>
        </p:nvPicPr>
        <p:blipFill>
          <a:blip r:embed="rId1"/>
          <a:stretch/>
        </p:blipFill>
        <p:spPr>
          <a:xfrm>
            <a:off x="1285920" y="2428920"/>
            <a:ext cx="6762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аже те, кто ходит в ясли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Знают толк в коровьем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масло.jpg"/>
          <p:cNvPicPr/>
          <p:nvPr/>
        </p:nvPicPr>
        <p:blipFill>
          <a:blip r:embed="rId1"/>
          <a:stretch/>
        </p:blipFill>
        <p:spPr>
          <a:xfrm>
            <a:off x="1763640" y="1600200"/>
            <a:ext cx="55450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Если видишь мало дыр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То невкусный это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юрий\Desktop\ДЕТСКИЕ ПРЕЗЕНТАЦИИ\ПРОДУКТЫ молочные\сыр.jpg"/>
          <p:cNvPicPr/>
          <p:nvPr/>
        </p:nvPicPr>
        <p:blipFill>
          <a:blip r:embed="rId1"/>
          <a:stretch/>
        </p:blipFill>
        <p:spPr>
          <a:xfrm>
            <a:off x="2243160" y="1600200"/>
            <a:ext cx="465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ля здоровья дорог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Белый свежий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юрий\Desktop\ДЕТСКИЕ ПРЕЗЕНТАЦИИ\ПРОДУКТЫ молочные\творог.jpg"/>
          <p:cNvPicPr/>
          <p:nvPr/>
        </p:nvPicPr>
        <p:blipFill>
          <a:blip r:embed="rId1"/>
          <a:stretch/>
        </p:blipFill>
        <p:spPr>
          <a:xfrm>
            <a:off x="1763640" y="2133720"/>
            <a:ext cx="597384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Хоть кислее, чем зефир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о полезнее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юрий\Desktop\ДЕТСКИЕ ПРЕЗЕНТАЦИИ\ПРОДУКТЫ молочные\кефир.jpg"/>
          <p:cNvPicPr/>
          <p:nvPr/>
        </p:nvPicPr>
        <p:blipFill>
          <a:blip r:embed="rId1"/>
          <a:stretch/>
        </p:blipFill>
        <p:spPr>
          <a:xfrm>
            <a:off x="1763640" y="1484280"/>
            <a:ext cx="5400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емножко сметану напоминает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 фруктами  и ягодами быва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юрий\Desktop\ДЕТСКИЕ ПРЕЗЕНТАЦИИ\ПРОДУКТЫ молочные\йогурт.jpg"/>
          <p:cNvPicPr/>
          <p:nvPr/>
        </p:nvPicPr>
        <p:blipFill>
          <a:blip r:embed="rId1"/>
          <a:stretch/>
        </p:blipFill>
        <p:spPr>
          <a:xfrm>
            <a:off x="2071800" y="2286000"/>
            <a:ext cx="5595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МУЧНЫЕ ПРОДУКТЫ</a:t>
            </a:r>
            <a:br>
              <a:rPr sz="4400"/>
            </a:b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(ХЛЕБО-БУЛОЧНЫЕ и КОНДИТЕРСКИ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юрий\Desktop\ДЕТСКИЕ ПРЕЗЕНТАЦИИ\ПРОДУКТЫ мучные\изделия из муки.jpg"/>
          <p:cNvPicPr/>
          <p:nvPr/>
        </p:nvPicPr>
        <p:blipFill>
          <a:blip r:embed="rId1"/>
          <a:stretch/>
        </p:blipFill>
        <p:spPr>
          <a:xfrm>
            <a:off x="2214720" y="1754280"/>
            <a:ext cx="48574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3:26:27Z</dcterms:created>
  <dc:creator>юрий</dc:creator>
  <dc:description/>
  <dc:language>en-US</dc:language>
  <cp:lastModifiedBy>admin</cp:lastModifiedBy>
  <dcterms:modified xsi:type="dcterms:W3CDTF">2018-12-01T05:24:59Z</dcterms:modified>
  <cp:revision>26</cp:revision>
  <dc:subject/>
  <dc:title>ПРЕЗЕНТАЦИЯ ПО ТЕМЕ «ПРОДУКТЫ ПИТАНИЯ»</dc:title>
</cp:coreProperties>
</file>