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AED-36FC-4E26-A1A2-0CA8E5F5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4CD-84A8-4ACD-B335-BDB0C44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DF3-70E3-4245-A1AF-84D76979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DD2-0CAE-4D8C-85ED-9CB7FF6C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914-C810-46C9-9157-AAC8B52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21F-A833-43E2-AB2E-67799D5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4EC-F44C-4572-9FB2-8F758DBF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C20-9CC9-432B-AA7A-C7E5DD97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FB3-6E3D-49E8-A157-BA7770E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7B0-EEC0-4014-8927-8D120DE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2C3-3667-4CCB-A4C7-9EDCB19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B9A-5659-40F0-BC41-658D280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169-9227-4075-9626-7AFF3CA7A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go.mail.ru/frame.html?&amp;imgurl=http%3A%2F%2Fshkolazhizni.ru%2Fimg%2Fcontent%2Fi5%2F5556.gif&amp;pageurl=http%3A%2F%2Fwww.slami.ru%2Fnetcat%2Fmodules%2Fcatalog%2FCNT03899&amp;id=21575750&amp;iid=5&amp;imgwidth=400&amp;imgheight=295&amp;imgsize=6791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ероника Дуда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F:\Оркестр\1262778562_dudarova.jpg"/>
          <p:cNvPicPr/>
          <p:nvPr/>
        </p:nvPicPr>
        <p:blipFill>
          <a:blip r:embed="rId1"/>
          <a:stretch/>
        </p:blipFill>
        <p:spPr>
          <a:xfrm>
            <a:off x="762120" y="1447920"/>
            <a:ext cx="3819240" cy="402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Оркестр\dudarova.jpg"/>
          <p:cNvPicPr/>
          <p:nvPr/>
        </p:nvPicPr>
        <p:blipFill>
          <a:blip r:embed="rId2"/>
          <a:stretch/>
        </p:blipFill>
        <p:spPr>
          <a:xfrm>
            <a:off x="5029200" y="1981080"/>
            <a:ext cx="342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19360" y="274680"/>
            <a:ext cx="472428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«Когда играешь Баха или Моцарта, Вивальди или Гайдна, Шостаковича или Щедрина, Губайдулину или Шнитке, происходит работа души. Мне всегда хотелось, чтобы человек после концерта чувствовал себя окрыленным»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         В. Спива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3"/>
          <p:cNvPicPr/>
          <p:nvPr/>
        </p:nvPicPr>
        <p:blipFill>
          <a:blip r:embed="rId1"/>
          <a:stretch/>
        </p:blipFill>
        <p:spPr>
          <a:xfrm>
            <a:off x="152280" y="762120"/>
            <a:ext cx="4319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1.Я сегодня узнал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2.Было интересн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3.Было трудн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4.Я научился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5.Мне захотелось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рунные смычковые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5"/>
          <p:cNvPicPr/>
          <p:nvPr/>
        </p:nvPicPr>
        <p:blipFill>
          <a:blip r:embed="rId1"/>
          <a:stretch/>
        </p:blipFill>
        <p:spPr>
          <a:xfrm>
            <a:off x="609480" y="1600200"/>
            <a:ext cx="3256200" cy="495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16"/>
          <p:cNvPicPr/>
          <p:nvPr/>
        </p:nvPicPr>
        <p:blipFill>
          <a:blip r:embed="rId2"/>
          <a:stretch/>
        </p:blipFill>
        <p:spPr>
          <a:xfrm>
            <a:off x="5181480" y="1676520"/>
            <a:ext cx="3108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27468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Деревянные духовые инстр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0"/>
          <p:cNvPicPr/>
          <p:nvPr/>
        </p:nvPicPr>
        <p:blipFill>
          <a:blip r:embed="rId1"/>
          <a:stretch/>
        </p:blipFill>
        <p:spPr>
          <a:xfrm>
            <a:off x="457200" y="457200"/>
            <a:ext cx="37180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Медные духовые инстру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2"/>
          <p:cNvPicPr/>
          <p:nvPr/>
        </p:nvPicPr>
        <p:blipFill>
          <a:blip r:embed="rId1"/>
          <a:stretch/>
        </p:blipFill>
        <p:spPr>
          <a:xfrm>
            <a:off x="6248520" y="4038480"/>
            <a:ext cx="2354040" cy="243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3"/>
          <p:cNvPicPr/>
          <p:nvPr/>
        </p:nvPicPr>
        <p:blipFill>
          <a:blip r:embed="rId2"/>
          <a:stretch/>
        </p:blipFill>
        <p:spPr>
          <a:xfrm>
            <a:off x="6248520" y="1371600"/>
            <a:ext cx="2411280" cy="254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4"/>
          <p:cNvPicPr/>
          <p:nvPr/>
        </p:nvPicPr>
        <p:blipFill>
          <a:blip r:embed="rId3"/>
          <a:stretch/>
        </p:blipFill>
        <p:spPr>
          <a:xfrm>
            <a:off x="228600" y="1447920"/>
            <a:ext cx="2806560" cy="3846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"/>
          <p:cNvPicPr/>
          <p:nvPr/>
        </p:nvPicPr>
        <p:blipFill>
          <a:blip r:embed="rId4"/>
          <a:stretch/>
        </p:blipFill>
        <p:spPr>
          <a:xfrm>
            <a:off x="3352680" y="3124080"/>
            <a:ext cx="2646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0920" y="380520"/>
            <a:ext cx="49532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Ударные инстру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1"/>
          <p:cNvPicPr/>
          <p:nvPr/>
        </p:nvPicPr>
        <p:blipFill>
          <a:blip r:embed="rId1"/>
          <a:stretch/>
        </p:blipFill>
        <p:spPr>
          <a:xfrm>
            <a:off x="304920" y="4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?id=21575750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114800"/>
            <a:ext cx="3029040" cy="22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is?-84VVPyWinzN8WaF1c2lQk9GILZ9bPA7Xr3FO0ShGNM"/>
          <p:cNvPicPr/>
          <p:nvPr/>
        </p:nvPicPr>
        <p:blipFill>
          <a:blip r:embed="rId4"/>
          <a:stretch/>
        </p:blipFill>
        <p:spPr>
          <a:xfrm>
            <a:off x="1295280" y="5181480"/>
            <a:ext cx="20574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Monotype Corsiva"/>
              </a:rPr>
              <a:t>Дирижер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– (франц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направлять, управлять, руководит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«Чтобы быть дирижером нужно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9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пособности, качества, которыми должен обладать дириж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ороший музыкальный сл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оммуникаб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Жизненная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колепная физическ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ромадная сила в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-  Широчайший кругозор знаний в самых разных обла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Monotype Corsiva"/>
              </a:rPr>
              <a:t>Евгений Светлан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Оркестр\af_att_34799_1.jpg"/>
          <p:cNvPicPr/>
          <p:nvPr/>
        </p:nvPicPr>
        <p:blipFill>
          <a:blip r:embed="rId1"/>
          <a:stretch/>
        </p:blipFill>
        <p:spPr>
          <a:xfrm>
            <a:off x="167652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3-24T08:19:1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