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D00E-1065-44E9-A827-A1897488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2E5-C2B6-4DD4-8B31-9CE1EBA8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DE6-8AE1-4771-898F-81F197A2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DC33-3FAF-4A58-9214-C6A874F3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CE4-AB23-4BAB-B722-290607EB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577-2FC3-43FE-8B3B-6EE96D5C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959-F815-4267-843B-6C54A921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864E-B106-4D1A-B72D-A8643CE6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BA1-91FF-49E7-924F-4181BE2B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AA1-6438-4148-A44B-9D91F877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6B8-F80D-496B-844C-C57E0982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D2D-1D96-4F4C-A843-527BB817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C1BF-AC37-4E01-8556-EB4B036690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go.mail.ru/frame.html?&amp;imgurl=http%3A%2F%2Fshkolazhizni.ru%2Fimg%2Fcontent%2Fi5%2F5556.gif&amp;pageurl=http%3A%2F%2Fwww.slami.ru%2Fnetcat%2Fmodules%2Fcatalog%2FCNT03899&amp;id=21575750&amp;iid=5&amp;imgwidth=400&amp;imgheight=295&amp;imgsize=67910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Вероника Дудар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F:\Оркестр\1262778562_dudarova.jpg"/>
          <p:cNvPicPr/>
          <p:nvPr/>
        </p:nvPicPr>
        <p:blipFill>
          <a:blip r:embed="rId1"/>
          <a:stretch/>
        </p:blipFill>
        <p:spPr>
          <a:xfrm>
            <a:off x="762120" y="1447920"/>
            <a:ext cx="3819240" cy="4020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F:\Оркестр\dudarova.jpg"/>
          <p:cNvPicPr/>
          <p:nvPr/>
        </p:nvPicPr>
        <p:blipFill>
          <a:blip r:embed="rId2"/>
          <a:stretch/>
        </p:blipFill>
        <p:spPr>
          <a:xfrm>
            <a:off x="5029200" y="1981080"/>
            <a:ext cx="3422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19360" y="274680"/>
            <a:ext cx="472428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«Когда играешь Баха или Моцарта, Вивальди или Гайдна, Шостаковича или Щедрина, Губайдулину или Шнитке, происходит работа души. Мне всегда хотелось, чтобы человек после концерта чувствовал себя окрыленным»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                  В. Спива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3"/>
          <p:cNvPicPr/>
          <p:nvPr/>
        </p:nvPicPr>
        <p:blipFill>
          <a:blip r:embed="rId1"/>
          <a:stretch/>
        </p:blipFill>
        <p:spPr>
          <a:xfrm>
            <a:off x="152280" y="762120"/>
            <a:ext cx="4319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1.Я сегодня узнал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2.Было интересно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3.Было трудно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4.Я научился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5.Мне захотелось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трунные смычковые инстру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15"/>
          <p:cNvPicPr/>
          <p:nvPr/>
        </p:nvPicPr>
        <p:blipFill>
          <a:blip r:embed="rId1"/>
          <a:stretch/>
        </p:blipFill>
        <p:spPr>
          <a:xfrm>
            <a:off x="609480" y="1600200"/>
            <a:ext cx="3256200" cy="4952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16"/>
          <p:cNvPicPr/>
          <p:nvPr/>
        </p:nvPicPr>
        <p:blipFill>
          <a:blip r:embed="rId2"/>
          <a:stretch/>
        </p:blipFill>
        <p:spPr>
          <a:xfrm>
            <a:off x="5181480" y="1676520"/>
            <a:ext cx="3108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48320" y="27468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Деревянные духовые инструмен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10"/>
          <p:cNvPicPr/>
          <p:nvPr/>
        </p:nvPicPr>
        <p:blipFill>
          <a:blip r:embed="rId1"/>
          <a:stretch/>
        </p:blipFill>
        <p:spPr>
          <a:xfrm>
            <a:off x="457200" y="457200"/>
            <a:ext cx="371808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Monotype Corsiva"/>
              </a:rPr>
              <a:t>Медные духовые инструмен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12"/>
          <p:cNvPicPr/>
          <p:nvPr/>
        </p:nvPicPr>
        <p:blipFill>
          <a:blip r:embed="rId1"/>
          <a:stretch/>
        </p:blipFill>
        <p:spPr>
          <a:xfrm>
            <a:off x="6248520" y="4038480"/>
            <a:ext cx="2354040" cy="243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13"/>
          <p:cNvPicPr/>
          <p:nvPr/>
        </p:nvPicPr>
        <p:blipFill>
          <a:blip r:embed="rId2"/>
          <a:stretch/>
        </p:blipFill>
        <p:spPr>
          <a:xfrm>
            <a:off x="6248520" y="1371600"/>
            <a:ext cx="2411280" cy="2546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14"/>
          <p:cNvPicPr/>
          <p:nvPr/>
        </p:nvPicPr>
        <p:blipFill>
          <a:blip r:embed="rId3"/>
          <a:stretch/>
        </p:blipFill>
        <p:spPr>
          <a:xfrm>
            <a:off x="228600" y="1447920"/>
            <a:ext cx="2806560" cy="3846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9"/>
          <p:cNvPicPr/>
          <p:nvPr/>
        </p:nvPicPr>
        <p:blipFill>
          <a:blip r:embed="rId4"/>
          <a:stretch/>
        </p:blipFill>
        <p:spPr>
          <a:xfrm>
            <a:off x="3352680" y="3124080"/>
            <a:ext cx="2646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0920" y="380520"/>
            <a:ext cx="495324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Ударные инструмент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11"/>
          <p:cNvPicPr/>
          <p:nvPr/>
        </p:nvPicPr>
        <p:blipFill>
          <a:blip r:embed="rId1"/>
          <a:stretch/>
        </p:blipFill>
        <p:spPr>
          <a:xfrm>
            <a:off x="304920" y="457200"/>
            <a:ext cx="2990880" cy="441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i?id=21575750&amp;tov=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4114800"/>
            <a:ext cx="3029040" cy="222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is?-84VVPyWinzN8WaF1c2lQk9GILZ9bPA7Xr3FO0ShGNM"/>
          <p:cNvPicPr/>
          <p:nvPr/>
        </p:nvPicPr>
        <p:blipFill>
          <a:blip r:embed="rId4"/>
          <a:stretch/>
        </p:blipFill>
        <p:spPr>
          <a:xfrm>
            <a:off x="1295280" y="5181480"/>
            <a:ext cx="20574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Monotype Corsiva"/>
              </a:rPr>
              <a:t>Дирижер</a:t>
            </a: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– (франц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направлять, управлять, руководить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«Чтобы быть дирижером нужно…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9718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пособности, качества, которыми должен обладать дириж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ороший музыкальный сл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оммуникаб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Жизненная а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еликолепная физическая ф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ромадная сила в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-  Широчайший кругозор знаний в самых разных обла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Monotype Corsiva"/>
              </a:rPr>
              <a:t>Евгений Светлан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F:\Оркестр\af_att_34799_1.jpg"/>
          <p:cNvPicPr/>
          <p:nvPr/>
        </p:nvPicPr>
        <p:blipFill>
          <a:blip r:embed="rId1"/>
          <a:stretch/>
        </p:blipFill>
        <p:spPr>
          <a:xfrm>
            <a:off x="1676520" y="182880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4-03-24T08:19:1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