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5E7-85C4-4E5A-BB94-74D09620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FF4-C183-49DC-A13A-421DA12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C9C-4E9D-4B35-9400-2E804BC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D3A-B262-4E85-80E9-4D7D711F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19F-0E3B-4C75-BA11-F6FB8043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98B8-3464-4851-ABC6-00E8FC79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4789-2771-4C4A-8728-616D7C8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084B-8A5C-4624-8E3E-BE9A8B8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7941-94C1-417F-8368-60384B87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BBE4-1731-42C9-AE66-60D3544B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6877-DEC9-4CA0-9D44-C01ABAD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F10-C8AE-4A7C-9E95-614C774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607E-9815-46E4-BFC1-465760E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6611-3A27-4CCE-8B57-47CC903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2166-909F-4EFA-AE72-5532EC66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2D6-86C3-4057-9278-04E89C1C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0A9-72D3-4C0E-9061-8F36AF9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F21-0520-4EE0-B8FD-2A7BD6F3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020-F9FD-40C8-94E2-7D67259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974-AE99-4FA0-B990-B9B393C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272-D889-4F70-8590-9D4FD5D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6DD-BDA1-445D-9CDE-F1EBD23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4A1-712D-495F-B5D7-72EB08EE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126-2E68-4B3D-B9F3-9097E95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899C-80C0-45EC-BE35-9EA9125C5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D0A-CAC6-4462-84C4-2607B6836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70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1116000" y="189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устыня Атак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21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0"/>
            <a:ext cx="651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ыня Атакама считается самой сухой пустыней Земли. Атакама находится в Южной Америке на севере Чили и граничит на западе с Тихим океаном, на севере — с Перу и на востоке — с Боливией и Аргент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уанское течение охлаждает нижние слои атмосферы и создаёт температурную инверсию, препятствующую выпадению осадков (менее 50 мм в год). Самое засушливое место материка. Месторождения селитры, буры, йода, поваренной соли, меди. В пустыне присутствуют богатые залежи меди и других минералов, а также самый большой естественный источник нитрата натрия, который активно добывался до начала 1940-х годов, из-за этих ресурсов между Чили и Боливией ведётся приграничный спор с начала XIX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00720" y="3284640"/>
            <a:ext cx="4643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е температуры января на побережье 19—20 °C, июля 13—14 °C. Это и самая высокая пустыня мира (4000м над уровнем моря), и самая холодная, средние температуры колеблются от 0 до +25°C. Зимой в некоторых регионах пустыни частые туманы; высокая влажность. Живописное плоскогорье со своими уникальными озерами, солончаками, гейзерами, термами, болотами открывает перед туристами многовековую историю древних поселений индейцев, существовавших на этой терри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428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древние памятники археологии в этом регионе свидетельствуют о том, что древние люди здесь жили уже 10-13 тыс. лет назад - конец ледникового периода и время появления первых людей в Америке. Недалеко от города Арика учеными-археологами была найдена мумия, хранившаяся в песке с 8000 года до н.э., которая считается примером самой древней мумификации в мире и свидетельством существования древней культуры Чинчо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15642" b="0"/>
          <a:stretch/>
        </p:blipFill>
        <p:spPr>
          <a:xfrm>
            <a:off x="4500720" y="0"/>
            <a:ext cx="4643280" cy="3632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356000" y="3789360"/>
            <a:ext cx="47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миллионов лет назад большая часть Атакамы находилась на дне океана. Затем при морской регрессии прибрежная равнина осушилась, осушились многие заливы и озера, оставив за собой соленые бассейны. Преобладание вулканических пород, обилие солончаков и крайняя засушливость климата делает ландшафты Атакамы похожими на марсианские или лу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364176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50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которых местах пустыни дождь выпадает раз в несколько десятков лет. Среднее количество осадков в чилийском регионе составляет 1 мм в год. Некоторые метеостанции в Атакаме никогда не регистрировали дождь. Есть факты того, что существенных осадков в Атакаме не было с 1570 по 1971 годы. В этой пустыне зарегистрирована самая низкая влажность воздуха: 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ы (высотой до 6 885 м) здесь совершенно не имеют ледников. Исследования британских ученых выявили, что русла рек здесь сухие на протяжении 120 00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35440" y="3933720"/>
            <a:ext cx="530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19 мая 2010 года в пустыне Атакама случилось аномальное явление — выпал снег, завалило сугробами и несколько городов. Временно приостановилась работа одной из крупнейших обсерваторий, нарушилось дорожное сообщение и энергоснабжение. Но пока взрослые расчищали дороги и осваивали экстремальное зимнее вождение, дети учились лепить снегов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3851280" cy="3141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которых областях Атакамы дождь не регистрируется уже 400 лет. Тем не менее, в пустыне произрастают замечательные растения, приспособленные к данным природным условиям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7000"/>
            <a:ext cx="55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ро, или молочай чилийский – красивое ядовитое растение, произрастающее на низких прибрежных холмах в северной части Атакамы. Цветки кремовые, напоминают орхиде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916360" cy="194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5734080"/>
            <a:ext cx="34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казон чилийский – растение из сем. Кирказо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610080" cy="240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3564000" cy="2381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35640" y="5661000"/>
            <a:ext cx="30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зальпиния – растение из сем. Боб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27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ыня славится тем, что более 160 видов кактусов произрастают на ее территории, 90 из них существуют только зде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0" b="5502"/>
          <a:stretch/>
        </p:blipFill>
        <p:spPr>
          <a:xfrm>
            <a:off x="2987640" y="189000"/>
            <a:ext cx="248436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4536" t="0" r="0" b="8630"/>
          <a:stretch/>
        </p:blipFill>
        <p:spPr>
          <a:xfrm>
            <a:off x="5651640" y="0"/>
            <a:ext cx="3492360" cy="2246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22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тябре на территории между Ла Серена и Копиапо, которая обычно представляет собой пустыню, происходит удивительное событие, которое называется "цветущая пустыня". Это незабываемое зрелище характеризуется множеством цветов, красок и необыкновенной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4381560" y="369576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1512" t="0" r="0" b="68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24000" y="907920"/>
            <a:ext cx="5419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: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03:06Z</dcterms:created>
  <dc:creator>Dell1501</dc:creator>
  <dc:description/>
  <dc:language>en-US</dc:language>
  <cp:lastModifiedBy>Dell1501</cp:lastModifiedBy>
  <dcterms:modified xsi:type="dcterms:W3CDTF">2012-11-20T21:04:12Z</dcterms:modified>
  <cp:revision>6</cp:revision>
  <dc:subject/>
  <dc:title>Слайд 1</dc:title>
</cp:coreProperties>
</file>