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381-E554-4AA4-A9DB-F84F0451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6CD-3C82-4B2A-8556-F701C4BA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DF7-ABAA-43E8-A952-3E8093BF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BE8-5852-4464-905E-BAB1FC73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38D8-7055-4E15-84EE-B0D4EEF6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7D79-76EB-41BB-8A6C-157B84E3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9FAC-90CB-4A7A-AB27-696080C4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F629-EECD-43A6-8BF7-20E3F8AB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B36C-9B34-4F95-9045-48086C6A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FCE5-5DB3-41FE-8184-AD0D565C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DC66-AF36-44F4-B100-CA62A6C0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931-29FD-4273-888D-DCD514A1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6345-D6E1-45A4-96D0-15F47EC0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D21D-A0D4-4A17-B919-26ECE7AD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B029-F87B-432E-949A-0F395B72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36E2-2D5E-45F2-8E86-F152CF3F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7939-EFA8-4400-8BF7-77BC7484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BBE-4752-4ADE-919C-D2C76365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E51-D6B1-4957-B936-A875B6EF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0A4-7A8C-445D-B4BA-17164CAF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622-7FEC-4857-AAC0-FE388C4F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D82-90F3-4564-AB15-760BCBF5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7A2-600F-4D28-A410-6F63268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A50-FBE7-4877-8019-7E45CA6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CF01-0E22-4DE9-8C13-372219842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9C4A-C693-4365-8476-FD3CC3B66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70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1116000" y="18900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устыня Атака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213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0"/>
            <a:ext cx="651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ыня Атакама считается самой сухой пустыней Земли. Атакама находится в Южной Америке на севере Чили и граничит на западе с Тихим океаном, на севере — с Перу и на востоке — с Боливией и Аргенти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уанское течение охлаждает нижние слои атмосферы и создаёт температурную инверсию, препятствующую выпадению осадков (менее 50 мм в год). Самое засушливое место материка. Месторождения селитры, буры, йода, поваренной соли, меди. В пустыне присутствуют богатые залежи меди и других минералов, а также самый большой естественный источник нитрата натрия, который активно добывался до начала 1940-х годов, из-за этих ресурсов между Чили и Боливией ведётся приграничный спор с начала XIX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00720" y="3284640"/>
            <a:ext cx="46432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е температуры января на побережье 19—20 °C, июля 13—14 °C. Это и самая высокая пустыня мира (4000м над уровнем моря), и самая холодная, средние температуры колеблются от 0 до +25°C. Зимой в некоторых регионах пустыни частые туманы; высокая влажность. Живописное плоскогорье со своими уникальными озерами, солончаками, гейзерами, термами, болотами открывает перед туристами многовековую историю древних поселений индейцев, существовавших на этой терри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428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ые древние памятники археологии в этом регионе свидетельствуют о том, что древние люди здесь жили уже 10-13 тыс. лет назад - конец ледникового периода и время появления первых людей в Америке. Недалеко от города Арика учеными-археологами была найдена мумия, хранившаяся в песке с 8000 года до н.э., которая считается примером самой древней мумификации в мире и свидетельством существования древней культуры Чинчо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15642" b="0"/>
          <a:stretch/>
        </p:blipFill>
        <p:spPr>
          <a:xfrm>
            <a:off x="4500720" y="0"/>
            <a:ext cx="4643280" cy="3632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356000" y="3789360"/>
            <a:ext cx="47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колько миллионов лет назад большая часть Атакамы находилась на дне океана. Затем при морской регрессии прибрежная равнина осушилась, осушились многие заливы и озера, оставив за собой соленые бассейны. Преобладание вулканических пород, обилие солончаков и крайняя засушливость климата делает ландшафты Атакамы похожими на марсианские или лу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3641760"/>
            <a:ext cx="42847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5076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екоторых местах пустыни дождь выпадает раз в несколько десятков лет. Среднее количество осадков в чилийском регионе составляет 1 мм в год. Некоторые метеостанции в Атакаме никогда не регистрировали дождь. Есть факты того, что существенных осадков в Атакаме не было с 1570 по 1971 годы. В этой пустыне зарегистрирована самая низкая влажность воздуха: 0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ы (высотой до 6 885 м) здесь совершенно не имеют ледников. Исследования британских ученых выявили, что русла рек здесь сухие на протяжении 120 000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35440" y="3933720"/>
            <a:ext cx="5308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, 19 мая 2010 года в пустыне Атакама случилось аномальное явление — выпал снег, завалило сугробами и несколько городов. Временно приостановилась работа одной из крупнейших обсерваторий, нарушилось дорожное сообщение и энергоснабжение. Но пока взрослые расчищали дороги и осваивали экстремальное зимнее вождение, дети учились лепить снегов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3851280" cy="3141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екоторых областях Атакамы дождь не регистрируется уже 400 лет. Тем не менее, в пустыне произрастают замечательные растения, приспособленные к данным природным условиям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97000"/>
            <a:ext cx="55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черо, или молочай чилийский – красивое ядовитое растение, произрастающее на низких прибрежных холмах в северной части Атакамы. Цветки кремовые, напоминают орхиде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2916360" cy="1943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5734080"/>
            <a:ext cx="34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казон чилийский – растение из сем. Кирказон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3610080" cy="2403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3564000" cy="2381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35640" y="5661000"/>
            <a:ext cx="30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зальпиния – растение из сем. Боб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27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ыня славится тем, что более 160 видов кактусов произрастают на ее территории, 90 из них существуют только зде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0" b="5502"/>
          <a:stretch/>
        </p:blipFill>
        <p:spPr>
          <a:xfrm>
            <a:off x="2987640" y="189000"/>
            <a:ext cx="248436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4536" t="0" r="0" b="8630"/>
          <a:stretch/>
        </p:blipFill>
        <p:spPr>
          <a:xfrm>
            <a:off x="5651640" y="0"/>
            <a:ext cx="3492360" cy="2246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227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тябре на территории между Ла Серена и Копиапо, которая обычно представляет собой пустыню, происходит удивительное событие, которое называется "цветущая пустыня". Это незабываемое зрелище характеризуется множеством цветов, красок и необыкновенной крас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0" y="369900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4381560" y="369576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1512" t="0" r="0" b="68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24000" y="907920"/>
            <a:ext cx="5419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!: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8:03:06Z</dcterms:created>
  <dc:creator>Dell1501</dc:creator>
  <dc:description/>
  <dc:language>en-US</dc:language>
  <cp:lastModifiedBy>Dell1501</cp:lastModifiedBy>
  <dcterms:modified xsi:type="dcterms:W3CDTF">2012-11-20T21:04:12Z</dcterms:modified>
  <cp:revision>6</cp:revision>
  <dc:subject/>
  <dc:title>Слайд 1</dc:title>
</cp:coreProperties>
</file>