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173-3003-4D2C-987D-E425A547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309-B9B2-4504-8FBC-BA9250A5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D5B-D85E-4F00-8F41-C8127CDE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959-8D7B-417A-ABEF-AF5ECD72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878-2EA6-4801-8C07-337B8F2E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A63-CCAE-4B4E-A798-6F57E4C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C74-101E-4824-8878-4E8B4B1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460-D20C-44FB-92DD-E7CE986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7E7-00B6-4A90-839A-34BC1CF6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0E9-9118-4AC5-B3D4-7059E76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A41-6CF7-4500-8318-755BE1F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D37-4436-4D8A-BC77-AEA0BE7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FDDB-5F66-4DA8-95C2-8EAAFB6F7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1928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« Коррекционно-развивающие упражнения по биологии, применяемые  при работе с детьми с ОВ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4090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: «ОБЩИЙ ОБЗОР ОРГАНИЗМ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7931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дце, кровеносная, печень, вены,  выделительная, половая,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дро, мембрана,  оптический микроскоп, рибосомы, электронный микроскоп, лиз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руппы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ы  и системы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оиды и увеличительные при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вышение уровня мотивационной сферы, интереса к предмету, речевой инициа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 буквы так, чтобы получилось название части клетки, расположенной между ядром и мембра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5247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63480"/>
            <a:ext cx="80643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изучении темы «Пасленовые» в 6 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 растение томата. Подчеркни в тексте особенности эт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рневая сист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ержневая, мочков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еб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авянистый, деревянистый, прямостоячий, стелющейся, вьющи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лод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хой, сочный, стручок, я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948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гадай загадку. Объясни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зеленый пл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сился в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или в лежку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сменил одеж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ую надел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еды посп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у-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мачу не ра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лиловой рос оде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раснеет даже в ле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 «Что в черном ящике?»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Развитие тактильного восприят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5262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2920" y="618480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ме: Органы чувств. Анализаторы.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я творческого харак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биологических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гра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а вручается бактерии за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ыскиваются бактерии за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ы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вышеперечисленные  коррекционно-развивающие упражнения, применяемые в процессе обучения  детей  с ОВЗ биологии, в той или иной степени стимулируют их познавательную активность, развивают их творческие способности, активно вовлекают обучающихся в образовательный процесс, стимулирует самостоятельную деятельно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виды упражнений, применяемые в системе и в разнообразии, являются эффективным средством активизации обучения и  коррекционно-развивающей деятельности. Переключение с одного вида деятельности на другой, предохраняет детей от переутомления, и в то же время не дает отвлечься от изучаемого материала, а также обеспечивает его восприятие с различны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системы комплексной помощи детям с ограниченными возможностями здоровья в освоении основной образовательной программы среднего общего образования, коррекцию недостатков в физическом и (или) психическом развитии обучающихся, их социальную адап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Функции применения   таких упраж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Обучающая (помогает в овладении знаниями)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Развивающая (развивает познавательные интересы, раскрывает творческий потенциал)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Коррекционная (исправляет недостатки)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Коммуникативная (помогает овладеть навыками общения, развивает важнейшие социальные навыки и умения, способность к сопереживанию, разрешению конфликтов путем сотрудничества, учит человека видеть ситуацию глазами другого)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занимательная (доставляет удовольствие, пробуждает интерес)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оме того, они  способствуют созданию позитивного эмоционального настроя, вызывают положительное отношение к выполняемой деятельности, улучшает общую работоспособ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ИМЕРЫ  БИОЛОГИЧЕСКИХ 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038480" cy="315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600" y="1420920"/>
            <a:ext cx="777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жнение «четвертый (пятый, шестой) лиш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Коррекция и развитие концентрации и устойчивости вним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и, формирование приемов учеб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уровня развития л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й( анализа, обобщения, систематиз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39704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3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4180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я можно использовать при изучении раз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сов биологии.(5-9 класс.) В задании може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ы карточки задания с иллюстрациями или бе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предложенного  перечня органов, выбери те, котор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яются лишними. Почему именно эти органы являются лишними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МА: « ПИЩЕВАРИТЕЛЬНАЯ СИСТЕМА»,  8 класс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3284640"/>
          <a:ext cx="8229600" cy="3294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ч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ям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желудочная жел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елу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ище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пенд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лст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рд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.УПРАЖНЕНИЕ  « ПАМЯТЬ НА СЛО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и развитие произвольного внимания, повышение уровня его концентрации, развитие долговременной памяти. Формирование приемов учебной деятельности, умения выполнять задания по устной инструкци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дикту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ряда слов. После диктовки каждого ряда ученики записывают столько слов сколько запомнили. Когда все записи сделаны, учащиеся подсчитывают слова в каждой колонке отдельно. Тот у кого больше слов читает их вслух. Лишние и дважды написанные вычерк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: « ЦВЕТОК И ПЛОД»,  6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2349360"/>
          <a:ext cx="8640720" cy="3265560"/>
        </p:xfrm>
        <a:graphic>
          <a:graphicData uri="http://schemas.openxmlformats.org/drawingml/2006/table">
            <a:tbl>
              <a:tblPr/>
              <a:tblGrid>
                <a:gridCol w="2158920"/>
                <a:gridCol w="2238480"/>
                <a:gridCol w="2084400"/>
                <a:gridCol w="215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оча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Лепес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шелист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ыль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Соцвет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Венч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ветонож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Цве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Тыч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л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яг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ест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. УПРАЖНЕНИЕ «АССОЦИ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рекция и развитие ассоциативного мышления. Упражнение  направлено на формирование способности устанавливать связи между элементам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читель предлагает несколько слов ( термины, названия объектов и др.), а ученики должны привести как можно больше ассоциаций , связанных с этим словом, которые придут им на ум при чтении да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 : СЕЛЬХОЗЯЙСТВЕННЫЕ РАСТЕНИЯ», 6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421000"/>
          <a:ext cx="8640720" cy="4032360"/>
        </p:xfrm>
        <a:graphic>
          <a:graphicData uri="http://schemas.openxmlformats.org/drawingml/2006/table">
            <a:tbl>
              <a:tblPr/>
              <a:tblGrid>
                <a:gridCol w="2654280"/>
                <a:gridCol w="598644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циации (пример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ень, пасленовые, урожай. осень, пюре, коричневый, крахм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ый, круглый, красный. вкусный, теплица, пасленовые, помидор, кетчу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мука, злаки, колос, зерновка, твердая, мягк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чан, борщ, крестоцветные, кочерыга, белокочанн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4. УПРАЖНЕНИЕ   « РАЗДЕЛИ НА ГРУПП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Коррекция и формирование словесно- логического  мышления, развитие коррекция   умений  ориентироваться на систему признаков, повышение уровня развития логических операций( анализа, обобщения, системат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Учитель зачитывает ( раздает каточки с написанным перечнем или рисунками) перечень названий объектов, ученик должен постараться разделить эти слова н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ечне слов может быть 1,2 или 3 группы не больше, иначе ребенок может запутать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4T08:31:21Z</dcterms:created>
  <dc:creator>Gek</dc:creator>
  <dc:description/>
  <dc:language>en-US</dc:language>
  <cp:lastModifiedBy>Gek</cp:lastModifiedBy>
  <dcterms:modified xsi:type="dcterms:W3CDTF">2024-02-14T10:17:19Z</dcterms:modified>
  <cp:revision>6</cp:revision>
  <dc:subject/>
  <dc:title>Слайд 1</dc:title>
</cp:coreProperties>
</file>