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DE53-99D6-454E-962B-27599270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79B-C2AB-432B-8A61-1539FD11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B22-7BB4-4C81-ABBD-E09117E9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836-30D6-4486-B531-2C1793CB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26C-AB58-4060-BF89-D2D03016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93E-A2E3-4C4B-8C0E-73DD5C68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F3C9-C60F-4E23-A1E9-937A6354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162-6B35-4F0C-9489-66DA6D6B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6AB3-494C-4980-B27A-965E847F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3F5-290E-4612-8975-5446151C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71BD-D315-470D-B260-8450167E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49F-0FB9-4D76-A944-C7C1395B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DE27-FE16-435E-AEB5-1A3329D85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19280" y="54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« Коррекционно-развивающие упражнения по биологии, применяемые  при работе с детьми с ОВЗ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40908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ример:   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ТЕМА: «ОБЩИЙ ОБЗОР ОРГАНИЗМА ЧЕЛО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280" y="2421000"/>
            <a:ext cx="793116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рдце, кровеносная, печень, вены,  выделительная, половая, п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дро, мембрана,  оптический микроскоп, рибосомы, электронный микроскоп, лизосо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руппы объек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ы  и системы орга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оиды и увеличительные приб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овышение уровня мотивационной сферы, интереса к предмету, речевой инициати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147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едини буквы так, чтобы получилось название части клетки, расположенной между ядром и мембра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752472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663480"/>
            <a:ext cx="806436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88930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 изучении темы «Пасленовые» в 6 к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и растение томата. Подчеркни в тексте особенности этого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орневая систем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тержневая, мочкова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еб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равянистый, деревянистый, прямостоячий, стелющейся, вьющи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лод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ухой, сочный, стручок, я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867280" y="1628640"/>
            <a:ext cx="2948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гадай загадку. Объясни 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 зеленый плод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просился в 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ожили в лежку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сменил одеж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ную надел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еды посп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мидору- б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мачу не ра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в лиловой рос одеж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краснеет даже в леж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Упражнение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 «Что в черном ящике?»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Развитие тактильного восприят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452628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2920" y="6184800"/>
            <a:ext cx="50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еме: Органы чувств. Анализаторы. 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ния творческого харак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ние биологических мод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ние грам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мота вручается бактерии за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ыскиваются бактерии за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Выводы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вышеперечисленные  коррекционно-развивающие упражнения, применяемые в процессе обучения  детей  с ОВЗ биологии, в той или иной степени стимулируют их познавательную активность, развивают их творческие способности, активно вовлекают обучающихся в образовательный процесс, стимулирует самостоятельную деятельность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виды упражнений, применяемые в системе и в разнообразии, являются эффективным средством активизации обучения и  коррекционно-развивающей деятельности. Переключение с одного вида деятельности на другой, предохраняет детей от переутомления, и в то же время не дает отвлечься от изучаемого материала, а также обеспечивает его восприятие с различных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Цель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е системы комплексной помощи детям с ограниченными возможностями здоровья в освоении основной образовательной программы среднего общего образования, коррекцию недостатков в физическом и (или) психическом развитии обучающихся, их социальную адапт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Функции применения   таких упражн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Обучающая (помогает в овладении знаниями);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Развивающая (развивает познавательные интересы, раскрывает творческий потенциал)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Коррекционная (исправляет недостатки)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Коммуникативная (помогает овладеть навыками общения, развивает важнейшие социальные навыки и умения, способность к сопереживанию, разрешению конфликтов путем сотрудничества, учит человека видеть ситуацию глазами другого);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занимательная (доставляет удовольствие, пробуждает интерес)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оме того, они  способствуют созданию позитивного эмоционального настроя, вызывают положительное отношение к выполняемой деятельности, улучшает общую работоспособность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РИМЕРЫ  БИОЛОГИЧЕСКИХ 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УПРАЖНЕ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4038480" cy="3152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3600" y="1420920"/>
            <a:ext cx="777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пражнение «четвертый (пятый, шестой) лиш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: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Коррекция и развитие концентрации и устойчивости вним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мяти, формирование приемов учебной деяте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ение уровня развития лог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ераций( анализа, обобщения, систематизац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4397040" cy="2519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58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38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941800"/>
            <a:ext cx="70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ния можно использовать при изучении раз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рсов биологии.(5-9 класс.) В задании может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ованы карточки задания с иллюстрациями или без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предложенного  перечня органов, выбери те, которы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вляются лишними. Почему именно эти органы являются лишними?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мер: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ЕМА: « ПИЩЕВАРИТЕЛЬНАЯ СИСТЕМА»,  8 класс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3284640"/>
          <a:ext cx="8229600" cy="3294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ч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ямая ки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джелудочная желе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123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ч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Желуд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ище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123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ппенд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олстая ки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рдц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2.УПРАЖНЕНИЕ  « ПАМЯТЬ НА СЛОВ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рекция и развитие произвольного внимания, повышение уровня его концентрации, развитие долговременной памяти. Формирование приемов учебной деятельности, умения выполнять задания по устной инструкции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: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щимся диктуетс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 ряда слов. После диктовки каждого ряда ученики записывают столько слов сколько запомнили. Когда все записи сделаны, учащиеся подсчитывают слова в каждой колонке отдельно. Тот у кого больше слов читает их вслух. Лишние и дважды написанные вычеркив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ример:  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ТЕМА: « ЦВЕТОК И ПЛОД»,  6кла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8000" y="2349360"/>
          <a:ext cx="8640720" cy="3265560"/>
        </p:xfrm>
        <a:graphic>
          <a:graphicData uri="http://schemas.openxmlformats.org/drawingml/2006/table">
            <a:tbl>
              <a:tblPr/>
              <a:tblGrid>
                <a:gridCol w="2158920"/>
                <a:gridCol w="2238480"/>
                <a:gridCol w="2084400"/>
                <a:gridCol w="2158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Calibri"/>
                          <a:ea typeface="Times New Roman"/>
                        </a:rPr>
                        <a:t>Почат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Calibri"/>
                          <a:ea typeface="Times New Roman"/>
                        </a:rPr>
                        <a:t>Лепест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ашелист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Calibri"/>
                          <a:ea typeface="Times New Roman"/>
                        </a:rPr>
                        <a:t>Пыль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Calibri"/>
                          <a:ea typeface="Times New Roman"/>
                        </a:rPr>
                        <a:t>Соцвет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Calibri"/>
                          <a:ea typeface="Times New Roman"/>
                        </a:rPr>
                        <a:t>Венч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ветонож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Calibri"/>
                          <a:ea typeface="Times New Roman"/>
                        </a:rPr>
                        <a:t>Цвет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2eaf1"/>
                    </a:solidFill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Calibri"/>
                          <a:ea typeface="Times New Roman"/>
                        </a:rPr>
                        <a:t>Тычин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Calibri"/>
                          <a:ea typeface="Times New Roman"/>
                        </a:rPr>
                        <a:t>Пло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яго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Calibri"/>
                          <a:ea typeface="Times New Roman"/>
                        </a:rPr>
                        <a:t>Пест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3. УПРАЖНЕНИЕ «АССОЦИАЦ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рекция и развитие ассоциативного мышления. Упражнение  направлено на формирование способности устанавливать связи между элементами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адание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Учитель предлагает несколько слов ( термины, названия объектов и др.), а ученики должны привести как можно больше ассоциаций , связанных с этим словом, которые придут им на ум при чтении данных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ример:  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ТЕМА : СЕЛЬХОЗЯЙСТВЕННЫЕ РАСТЕНИЯ», 6 кла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2421000"/>
          <a:ext cx="8640720" cy="4032360"/>
        </p:xfrm>
        <a:graphic>
          <a:graphicData uri="http://schemas.openxmlformats.org/drawingml/2006/table">
            <a:tbl>
              <a:tblPr/>
              <a:tblGrid>
                <a:gridCol w="2654280"/>
                <a:gridCol w="598644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социации (примерны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бень, пасленовые, урожай. осень, пюре, коричневый, крахма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м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ный, круглый, красный. вкусный, теплица, пасленовые, помидор, кетчу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шен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еб, мука, злаки, колос, зерновка, твердая, мягка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у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чан, борщ, крестоцветные, кочерыга, белокочанна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4. УПРАЖНЕНИЕ   « РАЗДЕЛИ НА ГРУПП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Коррекция и формирование словесно- логического  мышления, развитие коррекция   умений  ориентироваться на систему признаков, повышение уровня развития логических операций( анализа, обобщения, систематиза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ние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Учитель зачитывает ( раздает каточки с написанным перечнем или рисунками) перечень названий объектов, ученик должен постараться разделить эти слова на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еречне слов может быть 1,2 или 3 группы не больше, иначе ребенок может запутатьс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2-14T08:31:21Z</dcterms:created>
  <dc:creator>Gek</dc:creator>
  <dc:description/>
  <dc:language>en-US</dc:language>
  <cp:lastModifiedBy>Gek</cp:lastModifiedBy>
  <dcterms:modified xsi:type="dcterms:W3CDTF">2024-02-14T10:17:19Z</dcterms:modified>
  <cp:revision>6</cp:revision>
  <dc:subject/>
  <dc:title>Слайд 1</dc:title>
</cp:coreProperties>
</file>