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E83-E6F0-4B50-856C-164EB04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055-7732-4DE8-8EB7-33417AB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973-4C9C-4A9D-B50E-195F851E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0CA-60A0-4C7C-AF30-47DEADBC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846C-24C5-4E5A-9883-21B33AE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4639-C1EB-4FF8-935C-450A674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D03-DCA6-4388-88C4-4F9E36C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40E-A907-49F8-B8A0-6CE9892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DC9C-E9E2-47F2-AC82-C34612F4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C07-FDCB-4B67-941C-1AFA097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D95F-E868-4FEC-B782-C813EE1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3D4-E007-4D57-B203-FF2E789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987-9217-48B0-BDEA-061C70B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804-01D6-4E90-8EAD-F8B4FE1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E795-9395-4795-B05E-66C95B20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3CD4-1FBD-48C5-9BCF-BB4701D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0F5F-37FC-4280-B3A7-78ED3CC0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8164-A580-4570-84B6-628703F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C52D-399B-495C-94C6-642C5D5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3019-5501-4336-93FA-9FA9182E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A18B-F1C5-4A01-9E2A-58BD9B83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8E83-7B0C-433A-8D42-A031B38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B3B-CDD8-446F-B160-445C081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209B-3EBC-4FF9-A4DB-409F0397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3CF3-BEEB-4953-8EA4-31AC409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7FAE-89B2-4BEA-B914-FAC2464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1EE3-161D-46A1-84FE-C8E19842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5C5C-99B9-4925-92CE-ED2324F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911B-F739-4ED0-B86C-A0E7543D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8BA5-3DFF-42FC-9E8B-09E7E7FB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CFF-621D-45F8-ACF6-FD025AC7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5FC-2C5C-4FBF-86A1-9084BB8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06E-5570-436E-A82B-1AB43F8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FA3-0925-4F9D-ADE0-31F4B5A2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E79-9868-4698-8CF5-48C96AE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412-70CD-4A77-98B6-1688672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C94-9994-45EF-9CD7-3666538EC8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5F0B-3DA2-487D-9EAF-3E764D608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F75-4B05-4C54-8288-7B3D452F26B8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In April Lazareva Ma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25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8000" spc="-1" strike="noStrike">
                <a:solidFill>
                  <a:srgbClr val="ff0000"/>
                </a:solidFill>
                <a:latin typeface="Arial"/>
              </a:rPr>
              <a:t>«Весна»</a:t>
            </a:r>
            <a:br>
              <a:rPr sz="3800"/>
            </a:br>
            <a:r>
              <a:rPr b="0" lang="ru-RU" sz="51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74" name="Picture 6" descr="https://files.prezentacii.org/15/05/13414/data/pres/s4s6147.png"/>
          <p:cNvPicPr/>
          <p:nvPr/>
        </p:nvPicPr>
        <p:blipFill>
          <a:blip r:embed="rId2"/>
          <a:stretch/>
        </p:blipFill>
        <p:spPr>
          <a:xfrm>
            <a:off x="173160" y="-1219320"/>
            <a:ext cx="2743200" cy="255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s://files.prezentacii.org/15/05/13414/data/pres/s4s6147.png"/>
          <p:cNvPicPr/>
          <p:nvPr/>
        </p:nvPicPr>
        <p:blipFill>
          <a:blip r:embed="rId3"/>
          <a:stretch/>
        </p:blipFill>
        <p:spPr>
          <a:xfrm>
            <a:off x="325440" y="-1066680"/>
            <a:ext cx="27432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2240" y="0"/>
            <a:ext cx="705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ff1a"/>
                </a:solidFill>
                <a:latin typeface="Calibri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1a"/>
                </a:solidFill>
                <a:latin typeface="Calibri"/>
              </a:rPr>
              <a:t>к нам весной?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56760" y="1785960"/>
            <a:ext cx="2859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сех перелётных птиц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ерней,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истит он пашню от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ервей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зад – вперёд по пашне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скачь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А зовётся птица …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99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564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5718600" y="61657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Грач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19240" y="5769000"/>
            <a:ext cx="27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Время прилёта – март</a:t>
            </a:r>
            <a:r>
              <a:rPr b="1" lang="ru-RU" sz="2000" spc="-1" strike="noStrike">
                <a:solidFill>
                  <a:srgbClr val="00863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250920" y="105264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Картина 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А.К.Саврасова</a:t>
            </a:r>
            <a:br>
              <a:rPr sz="3200"/>
            </a:b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«Грачи прилетели»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287720" y="5286240"/>
            <a:ext cx="316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Он прилетает каждый год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Туда, где домик ждёт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Чужие песни петь умеет,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А всё же голос свой имеет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6072120" y="5643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Calibri"/>
              </a:rPr>
              <a:t>Скворец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06" name="Picture 2" descr="http://ptici.narod.ru/foto_max/skvorec.bmp"/>
          <p:cNvPicPr/>
          <p:nvPr/>
        </p:nvPicPr>
        <p:blipFill>
          <a:blip r:embed="rId1"/>
          <a:stretch/>
        </p:blipFill>
        <p:spPr>
          <a:xfrm>
            <a:off x="758880" y="214200"/>
            <a:ext cx="76294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1a"/>
                </a:solidFill>
                <a:latin typeface="Arial"/>
              </a:rPr>
              <a:t>ласточка</a:t>
            </a:r>
            <a:endParaRPr b="0" lang="en-US" sz="4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Прилетает к нам с теплом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Путь проделав длинный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Лепит домик под окном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Из травы и глины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переди - шиль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зади - виль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верху – черное сукон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низу - белое полотенце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6197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1a"/>
                </a:solidFill>
                <a:latin typeface="Arial"/>
              </a:rPr>
              <a:t>скворец</a:t>
            </a:r>
            <a:endParaRPr b="0" lang="en-US" sz="4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Он прилетает каждый год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Туда, где домик ждет.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Чужие песни петь умеет,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А все же голос свой имеет</a:t>
            </a: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12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3672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1a"/>
                </a:solidFill>
                <a:latin typeface="Arial"/>
              </a:rPr>
              <a:t>Какие народные приметы весны вы можете назвать?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1a"/>
                </a:solidFill>
                <a:latin typeface="Arial"/>
              </a:rPr>
              <a:t>Народные приметы: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Грач  на горе – весна на дворе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Увидел скворца – знай:  весна у крыльца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Длинные сосульки – к  долгой весне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Апрель с водою  май с травой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1a"/>
                </a:solidFill>
                <a:latin typeface="Arial"/>
              </a:rPr>
              <a:t>Почему эти растения называют первоцветами? 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мать-и-мачеха        подснежники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20" name="Picture 21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456000" cy="273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0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168720" cy="259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1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527280" cy="259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6da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e6e6da"/>
                </a:solidFill>
                <a:latin typeface="Verdana"/>
              </a:rPr>
              <a:t>медуница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38d7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Я раскрываю почки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В зелёные листочки,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Деревья одеваю,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Посевы поливаю.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Движения полна.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Зовут меня … 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8" name="WordArt 4"/>
          <p:cNvSpPr txBox="1"/>
          <p:nvPr/>
        </p:nvSpPr>
        <p:spPr>
          <a:xfrm rot="5400000">
            <a:off x="5362920" y="3141000"/>
            <a:ext cx="460872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март !</a:t>
            </a:r>
            <a:r>
              <a:rPr b="0" lang="ru-RU" sz="60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апрель!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май!</a:t>
            </a:r>
            <a:r>
              <a:rPr b="0" lang="ru-RU" sz="60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35280" y="620640"/>
            <a:ext cx="5257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3f2d9"/>
                </a:solidFill>
                <a:latin typeface="Arial"/>
              </a:rPr>
              <a:t>народные приметы</a:t>
            </a: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Март – протальник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Апрель –  водолей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Май – травень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f2d9"/>
                </a:solidFill>
                <a:latin typeface="Arial"/>
              </a:rPr>
              <a:t>Весна: пробуждение природы </a:t>
            </a:r>
            <a:br>
              <a:rPr sz="4000"/>
            </a:b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5" name="Picture 3" descr="04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Какие изменения произошли в природе с наступлением весны? </a:t>
            </a:r>
            <a:br>
              <a:rPr sz="5700"/>
            </a:b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Солнышко стало больше пригревать; </a:t>
            </a:r>
            <a:br>
              <a:rPr sz="5700"/>
            </a:b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дни стали длиннее - </a:t>
            </a:r>
            <a:r>
              <a:rPr b="0" lang="ru-RU" sz="5700" spc="-1" strike="noStrike">
                <a:solidFill>
                  <a:srgbClr val="ffff1a"/>
                </a:solidFill>
                <a:latin typeface="Arial"/>
              </a:rPr>
              <a:t>главная причина весенних явлений.</a:t>
            </a:r>
            <a:br>
              <a:rPr sz="5700"/>
            </a:b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f2d9"/>
                </a:solidFill>
                <a:latin typeface="Arial"/>
              </a:rPr>
              <a:t>Появились лужи и ручьи </a:t>
            </a:r>
            <a:endParaRPr b="0" lang="en-US" sz="2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da"/>
                </a:solidFill>
                <a:latin typeface="Verdana"/>
              </a:rPr>
              <a:t>Начался ледоход на реках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da"/>
                </a:solidFill>
                <a:latin typeface="Verdana"/>
              </a:rPr>
              <a:t>Появились проталины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92" name="Picture 2" descr="C:\Documents and Settings\Лена\Мои документы\Мои рисунки\SHISHIM-33d_PC010311.jpg"/>
          <p:cNvPicPr/>
          <p:nvPr/>
        </p:nvPicPr>
        <p:blipFill>
          <a:blip r:embed="rId1"/>
          <a:stretch/>
        </p:blipFill>
        <p:spPr>
          <a:xfrm>
            <a:off x="6531120" y="725400"/>
            <a:ext cx="2612880" cy="1500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Лена\Мои документы\Мои рисунки\2.jpg"/>
          <p:cNvPicPr/>
          <p:nvPr/>
        </p:nvPicPr>
        <p:blipFill>
          <a:blip r:embed="rId2"/>
          <a:stretch/>
        </p:blipFill>
        <p:spPr>
          <a:xfrm>
            <a:off x="5786280" y="22147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Лена\Мои документы\Мои рисунки\zukovski_166.jpg"/>
          <p:cNvPicPr/>
          <p:nvPr/>
        </p:nvPicPr>
        <p:blipFill>
          <a:blip r:embed="rId3"/>
          <a:stretch/>
        </p:blipFill>
        <p:spPr>
          <a:xfrm>
            <a:off x="5500800" y="4572000"/>
            <a:ext cx="278136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5280" y="1700280"/>
            <a:ext cx="79311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1a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1a"/>
                </a:solidFill>
                <a:latin typeface="Verdana"/>
              </a:rPr>
              <a:t>Какие птицы зимуют вместе с нами, а какие прилетают весной? Какие гнезда птицы построили сами, а каким помогли люди? </a:t>
            </a:r>
            <a:endParaRPr b="0" lang="en-US" sz="4000" spc="-1" strike="noStrike">
              <a:solidFill>
                <a:srgbClr val="e6e6d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7:00:02Z</dcterms:created>
  <dc:creator>DEPO</dc:creator>
  <dc:description/>
  <dc:language>en-US</dc:language>
  <cp:lastModifiedBy>123</cp:lastModifiedBy>
  <dcterms:modified xsi:type="dcterms:W3CDTF">2016-03-22T10:15:04Z</dcterms:modified>
  <cp:revision>36</cp:revision>
  <dc:subject/>
  <dc:title>Урок окружающего мира в 1 классе (программа «Начальная школа XXI века» под редакцией Виноградовой Н.Ф.)</dc:title>
</cp:coreProperties>
</file>