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5E2-8F02-4782-8C6A-3135D70F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C5F-9E44-4C10-892A-D5D3349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5A5-1613-4A7E-93A1-3253C05F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583-38BF-4F6B-9222-95AAA77B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43D0-B0C1-4662-A974-5DDCFA83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B0E6-418C-45B2-9A62-67E4519F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56CC-F7F7-4DD3-9746-07400CE5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C023-7E83-40DB-8373-C4786678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7550-8CE5-4FCD-8D3D-39005BD5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DE60-9646-421A-9279-0BE00227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8EC9-F6DB-4964-9CAE-2CA18C9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D8A-E6C6-4309-9B51-953C1A6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B082-615E-4498-AAAB-CE24B600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84EF-D88C-44AA-A830-09865FB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A8B8-5C32-4764-9F26-E5ED45B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64EA-4535-4787-B86A-1C2DEE33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9723-46E3-449E-B8FB-03443D2B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808F-82AC-4030-9FDD-2E12D865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0322-4F26-4A06-9153-8894696B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2AC73-6A66-473C-83D4-481AB87D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DF03-2B7A-4B1A-B2B2-7F93A1D7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68CC-1EC0-4468-B815-46AFB1D3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CAA-AF8D-4197-A1F9-6B6CD77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F46D-94EB-4576-9BFB-AEACE687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AC5E-DB2E-4A50-B2B9-164FB373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3570-720F-447F-8592-511739D2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2FEA-F398-4ECE-B522-2331BF8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CBC8-4FE9-406C-AA4B-2D31DCDE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7119-C36A-40A7-9A80-DB9BAE7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13DE-F32B-409C-9E96-A0D69837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BB8-E786-44DF-9C89-97EA907C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C41-7E24-4DED-BEEC-D4828DD8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B4B-201E-4934-A9DD-91E1A2B8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35E-CDDC-498C-B166-E0FED80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082-76B2-47F0-9111-A5DCC62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0BC-FDC0-49A1-B28E-7BFB5BC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154C-6472-4FE3-89A0-B4951F71BB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ECE-27E3-4AA9-8EDD-F0D01B1C36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295200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5d7053"/>
                </a:gs>
                <a:gs pos="100000">
                  <a:srgbClr val="667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6e6d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E8C1-90E3-4B17-8A09-FF4EA58B6ABB}" type="slidenum">
              <a:rPr b="0" lang="ru-RU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In April Lazareva Ma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25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i="1" lang="ru-RU" sz="8000" spc="-1" strike="noStrike">
                <a:solidFill>
                  <a:srgbClr val="ff0000"/>
                </a:solidFill>
                <a:latin typeface="Arial"/>
              </a:rPr>
              <a:t>«Весна»</a:t>
            </a:r>
            <a:br>
              <a:rPr sz="3800"/>
            </a:br>
            <a:r>
              <a:rPr b="0" lang="ru-RU" sz="51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6e6d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74" name="Picture 6" descr="https://files.prezentacii.org/15/05/13414/data/pres/s4s6147.png"/>
          <p:cNvPicPr/>
          <p:nvPr/>
        </p:nvPicPr>
        <p:blipFill>
          <a:blip r:embed="rId2"/>
          <a:stretch/>
        </p:blipFill>
        <p:spPr>
          <a:xfrm>
            <a:off x="173160" y="-1219320"/>
            <a:ext cx="2743200" cy="255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https://files.prezentacii.org/15/05/13414/data/pres/s4s6147.png"/>
          <p:cNvPicPr/>
          <p:nvPr/>
        </p:nvPicPr>
        <p:blipFill>
          <a:blip r:embed="rId3"/>
          <a:stretch/>
        </p:blipFill>
        <p:spPr>
          <a:xfrm>
            <a:off x="325440" y="-1066680"/>
            <a:ext cx="27432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282240" y="0"/>
            <a:ext cx="705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i="1" lang="ru-RU" sz="2800" spc="-1" strike="noStrike">
                <a:solidFill>
                  <a:srgbClr val="ffff1a"/>
                </a:solidFill>
                <a:latin typeface="Calibri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1a"/>
                </a:solidFill>
                <a:latin typeface="Calibri"/>
              </a:rPr>
              <a:t>к нам весной?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56760" y="1785960"/>
            <a:ext cx="2859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Всех перелётных птиц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черней,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Чистит он пашню от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                             </a:t>
            </a: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червей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Взад – вперёд по пашне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                               </a:t>
            </a: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вскачь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e6da"/>
                </a:solidFill>
                <a:latin typeface="Calibri"/>
              </a:rPr>
              <a:t>А зовётся птица …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99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5640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5718600" y="61657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Грач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219240" y="5769000"/>
            <a:ext cx="27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Время прилёта – март</a:t>
            </a:r>
            <a:r>
              <a:rPr b="1" lang="ru-RU" sz="2000" spc="-1" strike="noStrike">
                <a:solidFill>
                  <a:srgbClr val="00863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250920" y="1052640"/>
            <a:ext cx="432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Картина 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А.К.Саврасова</a:t>
            </a:r>
            <a:br>
              <a:rPr sz="3200"/>
            </a:b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«Грачи прилетели»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1287720" y="5286240"/>
            <a:ext cx="316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Он прилетает каждый год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Туда, где домик ждёт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Чужие песни петь умеет,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1a"/>
                </a:solidFill>
                <a:latin typeface="Calibri"/>
              </a:rPr>
              <a:t>А всё же голос свой имеет.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6072120" y="56437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Calibri"/>
              </a:rPr>
              <a:t>Скворец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206" name="Picture 2" descr="http://ptici.narod.ru/foto_max/skvorec.bmp"/>
          <p:cNvPicPr/>
          <p:nvPr/>
        </p:nvPicPr>
        <p:blipFill>
          <a:blip r:embed="rId1"/>
          <a:stretch/>
        </p:blipFill>
        <p:spPr>
          <a:xfrm>
            <a:off x="758880" y="214200"/>
            <a:ext cx="7629480" cy="485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1a"/>
                </a:solidFill>
                <a:latin typeface="Arial"/>
              </a:rPr>
              <a:t>ласточка</a:t>
            </a:r>
            <a:endParaRPr b="0" lang="en-US" sz="48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Прилетает к нам с теплом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Путь проделав длинный.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Лепит домик под окном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Из травы и глины.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переди - шильце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зади - вильце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верху – черное суконце,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Снизу - белое полотенце.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5724360" y="1844640"/>
            <a:ext cx="261972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1a"/>
                </a:solidFill>
                <a:latin typeface="Arial"/>
              </a:rPr>
              <a:t>скворец</a:t>
            </a:r>
            <a:endParaRPr b="0" lang="en-US" sz="48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Он прилетает каждый год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Туда, где домик ждет.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Чужие песни петь умеет, 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1a"/>
                </a:solidFill>
                <a:latin typeface="Verdana"/>
              </a:rPr>
              <a:t>А все же голос свой имеет</a:t>
            </a:r>
            <a:r>
              <a:rPr b="1" lang="ru-RU" sz="2800" spc="-1" strike="noStrike">
                <a:solidFill>
                  <a:srgbClr val="ffff1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212" name="Picture 4" descr="D:\ИРИНА\Перелетные птицы\Рисунок4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3672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1a"/>
                </a:solidFill>
                <a:latin typeface="Arial"/>
              </a:rPr>
              <a:t>Какие народные приметы весны вы можете назвать?</a:t>
            </a: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1a"/>
                </a:solidFill>
                <a:latin typeface="Arial"/>
              </a:rPr>
              <a:t>Народные приметы: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Грач  на горе – весна на дворе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Увидел скворца – знай:  весна у крыльца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Длинные сосульки – к  долгой весне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da"/>
                </a:solidFill>
                <a:latin typeface="Verdana"/>
              </a:rPr>
              <a:t>Апрель с водою  май с травой.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1a"/>
                </a:solidFill>
                <a:latin typeface="Arial"/>
              </a:rPr>
              <a:t>Почему эти растения называют первоцветами? </a:t>
            </a: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мать-и-мачеха        подснежники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20" name="Picture 21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456000" cy="2735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0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3168720" cy="2590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1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527280" cy="2592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6da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e6e6da"/>
                </a:solidFill>
                <a:latin typeface="Verdana"/>
              </a:rPr>
              <a:t>медуница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38d7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Я раскрываю почки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В зелёные листочки,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Деревья одеваю,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Посевы поливаю.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Движения полна.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e6da"/>
                </a:solidFill>
                <a:latin typeface="Verdana"/>
              </a:rPr>
              <a:t>Зовут меня … </a:t>
            </a:r>
            <a:endParaRPr b="0" lang="en-US" sz="44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78" name="WordArt 4"/>
          <p:cNvSpPr txBox="1"/>
          <p:nvPr/>
        </p:nvSpPr>
        <p:spPr>
          <a:xfrm rot="5400000">
            <a:off x="5362920" y="3141000"/>
            <a:ext cx="4608720" cy="86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e6da"/>
                </a:solidFill>
                <a:latin typeface="Verdana"/>
              </a:rPr>
              <a:t>март !</a:t>
            </a:r>
            <a:r>
              <a:rPr b="0" lang="ru-RU" sz="6000" spc="-1" strike="noStrike">
                <a:solidFill>
                  <a:srgbClr val="e6e6da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e6da"/>
                </a:solidFill>
                <a:latin typeface="Verdana"/>
              </a:rPr>
              <a:t>апрель!</a:t>
            </a:r>
            <a:endParaRPr b="0" lang="en-US" sz="6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6e6da"/>
                </a:solidFill>
                <a:latin typeface="Verdana"/>
              </a:rPr>
              <a:t>май!</a:t>
            </a:r>
            <a:r>
              <a:rPr b="0" lang="ru-RU" sz="6000" spc="-1" strike="noStrike">
                <a:solidFill>
                  <a:srgbClr val="e6e6da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35280" y="620640"/>
            <a:ext cx="5257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3f2d9"/>
                </a:solidFill>
                <a:latin typeface="Arial"/>
              </a:rPr>
              <a:t>народные приметы</a:t>
            </a: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6e6da"/>
                </a:solidFill>
                <a:latin typeface="Verdana"/>
              </a:rPr>
              <a:t>Март – протальник</a:t>
            </a: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6e6da"/>
                </a:solidFill>
                <a:latin typeface="Verdana"/>
              </a:rPr>
              <a:t>Апрель –  водолей</a:t>
            </a: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6e6da"/>
                </a:solidFill>
                <a:latin typeface="Verdana"/>
              </a:rPr>
              <a:t>Май – травень</a:t>
            </a: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f2d9"/>
                </a:solidFill>
                <a:latin typeface="Arial"/>
              </a:rPr>
              <a:t>Весна: пробуждение природы </a:t>
            </a:r>
            <a:br>
              <a:rPr sz="4000"/>
            </a:b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5" name="Picture 3" descr="04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341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3f2d9"/>
                </a:solidFill>
                <a:latin typeface="Arial"/>
              </a:rPr>
              <a:t>Какие изменения произошли в природе с наступлением весны? </a:t>
            </a:r>
            <a:br>
              <a:rPr sz="5700"/>
            </a:b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3f2d9"/>
                </a:solidFill>
                <a:latin typeface="Arial"/>
              </a:rPr>
              <a:t>Солнышко стало больше пригревать; </a:t>
            </a:r>
            <a:br>
              <a:rPr sz="5700"/>
            </a:br>
            <a:r>
              <a:rPr b="0" lang="ru-RU" sz="5700" spc="-1" strike="noStrike">
                <a:solidFill>
                  <a:srgbClr val="f3f2d9"/>
                </a:solidFill>
                <a:latin typeface="Arial"/>
              </a:rPr>
              <a:t>дни стали длиннее - </a:t>
            </a:r>
            <a:r>
              <a:rPr b="0" lang="ru-RU" sz="5700" spc="-1" strike="noStrike">
                <a:solidFill>
                  <a:srgbClr val="ffff1a"/>
                </a:solidFill>
                <a:latin typeface="Arial"/>
              </a:rPr>
              <a:t>главная причина весенних явлений.</a:t>
            </a:r>
            <a:br>
              <a:rPr sz="5700"/>
            </a:br>
            <a:endParaRPr b="0" lang="en-US" sz="57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f2d9"/>
                </a:solidFill>
                <a:latin typeface="Arial"/>
              </a:rPr>
              <a:t>Появились лужи и ручьи </a:t>
            </a:r>
            <a:endParaRPr b="0" lang="en-US" sz="2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da"/>
                </a:solidFill>
                <a:latin typeface="Verdana"/>
              </a:rPr>
              <a:t>Начался ледоход на реках</a:t>
            </a: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da"/>
                </a:solidFill>
                <a:latin typeface="Verdana"/>
              </a:rPr>
              <a:t>Появились проталины</a:t>
            </a: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92" name="Picture 2" descr="C:\Documents and Settings\Лена\Мои документы\Мои рисунки\SHISHIM-33d_PC010311.jpg"/>
          <p:cNvPicPr/>
          <p:nvPr/>
        </p:nvPicPr>
        <p:blipFill>
          <a:blip r:embed="rId1"/>
          <a:stretch/>
        </p:blipFill>
        <p:spPr>
          <a:xfrm>
            <a:off x="6531120" y="725400"/>
            <a:ext cx="2612880" cy="1500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Лена\Мои документы\Мои рисунки\2.jpg"/>
          <p:cNvPicPr/>
          <p:nvPr/>
        </p:nvPicPr>
        <p:blipFill>
          <a:blip r:embed="rId2"/>
          <a:stretch/>
        </p:blipFill>
        <p:spPr>
          <a:xfrm>
            <a:off x="5786280" y="22147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Лена\Мои документы\Мои рисунки\zukovski_166.jpg"/>
          <p:cNvPicPr/>
          <p:nvPr/>
        </p:nvPicPr>
        <p:blipFill>
          <a:blip r:embed="rId3"/>
          <a:stretch/>
        </p:blipFill>
        <p:spPr>
          <a:xfrm>
            <a:off x="5500800" y="4572000"/>
            <a:ext cx="278136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55280" y="1700280"/>
            <a:ext cx="79311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1a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ff1a"/>
                </a:solidFill>
                <a:latin typeface="Verdana"/>
              </a:rPr>
              <a:t>Какие птицы зимуют вместе с нами, а какие прилетают весной? Какие гнезда птицы построили сами, а каким помогли люди? </a:t>
            </a:r>
            <a:endParaRPr b="0" lang="en-US" sz="4000" spc="-1" strike="noStrike">
              <a:solidFill>
                <a:srgbClr val="e6e6d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7:00:02Z</dcterms:created>
  <dc:creator>DEPO</dc:creator>
  <dc:description/>
  <dc:language>en-US</dc:language>
  <cp:lastModifiedBy>123</cp:lastModifiedBy>
  <dcterms:modified xsi:type="dcterms:W3CDTF">2016-03-22T10:15:04Z</dcterms:modified>
  <cp:revision>36</cp:revision>
  <dc:subject/>
  <dc:title>Урок окружающего мира в 1 классе (программа «Начальная школа XXI века» под редакцией Виноградовой Н.Ф.)</dc:title>
</cp:coreProperties>
</file>