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3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gradFill rotWithShape="0">
            <a:gsLst>
              <a:gs pos="0">
                <a:srgbClr val="376092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Рисунок 7" descr="лицей рисунок1.png"/>
          <p:cNvPicPr/>
          <p:nvPr/>
        </p:nvPicPr>
        <p:blipFill>
          <a:blip r:embed="rId2"/>
          <a:stretch/>
        </p:blipFill>
        <p:spPr>
          <a:xfrm>
            <a:off x="0" y="0"/>
            <a:ext cx="971640" cy="1303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YELLOW"/>
          <p:cNvPicPr/>
          <p:nvPr/>
        </p:nvPicPr>
        <p:blipFill>
          <a:blip r:embed="rId3"/>
          <a:srcRect l="0" t="0" r="38462" b="0"/>
          <a:stretch/>
        </p:blipFill>
        <p:spPr>
          <a:xfrm>
            <a:off x="0" y="1357200"/>
            <a:ext cx="1052640" cy="838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slovesnik.org/" TargetMode="External"/><Relationship Id="rId2" Type="http://schemas.openxmlformats.org/officeDocument/2006/relationships/hyperlink" Target="https://lit.1sept.ru/index.php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16000" y="549000"/>
            <a:ext cx="7561440" cy="5877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ение духовных ценностей через изучение произведений русский писателей в рамках предм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Родная литература (русская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(авторская програм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тузова Анна Мечислав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ОУ лицея №14 г. Там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бов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00080" y="189000"/>
            <a:ext cx="7964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Calibri"/>
              </a:rPr>
              <a:t>5 класс (19 час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7375e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Введение (1 ча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Отражение в литературе национальных особенностей духовной жизни русского на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торические личности и события (3 час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Историческая личность в произведении С.Алексеева «Сто рассказов из русской истор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Жанр победно-патриотической оды. Образ полководца Суворова в стихотворении Г. Р. Державина «Снигир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М. Брагин «В грозную пору». Героизм и патриотизм русской армии в Отечественной войне 1812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ные тропинки России (3 час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С. Гейченко «У Лукоморья». Художественное своеобразие документального сборника рассказов писателя-пушкин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Кончаловская Н. Наша древняя столица: Картины из прошлого Москвы. Отражение в образе «скромной» древней Москвы русской стар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тво писателей-зелмяков. Волшебная пора детства в рассказе С.Н. Сергеева-Ценского «Аракуш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здники и традиции русского народа (4 час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.Леквиевская «Мифы русского народа». Русская самобытность и представления о мироздании от язычества до христиа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сский уклад жизни в романе И.Шмелева «Лето Господне». Особенности и колорит православных праздников как духа русского на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ой-подросток в современной литературе (5 час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.Сабитова «Три твоих имени». Сюжет, герои, проблематика. Особенности композици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ки милосердия, доброты и искренней любви к ближним в рассказах Б. Екимова «Фетисыч», «Ночь исцел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нр фантастики в современной литературе. А.Жвалевский, Е.Пастернак «Время всегда хорошее». Адаптация подрастающего поколения в «новом» времени. Роль социальных сетей в жизни современной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71640" y="126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7 класс (19 ча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Введение (1 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Детство как предмет изображения в художественной документально-биографической прозе. 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Исторические личности и события (3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История Москвы в романе-сказке А. Жвалевского, Е. Пастернак «Москвест» (обзорное изучение). Жанровое своеобразие произведения. Историческая правда и литературная достоверность в романе. Образы правителей и рядовых граждан. Погружение в историю как способ воспитать в себе чувство гражданской ответственности и смел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	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                            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Литературные тропинки России (5 ч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Повесть Т.В. Толстой «Детство Лермонтова» (фрагменты). Пространство тарханской усадьбы в пов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       </a:t>
            </a: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Повесть Ю. Нечипоренко «Ярмарочный мальчик: жизнь и творения Николая Гоголя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Ярмарка как мировоззренческий центр в художественной вселенной Гоголя. География жизненных странствий Гого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Тамбовщина литературная ( обзор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Праздники и традиции русского народа (4 ч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Русские писатели о Масленице (рассказы А. Чехова «Глупый француз», «Блины»; рассказ А. Аверченко «Широкая Масленица»; рассказ М. Зощенко «Теперь-то ясно»; фрагменты романа И. Шмелева «Лето Господне»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Традиции празднования Масленицы, описанные в произведениях отечественной литературы. Смешное и грустное в рассказах А. Чехова «Глупый француз», «Блины», рассказе А. Аверченко «Широкая Масленица», рассказе М. Зощенко «Теперь-то ясно». Ностальгические мотивы в «масленичных» фрагментах романа И. Шмелева «Лето Господ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Мой современник (3 ч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Изображение характеров и судеб «особых» подростков в повести Е. Мурашовой «Класс коррекции». Тема милосердия в повести. Сосуществование мира реального и фантастического в сознании главного героя как путь к пониманию себя и друг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9720" y="189000"/>
            <a:ext cx="7893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9 класс (19 час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Calibri"/>
              </a:rPr>
              <a:t>Введение (1 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Духовные традиции –  национальная память народа, позволяющая ощутить связь времен и поколений, получить нравственную поддержку и жизненную опо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Духовные традиции в русской литературе (4 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Память как одно из важнейших свойств бытия. Комментированное чтение очерка Д.С.Лихачева «Память» (из книги «Земля родна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Противопоставление молодого Петербурга патриархальному, твердокаменному миру старой русской знати в романе А.С.Пушкина « Арап Петра Великого» (эпизод «Святк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Отражение нравственных идеалов русского народа в стихотворениях С.А.Есенина «Троицыно утро», «Микола», «За горами, за желтыми долами…» (по выбору учител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Люди и события в истории (4 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Обращение к историческому прошлому России и изображение русского национального характера в стихотворении Д.Кедрина «Зодчи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Художественные образы и историческая действительность в романе В.Пикуля «Битва железных канцлеров» (гл. «Последний лицеист», «В предчувствии перемен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Литературные тропинки России (4 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Г.Р.Державин в Тамбовском крае (по роману В.Ходасевича «Державин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Образ Мары в лирике Е.Боратынского  (элегии «Стансы», «Родина», «Запустение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Тамбовские корни рода Пушкиных. Предки и потомки поэта. Чтение с комментарием стихотворения «Моя родословна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 </a:t>
            </a:r>
            <a:r>
              <a:rPr b="1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Мой ровесник в современной русской литературе (6 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Мир подростков в произведениях Е. Габовой («Двойка по поведению», «Одержимая Милка», «Не пускайте рыжую на озеро», «Золушка из семьи многодетных», «Принц», «Зануда Тёма», «Отпусти меня», 2 произведения по выбору учителя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Подростки в поворотные моменты жизни в рассказах «Хокку» Ксении Драгунской, «Поворот» Артёма Ляховича, «Высота» Эдуарда Веркина (по выбору учител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375e"/>
                </a:solidFill>
                <a:latin typeface="Times New Roman"/>
                <a:ea typeface="SimSun"/>
              </a:rPr>
              <a:t>Трудности взросления в повестях   Т. Михеевой «Янка», С. Орловой «Голова-жестянка» (по выбору учителя). Подросток в кругу своей семьи. Повести Евгении Басовой «Подросток Ашим» и «Следы» (по выбору учител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6920" y="836280"/>
            <a:ext cx="77979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Интернет-журнал «Папмамбук» https://www.papmambook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убрика «Что читать?» на сайте ассоциации «Гильдия словесников»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s://slovesnik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Журнал «Литература» ИД «Первое сентября»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s://lit.1sept.ru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Белокурова С.П., Друговейко-Должанская С.В. Нравственный потенциал русской прозы 1990 -2010-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Бугославская О. За юношеский максимализм // Знамя, 2014, №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952560" y="0"/>
            <a:ext cx="819144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Круглая лента лицом вверх 6"/>
          <p:cNvSpPr/>
          <p:nvPr/>
        </p:nvSpPr>
        <p:spPr>
          <a:xfrm>
            <a:off x="2556000" y="1989000"/>
            <a:ext cx="4800600" cy="2608560"/>
          </a:xfrm>
          <a:custGeom>
            <a:avLst/>
            <a:gdLst>
              <a:gd name="textAreaLeft" fmla="*/ 1200240 w 4800600"/>
              <a:gd name="textAreaRight" fmla="*/ 3600720 w 4800600"/>
              <a:gd name="textAreaTop" fmla="*/ 77040 h 2608560"/>
              <a:gd name="textAreaBottom" fmla="*/ 1956600 h 260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ая родная литератур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Волна 8"/>
          <p:cNvSpPr/>
          <p:nvPr/>
        </p:nvSpPr>
        <p:spPr>
          <a:xfrm flipH="1">
            <a:off x="683640" y="1590840"/>
            <a:ext cx="2943000" cy="2198520"/>
          </a:xfrm>
          <a:custGeom>
            <a:avLst/>
            <a:gdLst>
              <a:gd name="textAreaLeft" fmla="*/ -360 w 2943000"/>
              <a:gd name="textAreaRight" fmla="*/ 2943000 w 2943000"/>
              <a:gd name="textAreaTop" fmla="*/ 549720 h 2198520"/>
              <a:gd name="textAreaBottom" fmla="*/ 1649160 h 21985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творчеством писателей-земл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олна 10"/>
          <p:cNvSpPr/>
          <p:nvPr/>
        </p:nvSpPr>
        <p:spPr>
          <a:xfrm>
            <a:off x="6272280" y="1844640"/>
            <a:ext cx="2771640" cy="2173320"/>
          </a:xfrm>
          <a:custGeom>
            <a:avLst/>
            <a:gdLst>
              <a:gd name="textAreaLeft" fmla="*/ 0 w 2771640"/>
              <a:gd name="textAreaRight" fmla="*/ 2771640 w 2771640"/>
              <a:gd name="textAreaTop" fmla="*/ 543240 h 2173320"/>
              <a:gd name="textAreaBottom" fmla="*/ 1630080 h 21733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авыков анализа художественного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олна 11"/>
          <p:cNvSpPr/>
          <p:nvPr/>
        </p:nvSpPr>
        <p:spPr>
          <a:xfrm>
            <a:off x="826920" y="4076640"/>
            <a:ext cx="3384720" cy="2089080"/>
          </a:xfrm>
          <a:custGeom>
            <a:avLst/>
            <a:gdLst>
              <a:gd name="textAreaLeft" fmla="*/ 0 w 3384720"/>
              <a:gd name="textAreaRight" fmla="*/ 3385080 w 3384720"/>
              <a:gd name="textAreaTop" fmla="*/ 522360 h 2089080"/>
              <a:gd name="textAreaBottom" fmla="*/ 156708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ие нравственного содержания произведений писателей-совреме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олна 12"/>
          <p:cNvSpPr/>
          <p:nvPr/>
        </p:nvSpPr>
        <p:spPr>
          <a:xfrm flipH="1">
            <a:off x="5650920" y="4076640"/>
            <a:ext cx="3260520" cy="2089080"/>
          </a:xfrm>
          <a:custGeom>
            <a:avLst/>
            <a:gdLst>
              <a:gd name="textAreaLeft" fmla="*/ -360 w 3260520"/>
              <a:gd name="textAreaRight" fmla="*/ 3260520 w 3260520"/>
              <a:gd name="textAreaTop" fmla="*/ 522360 h 2089080"/>
              <a:gd name="textAreaBottom" fmla="*/ 156708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навыков самостоятельной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олна 13"/>
          <p:cNvSpPr/>
          <p:nvPr/>
        </p:nvSpPr>
        <p:spPr>
          <a:xfrm>
            <a:off x="3619440" y="0"/>
            <a:ext cx="3105360" cy="2057400"/>
          </a:xfrm>
          <a:custGeom>
            <a:avLst/>
            <a:gdLst>
              <a:gd name="textAreaLeft" fmla="*/ 118440 w 3105360"/>
              <a:gd name="textAreaRight" fmla="*/ 3224160 w 310536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826" y="2700"/>
                </a:moveTo>
                <a:cubicBezTo>
                  <a:pt x="7613" y="-6865"/>
                  <a:pt x="14813" y="12265"/>
                  <a:pt x="21600" y="2700"/>
                </a:cubicBezTo>
                <a:lnTo>
                  <a:pt x="20774" y="18900"/>
                </a:lnTo>
                <a:cubicBezTo>
                  <a:pt x="13987" y="28465"/>
                  <a:pt x="6787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ие представлений учащихся о культурных национальных тради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тапредметные результаты.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В основной школе продолжается работа по формированию и развитию основ читательской компете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22120" y="1700280"/>
            <a:ext cx="1871640" cy="72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Личностны результаты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1136520" y="4400640"/>
            <a:ext cx="1871640" cy="79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едмет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07920" y="1193400"/>
            <a:ext cx="5211720" cy="230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российской гражданской идентичности: патриотизма, любви и уважения к Отечеству, чувства гордости за свою Родину, прошлое и настоящее многонационального народа России; осознание своей этнической принадлежности, знание истории, языка, культуры своего народа, своего края, основ культурного наследия народов России и человечества; воспитание чувства ответственности и долга перед род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5"/>
          <p:cNvSpPr/>
          <p:nvPr/>
        </p:nvSpPr>
        <p:spPr>
          <a:xfrm>
            <a:off x="3608280" y="3824280"/>
            <a:ext cx="5211720" cy="255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знание значимости чтения и изучения родной литературы для своего дальнейшего развития; понимание родной литературы как одной из основных национально-культурных ценностей народа, как особого способа познания жизн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знание коммуникативно-эстетических возможностей родного языка на основе изучения выдающихся произведений культуры своего народа, российской и мировой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 flipH="1">
            <a:off x="2990880" y="20588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3301920" y="20764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 flipH="1">
            <a:off x="301464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3251160" y="48182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3301920" y="141300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68672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42920" y="692280"/>
          <a:ext cx="7893000" cy="5697360"/>
        </p:xfrm>
        <a:graphic>
          <a:graphicData uri="http://schemas.openxmlformats.org/drawingml/2006/table">
            <a:tbl>
              <a:tblPr/>
              <a:tblGrid>
                <a:gridCol w="2233800"/>
                <a:gridCol w="2374920"/>
                <a:gridCol w="328428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в литературе национальных особенностей духовной жизни русского наро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ство как предмет изображения в художественной документально-биографической проз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Духовные традиции –  национальная память народа, позволяющая ощутить связь времен и поколений, получить нравственную поддержку и жизненную опор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68672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лок 1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торические личности и 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00080" y="692280"/>
          <a:ext cx="7964640" cy="5994360"/>
        </p:xfrm>
        <a:graphic>
          <a:graphicData uri="http://schemas.openxmlformats.org/drawingml/2006/table">
            <a:tbl>
              <a:tblPr/>
              <a:tblGrid>
                <a:gridCol w="2357640"/>
                <a:gridCol w="2611440"/>
                <a:gridCol w="299556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3000"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ческая личность в произведении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С.Алексеева «Сто рассказов из русской истори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нр победно-патриотической оды. Образ полководца Суворова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стихотворении Г. Р. Державина «Снигир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М. Брагин «В грозную пору»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роизм и патриотизм русской армии в Отечественной войне 1812 год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 Москвы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омане-сказке А. Жвалевского, Е. Пастернак «Москвест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бзорное изучение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нровое своеобразие произвед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ческая правда и литературная достоверность в романе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разы правителей и рядовых граждан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гружение в историю как способ воспитать в себе чувство гражданской ответственности и смел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удожественная литература как один из источников познания истории родины и народ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бращение к историческому прошлому России и изображение русского национального характера в стихотворении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Д.Кедрина «Зодчие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удьбы русской истории в романах В.Пикуля (обзор). Художественные образы и историческая действительность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романе В.Пикуля «Битва железных канцлеров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гл. «Последний лицеист», «В предчувствии перемен»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68672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лок 2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тературные тропинки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00080" y="692280"/>
          <a:ext cx="7964640" cy="6218280"/>
        </p:xfrm>
        <a:graphic>
          <a:graphicData uri="http://schemas.openxmlformats.org/drawingml/2006/table">
            <a:tbl>
              <a:tblPr/>
              <a:tblGrid>
                <a:gridCol w="2779920"/>
                <a:gridCol w="2189160"/>
                <a:gridCol w="29955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20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С. Гейченко «У Лукоморья»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ое своеобразие документального сборника рассказов писателя-пушкинис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Кончаловская Н. Наша древняя столиц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Картины из прошлого Москвы. Отражение в образе «скромной» древней Москвы русской стари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тво писателей-земляков. Волшебная пора детства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ссказе С.Н. Сергеева-Ценского «Аракуш»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6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овесть Т.В. Толстой «Детство Лермонтова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фрагменты). Пространство тарханской усадьбы в пове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6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овесть Ю. Нечипоренко «Ярмарочный мальчик: жизнь и творения Николая Гоголя»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графия жизненных странствий Гогол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6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мбовщина литератур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 обзор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еографические точки на карте России, связанные с именами и творчеством русских писателе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.Р.Державин в Тамбовском крае (по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роману В.Ходасевича «Державин»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браз Мары в лирике Е.Боратынского  (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элегии «Стансы», «Родина», «Запустение»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амбовские корни рода Пушкиных. Предки и потомки поэта. Чтение с комментарием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стихотворения «Моя родословная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68672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лок 3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аздники и традиции русского на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00080" y="692280"/>
          <a:ext cx="7893000" cy="5699160"/>
        </p:xfrm>
        <a:graphic>
          <a:graphicData uri="http://schemas.openxmlformats.org/drawingml/2006/table">
            <a:tbl>
              <a:tblPr/>
              <a:tblGrid>
                <a:gridCol w="1987560"/>
                <a:gridCol w="2592360"/>
                <a:gridCol w="3313080"/>
              </a:tblGrid>
              <a:tr h="4413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5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.Леквиевская «Мифы русского народа»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самобытность и представления о мироздании от язычества до христиа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уклад жизни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омане И.Шмелева «Лето Господне»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и колорит православных праздников как духа русского на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диции празднования Масленицы, описанные в произведениях отечественной литератур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ссказы А. Чехова «Глупый француз», «Блины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ссказ А. Аверченко «Широкая Масленица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ссказ М. Зощенко «Теперь-то ясно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стальгические мотивы в «масленичных» фрагментах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омана И. Шмелева «Лето Господне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амять как одно из важнейших свойств бытия. Комментированное чтение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очерка Д.С.Лихачева «Память» (из книги «Земля родная»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ротивопоставление молодого, диковатого, но мощного и творческого Петербурга патриархальному, твердокаменному миру старой русской знати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романе А.С.Пушкина « Арап Петра Великого» (эпизод «Святки»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ражение нравственных идеалов русского народа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стихотворениях С.А.Есенина «Троицыно утро», «Микола», «За горами, за желтыми долами…», «Я странник убогий…» (по выбору учит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68672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лок 3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SimSun"/>
              </a:rPr>
              <a:t>Мой ровесник в современной русской 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692280"/>
          <a:ext cx="7893000" cy="6140160"/>
        </p:xfrm>
        <a:graphic>
          <a:graphicData uri="http://schemas.openxmlformats.org/drawingml/2006/table">
            <a:tbl>
              <a:tblPr/>
              <a:tblGrid>
                <a:gridCol w="2665440"/>
                <a:gridCol w="1800360"/>
                <a:gridCol w="3427200"/>
              </a:tblGrid>
              <a:tr h="441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98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.Сабитова «Три твоих имени»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южет, герои, проблематика. Особенности композиции произ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 милосердия, доброты и искренней любви к ближним в рассказах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Б. Екимова «Фетисыч», «Ночь исцел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 фантастики в современной литературе.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.Жвалевский, Е.Пастернак «Время всегда хорошее»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ация подрастающего поколения в «новом» времени. Роль социальных сетей в жизни современной шк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бражение характеров и судеб «особых» подростков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овести Е. Мурашовой «Класс коррекции»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милосердия в повести. Сосуществование мира реального и фантастического в сознании главного героя как путь к пониманию себя и друг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ир подростков в произведениях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Е. Габовой («Двойка по поведению», «Одержимая Милка», «Не пускайте рыжую на озеро», «Золушка из семьи многодетных», «Принц», «Зануда Тёма», «Отпусти меня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произведения по выбору учителя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одростки в поворотные моменты жизни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рассказах «Хокку» Ксении Драгунской, «Поворот» Артёма Ляховича, «Высота» Эдуарда Веркина (по выбору учит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рудности взросления в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повестях   Т. Михеевой «Янка», С. Орловой «Голова-жестянка»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(по выбору учит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одросток в кругу своей семьи. Повести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Евгении Басовой «Подросток Ашим» и «Следы» (по выбору учит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2:28:29Z</dcterms:created>
  <dc:creator>Administrator</dc:creator>
  <dc:description/>
  <dc:language>en-US</dc:language>
  <cp:lastModifiedBy>Анна</cp:lastModifiedBy>
  <dcterms:modified xsi:type="dcterms:W3CDTF">2024-03-19T18:38:15Z</dcterms:modified>
  <cp:revision>127</cp:revision>
  <dc:subject/>
  <dc:title>Слайд 1</dc:title>
</cp:coreProperties>
</file>