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3"/>
          <p:cNvSpPr/>
          <p:nvPr/>
        </p:nvSpPr>
        <p:spPr>
          <a:xfrm>
            <a:off x="0" y="0"/>
            <a:ext cx="971640" cy="6858000"/>
          </a:xfrm>
          <a:prstGeom prst="rect">
            <a:avLst/>
          </a:prstGeom>
          <a:gradFill rotWithShape="0">
            <a:gsLst>
              <a:gs pos="0">
                <a:srgbClr val="376092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Рисунок 7" descr="лицей рисунок1.png"/>
          <p:cNvPicPr/>
          <p:nvPr/>
        </p:nvPicPr>
        <p:blipFill>
          <a:blip r:embed="rId2"/>
          <a:stretch/>
        </p:blipFill>
        <p:spPr>
          <a:xfrm>
            <a:off x="0" y="0"/>
            <a:ext cx="971640" cy="13032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4" descr="YELLOW"/>
          <p:cNvPicPr/>
          <p:nvPr/>
        </p:nvPicPr>
        <p:blipFill>
          <a:blip r:embed="rId3"/>
          <a:srcRect l="0" t="0" r="38462" b="0"/>
          <a:stretch/>
        </p:blipFill>
        <p:spPr>
          <a:xfrm>
            <a:off x="0" y="1357200"/>
            <a:ext cx="1052640" cy="838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55;&#1072;&#1084;&#1103;&#1090;&#1082;&#1072;%20&#1082;%20&#1086;&#1087;&#1080;&#1089;&#1072;&#1085;&#1080;&#1102;.docx" TargetMode="External"/><Relationship Id="rId2" Type="http://schemas.openxmlformats.org/officeDocument/2006/relationships/hyperlink" Target="file:///&#1055;&#1072;&#1084;&#1103;&#1090;&#1082;&#1072;%20&#1082;%20&#1087;&#1086;&#1074;&#1077;&#1089;&#1090;&#1074;&#1086;&#1074;&#1072;&#1085;&#1080;&#1102;.docx" TargetMode="External"/><Relationship Id="rId3" Type="http://schemas.openxmlformats.org/officeDocument/2006/relationships/hyperlink" Target="file:///&#1055;&#1072;&#1084;&#1103;&#1090;&#1082;&#1072;%20&#1082;%20&#1088;&#1072;&#1089;&#1089;&#1091;&#1078;&#1076;&#1077;&#1085;&#1080;&#1102;.docx" TargetMode="External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1835280" y="476280"/>
            <a:ext cx="655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ика подготовки обучающихся к итоговому собеседован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"/>
          <p:cNvSpPr/>
          <p:nvPr/>
        </p:nvSpPr>
        <p:spPr>
          <a:xfrm>
            <a:off x="4672080" y="4068720"/>
            <a:ext cx="4356000" cy="17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тузова Анна Мечислав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"Лицей №14 имени Заслуженного учителя Российской Федерации А.М. Кузьмина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https://sh-krasnoznamenskaya-krasnoznamenka-r56.gosweb.gosuslugi.ru/netcat_files/47/237/6bb7a6f22c4bf2a5d30f8522c580d6c2.png"/>
          <p:cNvPicPr/>
          <p:nvPr/>
        </p:nvPicPr>
        <p:blipFill>
          <a:blip r:embed="rId1"/>
          <a:stretch/>
        </p:blipFill>
        <p:spPr>
          <a:xfrm>
            <a:off x="250920" y="3284640"/>
            <a:ext cx="3946320" cy="28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911920" cy="35287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1702800" y="344520"/>
            <a:ext cx="43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omic Sans MS"/>
              </a:rPr>
              <a:t>Интеллект-ка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7451640" y="771480"/>
            <a:ext cx="1176480" cy="11397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"/>
          <p:cNvSpPr/>
          <p:nvPr/>
        </p:nvSpPr>
        <p:spPr>
          <a:xfrm>
            <a:off x="1116000" y="5229360"/>
            <a:ext cx="773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-карт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метод графического выражения процессов восприятия, обработки и запоминания информации, творческих задач, инструмент развития памяти и мыш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https://skrinshoter.ru/i/241021/FFJT8qcU.png?download=1&amp;name=%D0%A1%D0%BA%D1%80%D0%B8%D0%BD%D1%88%D0%BE%D1%82%2024-10-2021%2013:26:31.png"/>
          <p:cNvPicPr/>
          <p:nvPr/>
        </p:nvPicPr>
        <p:blipFill>
          <a:blip r:embed="rId1"/>
          <a:stretch/>
        </p:blipFill>
        <p:spPr>
          <a:xfrm>
            <a:off x="1116000" y="1197000"/>
            <a:ext cx="7777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-208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Способы ци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12840" y="541440"/>
          <a:ext cx="7632720" cy="5962680"/>
        </p:xfrm>
        <a:graphic>
          <a:graphicData uri="http://schemas.openxmlformats.org/drawingml/2006/table">
            <a:tbl>
              <a:tblPr/>
              <a:tblGrid>
                <a:gridCol w="2314440"/>
                <a:gridCol w="531828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Способы передачи чужой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При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5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дложения с прямой реч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одной из своих многочисленных книг Амосов писал: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Резервы, которые создала природа в человеке, существуют лишь до тех пор, пока человек максимально их использует, но, как только упражнения прекращаются, резервы тают. Попробуйте уложить здорового человека на месяц в постель, так, чтобы он ни на секунду не вставал, — получите инвалида, разучившегося ходить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дложения с косвенной реч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Николай Михайлович считал, что </a:t>
                      </a:r>
                      <a:r>
                        <a:rPr b="0" i="1" lang="ru-RU" sz="16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резервы, данные человеку от природы,  существуют только до тех пор, пока он их использует. Неподвижный образ жизни превращает здорового человека в инвалид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дложения с вводными слов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 словам Амосов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гулярное максимальное  использование  человеком природных </a:t>
                      </a:r>
                      <a:r>
                        <a:rPr b="0" i="1" lang="ru-RU" sz="16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резервов  помогает долго оставаться здоровым, а неподвижность превращает его в инвалид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Определяем место высказы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16000" y="765000"/>
          <a:ext cx="7775640" cy="6004080"/>
        </p:xfrm>
        <a:graphic>
          <a:graphicData uri="http://schemas.openxmlformats.org/drawingml/2006/table">
            <a:tbl>
              <a:tblPr/>
              <a:tblGrid>
                <a:gridCol w="5184720"/>
                <a:gridCol w="2590920"/>
              </a:tblGrid>
              <a:tr h="1551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менитый на весь мир врач-кардио́лог, академик, Николай Михайлович Амо́сов, проработавший 36 лет директором Института сердечно-сосудистой хирургии и сделавший более 56 тысяч операций на сердце, призывал людей вести здоровый образ жизни. </a:t>
                      </a:r>
                      <a:r>
                        <a:rPr b="1" i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Так, …. (иллюстрац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н сам был наглядным примером того, что физические упражнения продлевают человеческую жизнь, приносят бодрость и силы. </a:t>
                      </a:r>
                      <a:r>
                        <a:rPr b="1" i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Более того, …. ( дополнение данной информац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одной из своих многочисленных книг Николай Михайлович Амосов писал: </a:t>
                      </a: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«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Резервы, которые создала природа в человеке, существуют до тех пор, пока человек максимально их использует, но, как только упражнения прекращаются, резервы тают. Попробуйте уложить здорового человека на месяц в постель, так, чтобы он ни на секунду не вставал, — получите инвалида, разучившегося ходить</a:t>
                      </a: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».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ще в сорокалетнем возрасте, когда рентген показал изменения в позвонках у Амо́сова, вызванные проводимыми им длительными операциями, Николай Михайлович разработал 10 упражнений, каждое по сто  движений. Когда в доме появилась собака, к гимнастике добавились утренние пробежки. </a:t>
                      </a:r>
                      <a:r>
                        <a:rPr b="1" i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Зачем он это делал?) (причинные отнош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у движений он дополнял ограничениями в еде: его вес был 54 килограмма. Это и был «режим ограничений и нагрузок», который получил широкую известнос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6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79 лет Амосов, невзирая на свое больное сердце, ежедневно выполнял свои тысячи движений, бегал два километра трусцо́й, но, вместо уменьшения физических нагрузок, он увеличил их в три раза</a:t>
                      </a:r>
                      <a:r>
                        <a:rPr b="1" i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. (пояснение, причина, иллюстрация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ак изо дня в день, 360 дней в году без выходных, не давая себе поблажек, занимался доктор Амо́сов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жив активно 89 лет, Николай Михайлович доказал, что человек может не только замедлить старение, но даже победить такую суровую болезнь, как порок сердца.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9" name="Стрелка влево 4"/>
          <p:cNvSpPr/>
          <p:nvPr/>
        </p:nvSpPr>
        <p:spPr>
          <a:xfrm>
            <a:off x="5952960" y="2054160"/>
            <a:ext cx="360360" cy="187560"/>
          </a:xfrm>
          <a:prstGeom prst="leftArrow">
            <a:avLst>
              <a:gd name="adj1" fmla="val 50000"/>
              <a:gd name="adj2" fmla="val 4993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лево 5"/>
          <p:cNvSpPr/>
          <p:nvPr/>
        </p:nvSpPr>
        <p:spPr>
          <a:xfrm>
            <a:off x="5951520" y="1566720"/>
            <a:ext cx="361800" cy="171720"/>
          </a:xfrm>
          <a:prstGeom prst="leftArrow">
            <a:avLst>
              <a:gd name="adj1" fmla="val 50000"/>
              <a:gd name="adj2" fmla="val 4990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влево 6"/>
          <p:cNvSpPr/>
          <p:nvPr/>
        </p:nvSpPr>
        <p:spPr>
          <a:xfrm>
            <a:off x="5916600" y="4597560"/>
            <a:ext cx="361800" cy="21744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3" descr="C:\Users\User\Desktop\картинки с шаттерстока\шаттерсток\shutterstock_233049607.jpg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052640"/>
          </a:xfrm>
          <a:prstGeom prst="rect">
            <a:avLst/>
          </a:prstGeom>
          <a:ln w="0">
            <a:noFill/>
          </a:ln>
        </p:spPr>
      </p:pic>
      <p:sp>
        <p:nvSpPr>
          <p:cNvPr id="113" name="Стрелка влево 5"/>
          <p:cNvSpPr/>
          <p:nvPr/>
        </p:nvSpPr>
        <p:spPr>
          <a:xfrm>
            <a:off x="5916600" y="3228840"/>
            <a:ext cx="361800" cy="216000"/>
          </a:xfrm>
          <a:prstGeom prst="leftArrow">
            <a:avLst>
              <a:gd name="adj1" fmla="val 50000"/>
              <a:gd name="adj2" fmla="val 4995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Тренировочные 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"/>
          <p:cNvPicPr/>
          <p:nvPr/>
        </p:nvPicPr>
        <p:blipFill>
          <a:blip r:embed="rId1"/>
          <a:srcRect l="1926" t="35841" r="2031" b="46949"/>
          <a:stretch/>
        </p:blipFill>
        <p:spPr>
          <a:xfrm>
            <a:off x="1098720" y="836640"/>
            <a:ext cx="7272000" cy="23050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" descr=""/>
          <p:cNvPicPr/>
          <p:nvPr/>
        </p:nvPicPr>
        <p:blipFill>
          <a:blip r:embed="rId2"/>
          <a:srcRect l="1926" t="52221" r="2030" b="4734"/>
          <a:stretch/>
        </p:blipFill>
        <p:spPr>
          <a:xfrm>
            <a:off x="1104840" y="1484280"/>
            <a:ext cx="7588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Объект 5" descr=""/>
          <p:cNvPicPr/>
          <p:nvPr/>
        </p:nvPicPr>
        <p:blipFill>
          <a:blip r:embed="rId1"/>
          <a:stretch/>
        </p:blipFill>
        <p:spPr>
          <a:xfrm>
            <a:off x="1050840" y="1600200"/>
            <a:ext cx="7585200" cy="45259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 Составление схемы текста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схемы помогает быстро и целенаправленно  понять текст, и  тогда ученику легче сохранить микротемы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0080" y="274680"/>
            <a:ext cx="76867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Риски 3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00080" y="765000"/>
            <a:ext cx="77486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тическое монологическое высказывание.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сновными проблемами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раскрытие темы не в полном объеме;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не достаточно высокий уровень печатной продукции (фотографии не цветные, однотипные, не всегда выражают четко идею, тем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недостаточный объём монологического высказывания (менее 10 фраз);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неоправданные паузы в речи,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односложные ответы вместо связного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920" y="2421000"/>
            <a:ext cx="2602080" cy="1760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Опис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3"/>
          <p:cNvSpPr/>
          <p:nvPr/>
        </p:nvSpPr>
        <p:spPr>
          <a:xfrm>
            <a:off x="5867280" y="2421000"/>
            <a:ext cx="2808360" cy="1728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Повеств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5"/>
          <p:cNvSpPr/>
          <p:nvPr/>
        </p:nvSpPr>
        <p:spPr>
          <a:xfrm>
            <a:off x="3419640" y="4581360"/>
            <a:ext cx="2601720" cy="1833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Рас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 flipH="1">
            <a:off x="2344680" y="2048040"/>
            <a:ext cx="2448000" cy="33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4788000" y="2021040"/>
            <a:ext cx="0" cy="24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4788000" y="2048040"/>
            <a:ext cx="2477880" cy="30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1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Тренировочные 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"/>
          <p:cNvSpPr/>
          <p:nvPr/>
        </p:nvSpPr>
        <p:spPr>
          <a:xfrm>
            <a:off x="1332000" y="692280"/>
            <a:ext cx="65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внутреннего и внешнего к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«Руч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«Лесен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0080" y="274680"/>
            <a:ext cx="76867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Риски 3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98440" y="745920"/>
            <a:ext cx="2952720" cy="53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ие в диалоге.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неточные или неполные, односложные ответы на 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умение обмениваться информацией с собеседником сформировано недостаточно устойчи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https://cf.ppt-online.org/files/slide/d/dA1I76PbyTWRQ5YvkqFlpZDwEN48HragcU29jX/slide-6.jpg"/>
          <p:cNvPicPr/>
          <p:nvPr/>
        </p:nvPicPr>
        <p:blipFill>
          <a:blip r:embed="rId1"/>
          <a:stretch/>
        </p:blipFill>
        <p:spPr>
          <a:xfrm>
            <a:off x="4330800" y="1628640"/>
            <a:ext cx="458136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003320" y="907560"/>
            <a:ext cx="5300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нировочные упражнения по составлению диалогов на разные темы, воспроизведение диалогов в паре, групп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ктика публичного выступления на различного рода мероприятиях (учебная беседа в парах или в группах, дискуссия, участие в дебатах, деловые игры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ть умение создавать самостоятельные монологические высказывания по предложенной речевой ситу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оменд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https://s2.zlotemysli.pl/000/002/965/fotolia_62578091_subscription_monthly_m.jpg"/>
          <p:cNvPicPr/>
          <p:nvPr/>
        </p:nvPicPr>
        <p:blipFill>
          <a:blip r:embed="rId1"/>
          <a:stretch/>
        </p:blipFill>
        <p:spPr>
          <a:xfrm>
            <a:off x="6303960" y="257040"/>
            <a:ext cx="2581200" cy="19432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1125360" y="2997360"/>
            <a:ext cx="756144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01010"/>
                </a:solidFill>
                <a:latin typeface="Times New Roman"/>
                <a:ea typeface="Times New Roman"/>
              </a:rPr>
              <a:t>Шаг 1.</a:t>
            </a:r>
            <a:r>
              <a:rPr b="0" lang="ru-RU" sz="1400" spc="-1" strike="noStrike">
                <a:solidFill>
                  <a:srgbClr val="101010"/>
                </a:solidFill>
                <a:latin typeface="Times New Roman"/>
                <a:ea typeface="Times New Roman"/>
              </a:rPr>
              <a:t> Внимательно </a:t>
            </a:r>
            <a:r>
              <a:rPr b="0" lang="ru-RU" sz="1400" spc="-1" strike="noStrike" u="sng">
                <a:solidFill>
                  <a:srgbClr val="101010"/>
                </a:solidFill>
                <a:uFillTx/>
                <a:latin typeface="Times New Roman"/>
                <a:ea typeface="Times New Roman"/>
              </a:rPr>
              <a:t>слушаем и слышим</a:t>
            </a:r>
            <a:r>
              <a:rPr b="0" lang="ru-RU" sz="1400" spc="-1" strike="noStrike">
                <a:solidFill>
                  <a:srgbClr val="10101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101010"/>
                </a:solidFill>
                <a:latin typeface="Times New Roman"/>
                <a:ea typeface="Times New Roman"/>
              </a:rPr>
              <a:t>Прочитали/выслушали и постарались понять, </a:t>
            </a:r>
            <a:r>
              <a:rPr b="1" i="1" lang="ru-RU" sz="1400" spc="-1" strike="noStrike">
                <a:solidFill>
                  <a:srgbClr val="101010"/>
                </a:solidFill>
                <a:latin typeface="Times New Roman"/>
                <a:ea typeface="Times New Roman"/>
              </a:rPr>
              <a:t>о чём</a:t>
            </a:r>
            <a:r>
              <a:rPr b="0" i="1" lang="ru-RU" sz="1400" spc="-1" strike="noStrike">
                <a:solidFill>
                  <a:srgbClr val="101010"/>
                </a:solidFill>
                <a:latin typeface="Times New Roman"/>
                <a:ea typeface="Times New Roman"/>
              </a:rPr>
              <a:t> в вопросе идет речь. Нашли те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01010"/>
                </a:solidFill>
                <a:latin typeface="Times New Roman"/>
                <a:ea typeface="Times New Roman"/>
              </a:rPr>
              <a:t>Шаг 2.</a:t>
            </a:r>
            <a:r>
              <a:rPr b="0" lang="ru-RU" sz="1400" spc="-1" strike="noStrike">
                <a:solidFill>
                  <a:srgbClr val="101010"/>
                </a:solidFill>
                <a:latin typeface="Times New Roman"/>
                <a:ea typeface="Times New Roman"/>
              </a:rPr>
              <a:t> Быстро </a:t>
            </a:r>
            <a:r>
              <a:rPr b="0" lang="ru-RU" sz="1400" spc="-1" strike="noStrike" u="sng">
                <a:solidFill>
                  <a:srgbClr val="101010"/>
                </a:solidFill>
                <a:uFillTx/>
                <a:latin typeface="Times New Roman"/>
                <a:ea typeface="Times New Roman"/>
              </a:rPr>
              <a:t>выделяем и запоминаем</a:t>
            </a:r>
            <a:r>
              <a:rPr b="0" lang="ru-RU" sz="1400" spc="-1" strike="noStrike">
                <a:solidFill>
                  <a:srgbClr val="101010"/>
                </a:solidFill>
                <a:latin typeface="Times New Roman"/>
                <a:ea typeface="Times New Roman"/>
              </a:rPr>
              <a:t> основные тематические слова (2 или 3 существительных). Настраиваемся на составление их опреде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01010"/>
                </a:solidFill>
                <a:latin typeface="Times New Roman"/>
                <a:ea typeface="Times New Roman"/>
              </a:rPr>
              <a:t>Шаг 3.</a:t>
            </a:r>
            <a:r>
              <a:rPr b="0" lang="ru-RU" sz="1400" spc="-1" strike="noStrike">
                <a:solidFill>
                  <a:srgbClr val="101010"/>
                </a:solidFill>
                <a:latin typeface="Times New Roman"/>
                <a:ea typeface="Times New Roman"/>
              </a:rPr>
              <a:t> Поскольку ответ на любой вопрос должен быть рассуждением-объяснением, то сначала надо сформулировать основную мысль. Доля этого </a:t>
            </a:r>
            <a:r>
              <a:rPr b="0" lang="ru-RU" sz="1400" spc="-1" strike="noStrike" u="sng">
                <a:solidFill>
                  <a:srgbClr val="101010"/>
                </a:solidFill>
                <a:uFillTx/>
                <a:latin typeface="Times New Roman"/>
                <a:ea typeface="Times New Roman"/>
              </a:rPr>
              <a:t>повторяем </a:t>
            </a:r>
            <a:r>
              <a:rPr b="0" lang="ru-RU" sz="1400" spc="-1" strike="noStrike">
                <a:solidFill>
                  <a:srgbClr val="101010"/>
                </a:solidFill>
                <a:latin typeface="Times New Roman"/>
                <a:ea typeface="Times New Roman"/>
              </a:rPr>
              <a:t>заданный вопрос без вопросительной интонации и без вопросительных слов. </a:t>
            </a:r>
            <a:r>
              <a:rPr b="0" lang="ru-RU" sz="1400" spc="-1" strike="noStrike" u="sng">
                <a:solidFill>
                  <a:srgbClr val="101010"/>
                </a:solidFill>
                <a:uFillTx/>
                <a:latin typeface="Times New Roman"/>
                <a:ea typeface="Times New Roman"/>
              </a:rPr>
              <a:t>Получаем </a:t>
            </a:r>
            <a:r>
              <a:rPr b="0" lang="ru-RU" sz="1400" spc="-1" strike="noStrike">
                <a:solidFill>
                  <a:srgbClr val="101010"/>
                </a:solidFill>
                <a:latin typeface="Times New Roman"/>
                <a:ea typeface="Times New Roman"/>
              </a:rPr>
              <a:t>основную мысль нашего рассуждения-объяс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101010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101010"/>
                </a:solidFill>
                <a:latin typeface="Times New Roman"/>
                <a:ea typeface="Times New Roman"/>
              </a:rPr>
              <a:t>Шаг 4.</a:t>
            </a:r>
            <a:r>
              <a:rPr b="0" lang="ru-RU" sz="1400" spc="-1" strike="noStrike">
                <a:solidFill>
                  <a:srgbClr val="10101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 u="sng">
                <a:solidFill>
                  <a:srgbClr val="101010"/>
                </a:solidFill>
                <a:uFillTx/>
                <a:latin typeface="Times New Roman"/>
                <a:ea typeface="Times New Roman"/>
              </a:rPr>
              <a:t>Формулируем</a:t>
            </a:r>
            <a:r>
              <a:rPr b="0" lang="ru-RU" sz="1400" spc="-1" strike="noStrike">
                <a:solidFill>
                  <a:srgbClr val="101010"/>
                </a:solidFill>
                <a:latin typeface="Times New Roman"/>
                <a:ea typeface="Times New Roman"/>
              </a:rPr>
              <a:t> аргументы, объясняющие полученную ОМ. Откуда их можно взять? Ученик </a:t>
            </a:r>
            <a:r>
              <a:rPr b="0" lang="ru-RU" sz="1400" spc="-1" strike="noStrike" u="sng">
                <a:solidFill>
                  <a:srgbClr val="101010"/>
                </a:solidFill>
                <a:uFillTx/>
                <a:latin typeface="Times New Roman"/>
                <a:ea typeface="Times New Roman"/>
              </a:rPr>
              <a:t>делает короткие толкования</a:t>
            </a:r>
            <a:r>
              <a:rPr b="0" lang="ru-RU" sz="1400" spc="-1" strike="noStrike">
                <a:solidFill>
                  <a:srgbClr val="101010"/>
                </a:solidFill>
                <a:latin typeface="Times New Roman"/>
                <a:ea typeface="Times New Roman"/>
              </a:rPr>
              <a:t> каждого из тематических слов, делая их аргументами к основной мыс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1010"/>
                </a:solidFill>
                <a:latin typeface="Times New Roman"/>
                <a:ea typeface="Times New Roman"/>
              </a:rPr>
              <a:t>Отвечая на вопрос, ученик соединяет два определения связкой </a:t>
            </a:r>
            <a:r>
              <a:rPr b="0" i="1" lang="ru-RU" sz="1400" spc="-1" strike="noStrike">
                <a:solidFill>
                  <a:srgbClr val="101010"/>
                </a:solidFill>
                <a:latin typeface="Times New Roman"/>
                <a:ea typeface="Times New Roman"/>
              </a:rPr>
              <a:t>поэтому</a:t>
            </a:r>
            <a:r>
              <a:rPr b="0" lang="ru-RU" sz="1400" spc="-1" strike="noStrike">
                <a:solidFill>
                  <a:srgbClr val="101010"/>
                </a:solidFill>
                <a:latin typeface="Times New Roman"/>
                <a:ea typeface="Times New Roman"/>
              </a:rPr>
              <a:t> - получается связный ответ объемом 3 фраз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0080" y="274680"/>
            <a:ext cx="76867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71640" y="757080"/>
            <a:ext cx="768672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ое собеседование по русскому языку за курс основной школы включает 4 задания открытого типа с развёрнутым ответом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s://cf.ppt-online.org/files1/slide/q/QhieDfcFPuwMxBm1C46d7Nj2v0roXUlgVEk8SLJ9nq/slide-6.jpg"/>
          <p:cNvPicPr/>
          <p:nvPr/>
        </p:nvPicPr>
        <p:blipFill>
          <a:blip r:embed="rId1"/>
          <a:srcRect l="0" t="14306" r="0" b="18941"/>
          <a:stretch/>
        </p:blipFill>
        <p:spPr>
          <a:xfrm>
            <a:off x="1359000" y="2075040"/>
            <a:ext cx="7316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0600" y="189000"/>
            <a:ext cx="768672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омендации для уча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https://cf.ppt-online.org/files1/slide/n/NLevbXCVcPGmwD5z9W1xdtk8QlO6MIYqTgrSnRJusj/slide-68.jpg"/>
          <p:cNvPicPr/>
          <p:nvPr/>
        </p:nvPicPr>
        <p:blipFill>
          <a:blip r:embed="rId1"/>
          <a:srcRect l="0" t="0" r="0" b="13451"/>
          <a:stretch/>
        </p:blipFill>
        <p:spPr>
          <a:xfrm>
            <a:off x="1049400" y="692280"/>
            <a:ext cx="5743440" cy="3724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ttps://sun9-77.userapi.com/impg/qN9eRNpHbBvgusHWVybVtv0dK4Pnhi3nl7LI6g/i5lvwqxI8Ws.jpg?size=1024x767&amp;quality=96&amp;sign=94d4cd4b94d2062676f2ad750db7beed&amp;c_uniq_tag=_1APoGiYBm8ntv1_5BwwHGbPH6QwKQst4DVvd7Rd0mM&amp;type=album"/>
          <p:cNvPicPr/>
          <p:nvPr/>
        </p:nvPicPr>
        <p:blipFill>
          <a:blip r:embed="rId2"/>
          <a:srcRect l="0" t="44038" r="0" b="11925"/>
          <a:stretch/>
        </p:blipFill>
        <p:spPr>
          <a:xfrm>
            <a:off x="3402000" y="4449600"/>
            <a:ext cx="5738760" cy="1893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https://cf.ppt-online.org/files/slide/d/dA1I76PbyTWRQ5YvkqFlpZDwEN48HragcU29jX/slide-2.jpg"/>
          <p:cNvPicPr/>
          <p:nvPr/>
        </p:nvPicPr>
        <p:blipFill>
          <a:blip r:embed="rId3"/>
          <a:srcRect l="13609" t="23659" r="16258" b="0"/>
          <a:stretch/>
        </p:blipFill>
        <p:spPr>
          <a:xfrm>
            <a:off x="6948360" y="1700280"/>
            <a:ext cx="1943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00080" y="274680"/>
            <a:ext cx="76867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Риски 1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00080" y="765000"/>
            <a:ext cx="77486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Чтение вслух текста научно-публицистического стил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проблемами являются низкий уровень общеобразовательной подготовки учащихся по следующим вопросам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вень техники чтения отдельных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умение учащихся видеть и использовать при чтении графические символы, в частности знак ударения, который сопровождает имена собственные и сложные термины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соответствии интонации знакам препинания текста (паузы, фразовое ударение, словесное ударение, повышение – понижение громкости голо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зкая орфоэпическая подготовка учащихся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шибки в произношении имени числительного, представленного в цифровой форме записи, грамматические ошибки при склонении имён числитель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3" descr=""/>
          <p:cNvPicPr/>
          <p:nvPr/>
        </p:nvPicPr>
        <p:blipFill>
          <a:blip r:embed="rId1"/>
          <a:stretch/>
        </p:blipFill>
        <p:spPr>
          <a:xfrm>
            <a:off x="2268360" y="3933720"/>
            <a:ext cx="452304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0080" y="274680"/>
            <a:ext cx="76867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Рекомендаци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00080" y="692280"/>
            <a:ext cx="76867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е систематическое чтение вслух текстов небольших объемов (2-3 мин.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выработка «приемов зоркости» (запоминания орфоэпических норм по памяткам, орфоэпические диктанты, дидактические тематические игры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систематические «пятиминутки чтения вслух» на уроках русского язык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использование приемов работы в паре, групп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систематическая орфографическая работа в классе (использование индивидуальной, парной, групповой работы по самопроверке и взаимопроверке – орфоэпический словник ЕГЭ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использование «орфографических памяток» по написанию имен числ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Тренировочные 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86920" y="836640"/>
            <a:ext cx="7842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читайте скороговорку как можно быстрее, четко произнося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И прыгают скороговорки, как караси на сковород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2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читайте вслух имена, отчества и фамилии известных русских писателей, а также даты их рождения и смер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Василий Андреевич Жуковский (родился в 1783 году, умер в 1852 го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Александр Сергеевич Грибоедов (родился в 1795 году, погиб в 1829 го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Александр Сергеевич Пушкин (родился в 1799 году,  погиб в 1837 го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Михаил Юрьевич Лермонтов (родился в 1814 году, погиб в 1841 го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Николай Васильевич Гоголь (родился в 1809 году, умер в 1852 го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Объект 3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76168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116000" y="69228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сказ текста с привлечением дополнительной информац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проблемами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зкое владение технологией пересказа текст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умение выделять «ключевые» слова в каждом абзац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зкий уровень логики и как следствие этого – неправильное определение места цит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умение использовать способы цитирования в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кажение в произношении имён собственных и терми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правданно длинные паузы в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еские ошибки при пересказ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атый пересказ вместо подробно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ки важных микротем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Риски 2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0080" y="274680"/>
            <a:ext cx="76867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оменд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87280" y="764640"/>
            <a:ext cx="768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в работе задания на логику (логически завершить или начать данный текст; составить текст из отрывков, данных в неправильной последовательности; подбирать слова, предложения из предложенного ряда по определенной теме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очные упражнения на конкретный данный вид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каждого учащегося справочным материалом «способы цитирования» и практиковать упражнения в рамках 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абота с заданием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3280" y="692280"/>
            <a:ext cx="741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следовательность подготовки к пересказу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  текст и сформулировать его основную мыс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читать количество абзац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ть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лючевые сл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 главную  мысль  каждой микротемы текста; составить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 смысловые отношения между частями текста и высказыванием; отметить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есто  включения цитаты в перес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казать  текст, логично и умест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ключив приведённое высказы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shutterstock_129389150"/>
          <p:cNvPicPr/>
          <p:nvPr/>
        </p:nvPicPr>
        <p:blipFill>
          <a:blip r:embed="rId1"/>
          <a:stretch/>
        </p:blipFill>
        <p:spPr>
          <a:xfrm>
            <a:off x="7451640" y="4292640"/>
            <a:ext cx="1692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2:28:29Z</dcterms:created>
  <dc:creator>Administrator</dc:creator>
  <dc:description/>
  <dc:language>en-US</dc:language>
  <cp:lastModifiedBy>Анна</cp:lastModifiedBy>
  <dcterms:modified xsi:type="dcterms:W3CDTF">2024-03-23T20:49:13Z</dcterms:modified>
  <cp:revision>113</cp:revision>
  <dc:subject/>
  <dc:title>Слайд 1</dc:title>
</cp:coreProperties>
</file>