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376-AD68-4852-B486-FCFB9E7A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FB3-34D5-45AE-B917-9B859BC8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B61-F891-4CCD-95FA-2D2B31D2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E94-6D72-48FA-A073-D688525E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D81-9446-4B81-82F6-6D9DCA8E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3C7-8934-4488-9C9B-C9A03D63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5A4-6F20-45AE-9FDE-8519C98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297-D066-45F9-9323-93D23393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C57-8536-43A2-903A-4FD98E0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254-BD20-4599-A299-FEFB4CCC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F96-7A60-4FAD-886C-8C4399FA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2FD-E35F-4984-9830-15165BAE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C48E-58FA-4EE5-BC4E-DA35488B2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Web-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5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бесплатный хос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платный хостин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бесплатный хостин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хостинг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4"/>
          <p:cNvSpPr/>
          <p:nvPr/>
        </p:nvSpPr>
        <p:spPr>
          <a:xfrm>
            <a:off x="324000" y="907920"/>
            <a:ext cx="856908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труктур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(план) сайт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структуры сайта в виде графа обеспечивает наглядное представление содержания сайта и помогает организовать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навигацию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- переходы с одной страницы сайта на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Шаблон страницы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- это схема страницы, на которой представлены элементы, имеющиеся на страницах сайта. Использование шаблонов страниц помогает выдержать единый стиль оформления с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Хостинг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- 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197000"/>
            <a:ext cx="8362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виг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шаблон страницы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ост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каких инструментов можно создавать сай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структура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39640" y="1844640"/>
            <a:ext cx="860436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 и изобразите в виде графа структуру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ледующих 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 «Наш класс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 «Моя семь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) «Информат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числите основные элементы, размещаемые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х сай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рекомендации следует учитывать при н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иц сайта информационными материал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какой целью проводится тестирование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является основным недостатком беспла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остин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известный вам сервер Интерн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ий пользователям бесплатный хос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23800" y="105264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одностраничный сайт-визитку, содержащий заголовок, красивую фотографию, приветствие, фамилию с именем, контакты для связи через социальную сеть или почту. Примерный вид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0" descr=""/>
          <p:cNvPicPr/>
          <p:nvPr/>
        </p:nvPicPr>
        <p:blipFill>
          <a:blip r:embed="rId2"/>
          <a:stretch/>
        </p:blipFill>
        <p:spPr>
          <a:xfrm>
            <a:off x="3419640" y="2878200"/>
            <a:ext cx="3249360" cy="318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65120" y="1052640"/>
            <a:ext cx="82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создания сайтов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Существует несколько способов создания веб-сай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9640" y="2090880"/>
            <a:ext cx="8218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гипертекс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er Text Markup Langu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этом случае в текстовом редакторе (например, в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локно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 текст, который хотят разместить на страницах сайта, размещают специальными метками, называемыми тегами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г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содержат указания о том, как должен выглядеть текст. Чтобы отличать теги от текста, их заключают в угловые скоб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2"/>
          <a:stretch/>
        </p:blipFill>
        <p:spPr>
          <a:xfrm>
            <a:off x="2627280" y="1384200"/>
            <a:ext cx="6438960" cy="521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5637240" cy="4729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455760" y="833400"/>
            <a:ext cx="821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стейшая веб-страница и е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68360" y="1125360"/>
            <a:ext cx="821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жно также документ, подготовленный в текстовом процессоре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crosoft Wo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Office Wri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хранить как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b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аницу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в форма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2492280"/>
            <a:ext cx="821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жно воспользоваться специальным программным обеспечением – визуальным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дакторам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ами сай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88880" y="3789360"/>
            <a:ext cx="3959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йт можно создать, воспользовавшись одним из языков программирования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HP, Python, Perl, JavaScript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Эту сферу деятельности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еб-программирован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s://avatars.dzeninfra.ru/get-zen_doc/3957194/pub_5f8dbf799095e028cddb5757_5f8dc3a89095e028cde4a367/scale_1200"/>
          <p:cNvPicPr/>
          <p:nvPr/>
        </p:nvPicPr>
        <p:blipFill>
          <a:blip r:embed="rId2"/>
          <a:stretch/>
        </p:blipFill>
        <p:spPr>
          <a:xfrm>
            <a:off x="4716360" y="4005360"/>
            <a:ext cx="408492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4368960" y="134136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09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;Сойникова Екатерина Дмитриевна</dc:creator>
  <dc:description/>
  <dc:language>en-US</dc:language>
  <cp:lastModifiedBy>Екатерина Сойникова</cp:lastModifiedBy>
  <dcterms:modified xsi:type="dcterms:W3CDTF">2024-02-08T10:44:29Z</dcterms:modified>
  <cp:revision>124</cp:revision>
  <dc:subject/>
  <dc:title>Презентация PowerPoint</dc:title>
</cp:coreProperties>
</file>