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CEC1-04C0-4AC1-B3A9-93384CF03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5443-676B-43A1-B4B3-93A07DA4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E6B2-4DB5-48C4-82BF-221D313D4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AB74-4801-46B5-8AF4-EAF309A08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924D-3CEC-454D-8F4A-26AB561A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13F3-F4C7-463D-A8D2-9FDECA69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3789-119F-4B2B-978B-D1A29B1E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A7BA-C52C-48E7-A411-E045BB9D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DB45-A6A8-4E68-96E8-2127F988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2233-23CA-4E74-84B7-2B7BB418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EC93-9C88-4B07-9D2C-3FE9203F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CB50-D3F4-4D7C-918F-78C156A3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93C7-AEF7-4A89-A877-DE54B105E8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hyperlink" Target="http://www.70mb.ru/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hyperlink" Target="http://www.1gb.ru/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hyperlink" Target="http://guru-host.ru/free_hosting.php" TargetMode="Externa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hyperlink" Target="http://www.ascont.ru/constructor-and-hosting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276640"/>
            <a:ext cx="702000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СОЗДАНИЕ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Web-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76640"/>
            <a:ext cx="68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КОММУНИКАЦИОННЫЕ  ТЕХН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Заголовок 2"/>
          <p:cNvSpPr/>
          <p:nvPr/>
        </p:nvSpPr>
        <p:spPr>
          <a:xfrm>
            <a:off x="468360" y="189000"/>
            <a:ext cx="8218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Оформление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539640" y="620640"/>
            <a:ext cx="820908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аждая страница сайта, как правило, имеет несколько постоянных элементов, которые всегда находятся на одних и тех же местах. Эт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468360" y="1557360"/>
            <a:ext cx="8209080" cy="12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19044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заголовок сайта, расположенный в самом верх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1800" indent="-1904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траниц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1800" indent="-19044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главное меню, как правило, размещаемое в левой ча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1800" indent="-1904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траниц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2771640" y="3068640"/>
            <a:ext cx="5616720" cy="3168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2987640" y="3213000"/>
            <a:ext cx="5256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4714920" y="3284640"/>
            <a:ext cx="3384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сай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4282920" y="3932280"/>
            <a:ext cx="3961080" cy="18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435640" y="4005360"/>
            <a:ext cx="2663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стра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4356000" y="5013360"/>
            <a:ext cx="36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ле ввода информ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4859280" y="5877000"/>
            <a:ext cx="2879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2843280" y="4076640"/>
            <a:ext cx="1295280" cy="21600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2843280" y="4363920"/>
            <a:ext cx="1295280" cy="21600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7"/>
          <p:cNvSpPr/>
          <p:nvPr/>
        </p:nvSpPr>
        <p:spPr>
          <a:xfrm>
            <a:off x="2843280" y="4653000"/>
            <a:ext cx="1295280" cy="21600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898560" y="2997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раф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898560" y="3789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ен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898560" y="4581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755640" y="537372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ордин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3"/>
          <p:cNvSpPr/>
          <p:nvPr/>
        </p:nvSpPr>
        <p:spPr>
          <a:xfrm>
            <a:off x="2266920" y="3213000"/>
            <a:ext cx="1081080" cy="28728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4"/>
          <p:cNvSpPr/>
          <p:nvPr/>
        </p:nvSpPr>
        <p:spPr>
          <a:xfrm>
            <a:off x="2411280" y="4005360"/>
            <a:ext cx="863640" cy="21564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5"/>
          <p:cNvSpPr/>
          <p:nvPr/>
        </p:nvSpPr>
        <p:spPr>
          <a:xfrm>
            <a:off x="2195640" y="4940280"/>
            <a:ext cx="1079280" cy="43344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6"/>
          <p:cNvSpPr/>
          <p:nvPr/>
        </p:nvSpPr>
        <p:spPr>
          <a:xfrm>
            <a:off x="2411280" y="5516640"/>
            <a:ext cx="2592360" cy="50472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7"/>
          <p:cNvSpPr/>
          <p:nvPr/>
        </p:nvSpPr>
        <p:spPr>
          <a:xfrm>
            <a:off x="2843280" y="4940280"/>
            <a:ext cx="1295280" cy="21600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2771640" y="6461280"/>
            <a:ext cx="55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мерный шаблон страниц сай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9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Заголовок 2"/>
          <p:cNvSpPr/>
          <p:nvPr/>
        </p:nvSpPr>
        <p:spPr>
          <a:xfrm>
            <a:off x="468360" y="189000"/>
            <a:ext cx="8218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Оформление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2195640" y="1844640"/>
            <a:ext cx="6622920" cy="649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 ставьте точку в названиях сайта и страниц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они состоят из одного предлож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2195640" y="2637000"/>
            <a:ext cx="6622920" cy="576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звания пунктов меню делайте кратки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2195640" y="3357720"/>
            <a:ext cx="6622920" cy="5029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 выбирайте для страниц пёстрый фо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2195640" y="4005360"/>
            <a:ext cx="6622920" cy="792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 размещайте на странице слишком м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онных и художественных бло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2195640" y="4941720"/>
            <a:ext cx="6622920" cy="576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 пишите слишком длинных текс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2"/>
          <p:cNvSpPr/>
          <p:nvPr/>
        </p:nvSpPr>
        <p:spPr>
          <a:xfrm>
            <a:off x="2195640" y="5661000"/>
            <a:ext cx="6624360" cy="720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каждом абзаце используй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дни и  те же приёмы форматир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4"/>
          <p:cNvSpPr/>
          <p:nvPr/>
        </p:nvSpPr>
        <p:spPr>
          <a:xfrm>
            <a:off x="1187280" y="220500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5"/>
          <p:cNvSpPr/>
          <p:nvPr/>
        </p:nvSpPr>
        <p:spPr>
          <a:xfrm>
            <a:off x="1187280" y="292428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6"/>
          <p:cNvSpPr/>
          <p:nvPr/>
        </p:nvSpPr>
        <p:spPr>
          <a:xfrm>
            <a:off x="1187280" y="357336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7"/>
          <p:cNvSpPr/>
          <p:nvPr/>
        </p:nvSpPr>
        <p:spPr>
          <a:xfrm>
            <a:off x="1187280" y="436572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"/>
          <p:cNvSpPr/>
          <p:nvPr/>
        </p:nvSpPr>
        <p:spPr>
          <a:xfrm>
            <a:off x="1187280" y="522936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9"/>
          <p:cNvSpPr/>
          <p:nvPr/>
        </p:nvSpPr>
        <p:spPr>
          <a:xfrm>
            <a:off x="1187280" y="609300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20"/>
          <p:cNvSpPr/>
          <p:nvPr/>
        </p:nvSpPr>
        <p:spPr>
          <a:xfrm>
            <a:off x="900000" y="836640"/>
            <a:ext cx="7848720" cy="792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екомендации при наполнении страниц сайт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онными материал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1"/>
          <p:cNvSpPr/>
          <p:nvPr/>
        </p:nvSpPr>
        <p:spPr>
          <a:xfrm>
            <a:off x="1187280" y="1628640"/>
            <a:ext cx="0" cy="4464360"/>
          </a:xfrm>
          <a:prstGeom prst="line">
            <a:avLst/>
          </a:prstGeom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Тестирование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68360" y="765000"/>
            <a:ext cx="84247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естирование сайта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– проверка того, что сайт правильно отображается разными браузерами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ексты хорошо читаются на выбранном фоне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исунки расположены на своих местах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гиперссылки обеспечивают правильные перехо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естирование проводят перед размещением сайта в сети Интерн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2" descr="http://developerguru.net/wp-content/uploads/2010/08/browsers2.jpg"/>
          <p:cNvPicPr/>
          <p:nvPr/>
        </p:nvPicPr>
        <p:blipFill>
          <a:blip r:embed="rId2"/>
          <a:stretch/>
        </p:blipFill>
        <p:spPr>
          <a:xfrm>
            <a:off x="4643280" y="3786120"/>
            <a:ext cx="4000680" cy="27147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4" descr="http://www.ligaprint.ru/resources/images/1%20test.jpg"/>
          <p:cNvPicPr/>
          <p:nvPr/>
        </p:nvPicPr>
        <p:blipFill>
          <a:blip r:embed="rId3"/>
          <a:stretch/>
        </p:blipFill>
        <p:spPr>
          <a:xfrm>
            <a:off x="928800" y="3929040"/>
            <a:ext cx="3344760" cy="2508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Размещение сайта в Интер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428760" y="100008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Хостинг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- услуга по размещению сайта на сервере, постоянно находящемся в сети Интернет; хостинг может быть как платным, так и бесплатны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http://seoart.com.ua/images/Hosting.jpg"/>
          <p:cNvPicPr/>
          <p:nvPr/>
        </p:nvPicPr>
        <p:blipFill>
          <a:blip r:embed="rId2"/>
          <a:stretch/>
        </p:blipFill>
        <p:spPr>
          <a:xfrm>
            <a:off x="2706840" y="2567160"/>
            <a:ext cx="3870000" cy="3389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2"/>
          <a:stretch/>
        </p:blipFill>
        <p:spPr>
          <a:xfrm>
            <a:off x="468360" y="1125360"/>
            <a:ext cx="8504280" cy="5502600"/>
          </a:xfrm>
          <a:prstGeom prst="rect">
            <a:avLst/>
          </a:prstGeom>
          <a:ln w="0">
            <a:noFill/>
          </a:ln>
        </p:spPr>
      </p:pic>
      <p:sp>
        <p:nvSpPr>
          <p:cNvPr id="156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Размещение сайта в Интерне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684360" y="76500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http://www.70mb.ru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- бесплатный хости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8351640" cy="45910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611280" y="907920"/>
            <a:ext cx="79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http://www.1gb.ru/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- платный хостинг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Размещение сайта в Интерне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2"/>
          <a:stretch/>
        </p:blipFill>
        <p:spPr>
          <a:xfrm>
            <a:off x="501480" y="2205000"/>
            <a:ext cx="8391600" cy="39592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5"/>
          <p:cNvSpPr/>
          <p:nvPr/>
        </p:nvSpPr>
        <p:spPr>
          <a:xfrm>
            <a:off x="684360" y="981000"/>
            <a:ext cx="80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http://guru-host.ru/free_hosting.php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- бесплатный хостин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Размещение сайта в Интерне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8282160" cy="46893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539640" y="76500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http://www.ascont.ru/constructor-and-hostin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-  платны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хостинг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Размещение сайта в Интерне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Что выбра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468360" y="765000"/>
            <a:ext cx="8424720" cy="35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латным хостингом пользуются крупные компании. Они получают удобное для прочтения и запоминания доменное имя второго уровня, которое может совпадать с названием компан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Частные лица и небольшие компании пользуются бесплатным хостингом. Ограничения: небольшое дисковое пространство, ограничение размера отдельного файла, доменное имя только третьего уровня и т. д. Главный недостаток -  на страницы вашего сайта без вашего согласия добавляется коммерческая рекла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http://gbook.ru/sites/default/files/imagecache/body/11.jpg"/>
          <p:cNvPicPr/>
          <p:nvPr/>
        </p:nvPicPr>
        <p:blipFill>
          <a:blip r:embed="rId2"/>
          <a:stretch/>
        </p:blipFill>
        <p:spPr>
          <a:xfrm>
            <a:off x="5572080" y="4143240"/>
            <a:ext cx="2857680" cy="2352960"/>
          </a:xfrm>
          <a:prstGeom prst="rect">
            <a:avLst/>
          </a:prstGeom>
          <a:ln w="0">
            <a:noFill/>
          </a:ln>
        </p:spPr>
      </p:pic>
      <p:sp>
        <p:nvSpPr>
          <p:cNvPr id="170" name="TextBox 4"/>
          <p:cNvSpPr/>
          <p:nvPr/>
        </p:nvSpPr>
        <p:spPr>
          <a:xfrm>
            <a:off x="500040" y="4429080"/>
            <a:ext cx="48578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исок серверов, предоставляющих бесплатный хостинг, можно получить поиском по запросу «бесплатный хостинг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Arial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24"/>
          <p:cNvSpPr/>
          <p:nvPr/>
        </p:nvSpPr>
        <p:spPr>
          <a:xfrm>
            <a:off x="324000" y="907920"/>
            <a:ext cx="8569080" cy="49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Структура 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(план) сайта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 - разбиение общего содержания на смысловые разделы и отдельные страницы с указанием связей между н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редставление структуры сайта в виде графа обеспечивает наглядное представление содержания сайта и помогает организовать 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навигацию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 - переходы с одной страницы сайта на друг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Шаблон страницы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 - это схема страницы, на которой представлены элементы, имеющиеся на страницах сайта. Использование шаблонов страниц помогает выдержать единый стиль оформления сай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Хостинг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-  услуга по размещению сайта на сервере, постоянно находящемся в сети Интернет; хостинг может быть как платным, так и бесплат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бъект 4"/>
          <p:cNvSpPr/>
          <p:nvPr/>
        </p:nvSpPr>
        <p:spPr>
          <a:xfrm>
            <a:off x="468360" y="1197000"/>
            <a:ext cx="83628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151200" indent="2912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а сай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1200" indent="2912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виг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1200" indent="2912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формление сай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1200" indent="2912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шаблон страницы сай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1200" indent="2912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хостин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  <a:ea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539640" y="184464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 помощью каких инструментов можно создавать сай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539640" y="184464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то такое структура сай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539640" y="1844640"/>
            <a:ext cx="8604360" cy="27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думайте и изобразите в виде графа структуру од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з следующих сай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) «Наш класс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) «Моя семья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) «Информати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539640" y="184464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речислите основные элементы, размещаемые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раницах сай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539640" y="184464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кие рекомендации следует учитывать при наполн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раниц сайта информационными материал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539640" y="184464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 какой целью проводится тестирование сай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539640" y="184464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то является основным недостатком бесплат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хостинг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539640" y="184464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зовите известный вам сервер Интерне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еспечивающий пользователям бесплатный хост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ай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  <a:ea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523800" y="1052640"/>
            <a:ext cx="860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здайте одностраничный сайт-визитку, содержащий заголовок, красивую фотографию, приветствие, фамилию с именем, контакты для связи через социальную сеть или почту. Примерный вид стра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10" descr=""/>
          <p:cNvPicPr/>
          <p:nvPr/>
        </p:nvPicPr>
        <p:blipFill>
          <a:blip r:embed="rId2"/>
          <a:stretch/>
        </p:blipFill>
        <p:spPr>
          <a:xfrm>
            <a:off x="3419640" y="2878200"/>
            <a:ext cx="3249360" cy="318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  <a:ea typeface="Arial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468360" y="1700280"/>
            <a:ext cx="3527280" cy="649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пособы создания сай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5003640" y="981000"/>
            <a:ext cx="367380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зык разме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пертекст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5003640" y="1773360"/>
            <a:ext cx="367380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кстовый реда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oft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5003640" y="2565360"/>
            <a:ext cx="367380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ML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дакто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структор сай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 flipH="1">
            <a:off x="3995640" y="1989000"/>
            <a:ext cx="100800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8"/>
          <p:cNvSpPr/>
          <p:nvPr/>
        </p:nvSpPr>
        <p:spPr>
          <a:xfrm flipH="1">
            <a:off x="3995640" y="1341360"/>
            <a:ext cx="93672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8"/>
          <p:cNvSpPr/>
          <p:nvPr/>
        </p:nvSpPr>
        <p:spPr>
          <a:xfrm flipH="1" flipV="1">
            <a:off x="3995640" y="2133360"/>
            <a:ext cx="1008000" cy="647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539640" y="3284640"/>
            <a:ext cx="8280360" cy="764280"/>
          </a:xfrm>
          <a:prstGeom prst="rect">
            <a:avLst/>
          </a:prstGeom>
          <a:noFill/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ервоначально следует продумать содержание и структуру сай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0"/>
          <p:cNvSpPr/>
          <p:nvPr/>
        </p:nvSpPr>
        <p:spPr>
          <a:xfrm>
            <a:off x="539640" y="5589720"/>
            <a:ext cx="8282160" cy="764280"/>
          </a:xfrm>
          <a:prstGeom prst="rect">
            <a:avLst/>
          </a:prstGeom>
          <a:noFill/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еред размещением сайта в сети Интернет следует провести его тестирова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1"/>
          <p:cNvSpPr/>
          <p:nvPr/>
        </p:nvSpPr>
        <p:spPr>
          <a:xfrm>
            <a:off x="539640" y="4292640"/>
            <a:ext cx="8280360" cy="1099440"/>
          </a:xfrm>
          <a:prstGeom prst="rect">
            <a:avLst/>
          </a:prstGeom>
          <a:noFill/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и наполнении страниц сайта информационными материалами следует придерживаться определённых рекоменд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2"/>
          <p:cNvSpPr/>
          <p:nvPr/>
        </p:nvSpPr>
        <p:spPr>
          <a:xfrm>
            <a:off x="46836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Технология создания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468360" y="2833560"/>
            <a:ext cx="2951280" cy="115272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Язык размет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гипертекст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Hyper Text Markup Language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3635280" y="2833560"/>
            <a:ext cx="2162160" cy="115272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екстовы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едакто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6156360" y="2833560"/>
            <a:ext cx="2736720" cy="115272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изуаль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TML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едактор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онструктор сай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1"/>
          <p:cNvSpPr/>
          <p:nvPr/>
        </p:nvSpPr>
        <p:spPr>
          <a:xfrm>
            <a:off x="611280" y="4562640"/>
            <a:ext cx="2592360" cy="1152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екст размечаю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ьны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метками – тег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2"/>
          <p:cNvSpPr/>
          <p:nvPr/>
        </p:nvSpPr>
        <p:spPr>
          <a:xfrm>
            <a:off x="3421080" y="4562640"/>
            <a:ext cx="2592360" cy="1152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Докумен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охраняют ка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eb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траниц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3"/>
          <p:cNvSpPr/>
          <p:nvPr/>
        </p:nvSpPr>
        <p:spPr>
          <a:xfrm>
            <a:off x="6227640" y="4562640"/>
            <a:ext cx="2737080" cy="1152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Microsoft FrontP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uCoz, Сайткрафт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 д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5"/>
          <p:cNvSpPr/>
          <p:nvPr/>
        </p:nvSpPr>
        <p:spPr>
          <a:xfrm flipH="1">
            <a:off x="2700000" y="2112840"/>
            <a:ext cx="1871640" cy="64944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4716360" y="2112840"/>
            <a:ext cx="0" cy="72072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7"/>
          <p:cNvSpPr/>
          <p:nvPr/>
        </p:nvSpPr>
        <p:spPr>
          <a:xfrm>
            <a:off x="4932360" y="2112840"/>
            <a:ext cx="1800360" cy="72072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8"/>
          <p:cNvSpPr/>
          <p:nvPr/>
        </p:nvSpPr>
        <p:spPr>
          <a:xfrm>
            <a:off x="1835280" y="3986280"/>
            <a:ext cx="215640" cy="503280"/>
          </a:xfrm>
          <a:prstGeom prst="downArrow">
            <a:avLst>
              <a:gd name="adj1" fmla="val 50000"/>
              <a:gd name="adj2" fmla="val 58347"/>
            </a:avLst>
          </a:prstGeom>
          <a:noFill/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9"/>
          <p:cNvSpPr/>
          <p:nvPr/>
        </p:nvSpPr>
        <p:spPr>
          <a:xfrm>
            <a:off x="4643280" y="3986280"/>
            <a:ext cx="216000" cy="503280"/>
          </a:xfrm>
          <a:prstGeom prst="downArrow">
            <a:avLst>
              <a:gd name="adj1" fmla="val 50000"/>
              <a:gd name="adj2" fmla="val 58250"/>
            </a:avLst>
          </a:prstGeom>
          <a:noFill/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0"/>
          <p:cNvSpPr/>
          <p:nvPr/>
        </p:nvSpPr>
        <p:spPr>
          <a:xfrm>
            <a:off x="7451640" y="3986280"/>
            <a:ext cx="216000" cy="503280"/>
          </a:xfrm>
          <a:prstGeom prst="downArrow">
            <a:avLst>
              <a:gd name="adj1" fmla="val 50000"/>
              <a:gd name="adj2" fmla="val 58250"/>
            </a:avLst>
          </a:prstGeom>
          <a:noFill/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1835280" y="1465200"/>
            <a:ext cx="5689440" cy="64764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особы создания сай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Заголовок 2"/>
          <p:cNvSpPr/>
          <p:nvPr/>
        </p:nvSpPr>
        <p:spPr>
          <a:xfrm>
            <a:off x="46836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Технология создания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465120" y="1052640"/>
            <a:ext cx="821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ехнология создания сайтов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Существует несколько способов создания веб-сайт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539640" y="2090880"/>
            <a:ext cx="82184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Язык гипертекста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TML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yper Text Markup Languag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этом случае в текстовом редакторе (например, в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Блокнот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) текст, который хотят разместить на страницах сайта, размещают специальными метками, называемыми тегами.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ег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содержат указания о том, как должен выглядеть текст. Чтобы отличать теги от текста, их заключают в угловые скоб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Заголовок 2"/>
          <p:cNvSpPr/>
          <p:nvPr/>
        </p:nvSpPr>
        <p:spPr>
          <a:xfrm>
            <a:off x="46836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Технология создания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" descr=""/>
          <p:cNvPicPr/>
          <p:nvPr/>
        </p:nvPicPr>
        <p:blipFill>
          <a:blip r:embed="rId2"/>
          <a:stretch/>
        </p:blipFill>
        <p:spPr>
          <a:xfrm>
            <a:off x="2627280" y="1384200"/>
            <a:ext cx="6438960" cy="52182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3" descr=""/>
          <p:cNvPicPr/>
          <p:nvPr/>
        </p:nvPicPr>
        <p:blipFill>
          <a:blip r:embed="rId3"/>
          <a:stretch/>
        </p:blipFill>
        <p:spPr>
          <a:xfrm>
            <a:off x="468360" y="1989000"/>
            <a:ext cx="5637240" cy="47293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0"/>
          <p:cNvSpPr/>
          <p:nvPr/>
        </p:nvSpPr>
        <p:spPr>
          <a:xfrm>
            <a:off x="455760" y="833400"/>
            <a:ext cx="821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остейшая веб-страница и ее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TML-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о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Заголовок 2"/>
          <p:cNvSpPr/>
          <p:nvPr/>
        </p:nvSpPr>
        <p:spPr>
          <a:xfrm>
            <a:off x="46836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Технология создания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468360" y="1125360"/>
            <a:ext cx="8218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Можно также документ, подготовленный в текстовом процессоре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icrosoft Wor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penOffice Writ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охранить как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eb-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траницу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(в формат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TML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468360" y="2492280"/>
            <a:ext cx="8218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Можно воспользоваться специальным программным обеспечением – визуальными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TML-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едакторами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л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онструкторами сайто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488880" y="3789360"/>
            <a:ext cx="39592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айт можно создать, воспользовавшись одним из языков программирования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HP, Python, Perl, JavaScript)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Эту сферу деятельности называют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еб-программирование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https://avatars.dzeninfra.ru/get-zen_doc/3957194/pub_5f8dbf799095e028cddb5757_5f8dc3a89095e028cde4a367/scale_1200"/>
          <p:cNvPicPr/>
          <p:nvPr/>
        </p:nvPicPr>
        <p:blipFill>
          <a:blip r:embed="rId2"/>
          <a:stretch/>
        </p:blipFill>
        <p:spPr>
          <a:xfrm>
            <a:off x="4716360" y="4005360"/>
            <a:ext cx="4084920" cy="1871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Заголовок 2"/>
          <p:cNvSpPr/>
          <p:nvPr/>
        </p:nvSpPr>
        <p:spPr>
          <a:xfrm>
            <a:off x="46836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Создание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4368960" y="1341360"/>
            <a:ext cx="4317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Web-дизайнер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, проектирующий структуру Web-сайта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дбирающий способы подачи информации и выполняющий художественное оформление Web-проек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://legonko.ru/wp-content/uploads/2010/08/web-design.jpg"/>
          <p:cNvPicPr/>
          <p:nvPr/>
        </p:nvPicPr>
        <p:blipFill>
          <a:blip r:embed="rId2"/>
          <a:stretch/>
        </p:blipFill>
        <p:spPr>
          <a:xfrm>
            <a:off x="571680" y="92880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0"/>
          <p:cNvSpPr/>
          <p:nvPr/>
        </p:nvSpPr>
        <p:spPr>
          <a:xfrm>
            <a:off x="928800" y="3714840"/>
            <a:ext cx="792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оздадим сайт школьного творческого объединения «Компьютерная графика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4 правила, которые должен помнить web дизайнер"/>
          <p:cNvPicPr/>
          <p:nvPr/>
        </p:nvPicPr>
        <p:blipFill>
          <a:blip r:embed="rId3"/>
          <a:stretch/>
        </p:blipFill>
        <p:spPr>
          <a:xfrm>
            <a:off x="5286240" y="4162320"/>
            <a:ext cx="3191040" cy="2695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Заголовок 2"/>
          <p:cNvSpPr/>
          <p:nvPr/>
        </p:nvSpPr>
        <p:spPr>
          <a:xfrm>
            <a:off x="468360" y="189000"/>
            <a:ext cx="8218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Содержание и структура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539640" y="765000"/>
            <a:ext cx="835344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 сайт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должно отражать творческую жизнь участников объединения, привлекать внимание единомышленник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539640" y="1700280"/>
            <a:ext cx="835344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(план)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айт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- разбиение общего содержания на смысловые разделы и отдельные страницы с указанием связей между ни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6"/>
          <p:cNvSpPr/>
          <p:nvPr/>
        </p:nvSpPr>
        <p:spPr>
          <a:xfrm>
            <a:off x="541440" y="3862440"/>
            <a:ext cx="180000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овости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ъя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7"/>
          <p:cNvSpPr/>
          <p:nvPr/>
        </p:nvSpPr>
        <p:spPr>
          <a:xfrm>
            <a:off x="2629080" y="3862440"/>
            <a:ext cx="180000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алере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8"/>
          <p:cNvSpPr/>
          <p:nvPr/>
        </p:nvSpPr>
        <p:spPr>
          <a:xfrm>
            <a:off x="4718160" y="3862440"/>
            <a:ext cx="180000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Лич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тра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9"/>
          <p:cNvSpPr/>
          <p:nvPr/>
        </p:nvSpPr>
        <p:spPr>
          <a:xfrm>
            <a:off x="6805440" y="3862440"/>
            <a:ext cx="180036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лез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сыл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0"/>
          <p:cNvSpPr/>
          <p:nvPr/>
        </p:nvSpPr>
        <p:spPr>
          <a:xfrm>
            <a:off x="1476360" y="4654440"/>
            <a:ext cx="180036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стр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раф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1"/>
          <p:cNvSpPr/>
          <p:nvPr/>
        </p:nvSpPr>
        <p:spPr>
          <a:xfrm>
            <a:off x="1476360" y="5446800"/>
            <a:ext cx="180036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ектор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раф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4"/>
          <p:cNvSpPr/>
          <p:nvPr/>
        </p:nvSpPr>
        <p:spPr>
          <a:xfrm>
            <a:off x="1476360" y="6238800"/>
            <a:ext cx="1800360" cy="43200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канограф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5"/>
          <p:cNvSpPr/>
          <p:nvPr/>
        </p:nvSpPr>
        <p:spPr>
          <a:xfrm>
            <a:off x="5724360" y="4654440"/>
            <a:ext cx="180036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уковод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6"/>
          <p:cNvSpPr/>
          <p:nvPr/>
        </p:nvSpPr>
        <p:spPr>
          <a:xfrm>
            <a:off x="5724360" y="5519880"/>
            <a:ext cx="1800360" cy="50148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еник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5724360" y="6238800"/>
            <a:ext cx="1800360" cy="43200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еник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8"/>
          <p:cNvSpPr/>
          <p:nvPr/>
        </p:nvSpPr>
        <p:spPr>
          <a:xfrm>
            <a:off x="1476360" y="3646440"/>
            <a:ext cx="612144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9"/>
          <p:cNvSpPr/>
          <p:nvPr/>
        </p:nvSpPr>
        <p:spPr>
          <a:xfrm>
            <a:off x="1476360" y="364644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0"/>
          <p:cNvSpPr/>
          <p:nvPr/>
        </p:nvSpPr>
        <p:spPr>
          <a:xfrm>
            <a:off x="3492360" y="364644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1"/>
          <p:cNvSpPr/>
          <p:nvPr/>
        </p:nvSpPr>
        <p:spPr>
          <a:xfrm>
            <a:off x="5653080" y="364644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2"/>
          <p:cNvSpPr/>
          <p:nvPr/>
        </p:nvSpPr>
        <p:spPr>
          <a:xfrm>
            <a:off x="7597800" y="364644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3"/>
          <p:cNvSpPr/>
          <p:nvPr/>
        </p:nvSpPr>
        <p:spPr>
          <a:xfrm>
            <a:off x="4573440" y="343044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4"/>
          <p:cNvSpPr/>
          <p:nvPr/>
        </p:nvSpPr>
        <p:spPr>
          <a:xfrm>
            <a:off x="3997440" y="4510080"/>
            <a:ext cx="0" cy="20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5"/>
          <p:cNvSpPr/>
          <p:nvPr/>
        </p:nvSpPr>
        <p:spPr>
          <a:xfrm>
            <a:off x="5005440" y="4510080"/>
            <a:ext cx="0" cy="20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5"/>
          <p:cNvSpPr/>
          <p:nvPr/>
        </p:nvSpPr>
        <p:spPr>
          <a:xfrm>
            <a:off x="3276720" y="3141720"/>
            <a:ext cx="2520720" cy="35856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лавная стра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6"/>
          <p:cNvSpPr/>
          <p:nvPr/>
        </p:nvSpPr>
        <p:spPr>
          <a:xfrm flipH="1">
            <a:off x="3276720" y="494172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7"/>
          <p:cNvSpPr/>
          <p:nvPr/>
        </p:nvSpPr>
        <p:spPr>
          <a:xfrm flipH="1">
            <a:off x="3276720" y="566244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8"/>
          <p:cNvSpPr/>
          <p:nvPr/>
        </p:nvSpPr>
        <p:spPr>
          <a:xfrm flipH="1">
            <a:off x="3276720" y="652608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9"/>
          <p:cNvSpPr/>
          <p:nvPr/>
        </p:nvSpPr>
        <p:spPr>
          <a:xfrm flipH="1">
            <a:off x="5005440" y="494172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0"/>
          <p:cNvSpPr/>
          <p:nvPr/>
        </p:nvSpPr>
        <p:spPr>
          <a:xfrm flipH="1">
            <a:off x="5005440" y="566244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1"/>
          <p:cNvSpPr/>
          <p:nvPr/>
        </p:nvSpPr>
        <p:spPr>
          <a:xfrm flipH="1">
            <a:off x="5005440" y="652608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2"/>
          <p:cNvSpPr/>
          <p:nvPr/>
        </p:nvSpPr>
        <p:spPr>
          <a:xfrm>
            <a:off x="1547640" y="2637000"/>
            <a:ext cx="59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ab4"/>
                </a:solidFill>
                <a:latin typeface="Arial"/>
                <a:ea typeface="Arial"/>
              </a:rPr>
              <a:t>Иерархическая структура сай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Заголовок 2"/>
          <p:cNvSpPr/>
          <p:nvPr/>
        </p:nvSpPr>
        <p:spPr>
          <a:xfrm>
            <a:off x="468360" y="189000"/>
            <a:ext cx="8218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Оформление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39640" y="620640"/>
            <a:ext cx="83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На главной странице размещают название сайта, тематическое графическое изображение, короткий текст с описанием содержания сайта, главное меню - ссылки на основные разделы сайт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"/>
          <p:cNvPicPr/>
          <p:nvPr/>
        </p:nvPicPr>
        <p:blipFill>
          <a:blip r:embed="rId2"/>
          <a:stretch/>
        </p:blipFill>
        <p:spPr>
          <a:xfrm>
            <a:off x="1619280" y="2133720"/>
            <a:ext cx="6408720" cy="4397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2050920" y="2143080"/>
            <a:ext cx="5786640" cy="471492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pic>
        <p:nvPicPr>
          <p:cNvPr id="109" name="Picture 11" descr=""/>
          <p:cNvPicPr/>
          <p:nvPr/>
        </p:nvPicPr>
        <p:blipFill>
          <a:blip r:embed="rId4"/>
          <a:stretch/>
        </p:blipFill>
        <p:spPr>
          <a:xfrm>
            <a:off x="1403280" y="2133720"/>
            <a:ext cx="6962760" cy="451476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p:transition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;Сойникова Екатерина Дмитриевна</dc:creator>
  <dc:description/>
  <dc:language>en-US</dc:language>
  <cp:lastModifiedBy>Екатерина Сойникова</cp:lastModifiedBy>
  <dcterms:modified xsi:type="dcterms:W3CDTF">2024-02-08T10:44:29Z</dcterms:modified>
  <cp:revision>124</cp:revision>
  <dc:subject/>
  <dc:title>Презентация PowerPoint</dc:title>
</cp:coreProperties>
</file>