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328-2AD5-4094-8012-CB06552D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BD1-EA84-4AD2-97C5-8BD0CA2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C56-B9CA-444F-BD8C-00089A47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EE7-1D06-4FBF-B340-5FE40B92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CAB-E134-4D63-A578-5E57CF79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CF0-2578-453E-AB09-BDE069B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92A-E367-4330-9D43-7AD51FCB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1D3-A895-429B-985D-C077468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163-9776-4267-811C-36A697E1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3EA-09A7-4DA0-A0A4-6C54284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D9B-AF43-457D-B33F-5260541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3A5-C871-43AE-AC9B-81DDEE3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963E-CEE1-4E32-B8EB-FDC6B8333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ase.garant.ru/12127526/15/#block_138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ase.garant.ru/12127526/15/#block_139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ase.garant.ru/12127526/9/#block_110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дисциплина «Арбитраж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8066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нятие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ЕМА: Досудебное и внесудебное решение экономических споров: примирительные процед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96872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мирительные процед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ПК РФ в Главе 15 рассматривает ПРИМИРИТЕЛЬНЫЕ ПРОЦЕДУРЫ. МИРОВОЕ СОГЛА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ирительные процеду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 это установленные законодательством процессуальные возможности арбитражного суда по содействию урегулированию переданного в суд спора путем принятия мер, направленных на окончание дела миром и прекращение производства по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примирительных процедур (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. 138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 АПК РФ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ение мирового соглашения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само мировое соглашение не является собственно примирительной процедурой, поскольку представляет собой конечный результат действий, а не процедуру — предусмотренный законом порядок совершения отдельного процессуального действ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ация (посредничество, при котором независимый посредник-консультант помогает сторонам решить их спор путем прямых переговоров между ни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е примирительные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ИРОВОЕ СО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овое согла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 учебной литературе) - процессуально закрепленное волеизъявление сторон, направленное на достижение определенности в правоотношениях между ними в целях окончания процесса путем самоурегулирования правового конфли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ути - это договор сторон о прекращении производства по делу и, соответственно, спора на определенных, согласованных ими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гово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ражданско-правовой термин, обозначающий двух- или многостороннюю сделку. Если мировое соглашение заключается по спору, возникшему из гражданско-правовых отношений, несомненно, что оно представляет собой гражданско-правовую сделку в полном смысле этого слова. Даже если мировое соглашение не утверждается судом (за исключением случаев несоответствия закону) или не представляется сторонами на утверждение суда, оно все равно остается сделкой, создающей гражданско-правовые права и обяза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имирительные процед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Мировое согла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оцедура мед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Характерные черты мирового соглаш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заключается только при наличии спора в су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ует с момента утверждения его су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в основном односторонне обязывающий характер (в большинстве случаев обязанности возлагаются на ответчика, права же имеет только исте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документ, названный сторонами мировым соглашением, но не утвержденный судом (например, в случае, если отсутствует спор в суде) или на утверждение суда не представленный, мировым соглашением не является (это всего лишь гражданско-правовая сдел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ое содержание мирового согла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е содержание мирового согла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заключаемого для урегулирования гражданско-правового сп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 прекращение обязательств (как правило, новацией или предоставлением отступног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 изменение сроков исполнения обязательств путем предоставления отсрочки или расср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ение мирового соглашения иным способом, направленным на прекращение обязательства, не характерно для арбитражного процесса: при прощении долга или проведении зачета производство по делу заканчивается чаще соответственно прекращением в связи с отказом истца от иска либо отказом суда в удовлетворении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вые последствия утверждения арбитражным судом мирового соглаш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вые последствия утверждения арбитражным судом мирового согла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ановление прав и обяза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сп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ращение производства по делу либо исполнительного производ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озможность повторного обращения с тождественным 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принудительного ис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рядок заключения мирового согла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. 13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АПК РФ мировое соглашение может быть заключено сторонами по любому делу (если иное не предусмотрено АПК РФ и иным федеральным законо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юбой стадии арбитраж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сполнении судебного 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овое соглашение утверждается арбитражным судом, в производстве которого находится дело, и не может нарушать права и законные интересы других лиц и противоречить зак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ья 140 АПК РФ устанавливает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бования к форме и содержанию мирового соглаш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ается в письменной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писывается сторонами или их представителями при наличии у них полномочий на заключение мирового соглашения, специально предусмотренных в доверенности или ином документе, подтверждающих полномочия представи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но содержать согласованные сторонами сведения об условиях, о размере и о сроках исполнения обязательств друг перед другом или одной стороной перед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ировом соглашении могут содержаться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отсрочке или о рассрочке исполнения обязательств ответчи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уступке прав треб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олном или частичном прощении либо признании дол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распределении судебных расход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ые условия, не противоречащие федеральному зак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 мировом соглашении отсутствует условие о распределении судебных расходов, арбитражный суд разрешает этот вопрос при утверждении мирового соглашения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 общем порядк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оцедура меди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роны вправе использовать любые примирительные процедуры, если это не противоречит закону. Наиболее распространенными примирительными процедурам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ерегов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ди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вид примирительной процедуры, посредством которой стороны урегулируют возникшие разногласия непосредственно или при содействии своих доверенных лиц без привлечения независимой третьей стороны. В итоге стороны самостоятельно урегулируют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дно из наиболее простых, распространенных, эффективных и доступных средств урегулирования конфликтов, в том числе в сфере экономики, поскольку переговоры не влекут дополнительных расходов, для их проведения не требуется какое-либо официальное разрешение, они не представляют риска для сторон и направлены на конструктивное обсуждение предмета с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говоры могут проходить в устной и в письменной ф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осредничест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это вид примирительной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которой участвуют равноправные субъекты спора на основе сотрудничества, а также нейтральное и независимое лицо (посредник, примиритель), оказывающее помощь в урегулировании конфликта, направленную на достижение субъектами спора взаимовыгодного соглашения. В отличие от переговоров, которые могут происходить без каких-либо предварительных согласований и регламентаций, посредничество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поскольку осуществляется с привлечением третьего лица, уже более серьезная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– это способ досудебного урегулирования споров и безболезненное решение конфликтных ситуаций с привлечением независимого специалиста, который поможет вам в перегов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процедура урегулирования конфликта, в которой участвуют равноправные субъекты спора на основе добровольного согласия и сотрудничества, а также нейтральное и независимое лицо (медиатор), содействующее сторонам в урегулировании конфликта и достижении ими взаимовыгодного согла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диация применяется в качестве альтернативной процедуры урегулирования споров, возникающих из гражданских правоотношений, в том числе в связи с осуществлением предпринимательской и иной экономической деятельности. Данная процедура осуществляется с участием независимого лица - медиатора на основе добровольного согласия сторон и в целях достижения ими взаимоприемлемого решения путем переговоров (пункты 1, 2 статьи 1, пункт 2 статьи 2, статья 3 Закона о меди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цедура медиации может быть применена при возникновении спора до обращения в суд, а также после начала судебного разбирательства, в том числе по предложению судьи (пункт 2 статьи 7 Закона о меди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примирительных процедур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договоренности, достигнутые сторонами в процессе проведения примирительных процедур, исполняются гораздо чаще, чем судебные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сть затр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использование примирительных процедур не влечет необходимость несения судебных расходов; в случае заключения сторонами мирового соглашения возвращается 50% государственной пошл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стро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при желании можно урегулировать спор за несколько ча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хранение деловых связ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в случае примирения деловые отношения сторон не только сохранятся, но и станут креп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щита «слабой» сторо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оторая не всегда имеет возможность привлечь для защиты своих интересов высококвалифицированных юри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обода стор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используя примирительные процедуры, стороны самостоятельно приходят к устраивающему их результату примирения, в отличие от судебного разбирательства, где решение принимается су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фиденциаль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примирительные процедуры характеризуются отсутствием публичности, что позволяет избежать разглашения конфиденциальн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иентация на интересы стор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использование примирительных процедур позволяет удовлетворить действительные интересы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ор посредника (медиат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: при использовании некоторых примирительных процедур стороны вправе самостоятельно выбрать лицо, содействующее урегулированию спора, что вызывает доверие сторон к такому лицу и укрепляет авторитет результата прими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форт, доверие и сотрудничест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отсутствие необходимых элементов процессуальной формы и судебной атрибутики создает психологический комфорт для участников спора, атмосферу доверия и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31640"/>
            <a:ext cx="6769080" cy="10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777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9T19:37:23Z</dcterms:created>
  <dc:creator>Customer</dc:creator>
  <dc:description/>
  <dc:language>en-US</dc:language>
  <cp:lastModifiedBy>Customer</cp:lastModifiedBy>
  <dcterms:modified xsi:type="dcterms:W3CDTF">2022-08-29T20:06:24Z</dcterms:modified>
  <cp:revision>3</cp:revision>
  <dc:subject/>
  <dc:title>Учебная дисциплина «Арбитражный процесс»</dc:title>
</cp:coreProperties>
</file>