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B5079-B607-4B56-9E6A-0294EC574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16D4C-BF45-4EC1-AD18-135CE5430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F2369-E93C-434B-B5BE-2BCE44DAF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66F1B-7126-4BED-97A6-172EE54B9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7D183-9B88-4CF7-A6CC-D8F936306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6261E-0BBA-42EA-A814-CDC6044B5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CEB85-93A8-4BEF-BA73-077FEAD91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677CC-6E26-4B09-BA96-9E850D1F6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C146D-9BD3-44F4-B61A-06A423442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3A6A-A880-49D3-8AD3-C3851EFC1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3E5CD-F14B-4363-AACB-B72233550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BA3C-14BA-44D2-980E-0A5B6F3CA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C501-3B87-44C1-A8D5-705444344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5920"/>
            <a:ext cx="77724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Учебная дисциплина «Арбитражный процесс»</a:t>
            </a:r>
            <a:endParaRPr b="0" lang="en-US" sz="4000" spc="-1" strike="noStrike">
              <a:solidFill>
                <a:srgbClr val="000000"/>
              </a:solidFill>
              <a:latin typeface="Arial"/>
            </a:endParaRPr>
          </a:p>
        </p:txBody>
      </p:sp>
      <p:sp>
        <p:nvSpPr>
          <p:cNvPr id="42" name="PlaceHolder 2"/>
          <p:cNvSpPr>
            <a:spLocks noGrp="1"/>
          </p:cNvSpPr>
          <p:nvPr>
            <p:ph type="subTitle"/>
          </p:nvPr>
        </p:nvSpPr>
        <p:spPr>
          <a:xfrm>
            <a:off x="826920" y="2204640"/>
            <a:ext cx="8066160" cy="4032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Занятие 3.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ТЕМА: Досудебное и внесудебное решение экономических споров: третейский су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В части назначения судей</a:t>
            </a:r>
            <a:r>
              <a:rPr b="0" lang="en-US" sz="2400" spc="-1" strike="noStrike">
                <a:solidFill>
                  <a:srgbClr val="000000"/>
                </a:solidFill>
                <a:latin typeface="Arial"/>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третейских судах стороны сами определяют количество судей третейского суда (арбитров) и сами их выбирают;</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арбитражных судах и судах общей юрисдикции стороны никак не могут повлиять, какой судья или судьи будут разбирать их дело.</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В части оплаты работы судов</a:t>
            </a:r>
            <a:r>
              <a:rPr b="0" lang="en-US" sz="2400" spc="-1" strike="noStrike">
                <a:solidFill>
                  <a:srgbClr val="000000"/>
                </a:solidFill>
                <a:latin typeface="Arial"/>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третейском разбирательстве стороны оплачивают работу арбитра и его расходы на производство по делу, в том числе расходы на проезд и подобные. Также стороны оплачивают работу переводчиков и экспертов и другие расходы третейского суда;</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рбитражные суды и суды общей юрисдикции финансируются государством.</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4. В части полномочий судов</a:t>
            </a:r>
            <a:r>
              <a:rPr b="0" lang="en-US" sz="2400" spc="-1" strike="noStrike">
                <a:solidFill>
                  <a:srgbClr val="000000"/>
                </a:solidFill>
                <a:latin typeface="Arial"/>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й суд сам определяет пределы своих полномочий;</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лномочия арбитражных судов и судов общей юрисдикции определены законами, то есть государством.</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очему компании обращаются в третейские суды</a:t>
            </a:r>
            <a:br>
              <a:rPr sz="3200"/>
            </a:b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Компании обращаются в третейские суды по следующим причина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бирательство в третейских судах проходит, как правило, быстрее, чем в арбитражны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е суды куда менее формальны, чем арбитражные суд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частники спора могут выбирать арбитра сами, ориентируясь на профессиональные качества третейского судь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к правило, авторитет третейских судов более высокий по сравнению с арбитражными суд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План</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Разрешение экономических споров. Третейский суд, его вид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Компетенции третейского суд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Отличительные особенности третейского суда от арбитражного суд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 Третейский суд</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179280" y="1600200"/>
            <a:ext cx="8964720" cy="49975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Третейский суд</a:t>
            </a:r>
            <a:r>
              <a:rPr b="0" lang="en-US" sz="3600" spc="-1" strike="noStrike">
                <a:solidFill>
                  <a:srgbClr val="000000"/>
                </a:solidFill>
                <a:latin typeface="Arial"/>
              </a:rPr>
              <a:t> может быть представлен, либо единоличным арбитром (третейский судья), либо коллегией арбитров.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Членов третейского суда избирают стороны спора или назначает арбитражное учреждение.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о есть, </a:t>
            </a:r>
            <a:r>
              <a:rPr b="1" lang="en-US" sz="2400" spc="-1" strike="noStrike">
                <a:solidFill>
                  <a:srgbClr val="ff0000"/>
                </a:solidFill>
                <a:latin typeface="Arial"/>
              </a:rPr>
              <a:t>третейский суд</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диноличный арбитр или коллегия арбитр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й суд, образованный сторонами для разрешения конкретного спора;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й суд, осуществляющий арбитраж при отсутствии администрирования со стороны постоянно действующего арбитражного учреждения (за исключением возможного выполнения постоянно действующим арбитражным учреждением отдельных функций по администрированию конкретного спора, если это предусмотрено соглашением сторон арбитража);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й суд для разрешения экономических споров при Федеральной палате адвокатов Российской Федерации является самостоятельным постоянно действующим третейским судом, осуществляющим свою деятельность в соответствии с Федеральным законом «О третейских судах в Российской Федераци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Виды третейских судов:</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ятельность российских третейских судов регулируется на трех уровня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щеевропейский третейский су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едеральный третейский су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стный третейский суд.</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2. Компетенции Третейского суда:</a:t>
            </a:r>
            <a:endParaRPr b="0" lang="en-US" sz="4000" spc="-1" strike="noStrike">
              <a:solidFill>
                <a:srgbClr val="000000"/>
              </a:solidFill>
              <a:latin typeface="Arial"/>
            </a:endParaRPr>
          </a:p>
        </p:txBody>
      </p:sp>
      <p:sp>
        <p:nvSpPr>
          <p:cNvPr id="51" name="PlaceHolder 2"/>
          <p:cNvSpPr>
            <a:spLocks noGrp="1"/>
          </p:cNvSpPr>
          <p:nvPr>
            <p:ph/>
          </p:nvPr>
        </p:nvSpPr>
        <p:spPr>
          <a:xfrm>
            <a:off x="250560" y="1599840"/>
            <a:ext cx="8435880" cy="4924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Третейский суд разрешает споры, возникающие из гражданских правоотношений, в том числе при осуществлении предпринимательской и иной экономической деятельности, если иное не установлено федеральным законом.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Разрешение спора в Третейском суде возможно лишь при согласии сторон, выраженном в форме третейского соглашения, предусмотренного в статье 3 настоящего Регламент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404280"/>
            <a:ext cx="8435880" cy="6193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Право на обращение к Третейскому суду принадлежит российским и иностранным юридическим лицам и гражданам, осуществляющим предпринимательскую деятельность без образования юридического лица и имеющим статус индивидуального предпринимателя, приобретенный в установленном законом порядке, зарегистрированным в Российской Федерации и других странах, физическим лицам. В том случае, если хотя бы одна из сторон третейского разбирательства находится за границей, Третейский суд разрешает споры в соответствии с Законом Российской Федерации "О международном коммерческом арбитраж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Для обращения в Третейский суд не требуется соблюдения предварительного порядка урегулирования споров самими сторона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Вопрос о компетенции Третейского суда по конкретному делу решается составом Третейского суда, рассматривающим спор.</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3. </a:t>
            </a:r>
            <a:r>
              <a:rPr b="0" i="1" lang="en-US" sz="4000" spc="-1" strike="noStrike">
                <a:solidFill>
                  <a:srgbClr val="ff0000"/>
                </a:solidFill>
                <a:latin typeface="Arial"/>
              </a:rPr>
              <a:t>Отличия третейского  и арбитражного суда.</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Какие дела рассматривает третейский су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тейские суды рассматривают те же дела, что и арбитражные суды и суды общей юрисдикции, но с некоторыми исключени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ороны могут передать в третейский суд дела, связанные 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корпоративными спорами, то есть спорами о «внутренних делах» компан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 принадлежности акци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олей в уставном капитал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 ущербе, причинённом компании действиями её руководства и т.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договорами (подряда, поставки, купли-продажи, аренды, мены, перевозки и любыми другими договора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финансовыми отношениями между компани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защитой деловой репут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Отличия третейского суда от арбитражного и суда общей юрисдикции:</a:t>
            </a:r>
            <a:br>
              <a:rPr sz="2800"/>
            </a:br>
            <a:endParaRPr b="0" lang="en-US" sz="2800" spc="-1" strike="noStrike">
              <a:solidFill>
                <a:srgbClr val="000000"/>
              </a:solidFill>
              <a:latin typeface="Arial"/>
            </a:endParaRPr>
          </a:p>
        </p:txBody>
      </p:sp>
      <p:sp>
        <p:nvSpPr>
          <p:cNvPr id="56" name="PlaceHolder 2"/>
          <p:cNvSpPr>
            <a:spLocks noGrp="1"/>
          </p:cNvSpPr>
          <p:nvPr>
            <p:ph/>
          </p:nvPr>
        </p:nvSpPr>
        <p:spPr>
          <a:xfrm>
            <a:off x="250560" y="1267920"/>
            <a:ext cx="8893080" cy="5589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lang="en-US" sz="2800" spc="-1" strike="noStrike">
                <a:solidFill>
                  <a:srgbClr val="000000"/>
                </a:solidFill>
                <a:latin typeface="Arial"/>
              </a:rPr>
              <a:t>Главное отличие</a:t>
            </a:r>
            <a:r>
              <a:rPr b="0" lang="en-US" sz="2800" spc="-1" strike="noStrike">
                <a:solidFill>
                  <a:srgbClr val="000000"/>
                </a:solidFill>
                <a:latin typeface="Arial"/>
              </a:rPr>
              <a:t>: </a:t>
            </a:r>
            <a:r>
              <a:rPr b="0" i="1" lang="en-US" sz="2800" spc="-1" strike="noStrike">
                <a:solidFill>
                  <a:srgbClr val="000000"/>
                </a:solidFill>
                <a:latin typeface="Arial"/>
              </a:rPr>
              <a:t>третейские суды создаются компаниями, арбитражные суд и суды общей юрисдикции учреждаются государством.</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о есть и другие отличия:</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800" spc="-1" strike="noStrike" u="sng">
                <a:solidFill>
                  <a:srgbClr val="000000"/>
                </a:solidFill>
                <a:uFillTx/>
                <a:latin typeface="Arial"/>
              </a:rPr>
              <a:t>В возможности обратиться в суд</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третейские суды стороны обращаются только по взаимному согласию. Требуется оформление арбитражного соглашения, в котором стороны указывают, что они обязуются обратиться в третейский суд при возникновении спора. Если стороны не договорятся, то придётся идти в арбитражный суд;</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обращения в арбитражные суды и суды общей юрисдикции никаких договорённостей ни о чем не нужн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8-29T19:37:23Z</dcterms:created>
  <dc:creator>Customer</dc:creator>
  <dc:description/>
  <dc:language>en-US</dc:language>
  <cp:lastModifiedBy>Customer</cp:lastModifiedBy>
  <dcterms:modified xsi:type="dcterms:W3CDTF">2022-08-29T20:17:51Z</dcterms:modified>
  <cp:revision>3</cp:revision>
  <dc:subject/>
  <dc:title>Учебная дисциплина «Арбитражный процесс»</dc:title>
</cp:coreProperties>
</file>