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391-CBE5-4E0F-8269-EAD63AC8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508-6D7D-4EAB-9014-A953729A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DD3-F366-4147-A0F7-1BC0B9EC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431-98A1-4D98-9BB8-88357E28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9B5-27B4-4567-885C-430A9579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C18-7938-477E-AE40-2A05D6B6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A5A-53ED-4296-AA5B-607FF1A9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B38-12B4-48C7-B5C9-51F3E343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5A2-DD3D-4B80-A021-C1D0C5E1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C1F-47F5-4010-BC4C-5B50012E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DF0-3003-4A2D-9319-D542D59A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3C5-FCDC-45EF-96F2-A1393934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C167-C8E2-41D5-8E20-8F93449FF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9160" y="1071720"/>
            <a:ext cx="9144000" cy="105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Арбитражный процесс. Занятие 4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531880"/>
            <a:ext cx="914400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5597"/>
                </a:solidFill>
                <a:latin typeface="Calibri"/>
              </a:rPr>
              <a:t>ПРАКТИЧЕСКАЯ РАБОТА №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5597"/>
                </a:solidFill>
                <a:latin typeface="Calibri"/>
              </a:rPr>
              <a:t>ТЕМА: Участники арбитражного проце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Picture 2" descr="https://cf3.ppt-online.org/files3/slide/e/ExLDo1hfK9bVRpJqUQ2MNAaF50i74gYkBHXjuy/slide-1.jpg"/>
          <p:cNvPicPr/>
          <p:nvPr/>
        </p:nvPicPr>
        <p:blipFill>
          <a:blip r:embed="rId1"/>
          <a:stretch/>
        </p:blipFill>
        <p:spPr>
          <a:xfrm>
            <a:off x="2886120" y="1521000"/>
            <a:ext cx="6703920" cy="50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Light"/>
              </a:rPr>
              <a:t>Задания: решить проблемные ситуаци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5200" y="1185840"/>
            <a:ext cx="1124568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дание №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ОО «1» предъявил иск в арбитражный суд к ООО «2» о взыскании задолженности по договору поставки. Арбитражный суд установил, что после возбуждения дела ответчик внес изменение в устав, в результате чего его наименование изменилось на ООО «3»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Как должен поступить арбитражный суд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дание №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ОО «1» обратился в арбитражный суд с иском к ООО «2» о признании сделки между ИП и ООО «2» недействительной, в связи с тем, что эта сделка является сделкой с заинтересованностью и была нарушена процедура ее одобрения. В ходе судебного заседания должник заявил, что ООО «1» является ненадлежащим истцом, так как сделка с заинтересованностью может быть признана недействительной только по иску общества или его акционера. Как должен поступить суд в данной ситуации?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Можно ли заменить ненадлежащего истца, ответчика и по каким правилам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8080" y="563040"/>
            <a:ext cx="1051560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дание №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рокурор обратился в арбитражный суд с иском к акционерному обществу о сносе возведенной ответчиком автозаправочной станции с магазином и моечным узлом как самовольной постройки. В обоснование своего требования истец сослался на то, что при строительстве были существенно нарушены строительные нормы и правила, следствием чего может стать обрушение этих объектов. По мнению прокурора, сохранение постройки создает угрозу жизни и здоровью граждан. Ответчик заявил, что прокурор в силу статьи 52 АПК РФ не обладает правом на предъявление иска о сносе самовольной постройки, и просил отказать в удовлетворении заявленных исковых требований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По каким основаниям прокурор имеет право обратиться в арбитражный суд? Имеет ли в данном случае прокурор право обратиться в арбитражный суд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7240" y="380520"/>
            <a:ext cx="113569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дание № 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остановлением начальника МОБ ОВД по муниципальному образованию на истца наложен административный штраф. Постановлением мирового судьи истец признан виновным в совершении административного правонарушения и ему назначено наказанное в виде административного штрафа. Решением вышестоящего суда общей юрисдикции постановление мирового судьи отменено, производство по делу об административном правонарушении в отношении истца прекращено в связи с отсутствием события административного правонарушения. Истец заключил с индивидуальным предпринимателем договор на оказание юридических услуг, по которому последний обязался подготовить жалобу на постановление мирового судьи и защищать права истца в районном суде. Факт оплаты юридических услуг был подтвержден расходным кассовым ордером. Факт оказания услуг и его размер стороны не оспаривали. Истец, посчитав, что расходы на оплату услуг представителя являются его убытками на основании ст.ст. 15, 1069 ГК РФ обратился в арбитражный суд с иском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Как должен поступить суд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Light"/>
              </a:rPr>
              <a:t>ТЕСТ: выберите правильный ответ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4520" y="985680"/>
            <a:ext cx="113569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торона в арбитражном процессе, к которой предъявляется иск, называ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истц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 третьим лиц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ответчи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Кто из указанных лиц не относится к иным участникам арбитражного процес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Органы местного самоупра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 Секретарь судебного засед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Помощник суд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ретьи лица в арбитражном процессе, которые не заявляют самостоятельных требова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могут заключить мировое соглаш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 не вправе заявлять встречный ис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не могут привлекаться к делу по инициативе су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509760"/>
            <a:ext cx="10515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Лицом, участвующим в деле, в арбитражном процессе не являетс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 судь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б прокурор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 помощник судь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Правом уточнения исковых требований или изменения предмета иска в арбитражном процессе обладае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 истец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б ответчик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 прокуро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07T10:09:23Z</dcterms:created>
  <dc:creator>user21</dc:creator>
  <dc:description/>
  <dc:language>en-US</dc:language>
  <cp:lastModifiedBy>Customer</cp:lastModifiedBy>
  <dcterms:modified xsi:type="dcterms:W3CDTF">2022-10-07T18:07:03Z</dcterms:modified>
  <cp:revision>2</cp:revision>
  <dc:subject/>
  <dc:title>Арбитражный процесс. Занятие 4.</dc:title>
</cp:coreProperties>
</file>