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69DDF-D5D2-4291-BF2E-E9E2CBE46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6E251-EE00-450A-B101-3D3CFA2F8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4D8D7-FEA4-45B1-BC2B-AF952E8AD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E92BE-C3DA-4EA3-9BD4-E4F60C0A5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BBDD0-FA12-4BC2-985A-90A753B31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0F164-C6F0-48F2-AD40-19A7AB33C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86915-F23A-4F3F-8D3E-C2150D746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A3FED-A650-4212-88E3-D5ECB64D1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7A02D-D401-4DDE-B667-56C0345CB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EBDDD-AE06-48AC-807D-3AADDA32E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5A16C-1512-4865-A7DF-4A8990F95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DF3A1-D0DA-4F58-BBB5-B47A86258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B773E-FD97-453E-90F3-409AA69700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89160" y="1071720"/>
            <a:ext cx="9144000" cy="1056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 Light"/>
              </a:rPr>
              <a:t>Арбитражный процесс. Занятие 4.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2531880"/>
            <a:ext cx="9144000" cy="32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f5597"/>
                </a:solidFill>
                <a:latin typeface="Calibri"/>
              </a:rPr>
              <a:t>ПРАКТИЧЕСКАЯ РАБОТА №1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f5597"/>
                </a:solidFill>
                <a:latin typeface="Calibri"/>
              </a:rPr>
              <a:t>ТЕМА: Участники арбитражного процесс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 Light"/>
              </a:rPr>
              <a:t>Повторение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Picture 2" descr="https://cf3.ppt-online.org/files3/slide/e/ExLDo1hfK9bVRpJqUQ2MNAaF50i74gYkBHXjuy/slide-1.jpg"/>
          <p:cNvPicPr/>
          <p:nvPr/>
        </p:nvPicPr>
        <p:blipFill>
          <a:blip r:embed="rId1"/>
          <a:stretch/>
        </p:blipFill>
        <p:spPr>
          <a:xfrm>
            <a:off x="2886120" y="1521000"/>
            <a:ext cx="6703920" cy="50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364680"/>
            <a:ext cx="10515600" cy="59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alibri Light"/>
              </a:rPr>
              <a:t>Задания: решить проблемные ситуации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565200" y="1185840"/>
            <a:ext cx="11245680" cy="499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03400" indent="-203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Задание № 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ООО «1» предъявил иск в арбитражный суд к ООО «2» о взыскании задолженности по договору поставки. Арбитражный суд установил, что после возбуждения дела ответчик внес изменение в устав, в результате чего его наименование изменилось на ООО «3».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Как должен поступить арбитражный суд?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03400" indent="-203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Задание № 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ООО «1» обратился в арбитражный суд с иском к ООО «2» о признании сделки между ИП и ООО «2» недействительной, в связи с тем, что эта сделка является сделкой с заинтересованностью и была нарушена процедура ее одобрения. В ходе судебного заседания должник заявил, что ООО «1» является ненадлежащим истцом, так как сделка с заинтересованностью может быть признана недействительной только по иску общества или его акционера. Как должен поступить суд в данной ситуации?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Можно ли заменить ненадлежащего истца, ответчика и по каким правилам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838080" y="563040"/>
            <a:ext cx="10515600" cy="561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Задание № 3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Прокурор обратился в арбитражный суд с иском к акционерному обществу о сносе возведенной ответчиком автозаправочной станции с магазином и моечным узлом как самовольной постройки. В обоснование своего требования истец сослался на то, что при строительстве были существенно нарушены строительные нормы и правила, следствием чего может стать обрушение этих объектов. По мнению прокурора, сохранение постройки создает угрозу жизни и здоровью граждан. Ответчик заявил, что прокурор в силу статьи 52 АПК РФ не обладает правом на предъявление иска о сносе самовольной постройки, и просил отказать в удовлетворении заявленных исковых требований.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По каким основаниям прокурор имеет право обратиться в арбитражный суд? Имеет ли в данном случае прокурор право обратиться в арбитражный суд?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17240" y="380520"/>
            <a:ext cx="1135692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Задание № 4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Постановлением начальника МОБ ОВД по муниципальному образованию на истца наложен административный штраф. Постановлением мирового судьи истец признан виновным в совершении административного правонарушения и ему назначено наказанное в виде административного штрафа. Решением вышестоящего суда общей юрисдикции постановление мирового судьи отменено, производство по делу об административном правонарушении в отношении истца прекращено в связи с отсутствием события административного правонарушения. Истец заключил с индивидуальным предпринимателем договор на оказание юридических услуг, по которому последний обязался подготовить жалобу на постановление мирового судьи и защищать права истца в районном суде. Факт оплаты юридических услуг был подтвержден расходным кассовым ордером. Факт оказания услуг и его размер стороны не оспаривали. Истец, посчитав, что расходы на оплату услуг представителя являются его убытками на основании ст.ст. 15, 1069 ГК РФ обратился в арбитражный суд с иском.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Как должен поступить суд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5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alibri Light"/>
              </a:rPr>
              <a:t>ТЕСТ: выберите правильный ответ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34520" y="985680"/>
            <a:ext cx="11356920" cy="559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Сторона в арбитражном процессе, к которой предъявляется иск, называется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а истцом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б третьим лицом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в ответчиком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Кто из указанных лиц не относится к иным участникам арбитражного процесса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а Органы местного самоуправления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б Секретарь судебного заседания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в Помощник судь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Третьи лица в арбитражном процессе, которые не заявляют самостоятельных требований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а могут заключить мировое соглашени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б не вправе заявлять встречный иск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в не могут привлекаться к делу по инициативе суд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838080" y="509760"/>
            <a:ext cx="10515600" cy="56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 Лицом, участвующим в деле, в арбитражном процессе не является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а судья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б прокурор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в помощник судьи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5.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 Правом уточнения исковых требований или изменения предмета иска в арбитражном процессе обладает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а истец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б ответчик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в прокурор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10-07T10:09:23Z</dcterms:created>
  <dc:creator>user21</dc:creator>
  <dc:description/>
  <dc:language>en-US</dc:language>
  <cp:lastModifiedBy>Customer</cp:lastModifiedBy>
  <dcterms:modified xsi:type="dcterms:W3CDTF">2022-10-07T18:07:03Z</dcterms:modified>
  <cp:revision>2</cp:revision>
  <dc:subject/>
  <dc:title>Арбитражный процесс. Занятие 4.</dc:title>
</cp:coreProperties>
</file>