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A8A-655F-4EA4-8CE0-48B575B2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0A5-587D-430F-9558-3ED1855C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08B-71FB-47A2-8530-C1775D90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7C2-73EC-4CD7-8CC7-28F47459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29B0-A247-479A-9A47-B326A0A6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2861-1699-4858-9D9F-25733055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BAEB-01BA-445A-9208-19193FB4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7F2-5759-4075-99F2-5B695EB6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F683-769D-4237-B426-C1EF6157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C1E7-E417-45F7-880E-71B457E1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2B14-1805-4317-A719-78C5E1E6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E5F-0ECD-484B-A82A-E667E195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CB2A-6FC6-4E9E-B3FE-C97BDE51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9BC1-3EEF-4EF6-BD60-9F9C56EA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B4C5-B6DB-4101-BE16-D6D75FCB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4179-A78F-461E-9057-975134F3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0A7-906D-4A7A-93C5-72F4E631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30D1-170E-4C26-B315-8AB4E451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E5A2-302F-45BA-B64E-3536BE4F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78EC-E84E-4EF7-AA22-41F1B664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E52C-985C-486E-ABA6-BB26FE7A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10F3-6081-4AC7-B338-C7806ED8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C70-4EEA-431E-88AE-0F4AFCE9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AB62-90A7-4FC8-9385-0DA093DC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3AC6-DF8C-4FE8-ABA9-C201790A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F8B93-1455-4812-BC8A-4F5A37C4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33F1-B883-4176-B892-DAF61F5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9EEC-B19B-47A5-91CE-FA94D7D4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0A4B7-8E6D-4E14-BCF8-CE31089F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9724-25EE-4926-942A-F5A811A9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88CC-9F11-4D5A-A28B-F773F4FC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D2F1-6904-47FC-820A-28729382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2673-2AAA-47F3-99A3-B5082488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81A-A727-4F71-A492-9627E3B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8C36-8C8B-4320-8D21-107F7C8A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F7E0-E44C-430D-9FFB-46488B16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58AF-6B51-4BE9-8CE9-282938F3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5550-16C1-48F9-983E-C3215BF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C0DC-B2C6-4174-BAAD-4F8AD664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9209-19C1-4EC0-8852-ADAC7ACD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1193C-899F-49CF-B325-C547530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2D1DC-A03D-4A95-BD99-E81B1701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4E6E-2982-4947-B6D5-CF4403E7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E51-7D1F-4CF5-8C95-F252F555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492-1EA7-469C-8D2E-86D054B4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9EC-3D6A-4F75-A07A-D22D19C8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093-BC29-4D74-A8B1-3AD7224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F97-C48A-4D80-8345-ECFFB6D3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32A0-B6ED-49C2-A479-3F6E8BB983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9D37-3221-4637-9994-2FB8A8D40AF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2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4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5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16AA-6B68-4694-90E1-39BECE69BB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7773-8F29-49C4-A588-3957300140D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1905120" y="205740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МОЯ МАЛАЯ РОДИ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Мой фильм 5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7042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Мой фильм 6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1082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066680" y="762120"/>
            <a:ext cx="7239240" cy="39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ИСТОРИЯ МОЕГО ПОСЁЛ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НАСЕЛЕНИЕ МОЕГО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ДОСТОПРИМЕЧАТЕЛЬНОСТИ МОЕГО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ЗНАМЕНИТЫЕ ЛЮДИ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КУЛЬТУРНЫЕ ЗАВЕДЕНИЯ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. ЗАВОДЫ, ФАБРИКИ МОЕГО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WordArt 3"/>
          <p:cNvSpPr txBox="1"/>
          <p:nvPr/>
        </p:nvSpPr>
        <p:spPr>
          <a:xfrm>
            <a:off x="1066680" y="4800600"/>
            <a:ext cx="7239240" cy="53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.ЗАПОВЕДНЫЕ МЕСТА МОЕГО ПОСЁЛК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2438280" y="533520"/>
            <a:ext cx="403884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Прямоугольник 1" descr=""/>
          <p:cNvPicPr/>
          <p:nvPr/>
        </p:nvPicPr>
        <p:blipFill>
          <a:blip r:embed="rId1"/>
          <a:stretch/>
        </p:blipFill>
        <p:spPr>
          <a:xfrm>
            <a:off x="1427040" y="2382840"/>
            <a:ext cx="6516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9:13:50Z</dcterms:created>
  <dc:creator>ЖЕНЬКА</dc:creator>
  <dc:description/>
  <dc:language>en-US</dc:language>
  <cp:lastModifiedBy>RePack by SPecialiST</cp:lastModifiedBy>
  <dcterms:modified xsi:type="dcterms:W3CDTF">2024-02-12T16:07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