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1A5C-7499-44AA-826C-6F6F40393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EAD4-D65E-4D2B-B74A-865BA1D9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3B8E-1858-4BBB-8AB5-8B520962B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BA54-A468-4796-931C-267DC2285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5F95-5FDC-475E-B6DD-D9AFF6A9D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B662-A249-45FD-8544-D1CCAB76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4ECB-25D4-4629-895E-70BEA967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4A6E7-698F-4238-947E-537D9CA4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2E17-BA67-43F8-ACBB-AFD5C44F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25483-18F3-4C41-8277-A6BAFF11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8AA9-2C42-4C87-95E7-EC231A59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FCED-9C6D-4199-BAF7-6612FEE9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6D8E-FC64-4E96-A733-042D4CE1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904E-8752-40A0-AECF-1B3B1461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3BDA1-58D6-424F-B710-5A0B7F5C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AE2C-DCB3-46A7-A3F5-2B331DEF6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18C18-497C-4530-81E2-3D40DD07E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86478-2B4B-4064-89F7-42F1A5D4D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E610B-4026-409C-9436-EE4F089B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F6C5F-857D-4E1F-B9A0-7A4A78BF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873D3-F44D-4135-8DC1-FDBB2943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83B8F-72F8-4266-9C75-3DA194B3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B892-4F46-403E-A3F7-504BC7C6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84CE7-C693-42A9-A00D-2851B9B5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0B421-B935-4447-A0AD-CDC89A07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B285A-AF62-430F-BF2C-F113A7D4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87925-7547-4BB0-9D89-CF5E1F33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F152D-3D24-4141-B6BB-7E8ECF71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CAD4C-3689-4373-ADFA-132E19B83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A5D1D-CC6F-48BD-8815-CFC42542B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3E95D-F3B5-4CEA-82F2-E145C69EB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E2343-D999-4739-B3C2-E68AD5E3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E9EC4-6A8E-49E6-93D0-C35E6E7B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9A92-19B3-4890-B747-A7B36CD7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C684F-8086-41C6-B6D3-77BE964B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E5176-2455-4928-88D7-54A031EC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E0E55-EDB6-427C-AC18-FB5B04FE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EE412-5378-4BAE-9B1D-E02113DE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C08AD-9638-435B-9F7A-D579555F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69EEE-B012-4924-936F-653BADEF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12D8D-726E-462D-81C5-857A3005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2E3DC-DA6E-4F70-A531-AA57A9DE5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30FBE-08B0-4F43-A98A-C98D83920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4A55-7BD5-4422-8F22-0165B286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EA92-33A1-4FD8-A0F3-C126B2D7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0BAF-91B0-40B6-ABD7-D5646000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A0DF-DCD3-415A-A3BB-2B8AF335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2B86-7140-4E43-A6FE-7C00F96D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6FCC-F6FF-4B0A-A4D7-5A715D6B6A4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4D68-1486-43AD-802C-F8E5C601B1E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7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1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82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8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4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85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>
                    <a:gd name="textAreaLeft" fmla="*/ 0 w 243360"/>
                    <a:gd name="textAreaRight" fmla="*/ 243360 w 2433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>
                    <a:gd name="textAreaLeft" fmla="*/ 0 w 427680"/>
                    <a:gd name="textAreaRight" fmla="*/ 428040 w 42768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>
                    <a:gd name="textAreaLeft" fmla="*/ 0 w 803160"/>
                    <a:gd name="textAreaRight" fmla="*/ 803520 w 8031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>
                    <a:gd name="textAreaLeft" fmla="*/ 0 w 1205640"/>
                    <a:gd name="textAreaRight" fmla="*/ 1206000 w 120564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0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1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2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9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9B20-2089-45F1-A0E0-4BC4B4B8DC6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3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4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7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8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9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1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83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84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7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88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0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1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93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E6E0-E00E-4A26-B34E-501A4657C67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WordArt 2"/>
          <p:cNvSpPr txBox="1"/>
          <p:nvPr/>
        </p:nvSpPr>
        <p:spPr>
          <a:xfrm>
            <a:off x="1905120" y="2057400"/>
            <a:ext cx="54100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ек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МОЯ МАЛАЯ РОДИН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2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2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Мой фильм 5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87042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Мой фильм 6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1082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WordArt 2"/>
          <p:cNvSpPr txBox="1"/>
          <p:nvPr/>
        </p:nvSpPr>
        <p:spPr>
          <a:xfrm>
            <a:off x="1066680" y="762120"/>
            <a:ext cx="7239240" cy="39718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. ИСТОРИЯ МОЕГО ПОСЁЛК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. НАСЕЛЕНИЕ МОЕГО ПОСЁЛКА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. ДОСТОПРИМЕЧАТЕЛЬНОСТИ МОЕГО ПОСЁЛКА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. ЗНАМЕНИТЫЕ ЛЮДИ ПОСЁЛКА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.КУЛЬТУРНЫЕ ЗАВЕДЕНИЯ ПОСЁЛКА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. ЗАВОДЫ, ФАБРИКИ МОЕГО ПОСЁЛКА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0" name="WordArt 3"/>
          <p:cNvSpPr txBox="1"/>
          <p:nvPr/>
        </p:nvSpPr>
        <p:spPr>
          <a:xfrm>
            <a:off x="1066680" y="4800600"/>
            <a:ext cx="7239240" cy="5335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.ЗАПОВЕДНЫЕ МЕСТА МОЕГО ПОСЁЛКА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1" name="WordArt 4"/>
          <p:cNvSpPr txBox="1"/>
          <p:nvPr/>
        </p:nvSpPr>
        <p:spPr>
          <a:xfrm>
            <a:off x="2438280" y="533520"/>
            <a:ext cx="4038840" cy="533160"/>
          </a:xfrm>
          <a:prstGeom prst="rect">
            <a:avLst/>
          </a:prstGeom>
        </p:spPr>
        <p:txBody>
          <a:bodyPr wrap="none" lIns="90000" rIns="90000" tIns="46800" bIns="46800" anchor="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ЛАН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Прямоугольник 1" descr=""/>
          <p:cNvPicPr/>
          <p:nvPr/>
        </p:nvPicPr>
        <p:blipFill>
          <a:blip r:embed="rId1"/>
          <a:stretch/>
        </p:blipFill>
        <p:spPr>
          <a:xfrm>
            <a:off x="1427040" y="2382840"/>
            <a:ext cx="651672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09:13:50Z</dcterms:created>
  <dc:creator>ЖЕНЬКА</dc:creator>
  <dc:description/>
  <dc:language>en-US</dc:language>
  <cp:lastModifiedBy>RePack by SPecialiST</cp:lastModifiedBy>
  <dcterms:modified xsi:type="dcterms:W3CDTF">2024-02-12T16:07:0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