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783-E5A7-4881-B561-A4D51718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043-EF79-48DA-A8CB-29536B9D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DE0B-C872-46A9-8C7B-62F74045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943C-5528-4BBC-BD33-1AA4B1C7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A471-2EBC-4E91-A2BC-EDACA341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BD09-F9FC-4671-96C5-233712C1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8EE3-1E29-4DD1-8BB5-E0C4803E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99C6-8A45-439D-A3C0-226A5341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4CC-6368-479B-815B-2A84EC32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0E86-CCC7-4375-9C02-0E17212E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E16-8B12-40E1-B36E-C14EACB3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31BF-1CC1-4B1D-85F4-E4730C8C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2061-01F7-431E-B1AE-7F2DC87E70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26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битражный процесс. Занятие 5. </a:t>
            </a:r>
            <a:br>
              <a:rPr sz="2000"/>
            </a:b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ТЕМА: Подведомственность дел арбитражных судов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502920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личие договора (арбитражного соглашения) между сторонами спор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договора (арбитражного соглашения) между сторонами спора разграничивает подведомственность между арбитражными и третейскими судами, включая международные коммерческие арбитражи. Соглашение в соответствии с ч. 6 ст. 4 АПК РФ и ФЗ "О третейских судах в Российской Федерации", Законом РФ "О международном коммерческом арбитраже" выступает как основание для разграничения подведомственности между государственным арбитражным судом и арбитражем, третейским судом при наличии ряда услов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порность, либо бесспорность права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9917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ой критерий, как спорность либо бесспорность права, разграничивает подведомственность юридических дел между арбитражными судами и органами исполнительной власти, осуществляющими регистрацию юридических фа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, по общему правилу, дела бесспорного характера подведомственны арбитражному суду только в случаях, указанных в законе, например, дела об установлении фактов, имеющих юридическое значение для возникновения, изменения или прекращения прав организаций и граждан в сфере предпринимательской и иной экономической деятельности (ст. 30 АПК РФ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же образом разграничивается подведомственность между создаваемыми органами регистрации прав на недвижимое имущество и сделок с ним и судами. При наличии бесспорности права такая регистрация производится учреждением юстиции, а при возникновении спора - на основании решения суда или арбитражного суда с учетом субъектного характера сп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Характер нормативного ак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ределении подведомственности дел в сфере нормоконтроля следует исходить из необходимости прямого указания закона о возможности оспаривания нормативных правовых актов. Кроме того, в целом подведомственность в сфере нормоконтроля может быть весьма сложна для определения, поскольку в данной сфере компетенцией наделены Конституционный Суд РФ, конституционные (уставные) суды субъектов РФ, суды общей юрисдикции и арбитражные су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3059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.Виды подведомственности дел арбитражным судам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висимости от того, относит ли закон разрешение определенной категории дел к ведению исключительно каких-либо одних органов или нескольких различных органов, подведомственность подразделяется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лючительную (специальную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жественную (обща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иды подведомств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85808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Правила исключительной (специальной) подведомственност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характеризуются тем, что определенные категории дел отнесены к подведомственности арбитражного суда, независимо от субъектного состава и других критериев. Использование этих правил позволяет разграничить предметы ведения арбитражных судов с судами общей юрисдик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терминологии АПК РФ к специальной подведомственности арбитражных судов отнесены следующие категории дел (ст. 33 АПК РФ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 несостоятельности (банкротств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спорам, указанным в статье 225.1 АПК РФ (дела по корпоративным спорам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спорам об отказе в государственной регистрации, уклонении от государственной регистрации юридических лиц, индивидуальных предпринимат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спорам, вытекающим из деятельности депозитариев, связанной с учетом прав на акции и иные ценные бумаги и с осуществлением предусмотренных федеральным законом иных прав и обязаннос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спорам, вытекающим из деятельности государственных корпораций и связанным с их правовым положением, порядком управления ими, их созданием, реорганизацией, ликвидацией, организацией и полномочиями их органов, ответственностью лиц, входящих в их орган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спорам о защите интеллектуальных прав с участием организаций, осуществляющих коллективное управление авторскими и смежными правами, а также по спорам, отнесенным к подсудности Суда по интеллектуальным правам в соответствии с частью 4 статьи 34 настоящего Кодек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 защите деловой репутации в сфере предпринимательской и иной экономической 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угие дела, возникающие при осуществлении предпринимательской и иной экономической деятельности, в случаях, предусмотренных федеральным закон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дела, перечисленные в ст. 33 и 225.1 АПК РФ, рассматриваются арбитражным судом независимо от того, являются ли участниками правоотношений, из которых возникли спор или требование, юридические лица, индивидуальные предприниматели или иные организации и гражд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458200" cy="663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Правила множественной подведомстве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позволяют разрешать определенные категории дел как государственным судам (общей юрисдикции, арбитражным), так и третейским судам. Множественная подведомственность в зависимости от способа выбора из нескольких юрисдикционных органов, которым дело подведомственно по закону, может быть подразделена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говорн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пределяемую взаимным соглашением сторон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мперативн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ело рассматривается несколькими юрисдикционными органами в определенной законом последовательно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льтернативн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о выбору лица, ищущего защиты своих пра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онятие   и  критерии подведомственности дел арбитражному су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Виды подведомств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одведомственность экономических споров и других дел, возникающих из административных и иных публичных правоотно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153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одведомственность экономических споров и других дел, возникающих из административных и иных публичных правоотнош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2819520" y="3581280"/>
            <a:ext cx="426708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1920" y="304920"/>
            <a:ext cx="8991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гласно ст. 29 АПК РФ арбитражные суды рассматрива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орядке административного судопроизводства возникающие из административных и иных публичных правоотношений экономические споры и иные дела, связанные с осуществлением организациями и гражданами предпринимательской и иной экономическ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б оспаривании нормативных правовых актов, затрагивающих права и законные интересы заявителя в сфере предпринимательской и иной экономической деятельности, если федеральным законом их рассмотрение отнесено к компетенции арбитражного су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об оспаривании ненормативных правовых актов органов государственной власти Российской Федерации, органов государственной власти субъектов Российской Федерации, органов местного самоуправления, решений и действий (бездействия) государственных органов, органов местного самоуправления, иных органов и должностных лиц, затрагивающих права и законные интересы заявителя в сфере предпринимательской и иной эконом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 об административных правонарушениях, если федеральным законом их рассмотрение отнесено к компетенции арбитражного с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о взыскании с организаций и граждан, осуществляющих предпринимательскую и иную экономическую деятельность, обязательных платежей, санкций, если федеральным законом не предусмотрен иной порядок их взыск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 другие дела, возникающие из административных и иных публичных правоотношений, если федеральным законом их рассмотрение отнесено к компетенции арбитражного суда, поскольку данный перечень не является закрыт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304920"/>
            <a:ext cx="914400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Критерии подведомственности дел в сфере административного судопроизводства заключаются в следующе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-первых, спор должен возникнуть из административных либо иных публично-правовых отношений (например, налоговых, таможенных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-вторых, содержание спора связано с предпринимательской или иной экономической деятельностью, либо доступом к ней, либо оценкой законности ненормативного или нормативного акта в данной сфе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-третьих, в отличие от дел гражданского судопроизводства в административном судопроизводстве существуют другие требования к правовому статусу стор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ведомственность дел об установлении фактов, имеющих юридическое значение для возникновения, изменения и прекращения прав организаций и граждан в сфере предпринимательской и иной экономической деятельности (ст. 30 АПК Р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 подведомственности арбитражным судам дел об установлении юридических фактов сформулированы в гл. 27 АПК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едомственность дел об оспаривании решений третейских судов по спорам, возникающим при осуществлении предпринимательской и иной экономической деятельности; о выдаче исполнительных листов на принудительное исполнение решений третейских судов по спорам, возникающим при осуществлении предпринимательской и иной экономической деятельности (ст. 31 АПК Р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етенция арбитражных судов на осуществление полномочий в соответствии с гл. 30 АПК РФ распространяется на деятельность как третейских судов, так и международных коммерческих арбитражей, принявших решение на территории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едомственность дел о признании и приведении в исполнение решений иностранных судов и иностранных арбитражных решений по спорам, возникающим при осуществлении предпринимательской и иной экономической деятельности (ст. 32 АПК Р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 о признании и приведении в исполнение решений иностранных судов и иностранных арбитражных решений по спорам, возникающим при осуществлении предпринимательской и иной экономической деятельности, относится к подведомственности арбитражного суда. Вопросы признания и приведения в исполнение иных решений, например, по семейным делам, имущественным спорам между физическими лицами, разрешаются судами общей юрисди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есение экономических споров и иных дел в сфере экономической и предпринимательской деятельности  к ведению арбитражных судов 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подсуд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подведом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разграничение полномо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Категория подведомственности позволяет определ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полномочия арбитражных су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разграничение компетенции арбитражных су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систему арбитражных су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28600" y="304920"/>
            <a:ext cx="876312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 критериям определения подведомственности арбитражных судов НЕ относя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субъективный со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наличие договора между сторо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характер бесспорного право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К видам подведомственности не относя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Исключительная и множест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бщая и спе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судебная и внесудеб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Дела о несостоятельности (банкротстве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не относят к подведомственности арбитражных су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тносят к общей подведомственности арбитражных су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относят к специальной подведомственности арбитражных су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дведомственность дел арбитражным суд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тнесение экономических споров и иных дел в сфере экономической и предпринимательской деятельности  к ведению арбитражных су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001000" cy="2395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533520" y="4199040"/>
            <a:ext cx="82296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опросы подведомствен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одсудности структурн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ъединены в АПК РФ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диной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лав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д названием «Компетенция арбитражных судов» (Глава 4), которая представляет собой совокупность норм, в которых закреплены правила определения подведомственности и подсудности дел арбитражным суд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ведомствен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— это свойство гражданских дел, благодаря которому они относятся к компетенции того или иного органа; иначе - это отнесение спора  о праве или иного юридического дела к компетенции  определенного орг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тегория подведомственности позволяет определить полномочия арбитражных суд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Подведомственность дел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арбитражному суд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это правило, в соответствии с которым разграничивается компетенция арбитражных судов и иных орган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на определяется характером отношений, явившихся причиной обращения в суд, и особым кругом участни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Можно выделить несколько критерие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характер или предмет дела (экономический и связанный с предпринимательской или иной экономической деятельностью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субъектный состав (сторон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наличие соглашения сторо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спорность или бесспорность прав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характер нормативного акта (по признаку нормативности и предмета его регулировани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Характер или предмет дел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ервый и основной критерий - спор либо иное дело долж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сить экономический характер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ть связаны с предпринимательской либо иной экономической деяте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ый критерий экономического спора прямо сформулирован в ч. 1 ст. 27 АПК РФ, ст. 1, 2 и др. АПК РФ, ч. 3 ст. 22 ГПК РФ. Данный критерий разграничения подведомственности приобрел основное значение, поскольку 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реплен одновременно в двух процессуальных кодекс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убъектный состав сторо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но ч. 2 ст. 27 АПК РФ арбитражные суды разрешают экономические споры и рассматривают иные дела с участи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й, являющихся юридическими лиц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ждан, осуществляющих предпринимательскую деятельность без образования юридического лица и имеющих статус индивидуального предпринимателя, приобретенный в установленном законом порядке (ИП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йской Федерации, субъектов Российской Федерации, муниципальных образований, государственных органов, органов местного самоуправления, иных органов, должностных лиц, образований, не имеющих статуса юридического лица, и граждан, не имеющих статуса индивидуального предпринимателя (далее - организации и граждане) - в случаях, предусмотренных АПК РФ и иными федеральными зако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ъектный состав спора, а именно юридический статус сторон, также наряду с характером дела позволяет более точно разграничить подведомственность между двумя органами судебной власти: судами общей юрисдикции и арбитражными су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13T17:45:42Z</dcterms:created>
  <dc:creator>Galina</dc:creator>
  <dc:description/>
  <dc:language>en-US</dc:language>
  <cp:lastModifiedBy>user21</cp:lastModifiedBy>
  <dcterms:modified xsi:type="dcterms:W3CDTF">2022-10-06T07:00:2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