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56D-6E0A-4FB1-9791-5571A96F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B7C-1E4C-4D5D-B55E-CF8B6C2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269-72A0-43F9-88B1-E3FEA8E3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053-C294-4D66-8CFD-8F2E5C8E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DE-3230-4722-A7D1-D747241A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281-D51E-46BF-B322-8C48941C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7BD-9FD1-40C7-AEA1-AA85C86E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829-CDA4-485C-A060-3D490B9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0E3-08C6-44E4-B65D-C44AF0C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128-7DDC-4865-845E-F14A075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0FA-B481-4005-B201-897F32C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93B-C028-45DB-A499-1734E2A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3EF4-CD9E-448C-9821-95A401C0C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битражный процесс. Занятие 5. </a:t>
            </a:r>
            <a:br>
              <a:rPr sz="20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ТЕМА: Подведомственность дел арбитражных су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личие договора (арбитражного соглашения) между сторонами спо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договора (арбитражного соглашения) между сторонами спора разграничивает подведомственность между арбитражными и третейскими судами, включая международные коммерческие арбитражи. Соглашение в соответствии с ч. 6 ст. 4 АПК РФ и ФЗ "О третейских судах в Российской Федерации", Законом РФ "О международном коммерческом арбитраже" выступает как основание для разграничения подведомственности между государственным арбитражным судом и арбитражем, третейским судом при наличии ряда усло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рность, либо бесспорность прав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критерий, как спорность либо бесспорность права, разграничивает подведомственность юридических дел между арбитражными судами и органами исполнительной власти, осуществляющими регистрацию юридических ф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по общему правилу, дела бесспорного характера подведомственны арбитражному суду только в случаях, указанных в законе, например, дела об установлении фактов, имеющих юридическое значение для возникновения, изменения или прекращения прав организаций и граждан в сфере предпринимательской и иной экономической деятельности (ст. 30 АПК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же образом разграничивается подведомственность между создаваемыми органами регистрации прав на недвижимое имущество и сделок с ним и судами. При наличии бесспорности права такая регистрация производится учреждением юстиции, а при возникновении спора - на основании решения суда или арбитражного суда с учетом субъектного характера с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 нормативного а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ии подведомственности дел в сфере нормоконтроля следует исходить из необходимости прямого указания закона о возможности оспаривания нормативных правовых актов. Кроме того, в целом подведомственность в сфере нормоконтроля может быть весьма сложна для определения, поскольку в данной сфере компетенцией наделены Конституционный Суд РФ, конституционные (уставные) суды субъектов РФ, суды общей юрисдикции и арбитражные су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Виды подведомственности дел арбитражным суд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того, относит ли закон разрешение определенной категории дел к ведению исключительно каких-либо одних органов или нескольких различных органов, подведомственность подраз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лючительную (специальную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енную (общ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иды подведом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580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Правила исключительной (специальной) подведомствен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характеризуются тем, что определенные категории дел отнесены к подведомственности арбитражного суда, независимо от субъектного состава и других критериев. Использование этих правил позволяет разграничить предметы ведения арбитражных судов с судами общей юрисди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рминологии АПК РФ к специальной подведомственности арбитражных судов отнесены следующие категории дел (ст. 33 АПК РФ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состоятельности (банкротств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указанным в статье 225.1 АПК РФ (дела по корпоративным спора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 об отказе в государственной регистрации, уклонении от государственной регистрации юридических лиц, индивидуальных предпринима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вытекающим из деятельности депозитариев, связанной с учетом прав на акции и иные ценные бумаги и с осуществлением предусмотренных федеральным законом иных прав и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вытекающим из деятельности государственных корпораций и связанным с их правовым положением, порядком управления ими, их созданием, реорганизацией, ликвидацией, организацией и полномочиями их органов, ответственностью лиц, входящих в их орг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 о защите интеллектуальных прав с участием организаций, осуществляющих коллективное управление авторскими и смежными правами, а также по спорам, отнесенным к подсудности Суда по интеллектуальным правам в соответствии с частью 4 статьи 34 настоящего Кодек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защите деловой репутации в сфере предпринимательской и иной эконом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дела, возникающие при осуществлении предпринимательской и иной экономической деятельности, в случаях, предусмотренных федеральным зако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ела, перечисленные в ст. 33 и 225.1 АПК РФ, рассматриваются арбитражным судом независимо от того, являются ли участниками правоотношений, из которых возникли спор или требование, юридические лица, индивидуальные предприниматели или иные организации и гражд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авила множественной подведом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озволяют разрешать определенные категории дел как государственным судам (общей юрисдикции, арбитражным), так и третейским судам. Множественная подведомственность в зависимости от способа выбора из нескольких юрисдикционных органов, которым дело подведомственно по закону, может быть подразделена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говор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пределяемую взаимным соглашением стор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перати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ело рассматривается несколькими юрисдикционными органами в определенной законом последова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выбору лица, ищущего защиты своих пра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  и  критерии подведомственности дел арбитражному су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иды подведом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ведомственность экономических споров и других дел, возникающих из административных и иных публичных прав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дведомственность экономических споров и других дел, возникающих из административных и иных публичных прав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2670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гласно ст. 29 АПК РФ арбитражные суды рассматрив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рядке административного судопроизводства возникающие из административных и иных публичных правоотношений экономические споры и иные дела, связанные с осуществлением организациями и гражданами предпринимательской и иной экономи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б оспаривании нормативных правовых актов, затрагивающих права и законные интересы заявителя в сфере предпринимательской и иной экономической деятельности, если федеральным законом их рассмотрение отнесено к компетенции арбитражного с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б оспаривании ненормативных правовых актов органов государственной власти Российской Федерации, органов государственной власти субъектов Российской Федерации, органов местного самоуправления, решений и действий (бездействия) государственных органов, органов местного самоуправления, иных органов и должностных лиц,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б административных правонарушениях, если федеральным законом их рассмотрение отнесено к компетенции арбитражного с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 взыскании с организаций и граждан, осуществляющих предпринимательскую и иную экономическую деятельность, обязательных платежей, санкций, если федеральным законом не предусмотрен иной порядок их в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другие дела, возникающие из административных и иных публичных правоотношений, если федеральным законом их рассмотрение отнесено к компетенции арбитражного суда, поскольку данный перечень не является закры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04920"/>
            <a:ext cx="914400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ритерии подведомственности дел в сфере административного судопроизводства заключаются в следующ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спор должен возникнуть из административных либо иных публично-правовых отношений (например, налоговых, таможенн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содержание спора связано с предпринимательской или иной экономической деятельностью, либо доступом к ней, либо оценкой законности ненормативного или нормативного акта в данной сф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-третьих, в отличие от дел гражданского судопроизводства в административном судопроизводстве существуют другие требования к правовому статусу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омственность дел об установлении фактов, имеющих юридическое значение для возникновения, изменения и прекращения прав организаций и граждан в сфере предпринимательской и иной экономической деятельности (ст. 30 АПК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подведомственности арбитражным судам дел об установлении юридических фактов сформулированы в гл. 27 АПК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омственность дел об оспаривании решений третейских судов по спорам, возникающим при осуществлении предпринимательской и иной экономической деятельности; о выдаче исполнительных листов на принудительное исполнение решений третейских судов по спорам, возникающим при осуществлении предпринимательской и иной экономической деятельности (ст. 31 АП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я арбитражных судов на осуществление полномочий в соответствии с гл. 30 АПК РФ распространяется на деятельность как третейских судов, так и международных коммерческих арбитражей, принявших решение на территори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омственность дел о признании и приведении в исполнение решений иностранных судов и иностранных арбитражных решений по спорам, возникающим при осуществлении предпринимательской и иной экономической деятельности (ст. 32 АП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о признании и приведении в исполнение решений иностранных судов и иностранных арбитражных решений по спорам, возникающим при осуществлении предпринимательской и иной экономической деятельности, относится к подведомственности арбитражного суда. Вопросы признания и приведения в исполнение иных решений, например, по семейным делам, имущественным спорам между физическими лицами, разрешаются судами общей юрисди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есение экономических споров и иных дел в сфере экономической и предпринимательской деятельности  к ведению арбитражных судов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дсу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дведом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зграничение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Категория подведомственности позволяет опреде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номочия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разграничение компетенци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истему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 критериям определения подведомственности арбитражных судов НЕ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бъектив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личие договора между стор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арактер бесспорного прав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 видам подведомственности не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сключительная и множе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бщая и спе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удебная и внесуд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а о несостоятельности (банкротств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е относят к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тносят к общей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тносят к специальной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едомственность дел арбитражным суд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несение экономических споров и иных дел в сфере экономической и предпринимательской деятельности  к ведению арбитражных 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23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33520" y="4199040"/>
            <a:ext cx="8229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 подведом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одсудности структур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ъединены в АПК Р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названием «Компетенция арбитражных судов» (Глава 4), которая представляет собой совокупность норм, в которых закреплены правила определения подведомственности и подсудности дел арбитражным суд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ом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это свойство гражданских дел, благодаря которому они относятся к компетенции того или иного органа; иначе - это отнесение спора  о праве или иного юридического дела к компетенции  определенного 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тегория подведомственности позволяет определить полномочия арбитражных су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одведомственность де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арбитражному суд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правило, в соответствии с которым разграничивается компетенция арбитражных судов и иных орг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на определяется характером отношений, явившихся причиной обращения в суд, и особым кругом учас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ожно выделить несколько критери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характер или предмет дела (экономический и связанный с предпринимательской или иной экономической деятельностью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убъектный состав (сторон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личие соглашения стор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спорность или бесспорность пра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характер нормативного акта (по признаку нормативности и предмета его регулиров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 или предмет д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ервый и основной критерий - спор либо иное дело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ь экономический характе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вязаны с предпринимательской либо иной экономиче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критерий экономического спора прямо сформулирован в ч. 1 ст. 27 АПК РФ, ст. 1, 2 и др. АПК РФ, ч. 3 ст. 22 ГПК РФ. Данный критерий разграничения подведомственности приобрел основное значение, поскольку 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еплен одновременно в двух процессуальных кодек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убъектный состав сторо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ч. 2 ст. 27 АПК РФ арбитражные суды разрешают экономические споры и рассматривают иные дела с участ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й, являющихся юридическими лиц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осуществляющих предпринимательскую деятельность без образования юридического лица и имеющих статус индивидуального предпринимателя, приобретенный в установленном законом порядке (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ой Федерации, субъектов Российской Федерации, муниципальных образований, государственных органов, органов местного самоуправления, иных органов, должностных лиц, образований, не имеющих статуса юридического лица, и граждан, не имеющих статуса индивидуального предпринимателя (далее - организации и граждане) - в случаях, предусмотренных АПК РФ и иными федеральными зак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ный состав спора, а именно юридический статус сторон, также наряду с характером дела позволяет более точно разграничить подведомственность между двумя органами судебной власти: судами общей юрисдикции и арбитражными су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3T17:45:42Z</dcterms:created>
  <dc:creator>Galina</dc:creator>
  <dc:description/>
  <dc:language>en-US</dc:language>
  <cp:lastModifiedBy>user21</cp:lastModifiedBy>
  <dcterms:modified xsi:type="dcterms:W3CDTF">2022-10-06T07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