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42D-DE80-4160-B8E0-9BBD2F18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5D9-742D-4786-8530-F2C9FF9E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3B2C-32F7-4C7C-98D5-90A16BED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168-0246-4D54-8E5B-347BFF02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93DD-0A83-47DB-B95B-F182A6B5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7CFF-577B-4BF0-AAD9-944EE5C0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25E-6C9C-43B5-B1E3-A5B9F60F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36E-CB5B-4FA0-B83B-4C467B88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204-C05E-4F57-AFBB-4812829E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2F8-0EDE-4873-A3A1-42E320DC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BB56-D7B8-4D49-8380-2992A409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CC4-4678-403B-816C-5796374D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6546-DB26-4381-ABB6-CB385DD67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битражный процесс. Занятие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ТЕМА: Подсудность дел арбитражных су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50292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3300"/>
                </a:solidFill>
                <a:uFillTx/>
                <a:latin typeface="Arial"/>
              </a:rPr>
              <a:t>Территориальная подсуд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разграничивает компетенцию арбитражных судов одного звена, т.е. краевых, областных и приравненных к ним арбитражных судов субъектов Р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риториальная подсудность может быть общей, альтернативной, исключительной, по связи дел и договор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оответствии с правилами 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бщей территориальной подсуд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иск предъявляется в арбитражный суд субъекта РФ по месту нахождения или месту жительства ответчика (ст. 35 АПК РФ). Согласно п. 2 ст. 54 ГК РФ место нахождения юридического лица определяется местом его государственной регистр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а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льтернативной подсуд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по выбору истца установлены ст. 36 АПК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 частности, иск к ответчику, место нахождения или место жительства которого неизвестно, может быть предъявлен в арбитражный суд по месту нахождения его имущества либо по его последнему известному месту нахождения или месту жительства в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к к ответчикам, находящимся или проживающим на территориях разных субъектов РФ, предъявляется в арбитражный суд по месту нахождения или месту жительства одного из ответч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к к ответчику, находящемуся или проживающему на территории иностранного государства, может быть предъявлен в арбитражный суд по месту нахождения на территории РФ имущества ответч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к, вытекающий из договора, в котором указано место его исполнения, может быть предъявлен также в арбитражный суд по месту исполнения дого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к к юридическому лицу, вытекающий из деятельности его филиала, представительства, расположенных вне места нахождения юридического лица, может быть предъявлен в арбитражный суд по месту нахождения юридического лица или его филиала, представитель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ки о возмещении убытков, причиненных столкновением судов, взыскании вознаграждения за оказание помощи и спасание на море могут предъявляться в арбитражный суд по месту нахождения судна ответчика или порта приписки судна ответчика либо по месту причинения убы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Исключительная подсудность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характеризуется тем, что дело должно быть рассмотрено только строго определенным в АПК РФ арбитражным судом (ст. 38 АПК РФ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Иски о правах на недвижимое имущество предъявляются в арбитражный суд по месту нахождения этого иму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Иски о правах на морские и воздушные суда, суда внутреннего плавания, космические объекты предъявляются в арбитражный суд по месту их государственной рег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Иск к перевозчику, вытекающий из договора перевозки грузов, пассажиров и их багажа, в том числе в случае, если перевозчик является одним из ответчиков, предъявляется в арбитражный суд по месту нахождения перевозч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Иск по спору, в котором одной из сторон является арбитражный суд, предъявляется в Арбитражный суд Московской области, за исключением случая, если одной из сторон в споре является арбитражный суд, расположенный на территории Московского судебного округа. В этом случае иск предъявляется в Арбитражный суд Тверской обл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Заявление о признании должника банкротом подается в арбитражный суд по месту нахождения долж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Исковое заявление или заявление по корпоративному спору, указанному в ст. 225.1 АПК РФ, подается в арбитражный суд по месту нахождения юридического лица, указанного в ст. 225.1 АПК Р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Заявление об установлении фактов, имеющих юридическое значение, подается в арбитражный суд по месту нахождения или месту жительства заявителя, за исключением заявления об установлении фактов, имеющих юридическое значение для возникновения, изменения или прекращения прав на недвижимое имущество, которое подается в суд по месту нахождения недвижимого иму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Заявление об оспаривании решений и действий (бездействия) судебного пристава-исполнителя подается в арбитражный суд по месту нахождения судебного пристава-исполни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Заявления по спорам между российскими организациями, осуществляющими деятельность или имеющими имущество на территории иностранного государства, подаются в арбитражный суд по месту государственной регистрации на территории Российской Федерации организации-ответч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Заявления по спорам между российскими организациями, осуществляющими деятельность или имеющими имущество на территории иностранного государства и не имеющими государственной регистрации на территории Российской Федерации, подаются в Арбитражный суд Московской обл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Заявления об оспаривании решения третейского суда и о выдаче исполнительного листа на принудительное исполнение решения третейского суда подаются в арбитражный суд субъекта Российской Федерации, на территории которого принято решение третейского су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Заявление о признании и приведении в исполнение решений иностранных судов и иностранных арбитражных решений подается стороной, в пользу которой состоялось решение иностранного суда, в арбитражный суд субъекта Российской Федерации по месту нахождения или месту жительства должника либо, если место нахождения или место жительства должника неизвестно, по месту нахождения имущества долж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дсудность по связи де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характеризуется тем, что независимо от территориальной принадлежности спор подлежит разбирательству в арбитражном суде, где рассматривается другое дело, с которым связан спор. Так, встречный иск независимо от его подсудности предъявляется по месту рассмотрения первоначального иска (ч. 10 ст. 38 АПК РФ). В этот же арбитражный суд предъявляется исковое заявление третьего лица, заявляющего самостоятельные требования относительно предмета спора (ст. 50 АПК РФ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оответствии с правилами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оговорной подсуд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(ст. 37 АПК РФ) общая территориальная и альтернативная подсудность, установленная в АПК РФ, могут быть изменены по соглашению сторон (пророгационные соглаш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83908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Выполнить конспект по презентации 6.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Ответить на тест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)Общее правило территориальной подсудности означае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. Иск предъявляется по месту жительства (нахождения) истц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. Иск предъявляется по месту нахождения ответчи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. Иск предъявляется в суд по соглашению сторон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. Таковой подсудности не предусмотре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дсудность подразделяется 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подсудность судов общей юрисдикции и арбитражны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подсудность Конституционного суда, судов общей юрисдикции и арбитражны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родовую и территориальну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законную, договорную и территориальну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3.Дела о расформировании избирательных комиссий муниципального образования подсудн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мировым судья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районным суда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суду субъекта РФ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электориальным орган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4. Подсудность дел строго определенному суду – э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исключительна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договорна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альтернативна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связанна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5. Дела об установлении отцовства относятся к одному из следующих видов подсуд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исключительна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договорна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альтернативна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связанна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Понятие и виды подсудности в арбитражном проце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Родовая и территориальная подсуд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ной частью компетенции арбитражных судов является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дсудность де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ститут подсудности в арбитражном процессе позволяет распределить дела, подведомственные арбитражным судам, между различными звеньями системы арбитражных суд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462600"/>
            <a:ext cx="8991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3300"/>
                </a:solidFill>
                <a:uFillTx/>
                <a:latin typeface="Arial"/>
              </a:rPr>
              <a:t>Подсудность дел арбитражному суду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 - это правило, в соответствии с которым разграничивается компетенция между арбитражными судами внутри единой системы арбитражных суд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я арбитражного процесса характерны 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два вида подсудност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  1.родов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территориаль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Виды подсуд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05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240" y="5331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33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0" lang="en-US" sz="3200" spc="-1" strike="noStrike" u="sng">
                <a:solidFill>
                  <a:srgbClr val="663300"/>
                </a:solidFill>
                <a:uFillTx/>
                <a:latin typeface="Arial"/>
              </a:rPr>
              <a:t>Родовая подсуд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разграничивает дела между арбитражными судами различного уровня. По общему правилу все споры, подведомственные арбитражному суду, разрешаются арбитражными судами субъектов РФ, за исключением споров, отнесенных к подсудности Высшего Арбитражного Суда РФ и федеральных арбитражных судов окру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судность Высшему Арбитражному Суду РФ согласно ч. 2 ст. 34 АПК РФ заключается в следующем.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сший Арбитражный Суд РФ рассматривает в качестве суда первой инстан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дела об оспаривании нормативных правовых ак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езидента РФ, Правительства РФ, федеральных органов исполнительной власти, затрагивающих права и законные интересы заявителя в сфере предпринимательской и иной эконом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дела об оспаривании ненормативных правовых ак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езидента РФ, Совета Федерации и Государственной Думы Федерального Собрания Российской Федерации, Правительства РФ, Правительственной комиссии по контролю за осуществлением иностранных инвестиций в Российской Федерации, не соответствующих закону и затрагивающих права и законные интересы заявителя в сфере предпринимательской и иной эконом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экономические споры между Российской Федераци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субъектами Российской Федерации, между субъектами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458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Федеральные арбитражные суды округов рассматривают в качестве суда первой инстан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заявления о присуждении компенсации за нарушение права на судопроизводство в разумный срок или права на исполнение судебного акта в разумный срок (ч. 3 ст. 34 АПК РФ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45820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13T18:29:54Z</dcterms:created>
  <dc:creator>Galina</dc:creator>
  <dc:description/>
  <dc:language>en-US</dc:language>
  <cp:lastModifiedBy>Customer</cp:lastModifiedBy>
  <dcterms:modified xsi:type="dcterms:W3CDTF">2022-10-08T06:25:3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