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F89-E8BF-435D-BD6B-875317D529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420-8CF8-47BA-9838-1826CA6D64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98C-FBAB-49C6-9542-F8F6EB5E4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716-24DF-4B9C-B875-8FA59C18F9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3CB-28C8-49CE-8CA0-97F959A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092-F3A3-489E-995D-2DC62210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964-3880-4E2F-AED6-5086DB33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FFB-C153-4A20-9977-5400C563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C1C-218E-4BE2-8DF2-7A68015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246-660C-4D9F-B6CC-592A4DE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E20-0587-4024-89B8-CFBA768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9D9-71A6-4839-A183-B72CCF02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DE3-7DC1-4519-87D3-4BF1DAD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563-6106-4DB5-AF48-DAEF69F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9BE-FFBA-42AB-9D72-7EBEBD1F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D2C-8950-41A5-8867-45CCC43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4F27-4188-4783-A5FF-51463B67F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11280" y="8571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Знакомство с детскими журналами «Весёлые картинки». «Мурзилка» и друг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https://encrypted-tbn0.gstatic.com/images?q=tbn:ANd9GcT-pBMgWV0qkTkQQdXDxglfB773ZabAacjBtHbyIyl2kcg9_p38KA"/>
          <p:cNvPicPr/>
          <p:nvPr/>
        </p:nvPicPr>
        <p:blipFill>
          <a:blip r:embed="rId1"/>
          <a:stretch/>
        </p:blipFill>
        <p:spPr>
          <a:xfrm>
            <a:off x="1643040" y="4714920"/>
            <a:ext cx="13050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2" descr="http://4.bp.blogspot.com/-uBdwh94zZa8/Tc1nq25JciI/AAAAAAAAAoI/4DcAf5cza_Q/s1600/image.jpg"/>
          <p:cNvPicPr/>
          <p:nvPr/>
        </p:nvPicPr>
        <p:blipFill>
          <a:blip r:embed="rId2"/>
          <a:stretch/>
        </p:blipFill>
        <p:spPr>
          <a:xfrm>
            <a:off x="6357960" y="4572000"/>
            <a:ext cx="125712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4" descr="http://20th.su/wp-content/uploads/2009/03/vk05041.jpg"/>
          <p:cNvPicPr/>
          <p:nvPr/>
        </p:nvPicPr>
        <p:blipFill>
          <a:blip r:embed="rId3"/>
          <a:stretch/>
        </p:blipFill>
        <p:spPr>
          <a:xfrm>
            <a:off x="3857760" y="4643280"/>
            <a:ext cx="137952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upload.wikimedia.org/wikipedia/ru/1/1a/Karandash.gif"/>
          <p:cNvPicPr/>
          <p:nvPr/>
        </p:nvPicPr>
        <p:blipFill>
          <a:blip r:embed="rId1"/>
          <a:stretch/>
        </p:blipFill>
        <p:spPr>
          <a:xfrm>
            <a:off x="3143160" y="1571760"/>
            <a:ext cx="2882880" cy="341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-02-05-5021ad182ca2b057ceab78c0e9ddbbbc3df5172816606f11171b7c73f3982748_6bf61bc8.mp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48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383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encrypted-tbn1.gstatic.com/images?q=tbn:ANd9GcR7osySdmgQVWicD4hmVJ6ZntRmiScQP960SClf9JBrw-t3mrxLQg"/>
          <p:cNvPicPr/>
          <p:nvPr/>
        </p:nvPicPr>
        <p:blipFill>
          <a:blip r:embed="rId1"/>
          <a:stretch/>
        </p:blipFill>
        <p:spPr>
          <a:xfrm>
            <a:off x="2749680" y="1779480"/>
            <a:ext cx="39686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611280" y="1214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Цель: познакомиться с детскими журналами «Весёлые картинки», «Мурзилка» и друг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643800" y="3786120"/>
            <a:ext cx="2241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-02-05-547dbb37ac89f5a2de7c287977147dcd7f3dfb175f7da9282bf6ecd5eb31c13b_237c2e09.mp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9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-02-05-ee9ec39a1528fe47f060a14226fa790264425ea222522c126adfe084c9f7db19_1bd6fda3.mp4" descr=""/>
          <p:cNvPicPr/>
          <p:nvPr/>
        </p:nvPicPr>
        <p:blipFill>
          <a:blip r:embed="rId1"/>
          <a:stretch/>
        </p:blipFill>
        <p:spPr>
          <a:xfrm>
            <a:off x="533520" y="907920"/>
            <a:ext cx="80769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11280" y="785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902280" y="-428760"/>
            <a:ext cx="2241720" cy="2724120"/>
          </a:xfrm>
          <a:prstGeom prst="rect">
            <a:avLst/>
          </a:prstGeom>
          <a:ln w="0">
            <a:noFill/>
          </a:ln>
        </p:spPr>
      </p:pic>
      <p:sp>
        <p:nvSpPr>
          <p:cNvPr id="60" name="Овал 5"/>
          <p:cNvSpPr/>
          <p:nvPr/>
        </p:nvSpPr>
        <p:spPr>
          <a:xfrm>
            <a:off x="2428920" y="928800"/>
            <a:ext cx="37861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Журна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714240" y="2428920"/>
            <a:ext cx="450072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иодическое из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7"/>
          <p:cNvSpPr/>
          <p:nvPr/>
        </p:nvSpPr>
        <p:spPr>
          <a:xfrm>
            <a:off x="5286240" y="2357280"/>
            <a:ext cx="371484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вое 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571680" y="3571920"/>
            <a:ext cx="3786120" cy="11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сохраняе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5000760" y="3714840"/>
            <a:ext cx="314316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ягкая обло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2143080" y="5000760"/>
            <a:ext cx="4643640" cy="11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ная ин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11280" y="785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902280" y="-428760"/>
            <a:ext cx="2241720" cy="2724120"/>
          </a:xfrm>
          <a:prstGeom prst="rect">
            <a:avLst/>
          </a:prstGeom>
          <a:ln w="0">
            <a:noFill/>
          </a:ln>
        </p:spPr>
      </p:pic>
      <p:sp>
        <p:nvSpPr>
          <p:cNvPr id="69" name="Овал 5"/>
          <p:cNvSpPr/>
          <p:nvPr/>
        </p:nvSpPr>
        <p:spPr>
          <a:xfrm>
            <a:off x="2428920" y="357120"/>
            <a:ext cx="37861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Книг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785880" y="1714680"/>
            <a:ext cx="464328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ериодическое из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5072040" y="2357280"/>
            <a:ext cx="364320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имеет продол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428760" y="3429000"/>
            <a:ext cx="442908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скается без определённых сро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000760" y="3714840"/>
            <a:ext cx="314316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ёрдая обло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642960" y="4929120"/>
            <a:ext cx="400032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е авторы и наз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4786200" y="5143680"/>
            <a:ext cx="3929040" cy="1428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ит только одну информ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5353200" y="1643040"/>
            <a:ext cx="3790800" cy="46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avatars.dzeninfra.ru/get-zen_doc/9428044/pub_6421fca5c773f77ee21e6a26_64220bad37d8c14f8565614d/scale_1200"/>
          <p:cNvPicPr/>
          <p:nvPr/>
        </p:nvPicPr>
        <p:blipFill>
          <a:blip r:embed="rId2"/>
          <a:stretch/>
        </p:blipFill>
        <p:spPr>
          <a:xfrm>
            <a:off x="1214280" y="1857240"/>
            <a:ext cx="3219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murzilka.org/upload/o%20murzilke/Kanevskii_i_murzilka.jpg"/>
          <p:cNvPicPr/>
          <p:nvPr/>
        </p:nvPicPr>
        <p:blipFill>
          <a:blip r:embed="rId1"/>
          <a:stretch/>
        </p:blipFill>
        <p:spPr>
          <a:xfrm>
            <a:off x="1042920" y="620640"/>
            <a:ext cx="3133800" cy="316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4" descr="http://www.murzilka.org/upload/o%20murzilke/novii_oblik_murzilki.jpg"/>
          <p:cNvPicPr/>
          <p:nvPr/>
        </p:nvPicPr>
        <p:blipFill>
          <a:blip r:embed="rId2"/>
          <a:stretch/>
        </p:blipFill>
        <p:spPr>
          <a:xfrm>
            <a:off x="5292720" y="541440"/>
            <a:ext cx="2735280" cy="3324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ttp://20th.su/wp-content/uploads/2009/03/vk05041.jpg"/>
          <p:cNvPicPr/>
          <p:nvPr/>
        </p:nvPicPr>
        <p:blipFill>
          <a:blip r:embed="rId1"/>
          <a:stretch/>
        </p:blipFill>
        <p:spPr>
          <a:xfrm>
            <a:off x="1000080" y="428760"/>
            <a:ext cx="1933560" cy="252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2" descr="http://www.oblojka.ru/covers/veseliekartinki_6_b.jpg"/>
          <p:cNvPicPr/>
          <p:nvPr/>
        </p:nvPicPr>
        <p:blipFill>
          <a:blip r:embed="rId2"/>
          <a:stretch/>
        </p:blipFill>
        <p:spPr>
          <a:xfrm>
            <a:off x="3500280" y="1857240"/>
            <a:ext cx="2005200" cy="2673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Picture 6" descr="http://journal.knigka.info/uploads/posts/1155193346531444.jpeg"/>
          <p:cNvPicPr/>
          <p:nvPr/>
        </p:nvPicPr>
        <p:blipFill>
          <a:blip r:embed="rId3"/>
          <a:stretch/>
        </p:blipFill>
        <p:spPr>
          <a:xfrm>
            <a:off x="6000840" y="3357720"/>
            <a:ext cx="2185920" cy="306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Picture 8" descr="http://journal.knigka.info/uploads/posts/4286763045537352.jpeg"/>
          <p:cNvPicPr/>
          <p:nvPr/>
        </p:nvPicPr>
        <p:blipFill>
          <a:blip r:embed="rId4"/>
          <a:stretch/>
        </p:blipFill>
        <p:spPr>
          <a:xfrm>
            <a:off x="6143760" y="214200"/>
            <a:ext cx="1888920" cy="253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10" descr="http://journal.knigka.info/uploads/posts/9211251398205496.jpeg"/>
          <p:cNvPicPr/>
          <p:nvPr/>
        </p:nvPicPr>
        <p:blipFill>
          <a:blip r:embed="rId5"/>
          <a:stretch/>
        </p:blipFill>
        <p:spPr>
          <a:xfrm>
            <a:off x="1000080" y="3357720"/>
            <a:ext cx="1978200" cy="27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5:49:39Z</dcterms:created>
  <dc:creator>Дмитрий</dc:creator>
  <dc:description/>
  <dc:language>en-US</dc:language>
  <cp:lastModifiedBy>all</cp:lastModifiedBy>
  <dcterms:modified xsi:type="dcterms:W3CDTF">2024-01-25T11:59:11Z</dcterms:modified>
  <cp:revision>48</cp:revision>
  <dc:subject/>
  <dc:title>Презентация PowerPoint</dc:title>
</cp:coreProperties>
</file>