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11A8-D011-4039-8C53-6CEBF9DB7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A3D-009E-4933-9B60-337DC599AD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01D-8F42-487F-A103-7FB2F72BCE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CBEB-F122-4340-A031-497136938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01F-E02B-4808-8047-77CC6128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841-AD02-480D-804C-57F3B66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863-A273-498A-9521-FD9ABE25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131-2676-4E7C-95F0-107836C8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F43-ACA3-42DD-9A17-E9D9B93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441-7B32-48AF-A31F-1AD91C1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07E-A46B-4632-A841-4C61161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0A3-1437-4A29-91C8-BE02A3A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50C-6E2F-4C80-96F1-6BB9691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1F0-6B0C-4DB3-856C-9594B045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951-E724-44C3-BA03-93B1A24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27-C572-4705-A8FE-34B2870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8C2-5520-4BA2-B0D9-158D7ADCC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11280" y="8571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Знакомство с детскими журналами «Весёлые картинки». «Мурзилка» и друг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https://encrypted-tbn0.gstatic.com/images?q=tbn:ANd9GcT-pBMgWV0qkTkQQdXDxglfB773ZabAacjBtHbyIyl2kcg9_p38KA"/>
          <p:cNvPicPr/>
          <p:nvPr/>
        </p:nvPicPr>
        <p:blipFill>
          <a:blip r:embed="rId1"/>
          <a:stretch/>
        </p:blipFill>
        <p:spPr>
          <a:xfrm>
            <a:off x="1643040" y="4714920"/>
            <a:ext cx="13050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Picture 2" descr="http://4.bp.blogspot.com/-uBdwh94zZa8/Tc1nq25JciI/AAAAAAAAAoI/4DcAf5cza_Q/s1600/image.jpg"/>
          <p:cNvPicPr/>
          <p:nvPr/>
        </p:nvPicPr>
        <p:blipFill>
          <a:blip r:embed="rId2"/>
          <a:stretch/>
        </p:blipFill>
        <p:spPr>
          <a:xfrm>
            <a:off x="6357960" y="4572000"/>
            <a:ext cx="125712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4" descr="http://20th.su/wp-content/uploads/2009/03/vk05041.jpg"/>
          <p:cNvPicPr/>
          <p:nvPr/>
        </p:nvPicPr>
        <p:blipFill>
          <a:blip r:embed="rId3"/>
          <a:stretch/>
        </p:blipFill>
        <p:spPr>
          <a:xfrm>
            <a:off x="3857760" y="4643280"/>
            <a:ext cx="137952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upload.wikimedia.org/wikipedia/ru/1/1a/Karandash.gif"/>
          <p:cNvPicPr/>
          <p:nvPr/>
        </p:nvPicPr>
        <p:blipFill>
          <a:blip r:embed="rId1"/>
          <a:stretch/>
        </p:blipFill>
        <p:spPr>
          <a:xfrm>
            <a:off x="3143160" y="1571760"/>
            <a:ext cx="2882880" cy="341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-02-05-5021ad182ca2b057ceab78c0e9ddbbbc3df5172816606f11171b7c73f3982748_6bf61bc8.mp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48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383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encrypted-tbn1.gstatic.com/images?q=tbn:ANd9GcR7osySdmgQVWicD4hmVJ6ZntRmiScQP960SClf9JBrw-t3mrxLQg"/>
          <p:cNvPicPr/>
          <p:nvPr/>
        </p:nvPicPr>
        <p:blipFill>
          <a:blip r:embed="rId1"/>
          <a:stretch/>
        </p:blipFill>
        <p:spPr>
          <a:xfrm>
            <a:off x="2749680" y="1779480"/>
            <a:ext cx="39686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611280" y="1214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Цель: познакомиться с детскими журналами «Весёлые картинки», «Мурзилка» и друг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643800" y="3786120"/>
            <a:ext cx="22413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-02-05-547dbb37ac89f5a2de7c287977147dcd7f3dfb175f7da9282bf6ecd5eb31c13b_237c2e09.mp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96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-02-05-ee9ec39a1528fe47f060a14226fa790264425ea222522c126adfe084c9f7db19_1bd6fda3.mp4" descr=""/>
          <p:cNvPicPr/>
          <p:nvPr/>
        </p:nvPicPr>
        <p:blipFill>
          <a:blip r:embed="rId1"/>
          <a:stretch/>
        </p:blipFill>
        <p:spPr>
          <a:xfrm>
            <a:off x="533520" y="907920"/>
            <a:ext cx="80769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11280" y="785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902280" y="-428760"/>
            <a:ext cx="2241720" cy="2724120"/>
          </a:xfrm>
          <a:prstGeom prst="rect">
            <a:avLst/>
          </a:prstGeom>
          <a:ln w="0">
            <a:noFill/>
          </a:ln>
        </p:spPr>
      </p:pic>
      <p:sp>
        <p:nvSpPr>
          <p:cNvPr id="60" name="Овал 5"/>
          <p:cNvSpPr/>
          <p:nvPr/>
        </p:nvSpPr>
        <p:spPr>
          <a:xfrm>
            <a:off x="2428920" y="928800"/>
            <a:ext cx="37861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Журна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714240" y="2428920"/>
            <a:ext cx="450072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иодическое из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7"/>
          <p:cNvSpPr/>
          <p:nvPr/>
        </p:nvSpPr>
        <p:spPr>
          <a:xfrm>
            <a:off x="5286240" y="2357280"/>
            <a:ext cx="371484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вое 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571680" y="3571920"/>
            <a:ext cx="3786120" cy="11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сохраняе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5000760" y="3714840"/>
            <a:ext cx="314316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ягкая обло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2143080" y="5000760"/>
            <a:ext cx="4643640" cy="11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ная ин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11280" y="7858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6902280" y="-428760"/>
            <a:ext cx="2241720" cy="2724120"/>
          </a:xfrm>
          <a:prstGeom prst="rect">
            <a:avLst/>
          </a:prstGeom>
          <a:ln w="0">
            <a:noFill/>
          </a:ln>
        </p:spPr>
      </p:pic>
      <p:sp>
        <p:nvSpPr>
          <p:cNvPr id="69" name="Овал 5"/>
          <p:cNvSpPr/>
          <p:nvPr/>
        </p:nvSpPr>
        <p:spPr>
          <a:xfrm>
            <a:off x="2428920" y="357120"/>
            <a:ext cx="37861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"/>
              </a:rPr>
              <a:t>Книг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6"/>
          <p:cNvSpPr/>
          <p:nvPr/>
        </p:nvSpPr>
        <p:spPr>
          <a:xfrm>
            <a:off x="785880" y="1714680"/>
            <a:ext cx="464328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ериодическое из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7"/>
          <p:cNvSpPr/>
          <p:nvPr/>
        </p:nvSpPr>
        <p:spPr>
          <a:xfrm>
            <a:off x="5072040" y="2357280"/>
            <a:ext cx="364320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имеет продол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8"/>
          <p:cNvSpPr/>
          <p:nvPr/>
        </p:nvSpPr>
        <p:spPr>
          <a:xfrm>
            <a:off x="428760" y="3429000"/>
            <a:ext cx="442908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скается без определённых сро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000760" y="3714840"/>
            <a:ext cx="314316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ёрдая обло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642960" y="4929120"/>
            <a:ext cx="400032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е авторы и наз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4786200" y="5143680"/>
            <a:ext cx="3929040" cy="1428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ит только одну информ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kidplay.ru/article_pg/murzilka_200.png"/>
          <p:cNvPicPr/>
          <p:nvPr/>
        </p:nvPicPr>
        <p:blipFill>
          <a:blip r:embed="rId1"/>
          <a:stretch/>
        </p:blipFill>
        <p:spPr>
          <a:xfrm>
            <a:off x="5353200" y="1643040"/>
            <a:ext cx="3790800" cy="46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avatars.dzeninfra.ru/get-zen_doc/9428044/pub_6421fca5c773f77ee21e6a26_64220bad37d8c14f8565614d/scale_1200"/>
          <p:cNvPicPr/>
          <p:nvPr/>
        </p:nvPicPr>
        <p:blipFill>
          <a:blip r:embed="rId2"/>
          <a:stretch/>
        </p:blipFill>
        <p:spPr>
          <a:xfrm>
            <a:off x="1214280" y="1857240"/>
            <a:ext cx="3219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murzilka.org/upload/o%20murzilke/Kanevskii_i_murzilka.jpg"/>
          <p:cNvPicPr/>
          <p:nvPr/>
        </p:nvPicPr>
        <p:blipFill>
          <a:blip r:embed="rId1"/>
          <a:stretch/>
        </p:blipFill>
        <p:spPr>
          <a:xfrm>
            <a:off x="1042920" y="620640"/>
            <a:ext cx="3133800" cy="316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4" descr="http://www.murzilka.org/upload/o%20murzilke/novii_oblik_murzilki.jpg"/>
          <p:cNvPicPr/>
          <p:nvPr/>
        </p:nvPicPr>
        <p:blipFill>
          <a:blip r:embed="rId2"/>
          <a:stretch/>
        </p:blipFill>
        <p:spPr>
          <a:xfrm>
            <a:off x="5292720" y="541440"/>
            <a:ext cx="2735280" cy="3324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ttp://20th.su/wp-content/uploads/2009/03/vk05041.jpg"/>
          <p:cNvPicPr/>
          <p:nvPr/>
        </p:nvPicPr>
        <p:blipFill>
          <a:blip r:embed="rId1"/>
          <a:stretch/>
        </p:blipFill>
        <p:spPr>
          <a:xfrm>
            <a:off x="1000080" y="428760"/>
            <a:ext cx="1933560" cy="252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2" descr="http://www.oblojka.ru/covers/veseliekartinki_6_b.jpg"/>
          <p:cNvPicPr/>
          <p:nvPr/>
        </p:nvPicPr>
        <p:blipFill>
          <a:blip r:embed="rId2"/>
          <a:stretch/>
        </p:blipFill>
        <p:spPr>
          <a:xfrm>
            <a:off x="3500280" y="1857240"/>
            <a:ext cx="2005200" cy="2673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Picture 6" descr="http://journal.knigka.info/uploads/posts/1155193346531444.jpeg"/>
          <p:cNvPicPr/>
          <p:nvPr/>
        </p:nvPicPr>
        <p:blipFill>
          <a:blip r:embed="rId3"/>
          <a:stretch/>
        </p:blipFill>
        <p:spPr>
          <a:xfrm>
            <a:off x="6000840" y="3357720"/>
            <a:ext cx="2185920" cy="3060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Picture 8" descr="http://journal.knigka.info/uploads/posts/4286763045537352.jpeg"/>
          <p:cNvPicPr/>
          <p:nvPr/>
        </p:nvPicPr>
        <p:blipFill>
          <a:blip r:embed="rId4"/>
          <a:stretch/>
        </p:blipFill>
        <p:spPr>
          <a:xfrm>
            <a:off x="6143760" y="214200"/>
            <a:ext cx="1888920" cy="253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10" descr="http://journal.knigka.info/uploads/posts/9211251398205496.jpeg"/>
          <p:cNvPicPr/>
          <p:nvPr/>
        </p:nvPicPr>
        <p:blipFill>
          <a:blip r:embed="rId5"/>
          <a:stretch/>
        </p:blipFill>
        <p:spPr>
          <a:xfrm>
            <a:off x="1000080" y="3357720"/>
            <a:ext cx="1978200" cy="27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5:49:39Z</dcterms:created>
  <dc:creator>Дмитрий</dc:creator>
  <dc:description/>
  <dc:language>en-US</dc:language>
  <cp:lastModifiedBy>all</cp:lastModifiedBy>
  <dcterms:modified xsi:type="dcterms:W3CDTF">2024-01-25T11:59:11Z</dcterms:modified>
  <cp:revision>48</cp:revision>
  <dc:subject/>
  <dc:title>Презентация PowerPoint</dc:title>
</cp:coreProperties>
</file>