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14B-78A8-43AE-8552-F1082162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70A-5162-4B6B-ABE5-0E8AAE51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9DC-9866-463E-BF5C-A1D77873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67C-1032-49AE-824C-A64376C5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766-1D1B-45C2-8FC7-E8FB8478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1DB-447B-4854-A2B8-8524EEF6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FC1-7F03-4B28-9642-1A598036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F02-3E1A-42F6-B839-1D431323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589-F12A-4999-9BA8-07AB8657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34C-59E8-40AA-9C36-BD6D0C6F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DE8-A7D5-496B-9F7A-B6D91FAF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FBA-6AFF-4C4D-9C69-BF2E17A3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0C8B-5D58-4FBB-9021-FD40E6FA1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37800/334eaef4a9ed4e58a07ae556a5e2364cbf2c7653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86;&#1076;&#1077;&#1082;&#1089;" TargetMode="External"/><Relationship Id="rId2" Type="http://schemas.openxmlformats.org/officeDocument/2006/relationships/hyperlink" Target="https://ru.wikipedia.org/wiki/&#1053;&#1086;&#1088;&#1084;&#1072;&#1090;&#1080;&#1074;&#1085;&#1086;-&#1087;&#1088;&#1072;&#1074;&#1086;&#1074;&#1086;&#1081;_&#1072;&#1082;&#1090;" TargetMode="External"/><Relationship Id="rId3" Type="http://schemas.openxmlformats.org/officeDocument/2006/relationships/hyperlink" Target="https://ru.wikipedia.org/wiki/&#1040;&#1088;&#1073;&#1080;&#1090;&#1088;&#1072;&#1078;&#1085;&#1099;&#1081;_&#1087;&#1088;&#1086;&#1094;&#1077;&#1089;&#1089;" TargetMode="External"/><Relationship Id="rId4" Type="http://schemas.openxmlformats.org/officeDocument/2006/relationships/hyperlink" Target="https://ru.wikipedia.org/wiki/&#1055;&#1088;&#1077;&#1076;&#1087;&#1088;&#1080;&#1085;&#1080;&#1084;&#1072;&#1090;&#1077;&#1083;&#1100;" TargetMode="External"/><Relationship Id="rId5" Type="http://schemas.openxmlformats.org/officeDocument/2006/relationships/hyperlink" Target="https://ru.wikipedia.org/wiki/&#1056;&#1086;&#1089;&#1089;&#1080;&#1081;&#1089;&#1082;&#1072;&#1103;_&#1060;&#1077;&#1076;&#1077;&#1088;&#1072;&#1094;&#1080;&#1103;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ебная дисциплина «Арбитраж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349000"/>
            <a:ext cx="792000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ятие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ЕМА: Общие положения арбитражного процессуального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96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прос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1817640"/>
            <a:ext cx="69832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рбитражный проц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это установленная нормами арбитражного процессуального права форма деятельности арбитражных судов, направленная на защиту оспариваемого или нарушенного права организаций, государственных органов и граждан-предпринимателей, а в случаях, предусмотренных законом, и граждан, и представляющая собой определенную последовательность процессуальных действий арбитражного суда и иных участников арбитражного судопроизводства при рассмотрении конкретного д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Признаки арбитражного процесс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им из его субъектов обязательно является арбитражный су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йствия, которые совершаются судом и участниками процесса, суть юридические, арбитражные процессуальные действ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метом, объектом арбитражного процесса являются дела, подведомственные арбитражным суд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тадия арбитражного проце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пределенная логически завершенная его часть, состоящая из взаимосвязанной системы процессуальных действий, направленных на достижение конкретной процессуальной цел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рбитражный процесс состоит из шести стад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производство в арбитражном суде первой инстанции (включающее возбуждение дела, подготовку дела к судебному разбирательству и судебное разбирательство с вынесением решения либо заключительного определ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апелляционное производ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кассационное производ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производство по пересмотру постановлений арбитражного суда в порядке надз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производство по пересмотру постановлений арбитражного суда по новым и вновь открывшимся обстоятельств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исполнительное производство. Поскольку этапы, или стадии арбитражного процесса (за исключением производства в арбитражном суде первой инстанции) чередуются не всегда последовательно, их иногда называют цик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69780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бщие задачи всех арбитражных судов закреплены в ст. 2 АПК РФ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защита нарушенных или оспариваемых прав и законных интересов лиц, осуществляющих предпринимательскую и иную экономическую деятельность, а также прав и законных интересов Российской Федерации, субъектов Российской Федерации, муниципальных образований в сфере предпринимательской и иной экономической деятельности, органов государственной власти Российской Федерации, органов государственной власти субъектов Российской Федерации, органов местного самоуправления, иных органов, должностных лиц в указанной сфе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обеспечение доступности правосудия в сфере предпринимательской и иной экономическ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справедливое публичное судебное разбирательство в разумный срок независимым и беспристрастным суд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укрепление законности и предупреждение правонарушений в сфере предпринимательской и иной экономическ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формирование уважительного отношения к закону и суд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содействие становлению и развитию партнерских деловых отношений, формированию обычаев и этики делового обор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прос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титу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ей является процессуальным средством обеспечения объективного и беспристрастного рассмотрения судом дела, вынесения по нему законного и обоснованного судебного постановления. Это способствует повышению авторитета судебной власти, защите прав и охраняемых законом интересов граждан и юридических 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Арбитражное процессуальное право: понятие, предмет, методы, исто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онятие, предмет, принципы  и стадии арбитражного процесса. Задачи судопроизводства в арбитражных су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снования для отвода участников арбитраж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Компетенция арбитражных с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гласно ст. 21 АПК судья не может участвовать в рассмотрении дела и подлежит отводу, если он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при предыдущем рассмотрении данного дела участвовал в нем в качестве судьи и его повторное участие в рассмотрении дела в соответствии с требованиями АПК является недопустим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при предыдущем рассмотрении данного дела участвовал в нем в качестве прокурора, помощника судьи, секретаря судебного заседания, представителя, эксперта, переводчика или свиде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при предыдущем рассмотрении данного дела участвовал в нем в качестве судьи иностранного суда, третейского суда или арбитраж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является родственником лица, участвующего в деле, или его представ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лично, прямо или косвенно заинтересован в исходе дела либо имеются иные обстоятельства, которые могут вызвать со мнение в его беспристра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находится или ранее находился в служебной или иной зависимости от лица, участвующего в деле, или его представ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 делал публичные заявления или давал оценку по существу рассматриваемо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прос 4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битражный суд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остоянно действующий орган государственной власти, осуществляющий правосудие в сфере предпринимательской и иной экономическ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ПК РФ: Глава 4. КОМПЕТЕНЦИЯ АРБИТРАЖНЫХ СУД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атья 27. Споры, относящиеся к компетенции арбитражных су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28. Компетенция арбитражных судов по экономическим спорам и иным делам, возникающим из гражданских право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29. Компетенция арбитражных судов по экономическим спорам и другим делам, возникающим из административных и иных публичных право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0. Компетенция арбитражных судов по делам об установлении фактов, имеющих юридическое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1. Компетенция арбитражных судов по делам, связанным с выполнением арбитражными судами функций содействия и контроля в отношении третейских су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2. Компетенция арбитражных судов по делам о признании и приведении в исполнение решений иностранных судов и иностранных арбитражных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3. Споры, подлежащие передаче на рассмотрение третейского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4. Подсудность дел арбитражным суд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5. Предъявление иска по адресу или месту жительства ответ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6. Подсудность по выбору ист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7. Договорная подсуд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8. Исключительная подсуд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тья 39. Передача дела, принятого арбитражным судом к своему производству, из одного суда в другой с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прос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битражный процесс и арбитражное процессуальное право: понятие, предмет, методы,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рбитражное процессуальное пра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юридических норм, регулирующих деятельность арбитражного суда и других заинтересованных субъектов, связанных с осуществлением правосудия по делам, отнесенным к ведению арбитражных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 арбитражного процессуального пр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- это юридические процессуальные действия суда и заинтересованных лиц при осуществлении правосудия по делам, отнесенным к ведению арбитражных судов, т.е. арбитражный проц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битражный процессуальный мет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авового регулирования сочетает в себе элементы императивного (властных предписаний) характера с диспозитивным (дозволительным) нач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мперативные начала метода арбитражного процессуального прав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уальные нормы обеспечивают главенствующее положение арбитражного суда как органа судебной в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ачестве основных юридических фактов выступают властные процессуальные действия арбитражного с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битражное   процессуальное право обеспечивает арбитражному суду право контроля за отдельными действиями сторон, а также наделяет арбитражный суд полномочиями по руководству процесс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битражный процесс основывается на строго определенном процессуальном порядке осуществления правосудия - арбитражной процессуаль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спозитивные начала метода арбитражного процессуального прав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енство сторон арбитражного процесса в тех возможностях, которые предоставлены им для защиты своих прав и интере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бода пользования этими правами, поскольку субъекты арбитражного процессуального права вправе осуществлять либо не осуществлять свои пра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системы гарантий прав субъектов арбитражного процесса (арбитражное процессуальное право защищает интересы истца в смысле процессуальных гарантий так же, как и интересы ответч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чник арбитражного процессуального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битражный процессуальный кодекс Российской Федер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АПК РФ) —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дифицированны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ормативно-правовой ак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являющийся основным источником, регулирующим ведение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рбитражного судопроизводств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то есть по делам, связанным с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редпринимательско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 деятельностью в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Российской Федераци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Арбитражный процес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60436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29T19:02:55Z</dcterms:created>
  <dc:creator>Customer</dc:creator>
  <dc:description/>
  <dc:language>en-US</dc:language>
  <cp:lastModifiedBy>Customer</cp:lastModifiedBy>
  <dcterms:modified xsi:type="dcterms:W3CDTF">2022-08-29T19:26:30Z</dcterms:modified>
  <cp:revision>2</cp:revision>
  <dc:subject/>
  <dc:title>Учебная дисциплина «Арбитражный процесс»</dc:title>
</cp:coreProperties>
</file>