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749-CFDF-42DC-A94A-3160042A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B23-9978-409C-826F-0D92D2F4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3ED-1BB3-4B97-B73F-B6F45A8A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ED9-E36C-4226-9755-FA479343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88A-DAFD-4BE9-B471-6538F8A6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DCD-A96C-4EDB-A91C-41CECBDB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B59-5D3D-42F8-AB54-B3A032E4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FE0-B2A6-469D-9223-5F5E3B4C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9AF-DA9A-4662-95D0-1BBF569E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8A5-5D52-4777-A5BD-51E053CA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1AA-E799-40C0-AF5C-44B6F354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7A2-C159-4928-845A-05FFD88F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6B7B-0933-4522-A2D9-A5B0193ABE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fs02.vseosvita.ua/0200e6bd-e7c4/00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6708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206360" y="2139840"/>
            <a:ext cx="6658200" cy="190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714640" y="4508640"/>
            <a:ext cx="30258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ил воспитатель: Бычкова Г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85840" y="787680"/>
            <a:ext cx="857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РАЗВИТИЯ РЕБЕНКА - ДЕТСКИЙ САД № 12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ОРОДА МАГНИТОГО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ОХЛ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530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Хохлома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– старинный народный промысел, зародившийся в округе Нижнего Новгорода. Хохлома представляет собой декоративную роспись деревянной посуды и мебели, выполненную чёрным и красным цветом по золотистому фону. Для хохломской росписи характерен растительный орнамент: цветы, листья и я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1244196701_001"/>
          <p:cNvPicPr/>
          <p:nvPr/>
        </p:nvPicPr>
        <p:blipFill>
          <a:blip r:embed="rId1"/>
          <a:stretch/>
        </p:blipFill>
        <p:spPr>
          <a:xfrm>
            <a:off x="755640" y="155736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image_4cdc49ba9bf0c"/>
          <p:cNvPicPr/>
          <p:nvPr/>
        </p:nvPicPr>
        <p:blipFill>
          <a:blip r:embed="rId2"/>
          <a:stretch/>
        </p:blipFill>
        <p:spPr>
          <a:xfrm>
            <a:off x="4859280" y="1844640"/>
            <a:ext cx="3838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Ж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51577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ж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аринный народный промысел. Первые гжельские мастера обжигали керамическую посуду в печах и называли её «жгель» или «гжель». Посуду покрывали белой эмалью и расписывали в синих тонах. Позже стали расписывать фарфоровые изделия, используя для этого синий кобаль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1315315291_050"/>
          <p:cNvPicPr/>
          <p:nvPr/>
        </p:nvPicPr>
        <p:blipFill>
          <a:blip r:embed="rId1"/>
          <a:stretch/>
        </p:blipFill>
        <p:spPr>
          <a:xfrm>
            <a:off x="1692360" y="1557360"/>
            <a:ext cx="568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РЁ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51577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рё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русская деревянная игрушка, состоящая из нескольких разрисованных кукол, вложенных одна в другую. Каждая кукла, кроме последней, раскладывается на две части. Существует несколько традиций росписи матрёш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4625086_1285705884_matreshka3pg"/>
          <p:cNvPicPr/>
          <p:nvPr/>
        </p:nvPicPr>
        <p:blipFill>
          <a:blip r:embed="rId1"/>
          <a:stretch/>
        </p:blipFill>
        <p:spPr>
          <a:xfrm>
            <a:off x="1376280" y="1628640"/>
            <a:ext cx="6391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ОРОДЕЦКАЯ РОС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ецкая роспись – русский народный промысел, зародившийся в районе города Городец. В городецкой росписи часто используются образ коня, который является символом богатства, и образ птицы – символ счаст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0_5a221_54b7203b_XL"/>
          <p:cNvPicPr/>
          <p:nvPr/>
        </p:nvPicPr>
        <p:blipFill>
          <a:blip r:embed="rId1"/>
          <a:stretch/>
        </p:blipFill>
        <p:spPr>
          <a:xfrm>
            <a:off x="468360" y="1557360"/>
            <a:ext cx="3630600" cy="3959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e0f9e5efc802"/>
          <p:cNvPicPr/>
          <p:nvPr/>
        </p:nvPicPr>
        <p:blipFill>
          <a:blip r:embed="rId2"/>
          <a:stretch/>
        </p:blipFill>
        <p:spPr>
          <a:xfrm>
            <a:off x="4284720" y="1773360"/>
            <a:ext cx="4392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ЫМКОВСКА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652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ымковская игру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русский народный промысел, который зародился в слободе Дымково, около города Вятка. Дымковские игрушки делаются из глины. В основном это барыни, скоморохи, нарядные индюки и петухи. Для росписи мастера используют яркие краски, узорами служат простые геометрические фиг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90318876_large_0003003CHemznamenitoDymkovo"/>
          <p:cNvPicPr/>
          <p:nvPr/>
        </p:nvPicPr>
        <p:blipFill>
          <a:blip r:embed="rId1"/>
          <a:stretch/>
        </p:blipFill>
        <p:spPr>
          <a:xfrm>
            <a:off x="539640" y="1557360"/>
            <a:ext cx="2579760" cy="30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imka"/>
          <p:cNvPicPr/>
          <p:nvPr/>
        </p:nvPicPr>
        <p:blipFill>
          <a:blip r:embed="rId2"/>
          <a:stretch/>
        </p:blipFill>
        <p:spPr>
          <a:xfrm>
            <a:off x="6588000" y="1413000"/>
            <a:ext cx="1582920" cy="32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58478016_duym18"/>
          <p:cNvPicPr/>
          <p:nvPr/>
        </p:nvPicPr>
        <p:blipFill>
          <a:blip r:embed="rId3"/>
          <a:stretch/>
        </p:blipFill>
        <p:spPr>
          <a:xfrm>
            <a:off x="2916360" y="2133720"/>
            <a:ext cx="316836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ЛИМОНОВСКАЯ ИГРУ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522936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лимоновская игру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русская народная глиняная игрушка, которая изготавливалась в деревне Филимоново Тульской области. Главное в ней – свист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barina_filimonovskaj_enl"/>
          <p:cNvPicPr/>
          <p:nvPr/>
        </p:nvPicPr>
        <p:blipFill>
          <a:blip r:embed="rId1"/>
          <a:stretch/>
        </p:blipFill>
        <p:spPr>
          <a:xfrm>
            <a:off x="755640" y="1557360"/>
            <a:ext cx="2806560" cy="36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vsadnik_filimonovskaj_enl"/>
          <p:cNvPicPr/>
          <p:nvPr/>
        </p:nvPicPr>
        <p:blipFill>
          <a:blip r:embed="rId2"/>
          <a:stretch/>
        </p:blipFill>
        <p:spPr>
          <a:xfrm>
            <a:off x="5867280" y="1484280"/>
            <a:ext cx="2627280" cy="381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ilimonov_gus"/>
          <p:cNvPicPr/>
          <p:nvPr/>
        </p:nvPicPr>
        <p:blipFill>
          <a:blip r:embed="rId3"/>
          <a:stretch/>
        </p:blipFill>
        <p:spPr>
          <a:xfrm>
            <a:off x="3851280" y="2276640"/>
            <a:ext cx="1562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ГОРОДСКА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508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городская игру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народный промысел, который возник в селе Богородское около Сергиева Посада. Богородские мастера вырезают из дерева игрушки, которые приходят в движение при помощи веревочек, планок, пружинок. Символом этого промысла  считается игрушка «Мужик и медвед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kuzn_med_krash_b01_2"/>
          <p:cNvPicPr/>
          <p:nvPr/>
        </p:nvPicPr>
        <p:blipFill>
          <a:blip r:embed="rId1"/>
          <a:stretch/>
        </p:blipFill>
        <p:spPr>
          <a:xfrm>
            <a:off x="2124000" y="1484280"/>
            <a:ext cx="49197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ПОГОЛЬСКА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501336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погольская игру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русский художественный промысел, который был распространен в районе города Каргополя Архангельской области. В росписи современной игрушки сохранилась традиционная символика: круг и крест в различных сочетаниях как солярные знаки (символы солнца), знаки земли, огня, воды, засеянного поля, урожая, плодород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1261323156_4"/>
          <p:cNvPicPr/>
          <p:nvPr/>
        </p:nvPicPr>
        <p:blipFill>
          <a:blip r:embed="rId1"/>
          <a:stretch/>
        </p:blipFill>
        <p:spPr>
          <a:xfrm>
            <a:off x="3203640" y="2060640"/>
            <a:ext cx="2381040" cy="2562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261323202_2"/>
          <p:cNvPicPr/>
          <p:nvPr/>
        </p:nvPicPr>
        <p:blipFill>
          <a:blip r:embed="rId2"/>
          <a:stretch/>
        </p:blipFill>
        <p:spPr>
          <a:xfrm>
            <a:off x="611280" y="2060640"/>
            <a:ext cx="1820880" cy="251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261323247_3"/>
          <p:cNvPicPr/>
          <p:nvPr/>
        </p:nvPicPr>
        <p:blipFill>
          <a:blip r:embed="rId3"/>
          <a:stretch/>
        </p:blipFill>
        <p:spPr>
          <a:xfrm>
            <a:off x="5867280" y="2060640"/>
            <a:ext cx="259236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17:28:33Z</dcterms:created>
  <dc:creator>User</dc:creator>
  <dc:description/>
  <dc:language>en-US</dc:language>
  <cp:lastModifiedBy>г</cp:lastModifiedBy>
  <dcterms:modified xsi:type="dcterms:W3CDTF">2024-01-25T14:18:26Z</dcterms:modified>
  <cp:revision>14</cp:revision>
  <dc:subject/>
  <dc:title>Слайд 1</dc:title>
</cp:coreProperties>
</file>