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4C91E-FE8C-4B96-9093-89FEB3244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CB51B-5656-4CFF-B530-F34F8F6B1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22735-F9F2-4C59-9A32-7BCF41B47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EB373-E813-4E57-86F3-49B62FDED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BE74C-1383-45E7-99C0-599544D17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720BE-FE50-49F0-A1A8-7EF327E5B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7C919-AB99-488A-96A3-758E04F7B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24F7A-BBD9-4460-A3CE-CE29A1EA3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420AF-F4C2-4D97-9878-CB023BFB7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47815-A218-4BBE-A8BC-C3E214468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916AA-ED0E-4AB7-A774-F1F47BD91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0D2A1-6FC7-4807-9BCE-659703754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16AAC-DDC1-49BC-B7EF-D09A8B16B27D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https://fs02.vseosvita.ua/0200e6bd-e7c4/009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670800"/>
          </a:xfrm>
          <a:prstGeom prst="rect">
            <a:avLst/>
          </a:prstGeom>
          <a:ln w="0">
            <a:noFill/>
          </a:ln>
        </p:spPr>
      </p:pic>
      <p:pic>
        <p:nvPicPr>
          <p:cNvPr id="42" name="Заголовок 1" descr=""/>
          <p:cNvPicPr/>
          <p:nvPr/>
        </p:nvPicPr>
        <p:blipFill>
          <a:blip r:embed="rId2"/>
          <a:stretch/>
        </p:blipFill>
        <p:spPr>
          <a:xfrm>
            <a:off x="1206360" y="2139840"/>
            <a:ext cx="6658200" cy="190188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5714640" y="4508640"/>
            <a:ext cx="3025800" cy="117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Calibri"/>
              </a:rPr>
              <a:t>                                                   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одготовил воспитатель: Бычкова Г.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5"/>
          <p:cNvSpPr/>
          <p:nvPr/>
        </p:nvSpPr>
        <p:spPr>
          <a:xfrm>
            <a:off x="285840" y="787680"/>
            <a:ext cx="8572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МУНИЦИПАЛЬНОЕ ДОШКОЛЬНОЕ ОБРАЗОВАТЕЛЬНОЕ УЧРЕЖД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«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ЦЕНТР РАЗВИТИЯ РЕБЕНКА - ДЕТСКИЙ САД № 122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»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 ГОРОДА МАГНИТОГОРС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ХОХЛОМ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395280" y="5300640"/>
            <a:ext cx="8229600" cy="11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4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497d"/>
                </a:solidFill>
                <a:latin typeface="Times New Roman"/>
              </a:rPr>
              <a:t>Хохлома </a:t>
            </a:r>
            <a:r>
              <a:rPr b="0" lang="ru-RU" sz="1800" spc="-1" strike="noStrike">
                <a:solidFill>
                  <a:srgbClr val="1f497d"/>
                </a:solidFill>
                <a:latin typeface="Times New Roman"/>
              </a:rPr>
              <a:t>– старинный народный промысел, зародившийся в округе Нижнего Новгорода. Хохлома представляет собой декоративную роспись деревянной посуды и мебели, выполненную чёрным и красным цветом по золотистому фону. Для хохломской росписи характерен растительный орнамент: цветы, листья и ягоды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6" descr="1244196701_001"/>
          <p:cNvPicPr/>
          <p:nvPr/>
        </p:nvPicPr>
        <p:blipFill>
          <a:blip r:embed="rId1"/>
          <a:stretch/>
        </p:blipFill>
        <p:spPr>
          <a:xfrm>
            <a:off x="755640" y="1557360"/>
            <a:ext cx="4176720" cy="3456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7" descr="image_4cdc49ba9bf0c"/>
          <p:cNvPicPr/>
          <p:nvPr/>
        </p:nvPicPr>
        <p:blipFill>
          <a:blip r:embed="rId2"/>
          <a:stretch/>
        </p:blipFill>
        <p:spPr>
          <a:xfrm>
            <a:off x="4859280" y="1844640"/>
            <a:ext cx="383868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ГЖЕЛ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68360" y="5157720"/>
            <a:ext cx="8229600" cy="12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Гжель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– старинный народный промысел. Первые гжельские мастера обжигали керамическую посуду в печах и называли её «жгель» или «гжель». Посуду покрывали белой эмалью и расписывали в синих тонах. Позже стали расписывать фарфоровые изделия, используя для этого синий кобальт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4" descr="1315315291_050"/>
          <p:cNvPicPr/>
          <p:nvPr/>
        </p:nvPicPr>
        <p:blipFill>
          <a:blip r:embed="rId1"/>
          <a:stretch/>
        </p:blipFill>
        <p:spPr>
          <a:xfrm>
            <a:off x="1692360" y="1557360"/>
            <a:ext cx="568800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МАТРЁШ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68360" y="5157720"/>
            <a:ext cx="8229600" cy="12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атрёшк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– русская деревянная игрушка, состоящая из нескольких разрисованных кукол, вложенных одна в другую. Каждая кукла, кроме последней, раскладывается на две части. Существует несколько традиций росписи матрёшек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4" descr="64625086_1285705884_matreshka3pg"/>
          <p:cNvPicPr/>
          <p:nvPr/>
        </p:nvPicPr>
        <p:blipFill>
          <a:blip r:embed="rId1"/>
          <a:stretch/>
        </p:blipFill>
        <p:spPr>
          <a:xfrm>
            <a:off x="1376280" y="1628640"/>
            <a:ext cx="639144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ГОРОДЕЦКАЯ РОСПИС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539640" y="551664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Городецкая роспись – русский народный промысел, зародившийся в районе города Городец. В городецкой росписи часто используются образ коня, который является символом богатства, и образ птицы – символ счасть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4" descr="0_5a221_54b7203b_XL"/>
          <p:cNvPicPr/>
          <p:nvPr/>
        </p:nvPicPr>
        <p:blipFill>
          <a:blip r:embed="rId1"/>
          <a:stretch/>
        </p:blipFill>
        <p:spPr>
          <a:xfrm>
            <a:off x="468360" y="1557360"/>
            <a:ext cx="3630600" cy="39592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5" descr="e0f9e5efc802"/>
          <p:cNvPicPr/>
          <p:nvPr/>
        </p:nvPicPr>
        <p:blipFill>
          <a:blip r:embed="rId2"/>
          <a:stretch/>
        </p:blipFill>
        <p:spPr>
          <a:xfrm>
            <a:off x="4284720" y="1773360"/>
            <a:ext cx="4392720" cy="35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ДЫМКОВСКАЯ ИГРУШ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465264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Дымковская игрушк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– русский народный промысел, который зародился в слободе Дымково, около города Вятка. Дымковские игрушки делаются из глины. В основном это барыни, скоморохи, нарядные индюки и петухи. Для росписи мастера используют яркие краски, узорами служат простые геометрические фигуры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4" descr="90318876_large_0003003CHemznamenitoDymkovo"/>
          <p:cNvPicPr/>
          <p:nvPr/>
        </p:nvPicPr>
        <p:blipFill>
          <a:blip r:embed="rId1"/>
          <a:stretch/>
        </p:blipFill>
        <p:spPr>
          <a:xfrm>
            <a:off x="539640" y="1557360"/>
            <a:ext cx="2579760" cy="30956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5" descr="Dimka"/>
          <p:cNvPicPr/>
          <p:nvPr/>
        </p:nvPicPr>
        <p:blipFill>
          <a:blip r:embed="rId2"/>
          <a:stretch/>
        </p:blipFill>
        <p:spPr>
          <a:xfrm>
            <a:off x="6588000" y="1413000"/>
            <a:ext cx="1582920" cy="3240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6" descr="58478016_duym18"/>
          <p:cNvPicPr/>
          <p:nvPr/>
        </p:nvPicPr>
        <p:blipFill>
          <a:blip r:embed="rId3"/>
          <a:stretch/>
        </p:blipFill>
        <p:spPr>
          <a:xfrm>
            <a:off x="2916360" y="2133720"/>
            <a:ext cx="3168360" cy="21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ФИЛИМОНОВСКАЯ ИГРУШК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395280" y="5229360"/>
            <a:ext cx="8229600" cy="114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Филимоновская игрушк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– это русская народная глиняная игрушка, которая изготавливалась в деревне Филимоново Тульской области. Главное в ней – свисток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4" descr="barina_filimonovskaj_enl"/>
          <p:cNvPicPr/>
          <p:nvPr/>
        </p:nvPicPr>
        <p:blipFill>
          <a:blip r:embed="rId1"/>
          <a:stretch/>
        </p:blipFill>
        <p:spPr>
          <a:xfrm>
            <a:off x="755640" y="1557360"/>
            <a:ext cx="2806560" cy="3672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" descr="vsadnik_filimonovskaj_enl"/>
          <p:cNvPicPr/>
          <p:nvPr/>
        </p:nvPicPr>
        <p:blipFill>
          <a:blip r:embed="rId2"/>
          <a:stretch/>
        </p:blipFill>
        <p:spPr>
          <a:xfrm>
            <a:off x="5867280" y="1484280"/>
            <a:ext cx="2627280" cy="38163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6" descr="filimonov_gus"/>
          <p:cNvPicPr/>
          <p:nvPr/>
        </p:nvPicPr>
        <p:blipFill>
          <a:blip r:embed="rId3"/>
          <a:stretch/>
        </p:blipFill>
        <p:spPr>
          <a:xfrm>
            <a:off x="3851280" y="2276640"/>
            <a:ext cx="156204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БОГОРОДСКАЯ ИГРУШ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539640" y="5084280"/>
            <a:ext cx="822960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Богородская игрушк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– это народный промысел, который возник в селе Богородское около Сергиева Посада. Богородские мастера вырезают из дерева игрушки, которые приходят в движение при помощи веревочек, планок, пружинок. Символом этого промысла  считается игрушка «Мужик и медведь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4" descr="kuzn_med_krash_b01_2"/>
          <p:cNvPicPr/>
          <p:nvPr/>
        </p:nvPicPr>
        <p:blipFill>
          <a:blip r:embed="rId1"/>
          <a:stretch/>
        </p:blipFill>
        <p:spPr>
          <a:xfrm>
            <a:off x="2124000" y="1484280"/>
            <a:ext cx="4919760" cy="36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КАРПОГОЛЬСКАЯ ИГРУШ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68360" y="5013360"/>
            <a:ext cx="8229600" cy="144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арпогольская игрушк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- русский художественный промысел, который был распространен в районе города Каргополя Архангельской области. В росписи современной игрушки сохранилась традиционная символика: круг и крест в различных сочетаниях как солярные знаки (символы солнца), знаки земли, огня, воды, засеянного поля, урожая, плодороди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5" descr="1261323156_4"/>
          <p:cNvPicPr/>
          <p:nvPr/>
        </p:nvPicPr>
        <p:blipFill>
          <a:blip r:embed="rId1"/>
          <a:stretch/>
        </p:blipFill>
        <p:spPr>
          <a:xfrm>
            <a:off x="3203640" y="2060640"/>
            <a:ext cx="2381040" cy="25621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6" descr="1261323202_2"/>
          <p:cNvPicPr/>
          <p:nvPr/>
        </p:nvPicPr>
        <p:blipFill>
          <a:blip r:embed="rId2"/>
          <a:stretch/>
        </p:blipFill>
        <p:spPr>
          <a:xfrm>
            <a:off x="611280" y="2060640"/>
            <a:ext cx="1820880" cy="25192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8" descr="1261323247_3"/>
          <p:cNvPicPr/>
          <p:nvPr/>
        </p:nvPicPr>
        <p:blipFill>
          <a:blip r:embed="rId3"/>
          <a:stretch/>
        </p:blipFill>
        <p:spPr>
          <a:xfrm>
            <a:off x="5867280" y="2060640"/>
            <a:ext cx="2592360" cy="25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1T17:28:33Z</dcterms:created>
  <dc:creator>User</dc:creator>
  <dc:description/>
  <dc:language>en-US</dc:language>
  <cp:lastModifiedBy>г</cp:lastModifiedBy>
  <dcterms:modified xsi:type="dcterms:W3CDTF">2024-01-25T14:18:26Z</dcterms:modified>
  <cp:revision>14</cp:revision>
  <dc:subject/>
  <dc:title>Слайд 1</dc:title>
</cp:coreProperties>
</file>