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gif" ContentType="image/gif"/>
  <Override PartName="/ppt/media/image9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9E27-835E-4CC7-9C08-65109680D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63D5-F71A-4DBB-8BCA-6B6939919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F54-877E-4DD2-8ABA-FD55E8A6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4AD-5B6A-434E-B495-EF6FF34F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14B-68CC-4A96-9F75-AD18279B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D4A-EB77-48FB-AB6B-4BCCB1F4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ED0-DAF5-4243-ABB1-900A78BC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11D-669E-4427-B895-C2631A28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1AB-45CE-4306-B7A2-4292C87A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3A7-063A-48DF-8067-2979695D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F6A-F3C1-4F43-A591-0EB8F7A8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D2A-A966-48A8-A0FC-A2DC0B54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42B-3527-4944-916E-9B003045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B02-C1ED-4339-889D-BEDD129E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7E65-B4C6-4407-BD9C-4DE634C242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0b9afdb1-b2af-5c85-bc54-44cfd28db2aa.jpg"/>
          <p:cNvPicPr/>
          <p:nvPr/>
        </p:nvPicPr>
        <p:blipFill>
          <a:blip r:embed="rId1"/>
          <a:stretch/>
        </p:blipFill>
        <p:spPr>
          <a:xfrm>
            <a:off x="1500120" y="128592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174680" y="785880"/>
            <a:ext cx="67946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400 : 10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340 : 1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46:1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  727: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3456 : 100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7000 :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1174680" y="785880"/>
            <a:ext cx="67946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400 : 10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46: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340 : 1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727: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7000 : 1000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3456 :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8"/>
          <p:cNvSpPr/>
          <p:nvPr/>
        </p:nvSpPr>
        <p:spPr>
          <a:xfrm>
            <a:off x="1428840" y="971640"/>
            <a:ext cx="35938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86:10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709560" y="2092320"/>
            <a:ext cx="521964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80:10=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709560" y="3102120"/>
            <a:ext cx="5291280" cy="90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2) 86-80=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4"/>
          <p:cNvSpPr/>
          <p:nvPr/>
        </p:nvSpPr>
        <p:spPr>
          <a:xfrm>
            <a:off x="3071880" y="76320"/>
            <a:ext cx="58435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8 - частное, 6 - оста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6"/>
          <p:cNvSpPr/>
          <p:nvPr/>
        </p:nvSpPr>
        <p:spPr>
          <a:xfrm>
            <a:off x="4143240" y="971640"/>
            <a:ext cx="31878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8 (ост. 6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7"/>
          <p:cNvSpPr/>
          <p:nvPr/>
        </p:nvSpPr>
        <p:spPr>
          <a:xfrm>
            <a:off x="3978360" y="4070520"/>
            <a:ext cx="330840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Times New Roman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8"/>
          <p:cNvSpPr/>
          <p:nvPr/>
        </p:nvSpPr>
        <p:spPr>
          <a:xfrm>
            <a:off x="851040" y="4789440"/>
            <a:ext cx="357804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) 8х10=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9"/>
          <p:cNvSpPr/>
          <p:nvPr/>
        </p:nvSpPr>
        <p:spPr>
          <a:xfrm>
            <a:off x="851040" y="5403960"/>
            <a:ext cx="350676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) 80+6=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0"/>
          <p:cNvSpPr/>
          <p:nvPr/>
        </p:nvSpPr>
        <p:spPr>
          <a:xfrm>
            <a:off x="3978360" y="6043680"/>
            <a:ext cx="208908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6=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8"/>
          <p:cNvSpPr/>
          <p:nvPr/>
        </p:nvSpPr>
        <p:spPr>
          <a:xfrm>
            <a:off x="1143000" y="971640"/>
            <a:ext cx="3879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356:100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709560" y="2092320"/>
            <a:ext cx="500544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300:100=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709560" y="3102120"/>
            <a:ext cx="5005440" cy="90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2) 356-300=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3571920" y="76320"/>
            <a:ext cx="550224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3 - частное, 56 - оста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5022720" y="971640"/>
            <a:ext cx="34783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3 (ост. 56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7"/>
          <p:cNvSpPr/>
          <p:nvPr/>
        </p:nvSpPr>
        <p:spPr>
          <a:xfrm>
            <a:off x="3978360" y="4070520"/>
            <a:ext cx="34513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Times New Roman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8"/>
          <p:cNvSpPr/>
          <p:nvPr/>
        </p:nvSpPr>
        <p:spPr>
          <a:xfrm>
            <a:off x="851040" y="4789440"/>
            <a:ext cx="386388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) 3х100=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9"/>
          <p:cNvSpPr/>
          <p:nvPr/>
        </p:nvSpPr>
        <p:spPr>
          <a:xfrm>
            <a:off x="851040" y="5403960"/>
            <a:ext cx="386388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) 300+56=3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3978360" y="6043680"/>
            <a:ext cx="28796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56=3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785760" y="2571480"/>
            <a:ext cx="398628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Стр. 27 № 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4" descr="matematika-4-klass-uchebnik-chast-2.jpg"/>
          <p:cNvPicPr/>
          <p:nvPr/>
        </p:nvPicPr>
        <p:blipFill>
          <a:blip r:embed="rId1"/>
          <a:srcRect l="25441" t="17247" r="25441" b="17247"/>
          <a:stretch/>
        </p:blipFill>
        <p:spPr>
          <a:xfrm>
            <a:off x="928800" y="2143080"/>
            <a:ext cx="2428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Работа в пара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95 : 10 = 5(ост.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25 :10 =12(ост.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254 : 100 = 2(ост.5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847 : 1000 = 18(ост.4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Работа в пара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95 : 10 = </a:t>
            </a: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9(ост.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25 :10 =12(ост.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254 : 100 = 2(ост.5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1847 : 1000 = </a:t>
            </a: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1(ост.84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071720" y="428760"/>
          <a:ext cx="6858000" cy="496080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786040"/>
              </a:tblGrid>
              <a:tr h="1147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3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Box 2"/>
          <p:cNvSpPr/>
          <p:nvPr/>
        </p:nvSpPr>
        <p:spPr>
          <a:xfrm>
            <a:off x="1214280" y="379440"/>
            <a:ext cx="2281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корость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Rockwell"/>
              </a:rPr>
              <a:t>      </a:t>
            </a: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3143160" y="379440"/>
            <a:ext cx="2000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Rockwel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286240" y="379440"/>
            <a:ext cx="2428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143000" y="2571840"/>
            <a:ext cx="13572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214280" y="3429000"/>
            <a:ext cx="121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3429000" y="257184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3429000" y="328608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1214280" y="1785960"/>
            <a:ext cx="17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1214280" y="2857680"/>
            <a:ext cx="21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3214800" y="178596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3214800" y="328608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ед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5214960" y="178596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521496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1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A9CE-B092-4B5F-B39A-063D708E34E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"/>
          <p:cNvSpPr/>
          <p:nvPr/>
        </p:nvSpPr>
        <p:spPr>
          <a:xfrm>
            <a:off x="596880" y="1147680"/>
            <a:ext cx="68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ыжник прошёл дистанцию 24 км за три часа. С какой скоростью он шё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2276640" y="324000"/>
            <a:ext cx="36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а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6" descr=""/>
          <p:cNvPicPr/>
          <p:nvPr/>
        </p:nvPicPr>
        <p:blipFill>
          <a:blip r:embed="rId1"/>
          <a:stretch/>
        </p:blipFill>
        <p:spPr>
          <a:xfrm>
            <a:off x="368280" y="2962440"/>
            <a:ext cx="308448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7"/>
          <p:cNvSpPr/>
          <p:nvPr/>
        </p:nvSpPr>
        <p:spPr>
          <a:xfrm>
            <a:off x="3143160" y="3244680"/>
            <a:ext cx="21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3071880" y="4038480"/>
            <a:ext cx="232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=S: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415200" y="328608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119640" y="4056120"/>
            <a:ext cx="25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8 км/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85840" y="1147680"/>
            <a:ext cx="8286840" cy="20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тоциклист ехал 4 часа со скоростью 80 км/ч. Какое расстояние он проеха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2276640" y="324000"/>
            <a:ext cx="36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а №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3832200" y="324468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3751200" y="4038480"/>
            <a:ext cx="21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=V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6415200" y="328608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6119640" y="4056120"/>
            <a:ext cx="22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20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" descr=""/>
          <p:cNvPicPr/>
          <p:nvPr/>
        </p:nvPicPr>
        <p:blipFill>
          <a:blip r:embed="rId1"/>
          <a:stretch/>
        </p:blipFill>
        <p:spPr>
          <a:xfrm>
            <a:off x="214200" y="3500280"/>
            <a:ext cx="33274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ligraph"/>
              </a:rPr>
              <a:t>Деление с остатком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ligraph"/>
              </a:rPr>
              <a:t>на 10, 100, 100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2884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ligraph"/>
              </a:rPr>
              <a:t>Урок математики в 4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ligraph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ligraph"/>
              </a:rPr>
              <a:t>Подготовила: Умарова М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Admin\Desktop\урок по математике 4 класс\1646703905_14-kartinkin-net-p-ucheba-kartinki-dlya-prezentatsii-14.png"/>
          <p:cNvPicPr/>
          <p:nvPr/>
        </p:nvPicPr>
        <p:blipFill>
          <a:blip r:embed="rId1"/>
          <a:stretch/>
        </p:blipFill>
        <p:spPr>
          <a:xfrm>
            <a:off x="2857680" y="1500120"/>
            <a:ext cx="31208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2"/>
          <p:cNvSpPr/>
          <p:nvPr/>
        </p:nvSpPr>
        <p:spPr>
          <a:xfrm>
            <a:off x="596880" y="1147680"/>
            <a:ext cx="68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какое время пешеход пройдёт 15 км, идя со скоростью 5 км/ч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276640" y="324000"/>
            <a:ext cx="36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а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3832200" y="3244680"/>
            <a:ext cx="21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3751200" y="4038480"/>
            <a:ext cx="253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 =S: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6415200" y="328608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6421320" y="4038480"/>
            <a:ext cx="16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 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1" descr=""/>
          <p:cNvPicPr/>
          <p:nvPr/>
        </p:nvPicPr>
        <p:blipFill>
          <a:blip r:embed="rId1"/>
          <a:stretch/>
        </p:blipFill>
        <p:spPr>
          <a:xfrm>
            <a:off x="285840" y="307188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785760" y="2571480"/>
            <a:ext cx="398628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Стр. 27 № 8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4" descr="matematika-4-klass-uchebnik-chast-2.jpg"/>
          <p:cNvPicPr/>
          <p:nvPr/>
        </p:nvPicPr>
        <p:blipFill>
          <a:blip r:embed="rId1"/>
          <a:srcRect l="25441" t="17247" r="25441" b="17247"/>
          <a:stretch/>
        </p:blipFill>
        <p:spPr>
          <a:xfrm>
            <a:off x="928800" y="2143080"/>
            <a:ext cx="2428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2987640" y="0"/>
            <a:ext cx="28558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Arial"/>
              </a:rPr>
              <a:t>№ </a:t>
            </a:r>
            <a:r>
              <a:rPr b="1" lang="ru-RU" sz="6000" spc="-1" strike="noStrike">
                <a:solidFill>
                  <a:srgbClr val="ff00ff"/>
                </a:solidFill>
                <a:latin typeface="Arial"/>
              </a:rPr>
              <a:t>8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2636640"/>
            <a:ext cx="8362800" cy="820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t">
            <a:normAutofit fontScale="32000"/>
          </a:bodyPr>
          <a:p>
            <a:pPr marL="109440" indent="-1094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600" spc="-1" strike="noStrike">
                <a:solidFill>
                  <a:srgbClr val="800080"/>
                </a:solidFill>
                <a:latin typeface="Calibri"/>
              </a:rPr>
              <a:t>                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3789360"/>
            <a:ext cx="8856720" cy="719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t">
            <a:normAutofit/>
          </a:bodyPr>
          <a:p>
            <a:pPr marL="533520" indent="-533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4920" y="3284640"/>
            <a:ext cx="184320" cy="64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J0076215"/>
          <p:cNvPicPr/>
          <p:nvPr/>
        </p:nvPicPr>
        <p:blipFill>
          <a:blip r:embed="rId1"/>
          <a:stretch/>
        </p:blipFill>
        <p:spPr>
          <a:xfrm>
            <a:off x="468360" y="4941720"/>
            <a:ext cx="266544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J0076215"/>
          <p:cNvPicPr/>
          <p:nvPr/>
        </p:nvPicPr>
        <p:blipFill>
          <a:blip r:embed="rId2"/>
          <a:stretch/>
        </p:blipFill>
        <p:spPr>
          <a:xfrm>
            <a:off x="250920" y="5013360"/>
            <a:ext cx="2665440" cy="16002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8"/>
          <p:cNvSpPr/>
          <p:nvPr/>
        </p:nvSpPr>
        <p:spPr>
          <a:xfrm>
            <a:off x="900000" y="76500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80"/>
                </a:solidFill>
                <a:latin typeface="Arial"/>
              </a:rPr>
              <a:t>V           t                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1042920" y="16286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?              5мин                  6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0"/>
          <p:cNvSpPr/>
          <p:nvPr/>
        </p:nvSpPr>
        <p:spPr>
          <a:xfrm>
            <a:off x="1042920" y="270828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?        40мин(60 мин )        ?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1"/>
          <p:cNvSpPr/>
          <p:nvPr/>
        </p:nvSpPr>
        <p:spPr>
          <a:xfrm>
            <a:off x="468360" y="2349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80"/>
                </a:solidFill>
                <a:latin typeface="Arial"/>
              </a:rPr>
              <a:t>одинак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2"/>
          <p:cNvSpPr/>
          <p:nvPr/>
        </p:nvSpPr>
        <p:spPr>
          <a:xfrm>
            <a:off x="4065480" y="3357720"/>
            <a:ext cx="23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V</a:t>
            </a:r>
            <a:r>
              <a:rPr b="1" i="1" lang="ru-RU" sz="3600" spc="-1" strike="noStrike">
                <a:solidFill>
                  <a:srgbClr val="800080"/>
                </a:solidFill>
                <a:latin typeface="Arial"/>
              </a:rPr>
              <a:t> =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i="1" lang="ru-RU" sz="3600" spc="-1" strike="noStrike">
                <a:solidFill>
                  <a:srgbClr val="800080"/>
                </a:solidFill>
                <a:latin typeface="Arial"/>
              </a:rPr>
              <a:t> :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3"/>
          <p:cNvSpPr/>
          <p:nvPr/>
        </p:nvSpPr>
        <p:spPr>
          <a:xfrm>
            <a:off x="3132000" y="3933720"/>
            <a:ext cx="60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ff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6000 : 5 = 1200  (м/м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4"/>
          <p:cNvSpPr/>
          <p:nvPr/>
        </p:nvSpPr>
        <p:spPr>
          <a:xfrm>
            <a:off x="3924360" y="4437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i="1" lang="ru-RU" sz="3600" spc="-1" strike="noStrike">
                <a:solidFill>
                  <a:srgbClr val="800080"/>
                </a:solidFill>
                <a:latin typeface="Arial"/>
              </a:rPr>
              <a:t> =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v</a:t>
            </a:r>
            <a:r>
              <a:rPr b="1" i="1" lang="ru-RU" sz="3600" spc="-1" strike="noStrike">
                <a:solidFill>
                  <a:srgbClr val="800080"/>
                </a:solidFill>
                <a:latin typeface="Arial"/>
              </a:rPr>
              <a:t> ∙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t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5"/>
          <p:cNvSpPr/>
          <p:nvPr/>
        </p:nvSpPr>
        <p:spPr>
          <a:xfrm>
            <a:off x="3419640" y="49417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ff00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1200 ∙ 40 = 48000 (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6"/>
          <p:cNvSpPr/>
          <p:nvPr/>
        </p:nvSpPr>
        <p:spPr>
          <a:xfrm>
            <a:off x="2987640" y="6021360"/>
            <a:ext cx="662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Arial"/>
              </a:rPr>
              <a:t>Ответ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48 км пройдёт машина за 40 мин., 72 км – за 1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7"/>
          <p:cNvSpPr/>
          <p:nvPr/>
        </p:nvSpPr>
        <p:spPr>
          <a:xfrm>
            <a:off x="3564000" y="551664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3)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1200 ∙ 60 = 72000 (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1 -0.07353 L -0.02761 -0.10035 C -0.02761 -0.11283 0.2224 -0.12717 0.42709 -0.12717 L 0.88178 -0.12717 E">
                                      <p:cBhvr>
                                        <p:cTn id="36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357280" y="1600200"/>
            <a:ext cx="48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№ </a:t>
            </a: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92 - </a:t>
            </a:r>
            <a:r>
              <a:rPr b="1" lang="ru-RU" sz="3200" spc="-1" strike="noStrike">
                <a:solidFill>
                  <a:srgbClr val="ff00ff"/>
                </a:solidFill>
                <a:latin typeface="Calibri"/>
              </a:rPr>
              <a:t>по вариантам</a:t>
            </a: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3"/>
          <p:cNvSpPr/>
          <p:nvPr/>
        </p:nvSpPr>
        <p:spPr>
          <a:xfrm>
            <a:off x="468360" y="1268280"/>
            <a:ext cx="49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 – 20 = 40 ∙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539640" y="227664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 – 20 = 240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826920" y="2133720"/>
            <a:ext cx="46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7"/>
          <p:cNvGrpSpPr/>
          <p:nvPr/>
        </p:nvGrpSpPr>
        <p:grpSpPr>
          <a:xfrm>
            <a:off x="539640" y="2133720"/>
            <a:ext cx="3600360" cy="1008000"/>
            <a:chOff x="539640" y="2133720"/>
            <a:chExt cx="3600360" cy="1008000"/>
          </a:xfrm>
        </p:grpSpPr>
        <p:sp>
          <p:nvSpPr>
            <p:cNvPr id="191" name="Oval 11"/>
            <p:cNvSpPr/>
            <p:nvPr/>
          </p:nvSpPr>
          <p:spPr>
            <a:xfrm>
              <a:off x="539640" y="2276640"/>
              <a:ext cx="647640" cy="865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1260360" y="213372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3300"/>
                  </a:solidFill>
                  <a:latin typeface="Arial"/>
                </a:rPr>
                <a:t>уменьшаем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8" descr="Рисунок9"/>
          <p:cNvPicPr/>
          <p:nvPr/>
        </p:nvPicPr>
        <p:blipFill>
          <a:blip r:embed="rId2"/>
          <a:stretch/>
        </p:blipFill>
        <p:spPr>
          <a:xfrm>
            <a:off x="5999040" y="3546360"/>
            <a:ext cx="3144960" cy="331164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14"/>
          <p:cNvSpPr/>
          <p:nvPr/>
        </p:nvSpPr>
        <p:spPr>
          <a:xfrm>
            <a:off x="4643280" y="1052640"/>
            <a:ext cx="45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Чтобы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уменьшаем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ну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к раз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ибав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вычитаемое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5"/>
          <p:cNvSpPr/>
          <p:nvPr/>
        </p:nvSpPr>
        <p:spPr>
          <a:xfrm>
            <a:off x="611280" y="3244680"/>
            <a:ext cx="474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 = 240 + 2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6"/>
          <p:cNvSpPr/>
          <p:nvPr/>
        </p:nvSpPr>
        <p:spPr>
          <a:xfrm>
            <a:off x="684360" y="4076640"/>
            <a:ext cx="441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i="1" lang="ru-RU" sz="4800" spc="-1" strike="noStrike" u="sng">
                <a:solidFill>
                  <a:srgbClr val="000099"/>
                </a:solidFill>
                <a:uFillTx/>
                <a:latin typeface="Arial"/>
              </a:rPr>
              <a:t> = 26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7"/>
          <p:cNvSpPr/>
          <p:nvPr/>
        </p:nvSpPr>
        <p:spPr>
          <a:xfrm>
            <a:off x="755640" y="494172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260 – 20 = 40 ∙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8"/>
          <p:cNvSpPr/>
          <p:nvPr/>
        </p:nvSpPr>
        <p:spPr>
          <a:xfrm>
            <a:off x="2195640" y="566100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240 = 2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№ </a:t>
            </a:r>
            <a:r>
              <a:rPr b="1" lang="ru-RU" sz="4400" spc="-1" strike="noStrike">
                <a:solidFill>
                  <a:srgbClr val="ff00ff"/>
                </a:solidFill>
                <a:latin typeface="Calibri"/>
              </a:rPr>
              <a:t>9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3"/>
          <p:cNvSpPr/>
          <p:nvPr/>
        </p:nvSpPr>
        <p:spPr>
          <a:xfrm>
            <a:off x="468360" y="1268280"/>
            <a:ext cx="49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15 + Х = 800 :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539640" y="227664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15 + Х = 40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826920" y="2133720"/>
            <a:ext cx="46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7"/>
          <p:cNvGrpSpPr/>
          <p:nvPr/>
        </p:nvGrpSpPr>
        <p:grpSpPr>
          <a:xfrm>
            <a:off x="2050920" y="2133720"/>
            <a:ext cx="3600360" cy="1008000"/>
            <a:chOff x="2050920" y="2133720"/>
            <a:chExt cx="3600360" cy="1008000"/>
          </a:xfrm>
        </p:grpSpPr>
        <p:sp>
          <p:nvSpPr>
            <p:cNvPr id="205" name="Oval 11"/>
            <p:cNvSpPr/>
            <p:nvPr/>
          </p:nvSpPr>
          <p:spPr>
            <a:xfrm>
              <a:off x="2050920" y="2276640"/>
              <a:ext cx="647640" cy="865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2771640" y="213372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3300"/>
                  </a:solidFill>
                  <a:latin typeface="Arial"/>
                </a:rPr>
                <a:t>2 слагаем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8" descr="Рисунок9"/>
          <p:cNvPicPr/>
          <p:nvPr/>
        </p:nvPicPr>
        <p:blipFill>
          <a:blip r:embed="rId2"/>
          <a:stretch/>
        </p:blipFill>
        <p:spPr>
          <a:xfrm>
            <a:off x="5999040" y="3546360"/>
            <a:ext cx="3144960" cy="33116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4"/>
          <p:cNvSpPr/>
          <p:nvPr/>
        </p:nvSpPr>
        <p:spPr>
          <a:xfrm>
            <a:off x="5003640" y="1052640"/>
            <a:ext cx="41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Чтобы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лагаем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ну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От суммы отнять  известное 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5"/>
          <p:cNvSpPr/>
          <p:nvPr/>
        </p:nvSpPr>
        <p:spPr>
          <a:xfrm>
            <a:off x="611280" y="3244680"/>
            <a:ext cx="474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 = 40 - 1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6"/>
          <p:cNvSpPr/>
          <p:nvPr/>
        </p:nvSpPr>
        <p:spPr>
          <a:xfrm>
            <a:off x="684360" y="4076640"/>
            <a:ext cx="441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i="1" lang="ru-RU" sz="4800" spc="-1" strike="noStrike" u="sng">
                <a:solidFill>
                  <a:srgbClr val="000099"/>
                </a:solidFill>
                <a:uFillTx/>
                <a:latin typeface="Arial"/>
              </a:rPr>
              <a:t> = 2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755640" y="494172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15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+ 25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 = </a:t>
            </a: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800 :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2195640" y="566100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40 = 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1028880" y="2633760"/>
            <a:ext cx="710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ается 4 «Е» класс за успешное изучение темы «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с остатком на 10, 100 и 100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07600" y="43578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.02.202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4633200" y="435780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ь:              (Умарова М.К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3143160" y="3929040"/>
            <a:ext cx="127008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Равнобедренный треугольник 3"/>
          <p:cNvSpPr/>
          <p:nvPr/>
        </p:nvSpPr>
        <p:spPr>
          <a:xfrm>
            <a:off x="825480" y="1298520"/>
            <a:ext cx="2265480" cy="26114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3697200" y="1378080"/>
            <a:ext cx="2097000" cy="26114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Блок-схема: узел 5"/>
          <p:cNvSpPr/>
          <p:nvPr/>
        </p:nvSpPr>
        <p:spPr>
          <a:xfrm>
            <a:off x="6400800" y="1298520"/>
            <a:ext cx="2097000" cy="2770200"/>
          </a:xfrm>
          <a:prstGeom prst="flowChartConnector">
            <a:avLst/>
          </a:prstGeom>
          <a:solidFill>
            <a:srgbClr val="95b3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825480" y="398952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интересно и я все пон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3529080" y="3989520"/>
            <a:ext cx="22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неинтересно, но я все пон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6316560" y="406872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неинтересно и я не всё пон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714480" y="1571760"/>
            <a:ext cx="5072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Учебник: с.27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90, №94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4" descr="matematika-4-klass-uchebnik-chast-2.jpg"/>
          <p:cNvPicPr/>
          <p:nvPr/>
        </p:nvPicPr>
        <p:blipFill>
          <a:blip r:embed="rId1"/>
          <a:srcRect l="25441" t="17247" r="25441" b="17247"/>
          <a:stretch/>
        </p:blipFill>
        <p:spPr>
          <a:xfrm>
            <a:off x="1000080" y="1571760"/>
            <a:ext cx="242892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B17B-6392-484C-AEAB-389E02AAC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379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Будь  внимательны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2411280" y="2168640"/>
            <a:ext cx="37814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 402 305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2357280" y="3000240"/>
            <a:ext cx="3835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 400 581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411280" y="3968640"/>
            <a:ext cx="3781440" cy="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332000" y="3068640"/>
            <a:ext cx="539640" cy="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3"/>
          <p:cNvSpPr txBox="1"/>
          <p:nvPr/>
        </p:nvSpPr>
        <p:spPr>
          <a:xfrm>
            <a:off x="2411280" y="4000680"/>
            <a:ext cx="3772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  734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0" name="Line 15"/>
          <p:cNvSpPr/>
          <p:nvPr/>
        </p:nvSpPr>
        <p:spPr>
          <a:xfrm flipV="1">
            <a:off x="5111640" y="4149720"/>
            <a:ext cx="720720" cy="719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3971880" y="4149720"/>
            <a:ext cx="720720" cy="719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0"/>
          <p:cNvSpPr txBox="1"/>
          <p:nvPr/>
        </p:nvSpPr>
        <p:spPr>
          <a:xfrm>
            <a:off x="4125960" y="4869000"/>
            <a:ext cx="411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63" name="WordArt 21"/>
          <p:cNvSpPr txBox="1"/>
          <p:nvPr/>
        </p:nvSpPr>
        <p:spPr>
          <a:xfrm>
            <a:off x="5292720" y="4869000"/>
            <a:ext cx="3589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7164360" y="1700280"/>
            <a:ext cx="1780920" cy="4392000"/>
            <a:chOff x="7164360" y="1700280"/>
            <a:chExt cx="1780920" cy="4392000"/>
          </a:xfrm>
        </p:grpSpPr>
        <p:sp>
          <p:nvSpPr>
            <p:cNvPr id="65" name="AutoShape 8"/>
            <p:cNvSpPr/>
            <p:nvPr/>
          </p:nvSpPr>
          <p:spPr>
            <a:xfrm rot="10800000">
              <a:off x="7164360" y="328428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9"/>
            <p:cNvSpPr/>
            <p:nvPr/>
          </p:nvSpPr>
          <p:spPr>
            <a:xfrm rot="10800000">
              <a:off x="7164360" y="256536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0"/>
            <p:cNvSpPr/>
            <p:nvPr/>
          </p:nvSpPr>
          <p:spPr>
            <a:xfrm rot="10800000">
              <a:off x="7164360" y="1844640"/>
              <a:ext cx="287280" cy="720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11"/>
            <p:cNvGrpSpPr/>
            <p:nvPr/>
          </p:nvGrpSpPr>
          <p:grpSpPr>
            <a:xfrm>
              <a:off x="7380000" y="1700280"/>
              <a:ext cx="1565280" cy="4392000"/>
              <a:chOff x="7380000" y="1700280"/>
              <a:chExt cx="1565280" cy="4392000"/>
            </a:xfrm>
          </p:grpSpPr>
          <p:sp>
            <p:nvSpPr>
              <p:cNvPr id="69" name="AutoShape 12"/>
              <p:cNvSpPr/>
              <p:nvPr/>
            </p:nvSpPr>
            <p:spPr>
              <a:xfrm rot="10800000">
                <a:off x="8532360" y="184464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13"/>
              <p:cNvSpPr/>
              <p:nvPr/>
            </p:nvSpPr>
            <p:spPr>
              <a:xfrm rot="10800000">
                <a:off x="8532360" y="328428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4"/>
              <p:cNvSpPr/>
              <p:nvPr/>
            </p:nvSpPr>
            <p:spPr>
              <a:xfrm rot="10800000">
                <a:off x="8532360" y="2565360"/>
                <a:ext cx="360360" cy="720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"/>
              <p:cNvSpPr/>
              <p:nvPr/>
            </p:nvSpPr>
            <p:spPr>
              <a:xfrm>
                <a:off x="7380000" y="1700280"/>
                <a:ext cx="1368360" cy="2304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6"/>
              <p:cNvSpPr/>
              <p:nvPr/>
            </p:nvSpPr>
            <p:spPr>
              <a:xfrm>
                <a:off x="8461080" y="4149720"/>
                <a:ext cx="4842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7"/>
              <p:cNvSpPr/>
              <p:nvPr/>
            </p:nvSpPr>
            <p:spPr>
              <a:xfrm>
                <a:off x="7453080" y="1917720"/>
                <a:ext cx="1224000" cy="1871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18"/>
              <p:cNvSpPr/>
              <p:nvPr/>
            </p:nvSpPr>
            <p:spPr>
              <a:xfrm>
                <a:off x="7956360" y="4005000"/>
                <a:ext cx="216000" cy="1944720"/>
              </a:xfrm>
              <a:prstGeom prst="plus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19"/>
              <p:cNvSpPr/>
              <p:nvPr/>
            </p:nvSpPr>
            <p:spPr>
              <a:xfrm rot="10800000">
                <a:off x="7740000" y="5876640"/>
                <a:ext cx="647640" cy="215640"/>
              </a:xfrm>
              <a:prstGeom prst="pi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Oval 20"/>
          <p:cNvSpPr/>
          <p:nvPr/>
        </p:nvSpPr>
        <p:spPr>
          <a:xfrm>
            <a:off x="7800840" y="2173320"/>
            <a:ext cx="432000" cy="433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1"/>
          <p:cNvSpPr/>
          <p:nvPr/>
        </p:nvSpPr>
        <p:spPr>
          <a:xfrm>
            <a:off x="7800840" y="2711520"/>
            <a:ext cx="43200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7812000" y="3213000"/>
            <a:ext cx="432000" cy="43344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3137040" y="12762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ровер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66600" y="1214280"/>
            <a:ext cx="9210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4214520"/>
            <a:ext cx="822960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ДЕЛЕ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Admin\Desktop\delenie.png"/>
          <p:cNvPicPr/>
          <p:nvPr/>
        </p:nvPicPr>
        <p:blipFill>
          <a:blip r:embed="rId1"/>
          <a:stretch/>
        </p:blipFill>
        <p:spPr>
          <a:xfrm>
            <a:off x="1357200" y="500040"/>
            <a:ext cx="65484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42600" y="1084320"/>
            <a:ext cx="8072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720:10, 6400:100, 11000:1000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87:10, 356:1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0" t="6577" r="0" b="10333"/>
          <a:stretch/>
        </p:blipFill>
        <p:spPr>
          <a:xfrm>
            <a:off x="5784840" y="3521160"/>
            <a:ext cx="268128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ая соединительная линия 4"/>
          <p:cNvSpPr/>
          <p:nvPr/>
        </p:nvSpPr>
        <p:spPr>
          <a:xfrm>
            <a:off x="3000240" y="2786040"/>
            <a:ext cx="2764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: вверх 10"/>
          <p:cNvSpPr/>
          <p:nvPr/>
        </p:nvSpPr>
        <p:spPr>
          <a:xfrm rot="19491000">
            <a:off x="6167160" y="2552760"/>
            <a:ext cx="189000" cy="1282680"/>
          </a:xfrm>
          <a:prstGeom prst="upArrow">
            <a:avLst>
              <a:gd name="adj1" fmla="val 50000"/>
              <a:gd name="adj2" fmla="val 49989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1220760" y="3954600"/>
            <a:ext cx="335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Times New Roman"/>
              </a:rPr>
              <a:t>86:10, 356:100 </a:t>
            </a:r>
            <a:r>
              <a:rPr b="1" i="1" lang="ru-RU" sz="4800" spc="-1" strike="noStrike">
                <a:solidFill>
                  <a:srgbClr val="c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080" y="685440"/>
            <a:ext cx="7201080" cy="20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ма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ление с остатком на 10, 100 и 1000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56800" y="3071520"/>
            <a:ext cx="771228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ся делить с остатком на 10, 100 и 100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433440"/>
            <a:ext cx="7200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85880" y="142884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ть полученные зн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714240" y="2428920"/>
            <a:ext cx="791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учиться делить со остатком на 10, 100 и 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785880" y="4143240"/>
            <a:ext cx="73105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комиться с приемом деления чисел с остатком на 10, 100 и 10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57120" y="428760"/>
            <a:ext cx="8537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ЛАН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комиться с приёмом деления чисел с остатком на 10, 100 и 100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ся делить со остатком на 10, 100 и 100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ить полученные зн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75560" y="5221440"/>
            <a:ext cx="1035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7T16:44:29Z</dcterms:created>
  <dc:creator>Admin</dc:creator>
  <dc:description/>
  <dc:language>en-US</dc:language>
  <cp:lastModifiedBy>Admin</cp:lastModifiedBy>
  <dcterms:modified xsi:type="dcterms:W3CDTF">2023-02-08T06:09:07Z</dcterms:modified>
  <cp:revision>3</cp:revision>
  <dc:subject/>
  <dc:title>Слайд 1</dc:title>
</cp:coreProperties>
</file>