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B82-CA12-45AB-A0D3-2A4FB828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D39-34A0-4C14-AB25-2C5A9933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E1B-5303-4085-B218-ABFA5AB8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2CD-E1EC-461B-952C-44BEE2CE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358B-974C-435D-975D-3CCEE034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C594-C0BF-45C2-A643-397A865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2AA-1BF9-49CB-AA01-2B4E1DB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FFF-86B7-4707-ADEE-6C4B95B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C91-77EC-43F9-A4D1-BCBC8E40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F7E-60A3-4530-AA82-2428DE8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13A-FDF5-4E39-BA5A-9942E94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FCB-17C3-45FE-8A6D-FDF41F4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6B7-C009-48D3-B840-B54A5A2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DA9C-98CE-42F0-B2E2-DF833BA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FB4A-9D94-47AE-AA04-92924007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7513-6427-4F99-81A1-4C7C49A2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F685-B38A-4E90-9090-3C4CD415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419-03C5-4DF0-A0FC-6A7F904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AB3-8A29-4CCE-B4E9-BBD89846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DB4-DC2A-46DA-9380-4FDDB9A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BE8-3556-4FE4-A5D8-3ECFBA75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BAF-EE00-40CA-BAE4-4C3ABE1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B37-9100-49D8-9F7F-61696428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189-401A-4BEE-8031-90F0BA6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D7A-343D-4FB8-8F28-4CC7AF78D5C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9C7-DB1C-4B0A-B637-6962764113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брежно-водная растительность прудов окрестностей села Борисово Кунашакского район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Хафизова Р.Ш.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зультаты собственных исследов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идовой состав прибрежно – водных растений пру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383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ие группы прибрежно – водных растений прудов с. Борисо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91184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Жизненные формы растений пру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525780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жнейшие растительные сообщества пру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оздушно – водная растительность»,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 него входят формации, образованные такими видами – эдификаторами как ольха клейкая, осоки, рогоз широколистный, тростник обыкновенн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растительность с плавающими на поверхности листьями»,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эдификаторы формаций, входящих в данный подтип: многокоренник и ряска мал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Подт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груженная растительность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ключает формации, образованные телорезом обыкновенным и элодеей канадс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ика проведения экскурсии на водоё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уктура и содержание экскур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99200" y="-702720"/>
            <a:ext cx="30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Структура и содержание экскурс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91"/>
          <p:cNvSpPr/>
          <p:nvPr/>
        </p:nvSpPr>
        <p:spPr>
          <a:xfrm>
            <a:off x="5440320" y="-44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14"/>
          <p:cNvSpPr/>
          <p:nvPr/>
        </p:nvSpPr>
        <p:spPr>
          <a:xfrm>
            <a:off x="5440320" y="238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115"/>
          <p:cNvSpPr/>
          <p:nvPr/>
        </p:nvSpPr>
        <p:spPr>
          <a:xfrm>
            <a:off x="5456160" y="238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68"/>
          <p:cNvSpPr/>
          <p:nvPr/>
        </p:nvSpPr>
        <p:spPr>
          <a:xfrm>
            <a:off x="5440320" y="419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69"/>
          <p:cNvSpPr/>
          <p:nvPr/>
        </p:nvSpPr>
        <p:spPr>
          <a:xfrm>
            <a:off x="5440320" y="443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171"/>
          <p:cNvSpPr/>
          <p:nvPr/>
        </p:nvSpPr>
        <p:spPr>
          <a:xfrm>
            <a:off x="5456160" y="5367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5120" y="2819520"/>
          <a:ext cx="5603760" cy="10209240"/>
        </p:xfrm>
        <a:graphic>
          <a:graphicData uri="http://schemas.openxmlformats.org/drawingml/2006/table">
            <a:tbl>
              <a:tblPr/>
              <a:tblGrid>
                <a:gridCol w="2116440"/>
                <a:gridCol w="1596240"/>
                <a:gridCol w="182520"/>
                <a:gridCol w="1493280"/>
                <a:gridCol w="21600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, цель, задач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еля     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: «Растения водоёмов и прибрежий»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: Изучить растения водоёмов и прибрежий»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и: Выявить видовой состав водных и прибрежных растений, определить экологические группы и жизненные формы, проанализировать приспособления растений в связи с условиями обитания; подчеркнуть значение экологических знаний для сохранения природы. 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дготовка к экскурс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бор содержания, знакомство с объектами изучения, разработка содержания вступительной и заключительной бесед, заданий для учащихся, списка литературы, вопросов для повторения, заданий для написания отчё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вторение знаний о прибрежно-водной растительности, ранее изученных видах растений, работа с научно-популярной литературой, с раздаточным материалом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Проведение экскурс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ступительная беседа с демонстрацией, распределением заданий среди учащихся. Руководство деятельностью учащихся, инструктаж, оценка их работы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беседе, самостоятельная работа по заданиям, ограниченный сбор материала, проведение наблюдений, краткие запис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 Подведение итог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ключительная беседа, анализ собранного материала, домашнее зада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астие в беседе, краткие сообщения о результатах рабо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 Использование материалов экскурсии на последующих урока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ные водоемы антропогенного происхождения с зеркалом округлой формы, бессточные, эвтроф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лористический состав прудов включает 34 вида растений, представленных 20 семействами. Отдел цветковых представлен 33 видами, хвощёвых – 1 ви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и цветковых растений наибольшим числом видов представлено семейство осоковых ,на втором месте водокрасовые, рясковые, наименьшим числом видов представлены семейство сусаковых, пузырчатковых, хвостниковы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ассификация водной фл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зультаты собственных исследов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проведения экскурсии на водоё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ве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унашакский район называют краем голубых озер. Действительно, на территории района сосредоточено большое количество разнотипных озер. Также территория района обладает развитой речной системой, в пределах которой существует много прудов, широко использующихся для хозяйственных нуж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идроботанические исследования актуальны для района, так как известно, что водная растительность – важный фактор формирования качества природных вод, регулятор внутриводоемного круговорота биогенных элементов (Катанская, 1969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рай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4572000" y="-8763120"/>
            <a:ext cx="18288000" cy="243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биоэкологических особенностей прибрежно – водной растительности прудов села Борисово Кунашакского райо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761000" y="236232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ъем понятия «прибрежно – водные растения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флористический состав растений пру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и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жизненные формы и экологические группы прибрежно – водных расте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абота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тодические рекомендации к проведению экскурсии на водо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ассификация водной фл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.М Распопов в 1977 г. предложил следующую классификацию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идат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груженные растения, весь жизненный цикл которых проходит под водой, например пузырчатка, элодея, рде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йст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растения с плавающими ассимиляционными органами, большая часть вегетативных побегов и листьев находится на поверхности воды (водокрас, многокоренник, кувшинка, кубышка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1912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елофи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воздушно – водные растения с побегами, базальная часть которых находится в воде, а акропетальная возвышается над ней, их называют земноводными растениями (частуха подорожниковая)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4-02-12T13:06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