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31A-CBDC-4301-A0FF-16CE2FD7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471-F8D5-417E-BE02-7A26D15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451-FD4C-46B8-9CDC-61FA9D6A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422-595D-4C9E-8C1B-B810AA2A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2F79-2C5F-4382-A52D-B354F500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823D-A963-40F9-B071-7A098E0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E91E-A89C-4504-A64E-CD829CA2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27D4-4669-427B-9DA0-7981075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8DC-AC60-45FF-982B-8168AB82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AC8-C1EB-49EE-91F4-A416E11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449E-9682-425A-86C0-EAC441D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603-A49C-4A22-B388-03D1A01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8780-7E20-4DA6-9CF0-A2DA2E0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B674-3428-4A4B-A3F2-CE1839FC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0405-33E9-4249-827C-753E145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0B6-A56A-4852-A166-837032AA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28F4-0CCC-4010-A634-7123B84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B5C-5ED2-414A-BF9A-9088029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BE2-C587-4F32-8B90-187E113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D80-2AC1-4C61-A3D4-62F66D5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53D-F1DE-481B-AEC7-08543485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007-5C63-433E-AD81-A529C91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65A-C51D-42D8-AAEF-A19167F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8B2-4308-48DD-8F0A-7164050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3E1-5394-450F-A2F2-9557CEA1F88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B1E-D587-4671-806E-A56B8A444DC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брежно-водная растительность прудов окрестностей села Борисово Кунашакского район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Хафизова Р.Ш.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зультаты собственных исследов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идовой состав прибрежно – водных растений пру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3836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ие группы прибрежно – водных растений прудов с. Борисо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91184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Жизненные формы растений пру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5257800" cy="40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жнейшие растительные сообщества пру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Подт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оздушно – водная растительность»,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в него входят формации, образованные такими видами – эдификаторами как ольха клейкая, осоки, рогоз широколистный, тростник обыкновенн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Подт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растительность с плавающими на поверхности листьями»,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эдификаторы формаций, входящих в данный подтип: многокоренник и ряска мал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Подт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груженная растительность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включает формации, образованные телорезом обыкновенным и элодеей канадск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ика проведения экскурсии на водоё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уктура и содержание экскур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99200" y="-702720"/>
            <a:ext cx="30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Структура и содержание экскурс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91"/>
          <p:cNvSpPr/>
          <p:nvPr/>
        </p:nvSpPr>
        <p:spPr>
          <a:xfrm>
            <a:off x="5440320" y="-44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14"/>
          <p:cNvSpPr/>
          <p:nvPr/>
        </p:nvSpPr>
        <p:spPr>
          <a:xfrm>
            <a:off x="5440320" y="238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Line 115"/>
          <p:cNvSpPr/>
          <p:nvPr/>
        </p:nvSpPr>
        <p:spPr>
          <a:xfrm>
            <a:off x="5456160" y="238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68"/>
          <p:cNvSpPr/>
          <p:nvPr/>
        </p:nvSpPr>
        <p:spPr>
          <a:xfrm>
            <a:off x="5440320" y="419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169"/>
          <p:cNvSpPr/>
          <p:nvPr/>
        </p:nvSpPr>
        <p:spPr>
          <a:xfrm>
            <a:off x="5440320" y="443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171"/>
          <p:cNvSpPr/>
          <p:nvPr/>
        </p:nvSpPr>
        <p:spPr>
          <a:xfrm>
            <a:off x="5456160" y="5367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05120" y="2819520"/>
          <a:ext cx="5603760" cy="10209240"/>
        </p:xfrm>
        <a:graphic>
          <a:graphicData uri="http://schemas.openxmlformats.org/drawingml/2006/table">
            <a:tbl>
              <a:tblPr/>
              <a:tblGrid>
                <a:gridCol w="2116440"/>
                <a:gridCol w="1596240"/>
                <a:gridCol w="182520"/>
                <a:gridCol w="1493280"/>
                <a:gridCol w="21600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, цель, задач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ителя     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: «Растения водоёмов и прибрежий»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: Изучить растения водоёмов и прибрежий»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и: Выявить видовой состав водных и прибрежных растений, определить экологические группы и жизненные формы, проанализировать приспособления растений в связи с условиями обитания; подчеркнуть значение экологических знаний для сохранения природы. 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дготовка к экскурс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бор содержания, знакомство с объектами изучения, разработка содержания вступительной и заключительной бесед, заданий для учащихся, списка литературы, вопросов для повторения, заданий для написания отчё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вторение знаний о прибрежно-водной растительности, ранее изученных видах растений, работа с научно-популярной литературой, с раздаточным материалом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 Проведение экскурс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ступительная беседа с демонстрацией, распределением заданий среди учащихся. Руководство деятельностью учащихся, инструктаж, оценка их работы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беседе, самостоятельная работа по заданиям, ограниченный сбор материала, проведение наблюдений, краткие запис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 Подведение итог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ключительная беседа, анализ собранного материала, домашнее зада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беседе, краткие сообщения о результатах рабо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 Использование материалов экскурсии на последующих урока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ные водоемы антропогенного происхождения с зеркалом округлой формы, бессточные, эвтроф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лористический состав прудов включает 34 вида растений, представленных 20 семействами. Отдел цветковых представлен 33 видами, хвощёвых – 1 вид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и цветковых растений наибольшим числом видов представлено семейство осоковых ,на втором месте водокрасовые, рясковые, наименьшим числом видов представлены семейство сусаковых, пузырчатковых, хвостниковы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ссификация водной фло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зультаты собственных исследов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проведения экскурсии на водоё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ве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унашакский район называют краем голубых озер. Действительно, на территории района сосредоточено большое количество разнотипных озер. Также территория района обладает развитой речной системой, в пределах которой существует много прудов, широко использующихся для хозяйственных нуж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идроботанические исследования актуальны для района, так как известно, что водная растительность – важный фактор формирования качества природных вод, регулятор внутриводоемного круговорота биогенных элементов (Катанская, 1969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райо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4572000" y="-8763120"/>
            <a:ext cx="18288000" cy="2438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ль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биоэкологических особенностей прибрежно – водной растительности прудов села Борисово Кунашакского райо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761000" y="236232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и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ъем понятия «прибрежно – водные растения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и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флористический состав растений пру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и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жизненные формы и экологические группы прибрежно – водных расте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работа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тодические рекомендации к проведению экскурсии на водое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ассификация водной фл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.М Распопов в 1977 г. предложил следующую классификацию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идатофи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груженные растения, весь жизненный цикл которых проходит под водой, например пузырчатка, элодея, рде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йстофи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растения с плавающими ассимиляционными органами, большая часть вегетативных побегов и листьев находится на поверхности воды (водокрас, многокоренник, кувшинка, кубышка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1912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елофи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воздушно – водные растения с побегами, базальная часть которых находится в воде, а акропетальная возвышается над ней, их называют земноводными растениями (частуха подорожниковая)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4-02-12T13:06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